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626-9399-43D5-843E-C03A9EFC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F95-8558-41C3-B0FE-0E65EAC4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4ED-B5A0-4F98-A01C-26FFFC52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297-0F31-4EA3-A2AE-D7F7F9C5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358B-4353-4237-BFA2-7842AEEA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9341-B8BA-4A1F-9052-CFE10A1E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5226-32E8-481E-BD35-95A80CF3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1D9E-6CC8-4595-8D61-2D1A1500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8CD2-CB64-42B9-A35F-416F6CAD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C5BB-CA16-49F3-9006-B2290690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8B09-7C95-40BB-B2B5-8E505524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52B-82A7-4372-A0D8-3C26ED1C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E35D-57F4-49F1-BA70-FEFE1886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046D-5C74-4245-A3E2-17F75485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EB41-35D4-4F13-B289-B9666C5A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209B-3D95-4C28-952E-8222F1E2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9CCF-418C-44A4-AD98-D27CF014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7BD-F8EC-4921-BCC1-D8798514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B2C3-DD9A-4618-B098-1B7EF148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D70-3999-4A65-90F6-F1FCC96A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ABA-ED3C-4C1D-A283-F68C2C6C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6E5-5FFE-41D1-9CC6-EAD9FA0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611-AE4A-49B9-A5F3-7AD764F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DE2-D949-4572-ABFA-737AF6C0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96C6-1865-415F-BD5A-241ACB7E85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85DF-A17F-416A-9C07-8037E17867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6"/>
          <p:cNvSpPr txBox="1"/>
          <p:nvPr/>
        </p:nvSpPr>
        <p:spPr>
          <a:xfrm>
            <a:off x="1042920" y="476280"/>
            <a:ext cx="684216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стория танген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4143240" y="619920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5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5219640" y="398304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учащийся 10 класс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В(С)Ш № 9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гунов Андрей Евгеньеви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 математики Васильева Е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826920" y="549360"/>
            <a:ext cx="748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начала немного о тригонометр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0" y="1628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Тригонометр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826920" y="2924280"/>
            <a:ext cx="71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55640" y="314172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68360" y="2421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лово греческое и в буквальном переводе означает измерение треугольнико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187280" y="371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(trigwnon - треугольник, а metrew- измеряю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763640" y="4869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1"/>
                </a:solidFill>
                <a:latin typeface="Tahoma"/>
              </a:rPr>
              <a:t>Возникновение  тригонометрии связано с землемерением, астрономией и строительным дел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6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41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00000" y="18900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тя название науки возникло сравнительно недавно, многие относимые сейчас к тригонометрии понятия и факты были известны ещё две тысячи лет наза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403280" y="213372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первые способы решения треугольников, основанные на зависимостях между сторонами и углами треугольника, были найдены древнегреческими астрономами Гиппархом (2 в. до н. э.) и Клавдием Птолемеем (2 в. н. э.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1844640" cy="2376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717480" y="630864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пар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2057400" cy="2485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6369480" y="6308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лавдий Птолем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2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1187280" y="25884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ahoma"/>
              </a:rPr>
              <a:t>Значительный вклад в развитие тригонометрии внесли арабские уче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24000" y="184392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ь-Батани (850-92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50920" y="2420280"/>
            <a:ext cx="756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хамед-бен Мухамед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940-998), который составил таблицы синусов и тангенсов через 10’ с точностью до 1/604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547640" y="3298680"/>
            <a:ext cx="6480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орему синусов уже знали индийский ученый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хаскар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р. 1114, год смерти неизвестен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азербайджанский  астроном и математик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сиреддин Туси Мухамед (1201-1274)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14" descr=""/>
          <p:cNvPicPr/>
          <p:nvPr/>
        </p:nvPicPr>
        <p:blipFill>
          <a:blip r:embed="rId1"/>
          <a:stretch/>
        </p:blipFill>
        <p:spPr>
          <a:xfrm>
            <a:off x="611280" y="4797360"/>
            <a:ext cx="1266840" cy="140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"/>
          <p:cNvPicPr/>
          <p:nvPr/>
        </p:nvPicPr>
        <p:blipFill>
          <a:blip r:embed="rId2"/>
          <a:stretch/>
        </p:blipFill>
        <p:spPr>
          <a:xfrm>
            <a:off x="7093080" y="4581360"/>
            <a:ext cx="1122120" cy="1729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7"/>
          <p:cNvSpPr/>
          <p:nvPr/>
        </p:nvSpPr>
        <p:spPr>
          <a:xfrm>
            <a:off x="656640" y="62373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хаск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6054840" y="630864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сиреддин Туси Мухаме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227520" y="141192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бу-ль-Ваф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760"/>
                            </p:stCondLst>
                            <p:childTnLst>
                              <p:par>
                                <p:cTn id="1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76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2843280" y="765000"/>
            <a:ext cx="35798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НгЕн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84360" y="26359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звание «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танген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, происходящее от латинского tanger (касаться), появилось в 1583 г.  Tangens переводится как «касающийся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24000" y="465192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Tahoma"/>
              </a:rPr>
              <a:t>Тангенсы возникли в связи с решением задачи об определении длины тен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258920" y="4032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Танге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(а также котангенс) введен в X веке арабским математиком Абу-ль-Ваф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826920" y="1844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торый составил и первые таблицы для нахождения тангенсов и котангенсов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258920" y="328356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днако эти открытия долгое время оставались неизвестными европейским ученым, и тангенсы были заново открыты лишь в XIV веке немецким математиком, астрономом Регимонтаном (1467 г.). Он доказал теорему тангенсо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72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72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332000" y="1722600"/>
            <a:ext cx="648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льнейшее развитие тригонометрия получила в трудах выдающихся астрономов Николая Коперника (1473-1543) – творца гелиоцентрической системы мира, Тихо Браге (1546-1601) и Иогана Кеплера (1571-1630), а также в работах математика Франсуа Виета (1540-1603), который полностью решил задачу об определениях всех элементов плоского или сферического треугольника по трем данны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3:33:42Z</dcterms:created>
  <dc:creator>DJ_Diesel</dc:creator>
  <dc:description/>
  <dc:language>en-US</dc:language>
  <cp:lastModifiedBy>Егор</cp:lastModifiedBy>
  <dcterms:modified xsi:type="dcterms:W3CDTF">2015-10-11T20:10:19Z</dcterms:modified>
  <cp:revision>5</cp:revision>
  <dc:subject/>
  <dc:title>Слайд 1</dc:title>
</cp:coreProperties>
</file>