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5F3-A0FE-48A2-B445-1953BFB0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641-5ECD-4965-82B1-06581694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A88-1734-4C01-BA64-C6BD542F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BFF-D1D8-45B4-9B7D-D0403A98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FAFD-675C-4C5D-9341-E03F91D3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26D7-DD5A-43DE-997B-32B7DAE5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754D-9CEB-456D-A0E5-B5BF8C39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5FCF-A4F9-4766-B511-CEDFD6F5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F355-C685-4E0B-92DF-ACC16A14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9FA8-A46E-48E2-8010-DE2D6FF8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F48A-E485-49CC-AFBD-2A8CC6D5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8CE-61DE-4FED-8364-57A234FE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97F7-7F16-43BD-9978-D417181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BF7A-0506-445E-8D74-F09A18AE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ECE0-8BB4-4BFF-A4C6-6121E064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3CEF-92E7-41D9-A80B-164C391C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072C-50E8-47D6-8DF0-0D9EBCAB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09C-37FF-42AD-A7CF-78803015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713-B4E1-4016-82E0-7FAA08E5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D48-FBF9-479F-A2F4-C528E78A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7FB-958E-4307-94F9-0973EF79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3BA-5A46-4A8E-BE10-8D3CAB69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D29-4C6D-4D68-B9DE-35FED30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A1A-55D9-4B60-974D-6AC33EC6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4B02-388D-4DA9-A68E-8820E17E81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463F-E6D8-4DC9-B5A5-2062F80607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6"/>
          <p:cNvSpPr txBox="1"/>
          <p:nvPr/>
        </p:nvSpPr>
        <p:spPr>
          <a:xfrm>
            <a:off x="1042920" y="476280"/>
            <a:ext cx="684216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стория танген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4143240" y="619920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5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5219640" y="398304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учащийся 10 класс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В(С)Ш № 9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гунов Андрей Евгеньеви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 математики Васильева Е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826920" y="549360"/>
            <a:ext cx="748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начала немного о тригонометр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0" y="1628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Тригонометр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826920" y="2924280"/>
            <a:ext cx="71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55640" y="314172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68360" y="2421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лово греческое и в буквальном переводе означает измерение треугольнико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187280" y="371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(trigwnon - треугольник, а metrew- измеряю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763640" y="4869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1"/>
                </a:solidFill>
                <a:latin typeface="Tahoma"/>
              </a:rPr>
              <a:t>Возникновение  тригонометрии связано с землемерением, астрономией и строительным дел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6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41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00000" y="18900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тя название науки возникло сравнительно недавно, многие относимые сейчас к тригонометрии понятия и факты были известны ещё две тысячи лет наза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403280" y="213372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первые способы решения треугольников, основанные на зависимостях между сторонами и углами треугольника, были найдены древнегреческими астрономами Гиппархом (2 в. до н. э.) и Клавдием Птолемеем (2 в. н. э.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1844640" cy="2376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717480" y="630864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пар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2057400" cy="2485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6369480" y="6308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лавдий Птолем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2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1187280" y="25884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ahoma"/>
              </a:rPr>
              <a:t>Значительный вклад в развитие тригонометрии внесли арабские уче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24000" y="184392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ь-Батани (850-92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50920" y="2420280"/>
            <a:ext cx="756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хамед-бен Мухамед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940-998), который составил таблицы синусов и тангенсов через 10’ с точностью до 1/604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547640" y="3298680"/>
            <a:ext cx="6480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орему синусов уже знали индийский ученый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хаскар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р. 1114, год смерти неизвестен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азербайджанский  астроном и математик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сиреддин Туси Мухамед (1201-1274)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14" descr=""/>
          <p:cNvPicPr/>
          <p:nvPr/>
        </p:nvPicPr>
        <p:blipFill>
          <a:blip r:embed="rId1"/>
          <a:stretch/>
        </p:blipFill>
        <p:spPr>
          <a:xfrm>
            <a:off x="611280" y="4797360"/>
            <a:ext cx="1266840" cy="140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"/>
          <p:cNvPicPr/>
          <p:nvPr/>
        </p:nvPicPr>
        <p:blipFill>
          <a:blip r:embed="rId2"/>
          <a:stretch/>
        </p:blipFill>
        <p:spPr>
          <a:xfrm>
            <a:off x="7093080" y="4581360"/>
            <a:ext cx="1122120" cy="1729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7"/>
          <p:cNvSpPr/>
          <p:nvPr/>
        </p:nvSpPr>
        <p:spPr>
          <a:xfrm>
            <a:off x="656640" y="62373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хаск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6054840" y="630864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сиреддин Туси Мухаме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227520" y="141192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бу-ль-Ваф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760"/>
                            </p:stCondLst>
                            <p:childTnLst>
                              <p:par>
                                <p:cTn id="1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76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2843280" y="765000"/>
            <a:ext cx="35798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НгЕн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84360" y="26359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звание «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танген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, происходящее от латинского tanger (касаться), появилось в 1583 г.  Tangens переводится как «касающийся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24000" y="465192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Tahoma"/>
              </a:rPr>
              <a:t>Тангенсы возникли в связи с решением задачи об определении длины тен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258920" y="4032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Танге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(а также котангенс) введен в X веке арабским математиком Абу-ль-Ваф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826920" y="1844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торый составил и первые таблицы для нахождения тангенсов и котангенсов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258920" y="328356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днако эти открытия долгое время оставались неизвестными европейским ученым, и тангенсы были заново открыты лишь в XIV веке немецким математиком, астрономом Регимонтаном (1467 г.). Он доказал теорему тангенсо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72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72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332000" y="1722600"/>
            <a:ext cx="648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льнейшее развитие тригонометрия получила в трудах выдающихся астрономов Николая Коперника (1473-1543) – творца гелиоцентрической системы мира, Тихо Браге (1546-1601) и Иогана Кеплера (1571-1630), а также в работах математика Франсуа Виета (1540-1603), который полностью решил задачу об определениях всех элементов плоского или сферического треугольника по трем данны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3:33:42Z</dcterms:created>
  <dc:creator>DJ_Diesel</dc:creator>
  <dc:description/>
  <dc:language>en-US</dc:language>
  <cp:lastModifiedBy>Егор</cp:lastModifiedBy>
  <dcterms:modified xsi:type="dcterms:W3CDTF">2015-10-11T20:10:19Z</dcterms:modified>
  <cp:revision>5</cp:revision>
  <dc:subject/>
  <dc:title>Слайд 1</dc:title>
</cp:coreProperties>
</file>