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B396-F187-4337-B82E-91B09B109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848520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5640" y="4122000"/>
            <a:ext cx="848520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B7EB-FECD-4C5C-BE65-6F4E567D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0372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640" y="412200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03720" y="412200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4C50-C4F5-441A-BEE9-36342F1B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24840" y="201564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93680" y="201564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5640" y="412200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24840" y="412200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93680" y="412200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D77B-D8E6-4B6E-A26B-20C0F60A0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9ECD-D696-4ABA-BDDE-61B962DF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755640" y="2015640"/>
            <a:ext cx="84852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7252-8E7F-488D-AAA9-32DD4838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848520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74BA-8EAC-4FED-9E86-0F9F39E5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414072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03720" y="2015640"/>
            <a:ext cx="414072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10BB-8732-43FF-978B-25B02C7C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F203-7A5A-48F9-93A0-71D4BAC9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55280" y="168120"/>
            <a:ext cx="7575480" cy="81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7660-E008-4A85-8D77-E87EFB21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03720" y="2015640"/>
            <a:ext cx="414072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55640" y="412200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AAAC-D331-4CF0-BB84-919F7B6E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5640" y="2015640"/>
            <a:ext cx="84852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CC19-DA55-4916-BA3F-8D05D5FE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414072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0372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03720" y="412200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6610-0778-4204-AC08-4332F459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0372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55640" y="4122000"/>
            <a:ext cx="848520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3452-DC23-4CB9-AA53-F6A38CF2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848520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755640" y="4122000"/>
            <a:ext cx="848520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63AF-FDDB-4E5B-B937-5FB32808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0372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55640" y="412200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103720" y="412200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708F-5F2B-4582-AD66-8FABA7DDF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624840" y="201564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493680" y="201564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755640" y="412200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624840" y="412200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493680" y="412200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11C4-1C0B-4ABA-AE0A-03633C130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848520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7915-222D-4C93-9416-48B28926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414072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03720" y="2015640"/>
            <a:ext cx="414072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0DB3-5936-4DA1-A513-F7C02C0B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49BC-45C1-48F4-9D03-5797E41A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55280" y="168120"/>
            <a:ext cx="7575480" cy="81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7E57-9B13-447B-AFE3-70AFF102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03720" y="2015640"/>
            <a:ext cx="414072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5640" y="412200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96C4-CC36-4AEE-AA42-4E3572E5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414072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0372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03720" y="412200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D24D-A4B4-4230-8719-DB0FBFDC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0372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5640" y="4122000"/>
            <a:ext cx="848520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B03C-BD08-44DF-ABA0-2A3FDBE3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8574840" y="-16560"/>
            <a:ext cx="1281240" cy="229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640" y="2015640"/>
            <a:ext cx="848520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89000"/>
          </a:bodyPr>
          <a:p>
            <a:pPr marL="336240" indent="-33624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1" marL="728640" indent="-280800">
              <a:spcBef>
                <a:spcPts val="876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2" marL="112140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3" marL="156960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4" marL="201852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5" marL="201852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6" marL="201852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2720" y="6888240"/>
            <a:ext cx="209880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19680" y="6888240"/>
            <a:ext cx="319248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0556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5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64D6A10-7337-49BB-9609-3EC4EE5723CB}" type="slidenum">
              <a:rPr b="0" lang="ru-RU" sz="15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8670960" y="26640"/>
            <a:ext cx="1284120" cy="2313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8633520" y="211680"/>
            <a:ext cx="1130400" cy="173196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9360" y="6107040"/>
            <a:ext cx="1965960" cy="1373040"/>
            <a:chOff x="9360" y="6107040"/>
            <a:chExt cx="1965960" cy="1373040"/>
          </a:xfrm>
        </p:grpSpPr>
        <p:sp>
          <p:nvSpPr>
            <p:cNvPr id="9" name="Freeform 11"/>
            <p:cNvSpPr/>
            <p:nvPr/>
          </p:nvSpPr>
          <p:spPr>
            <a:xfrm>
              <a:off x="42480" y="6132960"/>
              <a:ext cx="1905480" cy="113508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788840" y="6267960"/>
              <a:ext cx="124200" cy="22500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80" y="6603480"/>
              <a:ext cx="1386000" cy="7171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26080" y="6662880"/>
              <a:ext cx="918360" cy="654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849240" y="6180120"/>
              <a:ext cx="235800" cy="211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122120" y="7284240"/>
              <a:ext cx="132840" cy="195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82720" y="6311520"/>
              <a:ext cx="337680" cy="6699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169640" y="6281640"/>
              <a:ext cx="636840" cy="3042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607680" y="6462000"/>
              <a:ext cx="272880" cy="1173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9360" y="6107040"/>
              <a:ext cx="1965960" cy="1363680"/>
              <a:chOff x="9360" y="6107040"/>
              <a:chExt cx="1965960" cy="136368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873360" y="6232680"/>
                <a:ext cx="958320" cy="1238040"/>
                <a:chOff x="873360" y="6232680"/>
                <a:chExt cx="958320" cy="123804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873360" y="6276600"/>
                  <a:ext cx="274680" cy="151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113120" y="7238160"/>
                  <a:ext cx="200880" cy="232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756440" y="6232680"/>
                  <a:ext cx="75240" cy="204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33200" y="6530040"/>
                <a:ext cx="1040760" cy="437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55400" y="6799320"/>
                <a:ext cx="426600" cy="258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988560" y="6439320"/>
                <a:ext cx="187200" cy="41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9360" y="6107040"/>
                <a:ext cx="1965960" cy="1185480"/>
                <a:chOff x="9360" y="6107040"/>
                <a:chExt cx="1965960" cy="118548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170720" y="7083000"/>
                  <a:ext cx="131040" cy="151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9360" y="6522840"/>
                  <a:ext cx="1472760" cy="769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85760" y="6596640"/>
                  <a:ext cx="139680" cy="291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85880" y="6107040"/>
                  <a:ext cx="563040" cy="103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1011600" y="6386400"/>
                  <a:ext cx="167760" cy="441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74200" y="6351480"/>
                  <a:ext cx="340920" cy="236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151640" y="6190920"/>
                  <a:ext cx="823680" cy="370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254600" y="6309360"/>
                  <a:ext cx="428400" cy="150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9569520" y="2332080"/>
            <a:ext cx="425160" cy="4749480"/>
            <a:chOff x="9569520" y="2332080"/>
            <a:chExt cx="425160" cy="4749480"/>
          </a:xfrm>
        </p:grpSpPr>
        <p:sp>
          <p:nvSpPr>
            <p:cNvPr id="36" name="Freeform 38"/>
            <p:cNvSpPr/>
            <p:nvPr/>
          </p:nvSpPr>
          <p:spPr>
            <a:xfrm flipH="1">
              <a:off x="9569520" y="4584240"/>
              <a:ext cx="358560" cy="249732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9636120" y="2332080"/>
              <a:ext cx="358560" cy="28576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905960" y="-96120"/>
            <a:ext cx="2675160" cy="2476440"/>
            <a:chOff x="7905960" y="-96120"/>
            <a:chExt cx="2675160" cy="2476440"/>
          </a:xfrm>
        </p:grpSpPr>
        <p:grpSp>
          <p:nvGrpSpPr>
            <p:cNvPr id="39" name="Group 41"/>
            <p:cNvGrpSpPr/>
            <p:nvPr/>
          </p:nvGrpSpPr>
          <p:grpSpPr>
            <a:xfrm>
              <a:off x="7905960" y="-96120"/>
              <a:ext cx="2675160" cy="2476440"/>
              <a:chOff x="7905960" y="-96120"/>
              <a:chExt cx="2675160" cy="24764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9502200" y="1899000"/>
                <a:ext cx="108360" cy="504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905960" y="-96120"/>
                <a:ext cx="2675160" cy="2476440"/>
                <a:chOff x="7905960" y="-96120"/>
                <a:chExt cx="2675160" cy="24764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8690760" y="123840"/>
                  <a:ext cx="26748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834760" y="579960"/>
                  <a:ext cx="470520" cy="766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8502120" y="317160"/>
                  <a:ext cx="883080" cy="1571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8580600" y="-33480"/>
                  <a:ext cx="1325880" cy="2351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9270720" y="1568160"/>
                  <a:ext cx="295200" cy="213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9192960" y="1409040"/>
                  <a:ext cx="316800" cy="252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8723160" y="367200"/>
                  <a:ext cx="316440" cy="257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8659800" y="247320"/>
                  <a:ext cx="312840" cy="241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8522280" y="147240"/>
              <a:ext cx="7380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2320" y="14400"/>
            <a:ext cx="9807480" cy="747396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216000" y="258840"/>
            <a:ext cx="4174200" cy="1960200"/>
            <a:chOff x="216000" y="258840"/>
            <a:chExt cx="4174200" cy="1960200"/>
          </a:xfrm>
        </p:grpSpPr>
        <p:sp>
          <p:nvSpPr>
            <p:cNvPr id="89" name="Freeform 9"/>
            <p:cNvSpPr/>
            <p:nvPr/>
          </p:nvSpPr>
          <p:spPr>
            <a:xfrm>
              <a:off x="310680" y="309600"/>
              <a:ext cx="3936240" cy="17798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91240" y="456480"/>
              <a:ext cx="3925800" cy="17625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830160" y="601560"/>
              <a:ext cx="2603520" cy="1608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216000" y="258840"/>
              <a:ext cx="4174200" cy="1891800"/>
              <a:chOff x="216000" y="258840"/>
              <a:chExt cx="4174200" cy="189180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508560" y="1634400"/>
                <a:ext cx="370800" cy="37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216000" y="258840"/>
                <a:ext cx="4174200" cy="18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67720" y="276120"/>
                <a:ext cx="2949480" cy="1074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716400" y="438840"/>
                <a:ext cx="397080" cy="717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481040" y="937800"/>
                <a:ext cx="1208520" cy="63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8596440" y="4761000"/>
            <a:ext cx="1079640" cy="1277280"/>
            <a:chOff x="8596440" y="4761000"/>
            <a:chExt cx="1079640" cy="12772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8591760" y="5137560"/>
              <a:ext cx="1100160" cy="5126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8564760" y="5113440"/>
              <a:ext cx="1096560" cy="50760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8749440" y="5096520"/>
              <a:ext cx="727920" cy="464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8596440" y="4761000"/>
              <a:ext cx="1079640" cy="1277280"/>
              <a:chOff x="8596440" y="4761000"/>
              <a:chExt cx="1079640" cy="12772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8727480" y="5581800"/>
                <a:ext cx="103320" cy="10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8553240" y="5127120"/>
                <a:ext cx="1166040" cy="54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858520" y="5244120"/>
                <a:ext cx="825480" cy="30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9386640" y="5028120"/>
                <a:ext cx="109800" cy="20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989200" y="5248800"/>
                <a:ext cx="337320" cy="18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93600" y="5572080"/>
            <a:ext cx="7504200" cy="80316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494240" y="2127240"/>
            <a:ext cx="979560" cy="4208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640" y="2015640"/>
            <a:ext cx="848520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89000"/>
          </a:bodyPr>
          <a:p>
            <a:pPr marL="336240" indent="-33624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1" marL="728640" indent="-280800">
              <a:spcBef>
                <a:spcPts val="876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2" marL="112140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3" marL="156960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4" marL="201852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5" marL="201852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6" marL="201852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5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9EF8CDE-1A3D-4E3C-B4F2-BC6E6AC6C685}" type="slidenum">
              <a:rPr b="0" lang="ru-RU" sz="15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6700" spc="-1" strike="noStrike">
                <a:solidFill>
                  <a:srgbClr val="000000"/>
                </a:solidFill>
                <a:latin typeface="Comic Sans MS"/>
              </a:rPr>
              <a:t>Классный час</a:t>
            </a:r>
            <a:endParaRPr b="0" lang="en-US" sz="6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7280" y="1476360"/>
            <a:ext cx="9361440" cy="5399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11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mic Sans MS"/>
              </a:rPr>
              <a:t>«Что такое толерантность»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spcBef>
                <a:spcPts val="11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4" descr="Классный час &quot;Что такое толерантность?&quot;"/>
          <p:cNvPicPr/>
          <p:nvPr/>
        </p:nvPicPr>
        <p:blipFill>
          <a:blip r:embed="rId1"/>
          <a:stretch/>
        </p:blipFill>
        <p:spPr>
          <a:xfrm>
            <a:off x="1944720" y="2556000"/>
            <a:ext cx="5904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280" y="-176040"/>
            <a:ext cx="7575480" cy="78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640" y="826920"/>
            <a:ext cx="8485200" cy="5221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олерантный путь – это путь человека, хорошо знающего себя, комфортно чувствующего себя в окружающей среде, понимающего других людей и готового всегда прийти на помощь, человека с доброжелательным отношением к иным культурам, взглядам, традициям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олерантный человек видит мир во всём его многообраз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5640" y="167760"/>
            <a:ext cx="8245440" cy="1667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 теперь вам нужно распределить слова в II колонки, где в I – колонке – черты, присущие толерантной личности, во II – черты, присущие интолерантной личност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0360" y="2050560"/>
            <a:ext cx="9212400" cy="4705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Терпение, чувство юмора, непонимание, уваж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мнения других, игнорирование, эгоизм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доброжелательность, умение владеть собой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нетерпимость, выражение пренебрежения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раздражительность, умение слушать собеседника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равнодушие, цинизм, понимание и принятие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чуткость, любознательность, гуманизм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немотивированная агрессивность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280" y="112680"/>
            <a:ext cx="7575480" cy="78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5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719280" y="1763640"/>
          <a:ext cx="8485200" cy="4176720"/>
        </p:xfrm>
        <a:graphic>
          <a:graphicData uri="http://schemas.openxmlformats.org/drawingml/2006/table">
            <a:tbl>
              <a:tblPr/>
              <a:tblGrid>
                <a:gridCol w="4243320"/>
                <a:gridCol w="4241880"/>
              </a:tblGrid>
              <a:tr h="11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3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олерантная личность 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3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нтолерантная личность 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3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ерпение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3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увство юмора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3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важение мнения других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3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 т.д. 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3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епонимание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3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гнорирование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3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Эгоизм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3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 т.д. 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omic Sans MS"/>
              </a:rPr>
              <a:t>Волшебная лавка</a:t>
            </a: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848520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mic Sans MS"/>
              </a:rPr>
              <a:t>терпение, снисходительность, 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mic Sans MS"/>
              </a:rPr>
              <a:t>расположенность к другим, чувство 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mic Sans MS"/>
              </a:rPr>
              <a:t>юмора, чуткость, доверие, альтруизм,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Comic Sans MS"/>
              </a:rPr>
              <a:t>умение владеть собой, 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mic Sans MS"/>
              </a:rPr>
              <a:t>доброжелательность, гуманизм, 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mic Sans MS"/>
              </a:rPr>
              <a:t>умение слушать, любознательность, 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mic Sans MS"/>
              </a:rPr>
              <a:t>способность к сопереживанию.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5280" y="167760"/>
            <a:ext cx="7575480" cy="94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55640" y="2016000"/>
            <a:ext cx="8485200" cy="3081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3000"/>
          </a:bodyPr>
          <a:p>
            <a:pPr marL="351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ласс – это маленькая семья. И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51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хочется, чтобы в этой семь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51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сегда царили доброта, уважение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51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заимопонимание, не было бы ни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5136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ругани, ни ссор.</a:t>
            </a:r>
            <a:r>
              <a:rPr b="0" lang="ru-RU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280" y="167760"/>
            <a:ext cx="7575480" cy="116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4900" spc="-1" strike="noStrike">
                <a:solidFill>
                  <a:srgbClr val="000000"/>
                </a:solidFill>
                <a:latin typeface="Comic Sans MS"/>
              </a:rPr>
              <a:t>Цели:</a:t>
            </a: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63640" y="1331640"/>
            <a:ext cx="7848720" cy="4716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Познакомиться с понятием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толерантность”, с основными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чертами толерантной и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интолерантной личности;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Развить способности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адекватно и полно познавать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себя и других людей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-247320"/>
            <a:ext cx="7575480" cy="78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755640"/>
            <a:ext cx="848520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6000"/>
          </a:bodyPr>
          <a:p>
            <a:pPr marL="36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6 ноября Международный день толерантности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6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ременный культурный человек – это не только образованный человек, но человек, обладающий чувством самоуважения и уважаемый окружающими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6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олерант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читается признаком высокого духовного и интеллектуального развития индивидуума, группы, общества в цел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280" y="-102600"/>
            <a:ext cx="7575480" cy="78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971640"/>
            <a:ext cx="8485200" cy="5076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олерантность – это уважение, принятие и правильное понимание богатого многообразия культур нашего мира, форм самовыражения и способов проявления человеческой индивидуально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ределение слова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толерантность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на разных языках земного шара звучит по-разному</a:t>
            </a:r>
            <a:r>
              <a:rPr b="0" lang="ru-RU" sz="35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280" y="-320760"/>
            <a:ext cx="7575480" cy="78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2920" y="755280"/>
            <a:ext cx="9069480" cy="600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370440" indent="-370440">
              <a:lnSpc>
                <a:spcPct val="83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omic Sans MS"/>
              </a:rPr>
              <a:t>в испанском языке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оно означает способность признавать отличные от своих собственных идеи или мнения;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70440" indent="-370440">
              <a:lnSpc>
                <a:spcPct val="83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omic Sans MS"/>
              </a:rPr>
              <a:t>во французском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– отношение, при котором допускается, что другие могут думать или действовать иначе, нежели ты сам;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70440" indent="-370440">
              <a:lnSpc>
                <a:spcPct val="83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omic Sans MS"/>
              </a:rPr>
              <a:t>в английском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– готовность быть терпимым, снисходительным;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70440" indent="-370440">
              <a:lnSpc>
                <a:spcPct val="83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omic Sans MS"/>
              </a:rPr>
              <a:t>в китайском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– позволять, принимать, быть по отношению к другим великодушным;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70440" indent="-370440">
              <a:lnSpc>
                <a:spcPct val="83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omic Sans MS"/>
              </a:rPr>
              <a:t>в арабском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– прощение, снисходительность, мягкость, милосердие, сострадание, благосклонность, терпение, расположенность к другим;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70440" indent="-370440">
              <a:lnSpc>
                <a:spcPct val="83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omic Sans MS"/>
              </a:rPr>
              <a:t>в русском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– способность терпеть что-то или кого-то (быть выдержанным, выносливым, стойким, уметь мириться с существованием чего-либо, кого-либо).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70440" indent="0">
              <a:lnSpc>
                <a:spcPct val="83000"/>
              </a:lnSpc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280" y="-31320"/>
            <a:ext cx="7575480" cy="78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55640" y="1042920"/>
            <a:ext cx="8485200" cy="5005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толерантность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не пассивное, неестественное покорение мнению, взглядам и действиям других, не покорное терпение, а активная нравственная позиция и психологическая готовность к терпимости во имя позитивного взаимодействия с людьми иной культурной, национальной, религиозной или социальной среды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5280" y="208080"/>
            <a:ext cx="7575480" cy="714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omic Sans MS"/>
              </a:rPr>
              <a:t>Толерантность</a:t>
            </a: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53800" y="850680"/>
            <a:ext cx="9429480" cy="607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omic Sans MS"/>
              </a:rPr>
              <a:t>Милосердие 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omic Sans MS"/>
              </a:rPr>
              <a:t>Прощение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omic Sans MS"/>
              </a:rPr>
              <a:t>Уважениеправ других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500" spc="-1" strike="noStrike">
                <a:solidFill>
                  <a:srgbClr val="000000"/>
                </a:solidFill>
                <a:latin typeface="Comic Sans MS"/>
              </a:rPr>
              <a:t>Сострадание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omic Sans MS"/>
              </a:rPr>
              <a:t>Уважение человеческого достоинства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omic Sans MS"/>
              </a:rPr>
              <a:t>Терпимость к чужому мнению, верованию, поведению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omic Sans MS"/>
              </a:rPr>
              <a:t>Сотрудничество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omic Sans MS"/>
              </a:rPr>
              <a:t>Принятие другого таким, какой он есть 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5280" y="-102600"/>
            <a:ext cx="7575480" cy="78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68400" y="900000"/>
            <a:ext cx="8572320" cy="5880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делав добро, человек сам становитс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учше, чище, светлее. Если мы будем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нимательны к любому человеку, с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торым вступаем во взаимодействие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и будет проявление доброты. М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идим, что есть два пути развит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ичности – толерантный 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нтолерантны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280" y="-176040"/>
            <a:ext cx="7575480" cy="78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15640" y="899640"/>
            <a:ext cx="9024840" cy="5148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толерантный путь характеризуется представлением человека о собственной исключительности, низким уровнем воспитанности, желанием власти, неприятием противоположных взглядов, традиций и обычаев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толерантные личности делят мир на две части: чёрную и белую. Для них есть только два сорта людей – плохие и хорошие. Они делают акцент на различиях между “своими” и “чужими”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6:10:44Z</dcterms:created>
  <dc:creator/>
  <dc:description/>
  <dc:language>en-US</dc:language>
  <cp:lastModifiedBy>андрей</cp:lastModifiedBy>
  <dcterms:modified xsi:type="dcterms:W3CDTF">2015-10-11T17:35:26Z</dcterms:modified>
  <cp:revision>6</cp:revision>
  <dc:subject/>
  <dc:title>   Классный час </dc:title>
</cp:coreProperties>
</file>