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EB4-5BE7-437B-88C6-7347DCCB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E42-7A87-4238-A92A-DCD7D8C8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3AE-68BD-4DB2-9DA4-16CDBCC5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197-4EC9-44C9-AB1D-9C4A683B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4F1C-316E-4B43-ACB5-35D0E928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CE32-6D2D-44B9-95DC-AB8E73AB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9164-DC21-44F0-BC3D-9D80D12A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3864-A1DB-4DCC-BEA8-F8DA4AC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95FF-D278-47DE-8DB4-BAFAC02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965E-F786-4D1F-A9C4-9E76C6E3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186F-4700-4EF3-B5ED-F44788E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0B0-8B3B-4320-89AC-24BB7BFE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05D3-DA09-48BD-A6E4-37324D5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7702-0C18-4582-9F70-C3292240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47C-B634-48C5-9D90-C28AE1DE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6EA-364C-4500-8C02-58CD3127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9244-F59C-45F4-A9C7-F0828BD0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34F-1E5B-4B59-8DAF-783D9CD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1CB-598E-4633-BC0D-B3F9EB0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9BD-DCF6-44E9-BB0C-89A769E5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22F-0F63-4BD3-B533-3820AED6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5C1-2A8C-4B6A-BD61-AF48A4A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C66-295B-47DD-BAAE-E1D92C0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176-9D62-404D-B295-876346EA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574840" y="-16560"/>
            <a:ext cx="1281240" cy="22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4DAC57-77EE-4110-A8F3-9991DEE85D5F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670960" y="26640"/>
            <a:ext cx="1284120" cy="2313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633520" y="211680"/>
            <a:ext cx="1130400" cy="17319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" name="Freeform 11"/>
            <p:cNvSpPr/>
            <p:nvPr/>
          </p:nvSpPr>
          <p:spPr>
            <a:xfrm>
              <a:off x="42480" y="6132960"/>
              <a:ext cx="1905480" cy="11350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88840" y="6267960"/>
              <a:ext cx="124200" cy="2250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80" y="6603480"/>
              <a:ext cx="1386000" cy="717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6080" y="6662880"/>
              <a:ext cx="918360" cy="654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49240" y="6180120"/>
              <a:ext cx="235800" cy="211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122120" y="7284240"/>
              <a:ext cx="132840" cy="195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82720" y="6311520"/>
              <a:ext cx="337680" cy="669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69640" y="6281640"/>
              <a:ext cx="636840" cy="304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607680" y="6462000"/>
              <a:ext cx="272880" cy="1173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73360" y="6276600"/>
                  <a:ext cx="274680" cy="15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756440" y="6232680"/>
                  <a:ext cx="75240" cy="204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33200" y="6530040"/>
                <a:ext cx="1040760" cy="43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400" y="6799320"/>
                <a:ext cx="42660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88560" y="6439320"/>
                <a:ext cx="187200" cy="41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9360" y="6522840"/>
                  <a:ext cx="1472760" cy="769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85760" y="6596640"/>
                  <a:ext cx="139680" cy="291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74200" y="6351480"/>
                  <a:ext cx="340920" cy="236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36" name="Freeform 38"/>
            <p:cNvSpPr/>
            <p:nvPr/>
          </p:nvSpPr>
          <p:spPr>
            <a:xfrm flipH="1">
              <a:off x="9569520" y="4584240"/>
              <a:ext cx="358560" cy="24973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636120" y="2332080"/>
              <a:ext cx="358560" cy="28576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502200" y="1899000"/>
                <a:ext cx="108360" cy="50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2320" y="14400"/>
            <a:ext cx="9807480" cy="747396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89" name="Freeform 9"/>
            <p:cNvSpPr/>
            <p:nvPr/>
          </p:nvSpPr>
          <p:spPr>
            <a:xfrm>
              <a:off x="310680" y="309600"/>
              <a:ext cx="3936240" cy="17798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91240" y="456480"/>
              <a:ext cx="3925800" cy="1762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830160" y="601560"/>
              <a:ext cx="2603520" cy="1608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508560" y="1634400"/>
                <a:ext cx="370800" cy="37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216000" y="258840"/>
                <a:ext cx="4174200" cy="18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67720" y="276120"/>
                <a:ext cx="2949480" cy="107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716400" y="438840"/>
                <a:ext cx="397080" cy="71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481040" y="937800"/>
                <a:ext cx="1208520" cy="63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8591760" y="5137560"/>
              <a:ext cx="1100160" cy="5126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8564760" y="5113440"/>
              <a:ext cx="1096560" cy="5076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8749440" y="5096520"/>
              <a:ext cx="727920" cy="464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8727480" y="5581800"/>
                <a:ext cx="10332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8553240" y="5127120"/>
                <a:ext cx="1166040" cy="54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858520" y="5244120"/>
                <a:ext cx="82548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9386640" y="5028120"/>
                <a:ext cx="109800" cy="20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989200" y="5248800"/>
                <a:ext cx="337320" cy="18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93600" y="5572080"/>
            <a:ext cx="7504200" cy="80316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494240" y="2127240"/>
            <a:ext cx="979560" cy="4208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098226-0A0C-4D5D-9C07-2A2BA04C8247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Comic Sans MS"/>
              </a:rPr>
              <a:t>Классный час</a:t>
            </a:r>
            <a:endParaRPr b="0" lang="en-US" sz="6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361440" cy="539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«Что такое толерантность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11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Классный час &quot;Что такое толерантность?&quot;"/>
          <p:cNvPicPr/>
          <p:nvPr/>
        </p:nvPicPr>
        <p:blipFill>
          <a:blip r:embed="rId1"/>
          <a:stretch/>
        </p:blipFill>
        <p:spPr>
          <a:xfrm>
            <a:off x="1944720" y="2556000"/>
            <a:ext cx="590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-17604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826920"/>
            <a:ext cx="8485200" cy="522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ерантный путь – 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ерантный человек видит мир во всём его многообраз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167760"/>
            <a:ext cx="8245440" cy="1667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теперь вам нужно распределить слова в II колонки, где в I – колонке – черты, присущие толерантной личности, во II – черты, присущие интолерантной личнос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2050560"/>
            <a:ext cx="9212400" cy="4705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Терпение, чувство юмора, непонимание, ува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нения других, игнорирование, эгоиз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оброжелательность, умение владеть собо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етерпимость, выражение пренебрежения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аздражительность, умение слушать собеседни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авнодушие, цинизм, понимание и приняти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уткость, любознательность, гуманиз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емотивированная агрессивност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11268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19280" y="1763640"/>
          <a:ext cx="8485200" cy="4176720"/>
        </p:xfrm>
        <a:graphic>
          <a:graphicData uri="http://schemas.openxmlformats.org/drawingml/2006/table">
            <a:tbl>
              <a:tblPr/>
              <a:tblGrid>
                <a:gridCol w="4243320"/>
                <a:gridCol w="4241880"/>
              </a:tblGrid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лерантная личность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олерантная личность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рпени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увство юмор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важение мнения других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т.д.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понимани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норировани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гоизм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т.д.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Волшебная лавка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терпение, снисходительность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расположенность к другим, чувство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юмора, чуткость, доверие, альтруизм,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умение владеть собой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доброжелательность, гуманизм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умение слушать, любознательность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способность к сопереживанию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167760"/>
            <a:ext cx="7575480" cy="94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8485200" cy="308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 – это маленькая семья. 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очется, чтобы в этой семь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гда царили доброта, уважение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заимопонимание, не было бы н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угани, ни ссор.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67760"/>
            <a:ext cx="7575480" cy="116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3640" y="1331640"/>
            <a:ext cx="7848720" cy="47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Познакомиться с понятие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толерантность”, с основными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чертами толерантной 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интолерантной личности;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Развить способност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адекватно и полно познава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себя и других людей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24732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755640"/>
            <a:ext cx="84852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 ноября Международный день толерантност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й культурный человек – это не только образованный человек, но человек, обладающий чувством самоуважения и уважаемый окружающи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читается признаком высокого духовного и интеллектуального развития индивидуума, группы, общества в цел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-10260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971640"/>
            <a:ext cx="8485200" cy="507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ерантность – 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ение слова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 разных языках земного шара звучит по-разному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-32076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755280"/>
            <a:ext cx="9069480" cy="600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испанском языке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оно означает способность признавать отличные от своих собственных идеи или мнения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о француз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отношение, при котором допускается, что другие могут думать или действовать иначе, нежели ты са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англий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готовность быть терпимым, снисходительны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китай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позволять, принимать, быть по отношению к другим великодушны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араб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прощение, снисходительность, мягкость, милосердие, сострадание, благосклонность, терпение, расположенность к други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рус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способность терпеть что-то или кого-то (быть выдержанным, выносливым, стойким, уметь мириться с существованием чего-либо, кого-либо)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0">
              <a:lnSpc>
                <a:spcPct val="83000"/>
              </a:lnSpc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3132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042920"/>
            <a:ext cx="8485200" cy="5005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не пассивное, неестественное покорение мнению, взглядам и действиям других, не покорное терпение, а активная нравственная позиция и психологическая готовность к терпимости во имя позитивного взаимодействия с людьми иной культурной, национальной, религиозной или социальной сре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208080"/>
            <a:ext cx="7575480" cy="714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3800" y="850680"/>
            <a:ext cx="9429480" cy="607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Милосердие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Прощение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Уважениеправ других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Сострадание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Уважение человеческого достоинства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Терпимость к чужому мнению, верованию, поведению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Сотрудничество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Принятие другого таким, какой он есть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-10260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8400" y="900000"/>
            <a:ext cx="8572320" cy="5880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делав добро, человек сам станови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чше, чище, светлее. Если мы буд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имательны к любому человеку, 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м вступаем во взаимодейств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и будет проявление доброты. 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дим, что есть два пути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ости – толерантный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олерант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17604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5640" y="899640"/>
            <a:ext cx="9024840" cy="514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толерантный путь характеризуется представлением человека о собственной исключительности, низким уровнем воспитанности, желанием власти, неприятием противоположных взглядов, традиций и обычае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толерантные личности делят мир на две части: чёрную и белую. Для них есть только два сорта людей – плохие и хорошие. Они делают акцент на различиях между “своими” и “чужими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/>
  <dc:description/>
  <dc:language>en-US</dc:language>
  <cp:lastModifiedBy>андрей</cp:lastModifiedBy>
  <dcterms:modified xsi:type="dcterms:W3CDTF">2015-10-11T17:35:26Z</dcterms:modified>
  <cp:revision>6</cp:revision>
  <dc:subject/>
  <dc:title>   Классный час </dc:title>
</cp:coreProperties>
</file>