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F09-E835-4CB7-99D7-4AE2C89B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339-BA77-41D5-B313-37FA05FA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533-33E9-4532-9AF9-53FB2FC4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941-18AF-4781-885B-35381397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BAE9-B7B6-4B9A-A6A8-B364C751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176B-7277-4857-BAFD-971BECFC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27B4-5A82-4A7A-9741-B5A9EE33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2F2A-3F62-455B-8C51-9235B454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8B4B-E68F-439F-8492-F2DD40B1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319B-C1B2-4426-AB43-8AF77F96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6657-5B37-42C7-85B6-7C7AC64D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EF7-A2EE-4B0B-A1C6-EFB639B7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38E9-2B95-4677-9E5E-69BF7F15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227C-228F-4FD6-8920-EDC1FA9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5B1F-B5BA-450D-B0D9-009427E2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C624-2B34-4C35-83FA-A4A9C062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BA26-3B31-46AC-AF02-141FB5D4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FB5-DCD2-4D7C-AE5D-AFCAF8EF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261-1B0B-4374-9642-F5A7A2D4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FAE-63C1-43EE-BB93-26B983C8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B8D-7DB3-4A0F-95F9-B5F7EC8B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689-5B29-4D36-B773-2AB9635A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9E7-C088-4037-8BD5-D6118E72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6C2-B51E-4565-A062-75DB8D76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8703-9C8E-48E5-B978-DFDBFC1FC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A826-22D1-4173-B525-7433721A6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0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Конспект открытого урока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Урок проводится на базе: МОУ СОШ №21 г.Подольск   Московская область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23640" y="2707920"/>
            <a:ext cx="8569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дагог: Сизянова Елена Алексе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мет: Литературное чтение; класс 2 «В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а урока: Зарубежные сказки. Повтор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ип урока:  Урок обобщения и систематизации знани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6. Работа с пословицами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оработаем пара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У вас на партах карточки с пословицами. Прочитайте и определите, к какой сказке они подходят? ( даётся три варианта карточек с пословицам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Times New Roman"/>
              </a:rPr>
              <a:t>Гуляй, да дела не забывай 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Times New Roman"/>
              </a:rPr>
              <a:t>Где дружба прочна – там хорошо идут дел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Times New Roman"/>
              </a:rPr>
              <a:t>Нет такой хитрости, которую нельзя было бы перехитр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ff"/>
                </a:solidFill>
                <a:latin typeface="Times New Roman"/>
              </a:rPr>
              <a:t>Ленивому всегда праз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ff"/>
                </a:solidFill>
                <a:latin typeface="Times New Roman"/>
              </a:rPr>
              <a:t>С хорошим другом горы свернёшь, а с плохим – горя хлебнёш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ff"/>
                </a:solidFill>
                <a:latin typeface="Times New Roman"/>
              </a:rPr>
              <a:t>Уж на что лиса хитра, да и её ловя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Ныне гуляшки и завтра гуляшки - находишься без дома  да без рубаш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Доброе братство милее богат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Кто легко верит, быстро жалеет об эт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7. Работа в тетради на печатной основ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Прочитайте зада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Найдите ответ на вопрос в текс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8. Итог уро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Что понравилось на урок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Какие сказки вспомнил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А кому было трудн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Оцените свою работу на уро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9. Домашнее зад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Нарисовать иллюстрацию к сказке, которая больше всего понрави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Выполнить задание в тетради на печатной основ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можем Бамсик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045440"/>
            <a:ext cx="58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выше кошки рос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Живёт в норе, в лес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ушистый рыжий хвос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 знаем мы ….(лис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етом ходит без дорог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зле сосен и берё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 зимой он спит в берлог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т мороза прячет нос. (медвед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681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21120" cy="381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743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3097440" cy="2665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843280" y="3789360"/>
            <a:ext cx="3889440" cy="2303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148360" y="692280"/>
            <a:ext cx="295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3024360" cy="2869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771640" y="378936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240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302400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664000" cy="2519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3600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Цели урока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Обучающие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расширить читательский опыт учащихся знакомством с зарубежными народными и авторскими сказками; учить выделять национальные особенности сказок и их героев; формировать читательские умения (определять жанр и тему произведения, идею произведения; работать с текстом); формировать навыки правильного быстрого и выразительного чт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азвивающие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богащать речь младшего школьника; развивать память, мышл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Воспитывающие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воспитывать нравственно-эстетические понятия ( «образ хорошего человека», навыки сотрудничества, толерантность к народам мир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Оборудование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учебник “Литературное чтение”. 2 клас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фросининой Л.А.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рабочая тетрадь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мультимедийная презентац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карточки с пословица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«Ромашка» с названиями сказ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УУД на уроке: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Метапредметные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Познавательны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находить информацию в текст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едставлять информацию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сравнивать факт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нализировать и обобщать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Регулятивные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определить цель (проблему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принимать и сохранять учебную задачу и активно включаться в деятельность, направленную на её решение в сотрудничестве с учителем и одноклассниками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адекватно оценивать свои достижения, осознавать возникающие трудности и искать способы их преодол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Коммуникативны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уметь выражать  свои мысли и   действи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работать в коллектив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Предметные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уметь определять жанр произведения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Личностны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самостоятельно проверять знания по изученной тем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оценивать ситуаци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Ход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.  Этап организации класса на ур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Порядок на парте. Порядок в голове. Готовы мы учиться всегда и вез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2. Определение проблематики уро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вучит песня: «Сказки гуляют по свету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 вы думаете, о чём пойдёт речь на урок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годня мы повторим сказки народов мира, с которыми познакомились на предыдущих уро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Этап проверки домашнего за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то желает прочитать сказку «Три поросёнка» - по рол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то является главными героями сказк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ак их можно охарактеризовать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Выборочное чт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А теперь задание для мальчиков: найдите в  сказке отрывок, как волк расправился с первым поросёнком… (прочит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Задание для девочек: найдите в сказке отрывок, как волк расправился со вторым поросёнком поросёнка…(прочит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А теперь задание для всех. Найдите в тексте, как волк пытался обмануть третьего  поросёнка (в первый раз, во второй раз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акими словами заканчивается сказк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Чему она нас учи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3628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4. Этап актуализации зна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Обзор прочитанных сказок народов мира, работа с презентацией по сказкам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К нам в гости снова пришёл Бамсик , помогите ему вспомнить сказки.(слй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Отгадайте загадк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выше кошки рост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Живёт в норе, в лес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ушистый рыжий хвост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знаем мы ….(лису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етом ходит без дороги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ле сосен и берёз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 зимой он спит в берлоге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т мороза прячет нос. (медвед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з какой сказки эти герои?  ( «Лис Миккель и медведь Бамсе» -Норвежская сказка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Посмотрите на экран, эпизоды из какой сказки показаны? ( слайд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 «Колосок» -украинская сказк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 О чём эта сказка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 О лени 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Продолжаем помогать Бамсику. (слайд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Какая же следующая сказка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 «Как Джек за счастьем ходил.»- английская сказк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Кто помогал Джеку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О чём эта сказка? (о дружбе человека и животных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Героев какой сказки мы видим на этом слай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«Бременские музыканты» - Братья Гримм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Вы правильно назвали все сказ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Бамсик благодарит вас за помощ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84720" y="1052640"/>
            <a:ext cx="1790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пределение авторской и народной сказ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На доске расположены карточки с определениями вида сказок: авторские , народны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СКАЗ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Авторские                                             Нар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 чём говорят нам карточк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Я предлагаю вам поигра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а лепестках ромашки написаны названия сказок -определите, к какому виду относится сказка и объясните, почем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Сравнительный анализ сказ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Какие из прочитанных сказок похожи? Что в них общег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«Бременские музыканты» и « Как Джек за счастьем ходил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 чём различие этих сказок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5. Физ. Минут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ы работали – устали. А теперь все дружно вста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учками похлопали…(хлоп, хлоп, хлоп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ожками потопали…( топ, топ, топ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вернулись, повернулис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 – нагнулись, два – нагнулис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ели…встали…потянулись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 теперь тихонько сели…за работу принялис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21:36:56Z</dcterms:created>
  <dc:creator>Лена</dc:creator>
  <dc:description/>
  <dc:language>en-US</dc:language>
  <cp:lastModifiedBy>Лена</cp:lastModifiedBy>
  <dcterms:modified xsi:type="dcterms:W3CDTF">2013-11-26T22:40:28Z</dcterms:modified>
  <cp:revision>3</cp:revision>
  <dc:subject/>
  <dc:title> Конспект открытого урока.    Урок проводится на базе: МОУ СОШ №21 г.Подольск   Московская область</dc:title>
</cp:coreProperties>
</file>