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EDAE-7EED-4B82-8FF2-CAFA449C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F61E-AB56-47D4-862A-9544A4B6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9C5-8C46-46F9-9047-8807CDC9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19AE-3912-447E-8396-CE6DD459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9F4B-4D40-434F-843C-FE632D0D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09F0-0B0D-476D-941B-2545A2EF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D709-3272-4CC0-9211-7238F851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ABEE-3814-4D8E-80A1-A88CC9FE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35EB-059D-4715-9BA9-07855C99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DDA1-C9F7-4879-AC72-79180C02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AC19-6677-49C7-8EEA-8F5E7540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579A-837F-466F-8B83-CF478E10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B829-FDFD-4CE1-B54F-93D91FBD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5A34-18BC-47C2-8C9B-76C5EC45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6A38-6C8A-4462-BC19-D5077E1F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628E-2188-4AAD-A0DF-0AC17539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78B5-03D2-4F54-A479-862BE91F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1AC9-D6EC-4FBC-A0C1-4DD1D263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9252-2E71-4591-BA32-5549331F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7E04-E91E-4362-8305-02B00D91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09A1-DC7A-4482-8AC9-26ECDAFD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AF20-AB9D-4AE9-BEF7-C5E4981D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788-43CC-43C1-A0DF-169C34F6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27FA-0628-4FFE-BEEF-85CA2E1C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9DDF-45E6-43C8-8F3B-7048C97D0A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A077-F9C9-4FCC-94A4-FF17203F7B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04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Конспект открытого урока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Урок проводится на базе: МОУ СОШ №21 г.Подольск   Московская область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23640" y="2707920"/>
            <a:ext cx="8569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дагог: Сизянова Елена Алексе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дмет: Литературное чтение; класс 2 «В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ма урока: Зарубежные сказки. Повтор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ип урока:  Урок обобщения и систематизации знаний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6. Работа с пословицами</a:t>
            </a: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Поработаем пара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У вас на партах карточки с пословицами. Прочитайте и определите, к какой сказке они подходят? ( даётся три варианта карточек с пословицами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Times New Roman"/>
              </a:rPr>
              <a:t>Гуляй, да дела не забывай 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Times New Roman"/>
              </a:rPr>
              <a:t>Где дружба прочна – там хорошо идут дел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Times New Roman"/>
              </a:rPr>
              <a:t>Нет такой хитрости, которую нельзя было бы перехитри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ff"/>
                </a:solidFill>
                <a:latin typeface="Times New Roman"/>
              </a:rPr>
              <a:t>Ленивому всегда праздни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ff"/>
                </a:solidFill>
                <a:latin typeface="Times New Roman"/>
              </a:rPr>
              <a:t>С хорошим другом горы свернёшь, а с плохим – горя хлебнёш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ff"/>
                </a:solidFill>
                <a:latin typeface="Times New Roman"/>
              </a:rPr>
              <a:t>Уж на что лиса хитра, да и её ловя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Ныне гуляшки и завтра гуляшки - находишься без дома  да без рубаш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Доброе братство милее богат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Кто легко верит, быстро жалеет об это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7. Работа в тетради на печатной основ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Прочитайте задани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Найдите ответ на вопрос в текс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8. Итог уро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Что понравилось на урок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Какие сказки вспомнил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А кому было трудно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Оцените свою работу на урок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9. Домашнее зада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Нарисовать иллюстрацию к сказке, которая больше всего понравилас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Выполнить задание в тетради на печатной основ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можем Бамсику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329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045440"/>
            <a:ext cx="588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выше кошки рос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Живёт в норе, в лес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ушистый рыжий хвос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се знаем мы ….(лису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Летом ходит без дорог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озле сосен и берё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 зимой он спит в берлог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т мороза прячет нос. (медвед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4681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921120" cy="3814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932360" y="1916280"/>
            <a:ext cx="3743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3097440" cy="2665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843280" y="3789360"/>
            <a:ext cx="3889440" cy="2303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148360" y="692280"/>
            <a:ext cx="2952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3024360" cy="2869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771640" y="3789360"/>
            <a:ext cx="3168720" cy="2592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2403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3024000" cy="259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580000" y="549360"/>
            <a:ext cx="2664000" cy="2519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203640" y="3284640"/>
            <a:ext cx="3600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Цели урока: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Обучающие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расширить читательский опыт учащихся знакомством с зарубежными народными и авторскими сказками; учить выделять национальные особенности сказок и их героев; формировать читательские умения (определять жанр и тему произведения, идею произведения; работать с текстом); формировать навыки правильного быстрого и выразительного чт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Развивающие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богащать речь младшего школьника; развивать память, мышл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Воспитывающие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воспитывать нравственно-эстетические понятия ( «образ хорошего человека», навыки сотрудничества, толерантность к народам мир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Оборудование: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учебник “Литературное чтение”. 2 клас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фросининой Л.А.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рабочая тетрадь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мультимедийная презентаци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карточки с пословицам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«Ромашка» с названиями сказо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УУД на уроке: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Метапредметные</a:t>
            </a: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Познавательные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находить информацию в тексте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едставлять информацию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сравнивать факты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нализировать и обобщать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Регулятивные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определить цель (проблему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принимать и сохранять учебную задачу и активно включаться в деятельность, направленную на её решение в сотрудничестве с учителем и одноклассниками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адекватно оценивать свои достижения, осознавать возникающие трудности и искать способы их преодоле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Коммуникативные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уметь выражать  свои мысли и   действия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работать в коллектив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Предметные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уметь определять жанр произведения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Личностные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самостоятельно проверять знания по изученной теме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оценивать ситуацию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Ход уро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1.  Этап организации класса на ур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Порядок на парте. Порядок в голове. Готовы мы учиться всегда и везд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2. Определение проблематики уро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вучит песня: «Сказки гуляют по свету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к вы думаете, о чём пойдёт речь на урок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егодня мы повторим сказки народов мира, с которыми познакомились на предыдущих урок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Этап проверки домашнего зад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Кто желает прочитать сказку «Три поросёнка» - по рол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Кто является главными героями сказк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Как их можно охарактеризовать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Выборочное чт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А теперь задание для мальчиков: найдите в  сказке отрывок, как волк расправился с первым поросёнком… (прочитать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Задание для девочек: найдите в сказке отрывок, как волк расправился со вторым поросёнком поросёнка…(прочитать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А теперь задание для всех. Найдите в тексте, как волк пытался обмануть третьего  поросёнка (в первый раз, во второй раз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Какими словами заканчивается сказк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Чему она нас учит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15920"/>
            <a:ext cx="83628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4. Этап актуализации знан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(Обзор прочитанных сказок народов мира, работа с презентацией по сказкам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- К нам в гости снова пришёл Бамсик , помогите ему вспомнить сказки.(слйд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- Отгадайте загадки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выше кошки рост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Живёт в норе, в лес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ушистый рыжий хвост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се знаем мы ….(лису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етом ходит без дороги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озле сосен и берёз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 зимой он спит в берлоге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т мороза прячет нос. (медведь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з какой сказки эти герои?  ( «Лис Миккель и медведь Бамсе» -Норвежская сказка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Посмотрите на экран, эпизоды из какой сказки показаны? ( слайд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 «Колосок» -украинская сказка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 О чём эта сказка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 О лени 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Продолжаем помогать Бамсику. (слайд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Какая же следующая сказка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 «Как Джек за счастьем ходил.»- английская сказка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Кто помогал Джеку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О чём эта сказка? (о дружбе человека и животных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Героев какой сказки мы видим на этом слайде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«Бременские музыканты» - Братья Гримм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Вы правильно назвали все сказ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Бамсик благодарит вас за помощ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284720" y="1052640"/>
            <a:ext cx="17906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Определение авторской и народной сказ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На доске расположены карточки с определениями вида сказок: авторские , народны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СКАЗ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Авторские                                             Наро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О чём говорят нам карточк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Я предлагаю вам поиграт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На лепестках ромашки написаны названия сказок -определите, к какому виду относится сказка и объясните, почем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Сравнительный анализ сказ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Какие из прочитанных сказок похожи? Что в них общего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«Бременские музыканты» и « Как Джек за счастьем ходил»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 чём различие этих сказок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5. Физ. Минут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ы работали – устали. А теперь все дружно вста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учками похлопали…(хлоп, хлоп, хлоп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ожками потопали…( топ, топ, топ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вернулись, повернулис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 – нагнулись, два – нагнулис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ели…встали…потянулись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 теперь тихонько сели…за работу принялис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21:36:56Z</dcterms:created>
  <dc:creator>Лена</dc:creator>
  <dc:description/>
  <dc:language>en-US</dc:language>
  <cp:lastModifiedBy>Лена</cp:lastModifiedBy>
  <dcterms:modified xsi:type="dcterms:W3CDTF">2013-11-26T22:40:28Z</dcterms:modified>
  <cp:revision>3</cp:revision>
  <dc:subject/>
  <dc:title> Конспект открытого урока.    Урок проводится на базе: МОУ СОШ №21 г.Подольск   Московская область</dc:title>
</cp:coreProperties>
</file>