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B8E-BCE7-4C29-98F8-1BD7C336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A77-5CC0-4FA4-94CA-E1486DA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8CD-4925-4BB2-89C8-1639F6CA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3BC-F903-4A70-B23A-E2C273A9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D5A-1C86-47FF-B12D-1959CA9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1A3-02A4-4130-B605-C86866B9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73A-BEE7-4BD6-A0FA-97D77D2D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BB2-0618-4A0D-A832-C7EDF6A5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52E-3D21-45BB-9B81-3FE1EF6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BFD-338C-4935-BA22-12240B9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5BE-4692-40BB-A547-39AAAAF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64E-841C-405F-BEFD-71F502E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40C-1BA2-4A98-AA72-760D6E101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srch?query=&#1053;&#1072;&#1087;&#1086;&#1083;&#1077;&#1086;&#1085;" TargetMode="External"/><Relationship Id="rId3" Type="http://schemas.openxmlformats.org/officeDocument/2006/relationships/hyperlink" Target="http://ru.wikipedia.org/wiki/&#1053;&#1072;&#1087;&#1086;&#1083;&#1077;&#1086;&#1085;_I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-в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 Консульство и образование наполеоновской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762120" y="228600"/>
            <a:ext cx="7619760" cy="990720"/>
          </a:xfrm>
          <a:prstGeom prst="bevel">
            <a:avLst>
              <a:gd name="adj" fmla="val 12500"/>
            </a:avLst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напарт провёл денежную реформу, включая создание французского банка и укрепление новой денежной единицы – фр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File:France 5 francs 1811-B.jpg"/>
          <p:cNvPicPr/>
          <p:nvPr/>
        </p:nvPicPr>
        <p:blipFill>
          <a:blip r:embed="rId2"/>
          <a:stretch/>
        </p:blipFill>
        <p:spPr>
          <a:xfrm>
            <a:off x="228600" y="1523880"/>
            <a:ext cx="2286000" cy="227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File:Napoleon I Gold Coin.jpg"/>
          <p:cNvPicPr/>
          <p:nvPr/>
        </p:nvPicPr>
        <p:blipFill>
          <a:blip r:embed="rId3"/>
          <a:stretch/>
        </p:blipFill>
        <p:spPr>
          <a:xfrm>
            <a:off x="228600" y="4038480"/>
            <a:ext cx="3733920" cy="195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Свобода, равенство и собствен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ое внимание император уделял укреплению полиции. Во главе министерства полиции был поставлен Жозеф Фуше, создавший мощную машину полицейского сы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File:Fouché Joseph Duke of Otranto.jpg"/>
          <p:cNvPicPr/>
          <p:nvPr/>
        </p:nvPicPr>
        <p:blipFill>
          <a:blip r:embed="rId2"/>
          <a:stretch/>
        </p:blipFill>
        <p:spPr>
          <a:xfrm>
            <a:off x="304920" y="1523880"/>
            <a:ext cx="3914640" cy="4552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304920" y="601992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зеф Фу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8920" y="309960"/>
            <a:ext cx="806616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Общество без религии подобно кораблю без компас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File:Jacques-Louis David 006.jpg"/>
          <p:cNvPicPr/>
          <p:nvPr/>
        </p:nvPicPr>
        <p:blipFill>
          <a:blip r:embed="rId2"/>
          <a:stretch/>
        </p:blipFill>
        <p:spPr>
          <a:xfrm>
            <a:off x="609480" y="144792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19040" y="6019920"/>
            <a:ext cx="830592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вящение императора Наполеона I и корон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рицы Жозефины в соборе Парижской Богоматер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укрепления престижа верующих Бонапарт пошёл на переговоры с папой римским. Католическая церковь объявлялась религией  всех французов. В 1805 г. Наполеон был коронован в Милане в Домском соб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ile:Andrea Appiani 002.jpg"/>
          <p:cNvPicPr/>
          <p:nvPr/>
        </p:nvPicPr>
        <p:blipFill>
          <a:blip r:embed="rId2"/>
          <a:stretch/>
        </p:blipFill>
        <p:spPr>
          <a:xfrm>
            <a:off x="304920" y="1295280"/>
            <a:ext cx="3659040" cy="492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304920" y="601992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императо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File:Napoleon I in coronation costume by Robert Lefebvre 1807.jpg"/>
          <p:cNvPicPr/>
          <p:nvPr/>
        </p:nvPicPr>
        <p:blipFill>
          <a:blip r:embed="rId2"/>
          <a:stretch/>
        </p:blipFill>
        <p:spPr>
          <a:xfrm>
            <a:off x="380880" y="1828800"/>
            <a:ext cx="3695760" cy="4834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5029200" y="1523880"/>
            <a:ext cx="3886200" cy="3505320"/>
          </a:xfrm>
          <a:prstGeom prst="wedgeRoundRectCallout">
            <a:avLst>
              <a:gd name="adj1" fmla="val -113601"/>
              <a:gd name="adj2" fmla="val -16212"/>
              <a:gd name="adj3" fmla="val 16667"/>
            </a:avLst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Я могу обвести вокруг пальца и политика,  и военного, но не в состоянии обмануть хозяйку, которая каждый день ходит на ры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00 году Наполеон вместе со своей армией перешли через Альпы, зашли в тыл к австрийцам и одержали победу в битве при Маренго. Франция получила Пьемонт и Ге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ile:Lejeune - Bataille de Marengo.jpg"/>
          <p:cNvPicPr/>
          <p:nvPr/>
        </p:nvPicPr>
        <p:blipFill>
          <a:blip r:embed="rId2"/>
          <a:stretch/>
        </p:blipFill>
        <p:spPr>
          <a:xfrm>
            <a:off x="380880" y="2133720"/>
            <a:ext cx="4343400" cy="315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1488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80880" y="5257800"/>
            <a:ext cx="4191120" cy="121932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при Марен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07696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805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стоялось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ражение у мыса Трафальга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 результате которого был уничтожен французский флот, а Англия лико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Trafalgar1"/>
          <p:cNvPicPr/>
          <p:nvPr/>
        </p:nvPicPr>
        <p:blipFill>
          <a:blip r:embed="rId2"/>
          <a:stretch/>
        </p:blipFill>
        <p:spPr>
          <a:xfrm>
            <a:off x="990720" y="1523880"/>
            <a:ext cx="6553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53341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кабр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80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да произошла кровавая битва у деревн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устерли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где Наполеон одержал блистательную победу над австрийским и русским импер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File:Austerlitz-baron-Pascal.jpg"/>
          <p:cNvPicPr/>
          <p:nvPr/>
        </p:nvPicPr>
        <p:blipFill>
          <a:blip r:embed="rId2"/>
          <a:stretch/>
        </p:blipFill>
        <p:spPr>
          <a:xfrm>
            <a:off x="762120" y="1533600"/>
            <a:ext cx="7619760" cy="379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52578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180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ду французская армия вошла в Пруссию и разбила её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д Йе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Наполеон торжественно въехал в Берлин и подписал там декрет о континентальной блок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8480" y="313560"/>
            <a:ext cx="8211240" cy="97236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File:Charles Meynier - Napoleon in Berlin.png"/>
          <p:cNvPicPr/>
          <p:nvPr/>
        </p:nvPicPr>
        <p:blipFill>
          <a:blip r:embed="rId2"/>
          <a:stretch/>
        </p:blipFill>
        <p:spPr>
          <a:xfrm>
            <a:off x="1600200" y="1523880"/>
            <a:ext cx="52578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1807 год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полеон заключил мир с Россией. Два императора встретились в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ильзит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На плоту они обменялись рукопожатиями и подписали мирный до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File:Tilsitz 1807.JPG"/>
          <p:cNvPicPr/>
          <p:nvPr/>
        </p:nvPicPr>
        <p:blipFill>
          <a:blip r:embed="rId2"/>
          <a:stretch/>
        </p:blipFill>
        <p:spPr>
          <a:xfrm>
            <a:off x="155520" y="1701720"/>
            <a:ext cx="4416480" cy="3454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152280" y="5105520"/>
            <a:ext cx="441972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 импер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ильз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вобода, равенство и братств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Революционер на тро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Истинная слава Наполе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5105160"/>
            <a:ext cx="85341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08 году французская армия вторглась в Испанию, на испанский престол наполеон посадил своего старшего брата Жозе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ile:Pepino bonaparte.jpg"/>
          <p:cNvPicPr/>
          <p:nvPr/>
        </p:nvPicPr>
        <p:blipFill>
          <a:blip r:embed="rId2"/>
          <a:stretch/>
        </p:blipFill>
        <p:spPr>
          <a:xfrm>
            <a:off x="1752480" y="1371600"/>
            <a:ext cx="5026320" cy="369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испанцы не смирились с оккупацией. Всеобщее восстание приняло форму партизанской войны, ограничило власть Жозефа. Испанцы не признали власть короля-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9760" y="37080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File:El Tres de Mayo, by Francisco de Goya, from Prado in Google Earth.jpg"/>
          <p:cNvPicPr/>
          <p:nvPr/>
        </p:nvPicPr>
        <p:blipFill>
          <a:blip r:embed="rId2"/>
          <a:stretch/>
        </p:blipFill>
        <p:spPr>
          <a:xfrm>
            <a:off x="152280" y="20574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52280" y="5638680"/>
            <a:ext cx="441972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рел повстанце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чь на 3 мая 180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-в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олеон в 1804 году издал знаменитый Гражданский кодекс, или Кодекс Наполеона, провозгласившего равенство, неприкосновенность личности, свободу сове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евательные войны консульства и 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File:Code Civil 1804.png"/>
          <p:cNvPicPr/>
          <p:nvPr/>
        </p:nvPicPr>
        <p:blipFill>
          <a:blip r:embed="rId2"/>
          <a:stretch/>
        </p:blipFill>
        <p:spPr>
          <a:xfrm>
            <a:off x="304920" y="1676520"/>
            <a:ext cx="394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ем с доку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. 89, 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11, вопрос 3,5 или 6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rambler.ru/srch?query=%D0%9D%D0%B0%D0%BF%D0%BE%D0%BB%D0%B5%D0%BE%D0%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D%D0%B0%D0%BF%D0%BE%D0%BB%D0%B5%D0%BE%D0%BD_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590920" y="4800600"/>
            <a:ext cx="6324480" cy="182880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использованы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5160" y="376560"/>
            <a:ext cx="8161560" cy="89244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3812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789 г. во Франции произошло много переворотов. Генерал Бонапарт был спокойно принят в качестве главы государства. Он установил военную диктатуру, занялся восстановлением экономики и правов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nap"/>
          <p:cNvPicPr/>
          <p:nvPr/>
        </p:nvPicPr>
        <p:blipFill>
          <a:blip r:embed="rId2"/>
          <a:stretch/>
        </p:blipFill>
        <p:spPr>
          <a:xfrm>
            <a:off x="304920" y="1523880"/>
            <a:ext cx="334476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228600" y="6172200"/>
            <a:ext cx="3429000" cy="6858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Emmanuel_Joseph_Siey%C3%A8s_-_crop"/>
          <p:cNvPicPr/>
          <p:nvPr/>
        </p:nvPicPr>
        <p:blipFill>
          <a:blip r:embed="rId2"/>
          <a:stretch/>
        </p:blipFill>
        <p:spPr>
          <a:xfrm>
            <a:off x="3381480" y="2286000"/>
            <a:ext cx="2379600" cy="3052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0" y="4191120"/>
            <a:ext cx="3200400" cy="8380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онсул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2590920" y="5181480"/>
            <a:ext cx="3429000" cy="11430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конс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мануэль – Жоз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й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019920" y="5638680"/>
            <a:ext cx="2819160" cy="91440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онсу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е Дю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AduC 233 Ducos (R., 1747-1816).JPG"/>
          <p:cNvPicPr/>
          <p:nvPr/>
        </p:nvPicPr>
        <p:blipFill>
          <a:blip r:embed="rId3"/>
          <a:stretch/>
        </p:blipFill>
        <p:spPr>
          <a:xfrm>
            <a:off x="6400800" y="2819520"/>
            <a:ext cx="2095560" cy="27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17" descr="73367102"/>
          <p:cNvPicPr/>
          <p:nvPr/>
        </p:nvPicPr>
        <p:blipFill>
          <a:blip r:embed="rId4"/>
          <a:stretch/>
        </p:blipFill>
        <p:spPr>
          <a:xfrm>
            <a:off x="304920" y="1447920"/>
            <a:ext cx="258588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91040" y="147960"/>
            <a:ext cx="8161560" cy="89244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867280" y="1371600"/>
            <a:ext cx="312444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щ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 flipH="1">
            <a:off x="5638680" y="2362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7467480" y="23623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ими правами обладал Первый консул, который мог объявлять войну и заключать мир, издавать законы, назначать и смещать минис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260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Франции революционной к Франции буржуа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33-22-4"/>
          <p:cNvPicPr/>
          <p:nvPr/>
        </p:nvPicPr>
        <p:blipFill>
          <a:blip r:embed="rId2"/>
          <a:stretch/>
        </p:blipFill>
        <p:spPr>
          <a:xfrm>
            <a:off x="380880" y="1600200"/>
            <a:ext cx="3919680" cy="4343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годы его консульства резко ограничилась законодательная власть, уничтожено местное самоуправление, в департаменты были направлены префекты – помощники конс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4880" y="309960"/>
            <a:ext cx="821844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Успокоение, порядок, народ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ile:Jean Auguste Dominique Ingres 016.jpg"/>
          <p:cNvPicPr/>
          <p:nvPr/>
        </p:nvPicPr>
        <p:blipFill>
          <a:blip r:embed="rId2"/>
          <a:stretch/>
        </p:blipFill>
        <p:spPr>
          <a:xfrm>
            <a:off x="838080" y="1523880"/>
            <a:ext cx="2905200" cy="4496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8920" y="309960"/>
            <a:ext cx="798984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Успокоение, порядок, народност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ране установился режим личной власти. Французы устали от революции, и режим личной власти был одобрен на плебис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1219259845_np8"/>
          <p:cNvPicPr/>
          <p:nvPr/>
        </p:nvPicPr>
        <p:blipFill>
          <a:blip r:embed="rId2"/>
          <a:stretch/>
        </p:blipFill>
        <p:spPr>
          <a:xfrm>
            <a:off x="152280" y="1905120"/>
            <a:ext cx="4419720" cy="3431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0"/>
          <p:cNvSpPr/>
          <p:nvPr/>
        </p:nvSpPr>
        <p:spPr>
          <a:xfrm>
            <a:off x="152280" y="5334120"/>
            <a:ext cx="441972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консу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ишем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Консуль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иод в истории Франции, когда власть принадлежала  Наполеону       Бонапарту. Продолжался с 9 ноября 1799 по 18 мая 180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в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9520" y="1523520"/>
            <a:ext cx="49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ый период консульства были приняты зак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Подтверждение права имущества, приобретённые в годы револю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Поощрение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2600" y="309960"/>
            <a:ext cx="8065800" cy="949320"/>
          </a:xfrm>
          <a:prstGeom prst="rect">
            <a:avLst/>
          </a:prstGeom>
          <a:solidFill>
            <a:srgbClr val="e6b48a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вобода, равенство и собственнос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300px-NfpoleonKab"/>
          <p:cNvPicPr/>
          <p:nvPr/>
        </p:nvPicPr>
        <p:blipFill>
          <a:blip r:embed="rId2"/>
          <a:stretch/>
        </p:blipFill>
        <p:spPr>
          <a:xfrm>
            <a:off x="609480" y="1523880"/>
            <a:ext cx="2857680" cy="4772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304920" y="5715000"/>
            <a:ext cx="3962160" cy="838080"/>
          </a:xfrm>
          <a:prstGeom prst="rect">
            <a:avLst/>
          </a:prstGeom>
          <a:solidFill>
            <a:srgbClr val="e6b48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0-07T12:29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