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3A4-3D58-4E36-AF0B-67AD1ABF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C32-5DEF-4416-82F5-E844D490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7A0-ED06-42F6-BBBB-FC63C52E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1CC-BBE0-4867-B6DB-250E8530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2C84-ACAB-4E43-8416-7F04A592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7302-CF7D-40BA-9C15-E4AA528D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5005-C928-4D7E-B6D1-7A804008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6FBD-9A79-43C0-ACC1-2474ACBE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7BA2-B102-404E-AB26-22510C32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F5F7-69AE-4325-8BA0-AE42920A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D772-179D-4021-B230-3518E38E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06F-6A35-4B98-BBE5-B1E652E9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E764-5F39-42FD-9DB4-48D489A7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F543-2047-4821-B86D-5180ED31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26F1-71BF-4F6A-AB21-2CBF10CF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3837-A035-4CE9-A08C-C00C6292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3AFB-1E31-4370-9778-35572553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5FB-E2B5-4A7B-A384-945879CB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645-F309-4F1B-A931-D099F71C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5EA-83C4-461B-B25D-7E6DEBF3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603-EF1B-4366-90E9-1E6F8700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2BB-D172-4405-9835-52C8BCCF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FC8-0E6F-4E7A-8089-DC6BBE6B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782-2898-43C4-9825-2D7BB60F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3F20-EFD8-4ABC-95B9-9FF05A8CF0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836E-8EDE-41CD-889F-31CED49B2E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детский сад комбинированного вида № 15 «Солнышко»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управление образования</a:t>
            </a:r>
            <a:br>
              <a:rPr sz="2300"/>
            </a:br>
            <a:br>
              <a:rPr sz="19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етодическое объединение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ля инструкторов по физической  культуре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витие физических качеств с помощью ритмической гимнастики в рамках образовательной программы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«Детский сад – 2100»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28 января 2014г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4000" y="322200"/>
            <a:ext cx="828036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Сил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— способность человека преодолевать внешнее сопротивление или противодействовать ему за счет мышечных усилий. Средствами воспитания силы являются упражнения, при выполнении которых преодолевается сопротивление массы собственного тела (подтягивания, приседания), массы партнера и др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Быстрот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— способность человека выполнять движения в минимально короткий срок. Средствами воспитания быстроты будут такие движения, которые можно выполнить с максимальной скоро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Ловкость —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это способность человека перестраивать свою двигательную деятельность в соответствии с требованиями внезапно меняющейся обстановки. Ловкость способствует совершенствованию функций вестибулярного аппарата. Эффективными средствами воспитания ловкости являются подвижные и спортивные игры,  акробатика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Выносливость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— это способность человека совершать работу заданной интенсивности в течение возможно более длительного време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— это способность выполнять движения с большой амплитудой. Термином «гибкость» пользуются в тех случаях, когда речь идёт о подвижности в суставах всего те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воспитания гибкости используют: активные движения с постепенно увеличивающейся амплитуд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итмическая гимнастика – это традиционный вид гимнастики оздоровительно-развивающей направленности, основанный на подчинении двигательных действий задающему темп и ритм музыкальному сопровожден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итмическая гимнастика базируется на огромном арсенале движений, упражнения её направлены на работу, а, следовательно, и развитие  физических качест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нятия сюжетно-ролевой ритмической гимнастикой с дошкольниками могут быть организованы в рамках непосредственно организованной деятельности, специальных или дополнительных кружковых занятий, в режимных моментах, а также как самостоятельная музыкально-двигательная игровая деятельность детей в свободное время в групп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занятий ритмической гимнастики: развитие целостной гармоничной личности ребё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ормирование основ культуры движ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азвитие основных физических кач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ормирование красивой оса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вышение физической работоспособ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вершенствование чувства ритма, музыка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вышение эмоционального настро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спитание стойкого интереса и потребности к занятиям физической культур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9280" y="68040"/>
            <a:ext cx="8569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сновные характеристики  комплекс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дбор упражнений соответствует возрасту и подготовленности занимающих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одолжительность основных программных комплексов обусловлена возрастом занимающих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упражнения согласованы с музыкой и передают   её настроени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основная структура сохраняет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упражнения распределяются с учётом возрастания физиологической нагрузки к основной ча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программы включают упражнения разной направлен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для разгрузки позвоночника и коррекции осанки включены упражнения из положения лёжа и сидя на пол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508720" y="3141720"/>
            <a:ext cx="27558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06:18:44Z</dcterms:created>
  <dc:creator>user</dc:creator>
  <dc:description/>
  <dc:language>en-US</dc:language>
  <cp:lastModifiedBy>Игорь</cp:lastModifiedBy>
  <dcterms:modified xsi:type="dcterms:W3CDTF">2015-10-11T17:14:23Z</dcterms:modified>
  <cp:revision>15</cp:revision>
  <dc:subject/>
  <dc:title>Слайд 1</dc:title>
</cp:coreProperties>
</file>