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FD5-9868-45D6-8C25-DAC6F396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C91-FAF8-45C7-BC7D-46230146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B04-370C-4634-937B-071351EC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4F3-8876-474F-BBB7-FD6ACC25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F968-2E46-4E7B-902F-DAADDEEC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5C22-6F1F-49FB-973B-CBAFEF60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8CCB-8CAD-405F-B26F-FBDFB3AA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C343-6A1C-4920-B4AA-AE775B12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D2A7-AE22-4BB1-8B7B-BA9067F9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C949-650F-4103-991B-38A67A90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4A64-42C9-4C9D-BE2E-EAF6F4BB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58F-949C-4BE6-BE18-8EC4AE20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2EA6-A0E7-4BFB-93C0-CB5F2E7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AC37-256A-4F4B-B8F0-6D8D1646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7E97-2520-471B-A938-70951E4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7EFD-F0DB-44F7-B02B-F6AD4C7B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EA86-8239-45D5-BC78-5AB29DBA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8E2-3432-43B3-8789-16D56550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552-09D7-4038-A24F-3251A382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FE1-21AE-480B-A89E-2B0F8C7C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854-5B4D-44B6-8A7E-B6F81A9C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851-0774-46CE-BB0B-BDE1F2CF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FC6-61B5-48E3-94DD-A9615D94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0E6-28F3-4BDD-82AF-0ED0E08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AD3-3159-4DCE-B91C-E5602FE419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CAD-183C-4208-8911-02F7A4478A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детский сад комбинированного вида № 15 «Солнышко»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управление образования</a:t>
            </a:r>
            <a:br>
              <a:rPr sz="2300"/>
            </a:br>
            <a:br>
              <a:rPr sz="19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етодическое объединение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ля инструкторов по физической  культуре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витие физических качеств с помощью ритмической гимнастики в рамках образовательной программы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«Детский сад – 2100»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8 января 2014г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4000" y="322200"/>
            <a:ext cx="828036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Сил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— способность человека преодолевать внешнее сопротивление или противодействовать ему за счет мышечных усилий. Средствами воспитания силы являются упражнения, при выполнении которых преодолевается сопротивление массы собственного тела (подтягивания, приседания), массы партнера и д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ыстрот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— способность человека выполнять движения в минимально короткий срок. Средствами воспитания быстроты будут такие движения, которые можно выполнить с максимальной скор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Ловкость —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это способность человека перестраивать свою двигательную деятельность в соответствии с требованиями внезапно меняющейся обстановки. Ловкость способствует совершенствованию функций вестибулярного аппарата. Эффективными средствами воспитания ловкости являются подвижные и спортивные игры,  акробатика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ыносливость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— это способность человека совершать работу заданной интенсивности в течение возможно более длительного врем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— это способность выполнять движения с большой амплитудой. Термином «гибкость» пользуются в тех случаях, когда речь идёт о подвижности в суставах всего те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воспитания гибкости используют: активные движения с постепенно увеличивающейся амплитуд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итмическая гимнастика – это традиционный вид гимнастики оздоровительно-развивающей направленности, основанный на подчинении двигательных действий задающему темп и ритм музыкальному сопровожден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итмическая гимнастика базируется на огромном арсенале движений, упражнения её направлены на работу, а, следовательно, и развитие  физических качест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нятия сюжетно-ролевой ритмической гимнастикой с дошкольниками могут быть организованы в рамках непосредственно организованной деятельности, специальных или дополнительных кружковых занятий, в режимных моментах, а также как самостоятельная музыкально-двигательная игровая деятельность детей в свободное время в групп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занятий ритмической гимнастики: развитие целостной гармоничной личности ребё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ормирование основ культуры движ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звитие основных физических кач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ормирование красивой оса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вышение физической работоспособ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вершенствование чувства ритма, музыка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вышение эмоционального настро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спитание стойкого интереса и потребности к занятиям физической культур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68040"/>
            <a:ext cx="8569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сновные характеристики  комплекс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дбор упражнений соответствует возрасту и подготовленности занимающих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одолжительность основных программных комплексов обусловлена возрастом занимающих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упражнения согласованы с музыкой и передают   её настроени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основная структура сохраняет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упражнения распределяются с учётом возрастания физиологической нагрузки к основной ча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программы включают упражнения разной направлен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для разгрузки позвоночника и коррекции осанки включены упражнения из положения лёжа и сидя на пол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508720" y="3141720"/>
            <a:ext cx="27558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06:18:44Z</dcterms:created>
  <dc:creator>user</dc:creator>
  <dc:description/>
  <dc:language>en-US</dc:language>
  <cp:lastModifiedBy>Игорь</cp:lastModifiedBy>
  <dcterms:modified xsi:type="dcterms:W3CDTF">2015-10-11T17:14:23Z</dcterms:modified>
  <cp:revision>15</cp:revision>
  <dc:subject/>
  <dc:title>Слайд 1</dc:title>
</cp:coreProperties>
</file>