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ACA27-0157-449D-AB3E-D54A487AFA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EB994-64C2-4D77-A07B-E4589E00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1288-F9ED-456F-A3C2-9672852F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BA25A-F1A6-4788-8055-C90FCEA455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B7A4D-907B-4599-8F59-FD21628E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DB8D7-8B70-4555-A9F7-54329509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ECC68-D7B4-4F5C-B6D7-9B281F2F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E42C0-F36D-4315-AE45-C0ED992C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BD11-03F7-4B81-8406-BED0BF11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77E57-EDA1-4AB1-B746-C2173263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6000B-6E80-4E99-A7B7-CE2D8A04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FC2B9-23F0-4183-8747-C96AE9BD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C7128-7E17-49E9-AF04-B5149128A255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Некоторые приемы исправле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звукослоговой структуры сл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у дошколь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Calibri"/>
                <a:ea typeface="Microsoft YaHei"/>
              </a:rPr>
              <a:t>Подготовил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Calibri"/>
                <a:ea typeface="Microsoft YaHei"/>
              </a:rPr>
              <a:t>учитель-логопед МБДО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Calibri"/>
                <a:ea typeface="Microsoft YaHei"/>
              </a:rPr>
              <a:t>«ЦРР детский сад № 164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Calibri"/>
                <a:ea typeface="Microsoft YaHei"/>
              </a:rPr>
              <a:t>Татаринова Н. П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Логоритмика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это система двигательных упражнений, в которых различные движения сочетаются с произнесением специального речевого материа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Логоритмика основана на сочетании слова, музыки и движения. Взаимоотношения указанных компонентов могут быть разнообразными, с преобладанием одного из них или связи между ни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Средства логоритмик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8592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499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ходьба и маршировка в различных направлениях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упражнения на развитие дыхания, голоса и артикуляци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упражнения, регулирующие мышечный тонус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упражнения, активизирующие внимани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счетные упражне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речевые упражнения без музыкального сопровожде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упражнения, формирующие чувство музыкального размера или метр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упражнения, формирующие чувство музыкального темп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ритмические упражне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пени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упражнения в игре на детских музыкальных инструментах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самостоятельная музыкальная деятельность детей с речевыми нарушения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игровая деятельность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упражнения на развитие творческой инициати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214720"/>
            <a:ext cx="8229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0040" y="274680"/>
            <a:ext cx="8001000" cy="57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Звукослоговая структура слова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 –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это характеристика слова с точки зрения количества, последовательности и видов составляющих его звуков и слог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Необходимость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своевременной коррекции звукослоговой структуры слов у детей обусловле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571840"/>
            <a:ext cx="822960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Стойкостью данного нару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Негативным влиянием на усвоение словарного запаса и грамматического строя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Затруднениями в овладении письменной реч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Авторы методик формирования слоговой структуры сло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Левина Р. 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Жукова Н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Ткаченко Т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Агранови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З. 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Большакова С. 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твертушкина Н. 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Крупенчук О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743040" indent="-739800" algn="ctr"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Этапы коррекционной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34136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71680" indent="-568440">
              <a:spcBef>
                <a:spcPts val="799"/>
              </a:spcBef>
              <a:tabLst>
                <a:tab algn="l" pos="0"/>
                <a:tab algn="l" pos="5716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дготовительный этап  (работа на невербельном и вербальном материал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68440">
              <a:spcBef>
                <a:spcPts val="700"/>
              </a:spcBef>
              <a:tabLst>
                <a:tab algn="l" pos="0"/>
                <a:tab algn="l" pos="5716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Цель: подготовка к усвоению ритмической структуры слов, формирование оптико-пространственной ориент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68440">
              <a:spcBef>
                <a:spcPts val="799"/>
              </a:spcBef>
              <a:tabLst>
                <a:tab algn="l" pos="0"/>
                <a:tab algn="l" pos="5716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Коррекционный этап (работа ведётся на вербальном материал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68440">
              <a:spcBef>
                <a:spcPts val="700"/>
              </a:spcBef>
              <a:tabLst>
                <a:tab algn="l" pos="0"/>
                <a:tab algn="l" pos="5716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Цель: коррекция дефекта звукослоговой структуры сл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69880" indent="-568440">
              <a:spcBef>
                <a:spcPts val="700"/>
              </a:spcBef>
              <a:tabLst>
                <a:tab algn="l" pos="0"/>
                <a:tab algn="l" pos="5716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42876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Этап 1. Направления работ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На невербальном материал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вышение концентрации слухового внимания и памяти (упражнения со звучащими коробочками, музыкальными инструментам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бота над ритмом (отхлопывание в ладоши, отстукивание мячом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формирование координации движений под ритмическую музыку (бег, ходьба, марш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звитие мелкой моторики пальцев ру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Этап 1. Направления работ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На вербальном материа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Выполнение простых инструкц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зличению одинаковых звукокомплексов по силе, высоте, тембр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звитие подражательности, создание фонематической и артикуляторной готовности к вызыванию зву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звитие подражательности и координации речи с движениями (логоритмические упражнения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0"/>
            <a:ext cx="82296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Этап 2. Направления рабо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00008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бота с гласными звукам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узнавание по беззвучной артикуляции, повторение/пение серий звуков с четкой артикуляцие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Коррекционная работа на уровне слог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узнавание слога, запоминание и повторение цепочки слогов, работа с «Речевыми подушечками»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Коррекционная работа на уровне слов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фонематический и слоговой анализ и синтез сл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Коррекционная работа на уровне предложения и текс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проговаривание чистоговорок, пересказ тексто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7628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следовательность работы с разными типами сл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07920"/>
            <a:ext cx="822960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вусложные слова из открытых слогов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ват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хсложные слова из открытых слогов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машин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односложные слова, представляющие собой закрытый слог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мак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вусложные слова с закрытым слогом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лимон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вусложные слова со стечением согласных в середине слов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банк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вусложные слова с закрытым слогом и стечением согласных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чайник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хсложные слова с закрытым слогом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теремок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хсложные слова со стечением согласных и закрытым слогом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автобус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хсложные слова с двумя стечениями согласных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матрешк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односложные слова со стечением согласных в начале и в конце слова 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флаг,  винт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вусложные слова с двумя стечениями согласных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звезд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тырехсложные слова из открытых слогов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кукуруз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User</cp:lastModifiedBy>
  <dcterms:modified xsi:type="dcterms:W3CDTF">2005-03-16T22:25:48Z</dcterms:modified>
  <cp:revision>30</cp:revision>
  <dc:subject/>
  <dc:title>Презентация PowerPoint</dc:title>
</cp:coreProperties>
</file>