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3254-B460-4788-93E0-3E4138C9EC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4C7B6-5468-4779-AE41-99600C53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F4A3-6ECA-4358-8B5F-4FDDE4D0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183C-EC2B-4D0F-BF91-137D7F2039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F315-6B9C-4968-9C1C-2C46AFD4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0C73-062D-426E-8F33-2C7F741D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A613-BC82-405D-9A34-4BAB0FAA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4E12-C934-4A6B-95D2-4383E849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A653-0113-4B9B-87AB-D7F64B2B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F36CE-6355-427D-A28B-F5C139CF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77607-CB69-4F13-8D49-F68E3855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3A0CA-1D0A-46FF-A4F1-536C0040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EA718-6C94-4237-9B41-004BA92583A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Некоторые приемы исправле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звукослоговой структуры сл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у дошколь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Calibri"/>
                <a:ea typeface="Microsoft YaHei"/>
              </a:rPr>
              <a:t>Подготовил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Calibri"/>
                <a:ea typeface="Microsoft YaHei"/>
              </a:rPr>
              <a:t>учитель-логопед МБДО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Calibri"/>
                <a:ea typeface="Microsoft YaHei"/>
              </a:rPr>
              <a:t>«ЦРР детский сад № 164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Calibri"/>
                <a:ea typeface="Microsoft YaHei"/>
              </a:rPr>
              <a:t>Татаринова Н. 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Логоритмика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это система двигательных упражнений, в которых различные движения сочетаются с произнесением специального речевого материа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Логоритмика основана на сочетании слова, музыки и движения. Взаимоотношения указанных компонентов могут быть разнообразными, с преобладанием одного из них или связи между ни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Средства логоритми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8592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4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ходьба и маршировка в различных направлениях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упражнения на развитие дыхания, голоса и артикуляци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упражнения, регулирующие мышечный тонус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упражнения, активизирующие внимани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счетные упражн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речевые упражнения без музыкального сопровожд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упражнения, формирующие чувство музыкального размера или метр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упражнения, формирующие чувство музыкального темп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ритмические упражн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пени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упражнения в игре на детских музыкальных инструментах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самостоятельная музыкальная деятельность детей с речевыми нарушения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игровая деятельност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— упражнения на развитие творческой инициати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214720"/>
            <a:ext cx="8229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0040" y="274680"/>
            <a:ext cx="8001000" cy="57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Звукослоговая структура слова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 –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это характеристика слова с точки зрения количества, последовательности и видов составляющих его звуков и слог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Необходимость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своевременной коррекции звукослоговой структуры слов у детей обусловле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571840"/>
            <a:ext cx="822960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ойкостью данного нару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Негативным влиянием на усвоение словарного запаса и грамматического строя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Затруднениями в овладении письменной реч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Авторы методик формирования слоговой структуры сло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Левина Р. 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Жукова Н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Ткаченко Т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Агранови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З. 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Большакова С. 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ертушкина Н.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Крупенчук О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743040" indent="-739800" algn="ctr"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Этапы коррекционно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34136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71680" indent="-568440">
              <a:spcBef>
                <a:spcPts val="799"/>
              </a:spcBef>
              <a:tabLst>
                <a:tab algn="l" pos="0"/>
                <a:tab algn="l" pos="5716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дготовительный этап  (работа на невербельном и вербальном материал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68440">
              <a:spcBef>
                <a:spcPts val="700"/>
              </a:spcBef>
              <a:tabLst>
                <a:tab algn="l" pos="0"/>
                <a:tab algn="l" pos="5716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Цель: подготовка к усвоению ритмической структуры слов, формирование оптико-пространственной ориент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68440">
              <a:spcBef>
                <a:spcPts val="799"/>
              </a:spcBef>
              <a:tabLst>
                <a:tab algn="l" pos="0"/>
                <a:tab algn="l" pos="5716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Коррекционный этап (работа ведётся на вербальном материал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68440">
              <a:spcBef>
                <a:spcPts val="700"/>
              </a:spcBef>
              <a:tabLst>
                <a:tab algn="l" pos="0"/>
                <a:tab algn="l" pos="5716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Цель: коррекция дефекта звукослоговой структуры с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69880" indent="-568440">
              <a:spcBef>
                <a:spcPts val="700"/>
              </a:spcBef>
              <a:tabLst>
                <a:tab algn="l" pos="0"/>
                <a:tab algn="l" pos="5716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2876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Этап 1. Направления работ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На невербальном материал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вышение концентрации слухового внимания и памяти (упражнения со звучащими коробочками, музыкальными инструментам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бота над ритмом (отхлопывание в ладоши, отстукивание мячом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формирование координации движений под ритмическую музыку (бег, ходьба, марш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звитие мелкой моторики пальцев ру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Этап 1. Направления работ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На вербальном материа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Выполнение простых инструкц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зличению одинаковых звукокомплексов по силе, высоте, тембр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звитие подражательности, создание фонематической и артикуляторной готовности к вызыванию зву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звитие подражательности и координации речи с движениями (логоритмические упражнения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0"/>
            <a:ext cx="82296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Этап 2. Направления рабо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00008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бота с гласными звукам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узнавание по беззвучной артикуляции, повторение/пение серий звуков с четкой артикуляцие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Коррекционная работа на уровне слог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узнавание слога, запоминание и повторение цепочки слогов, работа с «Речевыми подушечками»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Коррекционная работа на уровне слов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фонематический и слоговой анализ и синтез сл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Коррекционная работа на уровне предложения и текс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проговаривание чистоговорок, пересказ тексто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7628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следовательность работы с разными типами сл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07920"/>
            <a:ext cx="82296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вусложные слова из открытых слогов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ват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хсложные слова из открытых слогов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машин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односложные слова, представляющие собой закрытый слог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мак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вусложные слова с закрытым слого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лимон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вусложные слова со стечением согласных в середине слов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банк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вусложные слова с закрытым слогом и стечением согласных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чайник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хсложные слова с закрытым слого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теремок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хсложные слова со стечением согласных и закрытым слого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автобус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хсложные слова с двумя стечениями согласных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матрешк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односложные слова со стечением согласных в начале и в конце слова 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флаг,  винт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вусложные слова с двумя стечениями согласных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звезд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ырехсложные слова из открытых слогов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кукуруз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User</cp:lastModifiedBy>
  <dcterms:modified xsi:type="dcterms:W3CDTF">2005-03-16T22:25:48Z</dcterms:modified>
  <cp:revision>30</cp:revision>
  <dc:subject/>
  <dc:title>Презентация PowerPoint</dc:title>
</cp:coreProperties>
</file>