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EE8-0C86-482A-8F86-1468E82D8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B0A-DEFF-4E2B-9335-028A43E0BF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A976-4785-4511-9D3C-3F2765BEEB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EC74-EC35-4AC0-B140-E97422A5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A700-8BAF-42C7-B0E9-0085E7EE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6002-1933-4548-BD64-333B368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C543-903E-4FAC-BB30-D3166616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EAE-E558-4441-AF55-BBFC6789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35C4-3900-423D-B33C-B821E47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B71-07B4-4A50-903E-D580CC9C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EAE-4B60-49C3-B214-E026886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A78-1D42-46D1-BF38-F38ACEC9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553A-0474-46E8-8A7B-BD7E8A5F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C0DD-765A-42EC-8508-6A3759F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CDB6-2AC0-4B53-8DF7-78E1B070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29F1-EED7-4CAF-8FB1-A3C9CA7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87F5-7DA1-4F57-8D3A-9F09A25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C68-8FAA-4546-AEC5-095FADC6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1806-8EC9-438E-9D7D-03218034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F47E-D4C7-4F07-9879-52DD9339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C3436-A93D-451D-9677-6598C7C0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B239B-5AFC-47B5-B8B2-FF0E4025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5CF19-8573-44F8-A7FC-0C7D5CDA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AAC0E-530A-42F9-9730-05FB4B9E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5EE9A-E318-449A-8E0D-A3D6232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D854-67C2-43A4-9158-2952C50A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9BE54-F745-423F-A498-083FA28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6131B-A956-4EA7-9BAC-EFC72D8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9956C-EF99-4673-A07F-CE2605B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7D3E8-A113-4B51-93C6-312919F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D1BA7-351D-46A3-B055-582E096D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CDD29-B747-4F25-8C34-B2C02B27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8033A-7972-4F33-8DB2-6CCC34BB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F0BC-D115-4E0E-A4BF-438D92DD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D244-DB33-4CA9-9F8E-4621EB37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2197-5294-418D-B61D-2E4B467A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4EE6-4F5A-48D2-9B33-98974AFA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B72C-F737-4B09-850B-21A3CF2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7FC5-1B0D-4981-BC3A-90FF55B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6B5E-BA29-41FF-8755-9FA44A4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D9BB-3ADF-4829-9009-E1046EE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9287-D85C-49D0-87D0-6BCF10F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3690-91E4-4F1C-A305-70809DB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C6B9-AEB7-4858-A2F5-B0241116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0C2C-6551-4431-8D48-DF2C7D6A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143D-7836-40F8-9902-A4084A56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1ACF-A8FD-4397-8E75-F9558BC6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2E7D-B458-4F3E-8D6F-6EC49AA1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5D14-2415-4ADB-A96A-730709E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A6B5-EBE8-4E08-965B-8751A6AE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FBA9-AEE1-4A44-8F26-9BF28B72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0ED6-919D-4D85-AB2D-253EE652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8953-175F-4E37-A4FA-D6C538B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984D-B040-4927-A6E9-64C13AD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CC2E6-7D5A-4746-A5A8-8829D53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EE3E-89A4-4987-A45A-73EC184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0990-1BC6-4C6D-96C7-E75332F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654A0-FAA1-41A2-B67D-A6224C36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568B-C67E-48CA-AE0D-6206144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8637A-F57D-4E67-84F3-F4061206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26F6-9F41-43E4-80AD-271097EE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E49E-D410-4266-B942-0DE9F938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E4345-A806-45F2-AEE4-B839C763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69FC-497E-4CC0-9C6C-E04643A9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B48E7-5989-41C6-A47C-2AF0EBF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D1E2-82BB-415D-A041-76074392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D17A-9DE2-4C31-863F-BEA36CE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59D11-56FC-4753-A0EE-7C2906A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4AAD-9247-48AF-BBC6-CC7D942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607C-3E4B-4922-B2C3-9D3330F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2D83-B978-4CC4-9E52-0CFA51C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3E48-6807-401C-8CE8-FEF79436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7F65-CC77-4CAB-9840-6338E884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F0C3-FBD2-44A8-8295-C19C0DF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3B31-60EC-47F6-A15D-6AF36E71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A7A-5778-4330-B247-1F817490CFF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D93-EAA6-4D09-817A-3D2EB6B34E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F28A-ACC3-42DB-B9B0-2CD0E092116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8EEA-AAE1-4982-A2A6-89D05206C4B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8ED-41CD-44F0-B93C-D214464444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3EBB-F48F-4474-BE92-141838A1EDD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12-09/1348411610_01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1.liveinternet.ru/images/attach/c/0/53/409/53409587_1262789365_neizv_hud_nach_1820h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0.liveinternet.ru/images/attach/c/2/72/442/72442904_1300822212_goncharova1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slide" Target="slide50.xml"/><Relationship Id="rId8" Type="http://schemas.openxmlformats.org/officeDocument/2006/relationships/slide" Target="slide51.xml"/><Relationship Id="rId9" Type="http://schemas.openxmlformats.org/officeDocument/2006/relationships/slide" Target="slide52.xml"/><Relationship Id="rId10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1348411610_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990720" y="1828800"/>
            <a:ext cx="7619760" cy="192276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ahoma"/>
              </a:rPr>
              <a:t>Литературный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Tahoma"/>
              </a:rPr>
              <a:t> турни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600440" y="4648320"/>
            <a:ext cx="4543560" cy="131364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Презентация подготовлена учителем литературы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ГБОУ ЦО №1311 «Тхия» Погребной Еленой Алесеев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832200" y="6149880"/>
            <a:ext cx="1479600" cy="7038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Москва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вый раун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11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6"/>
          <p:cNvSpPr txBox="1"/>
          <p:nvPr/>
        </p:nvSpPr>
        <p:spPr>
          <a:xfrm>
            <a:off x="1273320" y="1905120"/>
            <a:ext cx="6705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графические _x000b_загад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3240" y="730080"/>
            <a:ext cx="92376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еред вами портреты двух известных поэтов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пределите, из чьей биографии взяты следующие факт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81040" y="568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 Москве на Малой Молчановке находится дом-музей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5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66760" y="55116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эту сильно досаждали муштра и запрещение читать художественную литературу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Picture 8" descr="лермантов"/>
          <p:cNvPicPr/>
          <p:nvPr/>
        </p:nvPicPr>
        <p:blipFill>
          <a:blip r:embed="rId2"/>
          <a:stretch/>
        </p:blipFill>
        <p:spPr>
          <a:xfrm>
            <a:off x="4572000" y="152280"/>
            <a:ext cx="4038480" cy="5334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пушкин"/>
          <p:cNvPicPr/>
          <p:nvPr/>
        </p:nvPicPr>
        <p:blipFill>
          <a:blip r:embed="rId3"/>
          <a:stretch/>
        </p:blipFill>
        <p:spPr>
          <a:xfrm>
            <a:off x="228600" y="15228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Окончил учебное заведение с чином десятого класса (коллежский секретарь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15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8000" y="557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 1817 году был принят в литературное общество «Арзамас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Picture 10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53409587_1262789365_neizv_hud_nach_1820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52280"/>
            <a:ext cx="3637080" cy="4343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72442904_1300822212_goncharova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2438280"/>
            <a:ext cx="3510000" cy="41911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8"/>
          <p:cNvSpPr/>
          <p:nvPr/>
        </p:nvSpPr>
        <p:spPr>
          <a:xfrm>
            <a:off x="4340160" y="3808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Я помню море пред грозою,</a:t>
            </a:r>
            <a:br>
              <a:rPr sz="2200"/>
            </a:b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Как я завидовал волнам, Бегущим шумной чередою</a:t>
            </a:r>
            <a:br>
              <a:rPr sz="2200"/>
            </a:b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С любовью лечь к ее ногам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-77760" y="4610160"/>
            <a:ext cx="451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то автор этих стро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акой из этих женщин они посвящены? Назовите 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182520" y="456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Является автором картины «Крестовый перевал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7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го портреты писали известные художники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: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Тропинин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Кипренский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Сокол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Picture 7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пушкин"/>
          <p:cNvPicPr/>
          <p:nvPr/>
        </p:nvPicPr>
        <p:blipFill>
          <a:blip r:embed="rId3"/>
          <a:stretch/>
        </p:blipFill>
        <p:spPr>
          <a:xfrm>
            <a:off x="22860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96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78000" y="5638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лизавета Ксаверьевна Воронцова подарила поэту на память о себе перстен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9" name="Picture 8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пушкин"/>
          <p:cNvPicPr/>
          <p:nvPr/>
        </p:nvPicPr>
        <p:blipFill>
          <a:blip r:embed="rId3"/>
          <a:stretch/>
        </p:blipFill>
        <p:spPr>
          <a:xfrm>
            <a:off x="257040" y="304920"/>
            <a:ext cx="439128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На склоне одной из гор Кавказа есть грот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 носящий имя поэ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Picture 7" descr="лермантов"/>
          <p:cNvPicPr/>
          <p:nvPr/>
        </p:nvPicPr>
        <p:blipFill>
          <a:blip r:embed="rId2"/>
          <a:stretch/>
        </p:blipFill>
        <p:spPr>
          <a:xfrm>
            <a:off x="4619520" y="228600"/>
            <a:ext cx="4038840" cy="5334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пушкин"/>
          <p:cNvPicPr/>
          <p:nvPr/>
        </p:nvPicPr>
        <p:blipFill>
          <a:blip r:embed="rId3"/>
          <a:stretch/>
        </p:blipFill>
        <p:spPr>
          <a:xfrm>
            <a:off x="228600" y="22860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579888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 кому из поэтов имеет отношение эта женщина? Кто он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Picture 5" descr="0013-008-Elizaveta-Alekseevna-Arseneva-17731845-babushka-Lermontova-po"/>
          <p:cNvPicPr/>
          <p:nvPr/>
        </p:nvPicPr>
        <p:blipFill>
          <a:blip r:embed="rId2"/>
          <a:stretch/>
        </p:blipFill>
        <p:spPr>
          <a:xfrm>
            <a:off x="2590920" y="45720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1920" y="56242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 1837г. написал поэму в фольклорных традициях. Главный герой является выразителем народных представлений о правде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чести и достоинст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7" name="Picture 7" descr="лермантов"/>
          <p:cNvPicPr/>
          <p:nvPr/>
        </p:nvPicPr>
        <p:blipFill>
          <a:blip r:embed="rId2"/>
          <a:stretch/>
        </p:blipFill>
        <p:spPr>
          <a:xfrm>
            <a:off x="4619520" y="228600"/>
            <a:ext cx="4038840" cy="5334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пушкин"/>
          <p:cNvPicPr/>
          <p:nvPr/>
        </p:nvPicPr>
        <p:blipFill>
          <a:blip r:embed="rId3"/>
          <a:stretch/>
        </p:blipFill>
        <p:spPr>
          <a:xfrm>
            <a:off x="228600" y="22860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920" y="5562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ahoma"/>
              </a:rPr>
              <a:t>В 1833 году совершил поездку на Урал с целью сбора материала для «Истории Пугачёва»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8" descr="лермантов"/>
          <p:cNvPicPr/>
          <p:nvPr/>
        </p:nvPicPr>
        <p:blipFill>
          <a:blip r:embed="rId2"/>
          <a:stretch/>
        </p:blipFill>
        <p:spPr>
          <a:xfrm>
            <a:off x="4619520" y="228600"/>
            <a:ext cx="4038840" cy="53341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пушкин"/>
          <p:cNvPicPr/>
          <p:nvPr/>
        </p:nvPicPr>
        <p:blipFill>
          <a:blip r:embed="rId3"/>
          <a:stretch/>
        </p:blipFill>
        <p:spPr>
          <a:xfrm>
            <a:off x="228600" y="22860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 раун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3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6"/>
          <p:cNvSpPr txBox="1"/>
          <p:nvPr/>
        </p:nvSpPr>
        <p:spPr>
          <a:xfrm>
            <a:off x="1273320" y="1905120"/>
            <a:ext cx="6705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инственные_x000b_ незнаком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035240" y="228600"/>
            <a:ext cx="51433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е глаза - как два тумана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луулыбка, полуплач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е глаза - как два обмана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крытых мглою неудач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TextBox 2"/>
          <p:cNvSpPr/>
          <p:nvPr/>
        </p:nvSpPr>
        <p:spPr>
          <a:xfrm>
            <a:off x="6324480" y="2057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Н. Заболоцкий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2" descr="http://artsoch.ru/uploads/posts/2011-10/1318496057_f.-rokotov-portret-a.p.-struyskoy.jpg"/>
          <p:cNvPicPr/>
          <p:nvPr/>
        </p:nvPicPr>
        <p:blipFill>
          <a:blip r:embed="rId2"/>
          <a:srcRect l="3616" t="0" r="20451" b="0"/>
          <a:stretch/>
        </p:blipFill>
        <p:spPr>
          <a:xfrm>
            <a:off x="-3240" y="0"/>
            <a:ext cx="4060800" cy="695952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2"/>
          <p:cNvSpPr/>
          <p:nvPr/>
        </p:nvSpPr>
        <p:spPr>
          <a:xfrm>
            <a:off x="4000680" y="3479760"/>
            <a:ext cx="514332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Так написал известный поэт о графин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А.П. Струйской.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А о каких литературных героинях следующие стро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1152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Она была далеко не красавица, но я имею свои предубеждения также и насчет красоты. (…)  Моей певунье казалось не более восемнадцати лет. Необыкновенная гибкость ее стана, особенное, ей только свойственное наклонение головы, длинные русые волосы, какой-то золотистый отлив ее слегка загорелой кожи на шее и плечах и особенно правильный нос - все это было для меня обворожительно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-1152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 новым, странным, почти болезненным, чувством всматривался он в это бледное, худое и неправильное угловатое личико, в эти кроткие голубые глаза, могущие сверкать таким огнем, таким суровым энергическим чувством, в это маленькое тело, еще дрожавшее от негодования и гнева, и все это казалось ему более и более странным, почти невозможным. «Юродивая! юродивая!» – твердил он про себя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3240" y="60948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одолжить стихотворные строки известных поэт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За правильное продолжение команде присуждается 1 балл, за указание автора добавляется еще оди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-11520" y="152280"/>
            <a:ext cx="9078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Я не видал существа  более подвижного. Ни одно мгновенье она не сидела смирно; вставала, убегала в дом и прибегала снова, запевала вполголоса, часто смеялась, и престранным образом: казалось, она смеялась не тому, что слышала, а разным мыслям, приходившим ей в голову. Ее большие глаза глядели прямо, светло, смело, но иногда веки ее слегка щурились, и тогда взор ее внезапно становился глубок и нежен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легка шумя своею белою бальною робой, убранною плющом и мохом, и блестя белизной плеч, глянцем волос и бриллиантов, она прошла между расступившимися мужчинами и прямо, не глядя ни на кого, но всем улыбаясь и как бы любезно предоставляя каждому право любоваться красотою своего стана, полных плеч, очень открытой, по тогдашней моде, груди и спины, как будто внося с собой блеск ба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6"/>
          <p:cNvSpPr txBox="1"/>
          <p:nvPr/>
        </p:nvSpPr>
        <p:spPr>
          <a:xfrm>
            <a:off x="1447920" y="1752480"/>
            <a:ext cx="62481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ы геро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4941720" y="914400"/>
            <a:ext cx="4071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акие литературные герои видят эти с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Назовите героя, произведение и ав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Рисунок 5" descr="http://os1.i.ua/3/1/5509081_3434fb4f.jpg"/>
          <p:cNvPicPr/>
          <p:nvPr/>
        </p:nvPicPr>
        <p:blipFill>
          <a:blip r:embed="rId2"/>
          <a:srcRect l="10749" t="0" r="11799" b="0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-1152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 беспокойством я выпрыгнул из кибитки и вижу: матушка встречает меня на крыльце с видом глубокого огорчения. "Тише, - говорит она мне,- отец болен при смерти и желает с тобою проститься". Пораженный страхом, я иду за нею в спальню (…)  Я стал на колени и устремил глаза мои на больного. Что ж?.. Вместо отца моего, вижу в  постеле  лежит мужик с черной бородою, весело на меня поглядывая.»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-360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А какие сны мне снились (….),  какие сны!  Или храмы золотые, или сады какие-то необыкновенные, и все поют невидимые голоса, и кипарисом пахнет, и горы и  деревья будто не такие, как обыкновенно, а как на образах пишутся. А то, будто я летаю, так и летаю по воздуху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5"/>
          <p:cNvSpPr txBox="1"/>
          <p:nvPr/>
        </p:nvSpPr>
        <p:spPr>
          <a:xfrm>
            <a:off x="1295280" y="1066680"/>
            <a:ext cx="6553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_x000b_капит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9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-6480" y="1074600"/>
            <a:ext cx="915048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Ученику было дано задание назвать авторов предложенных стихотворений. Учащийся перепутал имена, отчества и фамилии поэтов. Его ответы выглядели так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-112680" y="0"/>
            <a:ext cx="9121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ван Алексеевич Ф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Федор Саввич Некра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Афанасий Иванович Никит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Николай Афанасьевич Тютч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осстановите справедливость</a:t>
            </a:r>
            <a:br>
              <a:rPr sz="4000"/>
            </a:b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(оба капитана выполняют работу одновремен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Угадайте литературного героя, назовите произведение и ав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ому из героев отец дал такое наставл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мотри же, учись, не дури, не паясничай, а больше всего угождай учителям и начальникам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-27000" y="1600200"/>
            <a:ext cx="932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Унылая пора! Очей очарованье!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Приятна мне твоя прощальная краса…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 какой науке говорится в цитате? Кто произносит эти слова? Назовите произведение и ав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Ах, мой батюшка! Да извозчики-то на что ж? Это их дело. Это-таки и наука-то не дворянская. Дворянин только скажи: повези меня туда, свезут, куда изволишь.»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5"/>
          <p:cNvSpPr txBox="1"/>
          <p:nvPr/>
        </p:nvSpPr>
        <p:spPr>
          <a:xfrm>
            <a:off x="1447920" y="1676520"/>
            <a:ext cx="65530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тий раун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9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WordArt 6"/>
          <p:cNvSpPr txBox="1"/>
          <p:nvPr/>
        </p:nvSpPr>
        <p:spPr>
          <a:xfrm>
            <a:off x="304920" y="1523880"/>
            <a:ext cx="82296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ники_x000b_литературным героя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0" y="990720"/>
            <a:ext cx="899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На цифровом поле команды по очереди выбирают номер задания. На экране появляется фотография памятника литературному геро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тгадайте героя, назовите литературное произведение и его авто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12"/>
          <p:cNvSpPr/>
          <p:nvPr/>
        </p:nvSpPr>
        <p:spPr>
          <a:xfrm>
            <a:off x="990720" y="83808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2895480" y="83808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3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4800600" y="83808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5"/>
          <p:cNvSpPr/>
          <p:nvPr/>
        </p:nvSpPr>
        <p:spPr>
          <a:xfrm>
            <a:off x="6705720" y="83808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5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AutoShape 16"/>
          <p:cNvSpPr/>
          <p:nvPr/>
        </p:nvSpPr>
        <p:spPr>
          <a:xfrm>
            <a:off x="990720" y="297180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6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utoShape 17"/>
          <p:cNvSpPr/>
          <p:nvPr/>
        </p:nvSpPr>
        <p:spPr>
          <a:xfrm>
            <a:off x="2895480" y="297180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7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AutoShape 18"/>
          <p:cNvSpPr/>
          <p:nvPr/>
        </p:nvSpPr>
        <p:spPr>
          <a:xfrm>
            <a:off x="4800600" y="297180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8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AutoShape 19"/>
          <p:cNvSpPr/>
          <p:nvPr/>
        </p:nvSpPr>
        <p:spPr>
          <a:xfrm>
            <a:off x="6705720" y="297180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9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AutoShape 20"/>
          <p:cNvSpPr/>
          <p:nvPr/>
        </p:nvSpPr>
        <p:spPr>
          <a:xfrm>
            <a:off x="6172200" y="6248520"/>
            <a:ext cx="2590920" cy="457200"/>
          </a:xfrm>
          <a:custGeom>
            <a:avLst/>
            <a:gdLst>
              <a:gd name="textAreaLeft" fmla="*/ 29520 w 2590920"/>
              <a:gd name="textAreaRight" fmla="*/ 2561400 w 2590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2326" h="21600">
                <a:moveTo>
                  <a:pt x="0" y="0"/>
                </a:moveTo>
                <a:lnTo>
                  <a:pt x="122326" y="0"/>
                </a:lnTo>
                <a:lnTo>
                  <a:pt x="122326" y="21600"/>
                </a:lnTo>
                <a:lnTo>
                  <a:pt x="0" y="21600"/>
                </a:lnTo>
                <a:close/>
              </a:path>
              <a:path fill="lightenLess" w="122326" h="21600">
                <a:moveTo>
                  <a:pt x="0" y="0"/>
                </a:moveTo>
                <a:lnTo>
                  <a:pt x="122326" y="0"/>
                </a:lnTo>
                <a:lnTo>
                  <a:pt x="120926" y="1400"/>
                </a:lnTo>
                <a:lnTo>
                  <a:pt x="1400" y="1400"/>
                </a:lnTo>
                <a:close/>
              </a:path>
              <a:path fill="darken" w="122326" h="21600">
                <a:moveTo>
                  <a:pt x="122326" y="0"/>
                </a:moveTo>
                <a:lnTo>
                  <a:pt x="122326" y="21600"/>
                </a:lnTo>
                <a:lnTo>
                  <a:pt x="120926" y="20200"/>
                </a:lnTo>
                <a:lnTo>
                  <a:pt x="120926" y="1400"/>
                </a:lnTo>
                <a:close/>
              </a:path>
              <a:path fill="darkenLess" w="122326" h="21600">
                <a:moveTo>
                  <a:pt x="122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6" y="20200"/>
                </a:lnTo>
                <a:close/>
              </a:path>
              <a:path fill="lighten" w="122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60290288_assol"/>
          <p:cNvPicPr/>
          <p:nvPr/>
        </p:nvPicPr>
        <p:blipFill>
          <a:blip r:embed="rId2"/>
          <a:stretch/>
        </p:blipFill>
        <p:spPr>
          <a:xfrm>
            <a:off x="2209680" y="304920"/>
            <a:ext cx="3837240" cy="579096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7"/>
          <p:cNvSpPr/>
          <p:nvPr/>
        </p:nvSpPr>
        <p:spPr>
          <a:xfrm>
            <a:off x="693432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5" descr="811d7deb0536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553248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6"/>
          <p:cNvSpPr/>
          <p:nvPr/>
        </p:nvSpPr>
        <p:spPr>
          <a:xfrm>
            <a:off x="7010280" y="624852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66638695_4cc33d75bfcfd"/>
          <p:cNvPicPr/>
          <p:nvPr/>
        </p:nvPicPr>
        <p:blipFill>
          <a:blip r:embed="rId2"/>
          <a:stretch/>
        </p:blipFill>
        <p:spPr>
          <a:xfrm>
            <a:off x="762120" y="304920"/>
            <a:ext cx="7543800" cy="5646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6"/>
          <p:cNvSpPr/>
          <p:nvPr/>
        </p:nvSpPr>
        <p:spPr>
          <a:xfrm>
            <a:off x="7010280" y="624852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09c1a2eded04"/>
          <p:cNvPicPr/>
          <p:nvPr/>
        </p:nvPicPr>
        <p:blipFill>
          <a:blip r:embed="rId2"/>
          <a:stretch/>
        </p:blipFill>
        <p:spPr>
          <a:xfrm>
            <a:off x="2286000" y="304920"/>
            <a:ext cx="4343400" cy="579096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8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5" descr="nos_gogolya_1_0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572904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6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0" y="1652760"/>
            <a:ext cx="934416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00"/>
                </a:solidFill>
                <a:latin typeface="Tahoma"/>
              </a:rPr>
              <a:t>Выхожу один я на дорогу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00"/>
                </a:solidFill>
                <a:latin typeface="Tahoma"/>
              </a:rPr>
              <a:t>Сквозь туман кремнистый путь блестит…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0_1ead2_98d812a8_XL"/>
          <p:cNvPicPr/>
          <p:nvPr/>
        </p:nvPicPr>
        <p:blipFill>
          <a:blip r:embed="rId2"/>
          <a:stretch/>
        </p:blipFill>
        <p:spPr>
          <a:xfrm>
            <a:off x="2133720" y="30492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6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tb19916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553248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6"/>
          <p:cNvSpPr/>
          <p:nvPr/>
        </p:nvSpPr>
        <p:spPr>
          <a:xfrm>
            <a:off x="7010280" y="624852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terkin2"/>
          <p:cNvPicPr/>
          <p:nvPr/>
        </p:nvPicPr>
        <p:blipFill>
          <a:blip r:embed="rId2"/>
          <a:stretch/>
        </p:blipFill>
        <p:spPr>
          <a:xfrm>
            <a:off x="1676520" y="304920"/>
            <a:ext cx="5715000" cy="586728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6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4"/>
          <p:cNvSpPr txBox="1"/>
          <p:nvPr/>
        </p:nvSpPr>
        <p:spPr>
          <a:xfrm>
            <a:off x="838080" y="190512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креты черного ящ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0" y="990720"/>
            <a:ext cx="8991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 черном ящике лежат предметы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 каким художественным произведением они связаны? Кто его автор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4"/>
          <p:cNvSpPr txBox="1"/>
          <p:nvPr/>
        </p:nvSpPr>
        <p:spPr>
          <a:xfrm>
            <a:off x="1219320" y="175248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304920" y="1600200"/>
            <a:ext cx="8839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Умом Россию не понять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Аршином общим не измерить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-27000" y="1600200"/>
            <a:ext cx="9171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Славная осень! Здоровый, ядреный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Воздух усталые силы бодрит…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77920" y="1600200"/>
            <a:ext cx="8866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Лес, точно терем расписно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Лиловый, золотой, багряный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-27000" y="1600200"/>
            <a:ext cx="10799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кинуло кафтан зеленый лет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тсвистали жаворонки всласть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Настя</cp:lastModifiedBy>
  <dcterms:modified xsi:type="dcterms:W3CDTF">2015-10-12T20:04:5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