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15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  <p:sldId id="307" r:id="rId60"/>
    <p:sldId id="308" r:id="rId61"/>
    <p:sldId id="309" r:id="rId62"/>
    <p:sldId id="310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slide" Target="slides/slide52.xml"/><Relationship Id="rId61" Type="http://schemas.openxmlformats.org/officeDocument/2006/relationships/slide" Target="slides/slide53.xml"/><Relationship Id="rId62" Type="http://schemas.openxmlformats.org/officeDocument/2006/relationships/slide" Target="slides/slide54.xml"/><Relationship Id="rId63" Type="http://schemas.openxmlformats.org/officeDocument/2006/relationships/slide" Target="slides/slide55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4975F-2465-4C48-B980-B30CD8A2FB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DCCE1-BB54-4AD2-B0D6-7C66E10D92D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5D29E-012A-4E25-A59A-C5AA7C5EFB6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17882-AECA-4532-903B-F50F2ABDD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E5F3E-E04D-4774-A03F-238E3F1AE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23AC7-C3E5-4C86-A0AD-2260C61CD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FFEC8-BD1E-47A5-8AE4-1F7BB1B4D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170AE-0FF1-48BF-84C0-7845EC8B2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1B877-9A73-4008-9355-FF7103750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999E0-1012-41B5-9E50-5437E4F85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D3441-B51C-4CE2-8DF6-0B88BF8DB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0FD7A-CBCD-4BD4-A87E-904B61080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DB3C3-B62A-4AA0-AAA3-40645C4D3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59351-7D73-400E-9C9B-BE3326236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79FB1-C714-426B-83B8-8BC082362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67154-28C8-4456-89C7-3FC8EDE8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6BD8F-10CE-47FF-9C71-3B165BE38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C24FC-9686-4A75-81A4-13B0B354A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B81AD-4DA3-437D-A7FB-A6661B7C6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C464F-1FB1-4218-8E3A-797BBA22E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F7EA5C-973D-4431-81B7-1D81F00B8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F39E4D-62D8-45C2-B516-71986BD7D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D6C52E-5780-492D-85B6-8918ABA3C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9C0533-C5ED-4C04-8080-6E0094F2C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2BAB83-55DD-4822-991E-7BFA20849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EE0DD-7FF3-413E-83FA-833C1C030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552BDD-9BBE-4949-A552-9C62CFABE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DB1EAB-B83F-4AF2-86B6-1CE90E00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245941-280B-406A-AC27-3FCF0B70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5FA50C-5D96-4D03-8D40-48B10C1C6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7F05D3-ADE2-4EED-9F86-F3F10110F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884CD5-240C-4B35-B745-0E37BFE91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8F1716-6840-4AC4-A30C-0B716B937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8B560-94DA-4828-956E-BB928D57E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5507B-458A-43F7-AAEA-DA153C853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F67A3-6F20-400E-AAF4-2559BB9A0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04FD1-BAB4-4DF3-9CC1-465AA8E85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BBF6C-6C19-41C1-BA13-39C6AC2D1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96AF7-568B-4E2E-8631-3BC74E863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FC8D9-1C34-49BF-B26D-E2D6673E0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F3479-D396-4C52-B5BD-3A76ECCA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E9711-F039-4E24-89A7-58FE29695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2E71B-8982-4FC7-A955-0A1CA34E1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287D8-8BBC-4AA2-A667-53C877149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CC36C-226D-4E9A-9AA7-858F345D4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AC27E-7D86-4D57-BB55-22D722368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75B6F-4A53-4F5B-B3F2-6CD887431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8ECC1-ED39-4667-BA2D-C4F03F1CA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761C8-A8BB-4CC8-9921-FA87F98AC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95E12E-D67A-40E5-A6DD-A3EDA5801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0D5006-610B-4B83-AAE6-1228C5A3A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64D37-0BF7-4CA6-9B12-0EB82B1C9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5F4BE-F476-4FC5-A645-5C508E1C4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DE7C6D-67A4-4AE9-BE91-CBD9B0BB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32C50E-22BE-4846-841E-B34A9F75D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A8A1DA-366B-47B0-9C75-9C980006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D384AA-4D50-4AD9-BC81-049E03F63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53D61-263E-47E9-8902-AA541AE4F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C1C65-0BD3-4375-9202-ABE313861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31471-859E-4B5D-87D7-869DEB4A0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720FA5-8427-45CB-A81F-B35BBD548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23BA2D-3D49-4774-BCC4-1CBE8E716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562386-AA5F-41BF-956D-3FCF46463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DD8E38-81C5-4784-B476-DD34A6E71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2BA9C6-2634-43FC-B973-6BFECCFFF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B48CDF-E223-487B-9A16-93ABF6822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69AC46-4A4E-4036-B7A9-9DCDC3BC5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0D87E6-EE6E-42CB-9545-D185A4EF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7C5F3D-976C-479A-8B01-2191A17B0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CF737-D0DA-467B-BFFE-7D9C8FEDF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4F2E33-4C78-4E7F-9FD4-ACB9ECC0E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C0932D-80DE-4796-AD00-4C93FE585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856CAF-641B-4C8E-8869-22664C005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0714C-BCEC-4194-8EA9-30E05905D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DF9B6-DCD4-400E-9E32-5735EE3D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9C927-86DE-42A6-83B4-C5D7989F9376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71061-6791-4836-B92E-CDC17C36856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07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6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520C5-A241-4CED-915C-A120FFCAC450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70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1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2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3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4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5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6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7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8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9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0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1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2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3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4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5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6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7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8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9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0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91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92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3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4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5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6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7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8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9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0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1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2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3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4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5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6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7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8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9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0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1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2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5AFE4-6ADE-400E-B544-02A87A10766C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1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CCA30-FC1C-43CB-8F9D-D83EE08ABA6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300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1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2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3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4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5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6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7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8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9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0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1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2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3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4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5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6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7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8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9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0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21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322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3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4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5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6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7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8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9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0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1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2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3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4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5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6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7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8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9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0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1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2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E9375-0B5F-4D3B-98ED-55D468E447D2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dreamworlds.ru/uploads/posts/2012-09/1348411610_012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img1.liveinternet.ru/images/attach/c/0/53/409/53409587_1262789365_neizv_hud_nach_1820h.jpg" TargetMode="External"/><Relationship Id="rId3" Type="http://schemas.openxmlformats.org/officeDocument/2006/relationships/image" Target="../media/image8.jpeg"/><Relationship Id="rId4" Type="http://schemas.openxmlformats.org/officeDocument/2006/relationships/hyperlink" Target="http://img0.liveinternet.ru/images/attach/c/2/72/442/72442904_1300822212_goncharova1.jpg" TargetMode="Externa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45.xml"/><Relationship Id="rId3" Type="http://schemas.openxmlformats.org/officeDocument/2006/relationships/slide" Target="slide46.xml"/><Relationship Id="rId4" Type="http://schemas.openxmlformats.org/officeDocument/2006/relationships/slide" Target="slide47.xml"/><Relationship Id="rId5" Type="http://schemas.openxmlformats.org/officeDocument/2006/relationships/slide" Target="slide48.xml"/><Relationship Id="rId6" Type="http://schemas.openxmlformats.org/officeDocument/2006/relationships/slide" Target="slide49.xml"/><Relationship Id="rId7" Type="http://schemas.openxmlformats.org/officeDocument/2006/relationships/slide" Target="slide50.xml"/><Relationship Id="rId8" Type="http://schemas.openxmlformats.org/officeDocument/2006/relationships/slide" Target="slide51.xml"/><Relationship Id="rId9" Type="http://schemas.openxmlformats.org/officeDocument/2006/relationships/slide" Target="slide52.xml"/><Relationship Id="rId10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6" descr="1348411610_01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7"/>
          <p:cNvSpPr/>
          <p:nvPr/>
        </p:nvSpPr>
        <p:spPr>
          <a:xfrm>
            <a:off x="990720" y="1828800"/>
            <a:ext cx="7619760" cy="1922760"/>
          </a:xfrm>
          <a:prstGeom prst="rect">
            <a:avLst/>
          </a:prstGeom>
          <a:solidFill>
            <a:srgbClr val="ccff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Tahoma"/>
              </a:rPr>
              <a:t>Литературный</a:t>
            </a:r>
            <a:br>
              <a:rPr sz="6000"/>
            </a:br>
            <a:r>
              <a:rPr b="1" lang="ru-RU" sz="6000" spc="-1" strike="noStrike">
                <a:solidFill>
                  <a:srgbClr val="800000"/>
                </a:solidFill>
                <a:latin typeface="Tahoma"/>
              </a:rPr>
              <a:t> турнир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Text Box 7"/>
          <p:cNvSpPr/>
          <p:nvPr/>
        </p:nvSpPr>
        <p:spPr>
          <a:xfrm>
            <a:off x="4600440" y="4648320"/>
            <a:ext cx="4543560" cy="1313640"/>
          </a:xfrm>
          <a:prstGeom prst="rect">
            <a:avLst/>
          </a:prstGeom>
          <a:solidFill>
            <a:srgbClr val="ccff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ahoma"/>
              </a:rPr>
              <a:t>Презентация подготовлена учителем литературы</a:t>
            </a:r>
            <a:br>
              <a:rPr sz="2000"/>
            </a:br>
            <a:r>
              <a:rPr b="1" lang="ru-RU" sz="2000" spc="-1" strike="noStrike">
                <a:solidFill>
                  <a:srgbClr val="800000"/>
                </a:solidFill>
                <a:latin typeface="Tahoma"/>
              </a:rPr>
              <a:t>ГБОУ ЦО №1311 «Тхия» Погребной Еленой Алесеевн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Text Box 7"/>
          <p:cNvSpPr/>
          <p:nvPr/>
        </p:nvSpPr>
        <p:spPr>
          <a:xfrm>
            <a:off x="3832200" y="6149880"/>
            <a:ext cx="1479600" cy="703800"/>
          </a:xfrm>
          <a:prstGeom prst="rect">
            <a:avLst/>
          </a:prstGeom>
          <a:solidFill>
            <a:srgbClr val="ccff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ahoma"/>
              </a:rPr>
              <a:t>Москва</a:t>
            </a:r>
            <a:br>
              <a:rPr sz="2000"/>
            </a:br>
            <a:r>
              <a:rPr b="0" lang="ru-RU" sz="2000" spc="-1" strike="noStrike">
                <a:solidFill>
                  <a:srgbClr val="800000"/>
                </a:solidFill>
                <a:latin typeface="Tahoma"/>
              </a:rPr>
              <a:t>201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WordArt 4"/>
          <p:cNvSpPr txBox="1"/>
          <p:nvPr/>
        </p:nvSpPr>
        <p:spPr>
          <a:xfrm>
            <a:off x="1600200" y="1676520"/>
            <a:ext cx="563868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ервый раунд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411" name="Picture 11" descr="antn027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67280" y="4307040"/>
            <a:ext cx="4176720" cy="2550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WordArt 6"/>
          <p:cNvSpPr txBox="1"/>
          <p:nvPr/>
        </p:nvSpPr>
        <p:spPr>
          <a:xfrm>
            <a:off x="1273320" y="1905120"/>
            <a:ext cx="670536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иографические _x000b_загадки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6"/>
          <p:cNvSpPr/>
          <p:nvPr/>
        </p:nvSpPr>
        <p:spPr>
          <a:xfrm>
            <a:off x="2041560" y="2622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Text Box 9"/>
          <p:cNvSpPr/>
          <p:nvPr/>
        </p:nvSpPr>
        <p:spPr>
          <a:xfrm>
            <a:off x="3240" y="730080"/>
            <a:ext cx="92376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Перед вами портреты двух известных поэтов.</a:t>
            </a:r>
            <a:br>
              <a:rPr sz="4000"/>
            </a:b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Определите, из чьей биографии взяты следующие факты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581040" y="568944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В Москве на Малой Молчановке находится дом-музей поэ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6" name="Picture 5" descr="лермантов"/>
          <p:cNvPicPr/>
          <p:nvPr/>
        </p:nvPicPr>
        <p:blipFill>
          <a:blip r:embed="rId2"/>
          <a:stretch/>
        </p:blipFill>
        <p:spPr>
          <a:xfrm>
            <a:off x="4648320" y="304920"/>
            <a:ext cx="4038480" cy="533376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6" descr="пушкин"/>
          <p:cNvPicPr/>
          <p:nvPr/>
        </p:nvPicPr>
        <p:blipFill>
          <a:blip r:embed="rId3"/>
          <a:stretch/>
        </p:blipFill>
        <p:spPr>
          <a:xfrm>
            <a:off x="304920" y="304920"/>
            <a:ext cx="4390920" cy="5333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66760" y="551160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Поэту сильно досаждали муштра и запрещение читать художественную литературу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9" name="Picture 8" descr="лермантов"/>
          <p:cNvPicPr/>
          <p:nvPr/>
        </p:nvPicPr>
        <p:blipFill>
          <a:blip r:embed="rId2"/>
          <a:stretch/>
        </p:blipFill>
        <p:spPr>
          <a:xfrm>
            <a:off x="4572000" y="152280"/>
            <a:ext cx="4038480" cy="53341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9" descr="пушкин"/>
          <p:cNvPicPr/>
          <p:nvPr/>
        </p:nvPicPr>
        <p:blipFill>
          <a:blip r:embed="rId3"/>
          <a:stretch/>
        </p:blipFill>
        <p:spPr>
          <a:xfrm>
            <a:off x="228600" y="152280"/>
            <a:ext cx="4390920" cy="5334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4920" y="5562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Окончил учебное заведение с чином десятого класса (коллежский секретарь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22" name="Picture 15" descr="лермантов"/>
          <p:cNvPicPr/>
          <p:nvPr/>
        </p:nvPicPr>
        <p:blipFill>
          <a:blip r:embed="rId2"/>
          <a:stretch/>
        </p:blipFill>
        <p:spPr>
          <a:xfrm>
            <a:off x="4648320" y="304920"/>
            <a:ext cx="4038480" cy="53337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16" descr="пушкин"/>
          <p:cNvPicPr/>
          <p:nvPr/>
        </p:nvPicPr>
        <p:blipFill>
          <a:blip r:embed="rId3"/>
          <a:stretch/>
        </p:blipFill>
        <p:spPr>
          <a:xfrm>
            <a:off x="304920" y="304920"/>
            <a:ext cx="4390920" cy="5333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78000" y="5573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В 1817 году был принят в литературное общество «Арзамас»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25" name="Picture 10" descr="лермантов"/>
          <p:cNvPicPr/>
          <p:nvPr/>
        </p:nvPicPr>
        <p:blipFill>
          <a:blip r:embed="rId2"/>
          <a:stretch/>
        </p:blipFill>
        <p:spPr>
          <a:xfrm>
            <a:off x="4648320" y="304920"/>
            <a:ext cx="4038480" cy="533376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11" descr="пушкин"/>
          <p:cNvPicPr/>
          <p:nvPr/>
        </p:nvPicPr>
        <p:blipFill>
          <a:blip r:embed="rId3"/>
          <a:stretch/>
        </p:blipFill>
        <p:spPr>
          <a:xfrm>
            <a:off x="304920" y="304920"/>
            <a:ext cx="4390920" cy="5333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5" descr="53409587_1262789365_neizv_hud_nach_1820h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2280" y="152280"/>
            <a:ext cx="3637080" cy="43434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7" descr="72442904_1300822212_goncharova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343400" y="2438280"/>
            <a:ext cx="3510000" cy="4191120"/>
          </a:xfrm>
          <a:prstGeom prst="rect">
            <a:avLst/>
          </a:prstGeom>
          <a:ln w="0">
            <a:noFill/>
          </a:ln>
        </p:spPr>
      </p:pic>
      <p:sp>
        <p:nvSpPr>
          <p:cNvPr id="429" name="Text Box 8"/>
          <p:cNvSpPr/>
          <p:nvPr/>
        </p:nvSpPr>
        <p:spPr>
          <a:xfrm>
            <a:off x="4340160" y="380880"/>
            <a:ext cx="45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Tahoma"/>
              </a:rPr>
              <a:t>Я помню море пред грозою,</a:t>
            </a:r>
            <a:br>
              <a:rPr sz="2200"/>
            </a:br>
            <a:r>
              <a:rPr b="1" lang="ru-RU" sz="2200" spc="-1" strike="noStrike">
                <a:solidFill>
                  <a:srgbClr val="800000"/>
                </a:solidFill>
                <a:latin typeface="Tahoma"/>
              </a:rPr>
              <a:t>Как я завидовал волнам, Бегущим шумной чередою</a:t>
            </a:r>
            <a:br>
              <a:rPr sz="2200"/>
            </a:br>
            <a:r>
              <a:rPr b="1" lang="ru-RU" sz="2200" spc="-1" strike="noStrike">
                <a:solidFill>
                  <a:srgbClr val="800000"/>
                </a:solidFill>
                <a:latin typeface="Tahoma"/>
              </a:rPr>
              <a:t>С любовью лечь к ее ногам…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Text Box 9"/>
          <p:cNvSpPr/>
          <p:nvPr/>
        </p:nvSpPr>
        <p:spPr>
          <a:xfrm>
            <a:off x="-77760" y="4610160"/>
            <a:ext cx="4511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Кто автор этих строк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Какой из этих женщин они посвящены? Назовите е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Rectangle 10"/>
          <p:cNvSpPr/>
          <p:nvPr/>
        </p:nvSpPr>
        <p:spPr>
          <a:xfrm>
            <a:off x="182520" y="4560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Является автором картины «Крестовый перевал»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33" name="Picture 7" descr="лермантов"/>
          <p:cNvPicPr/>
          <p:nvPr/>
        </p:nvPicPr>
        <p:blipFill>
          <a:blip r:embed="rId2"/>
          <a:stretch/>
        </p:blipFill>
        <p:spPr>
          <a:xfrm>
            <a:off x="4648320" y="304920"/>
            <a:ext cx="4038480" cy="533376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8" descr="пушкин"/>
          <p:cNvPicPr/>
          <p:nvPr/>
        </p:nvPicPr>
        <p:blipFill>
          <a:blip r:embed="rId3"/>
          <a:stretch/>
        </p:blipFill>
        <p:spPr>
          <a:xfrm>
            <a:off x="304920" y="304920"/>
            <a:ext cx="4390920" cy="5333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4920" y="5562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Его портреты писали известные художники</a:t>
            </a:r>
            <a:r>
              <a:rPr b="1" lang="en-US" sz="2800" spc="-1" strike="noStrike">
                <a:solidFill>
                  <a:srgbClr val="800000"/>
                </a:solidFill>
                <a:latin typeface="Tahoma"/>
              </a:rPr>
              <a:t>: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 Тропинин</a:t>
            </a:r>
            <a:r>
              <a:rPr b="1" lang="en-US" sz="2800" spc="-1" strike="noStrike">
                <a:solidFill>
                  <a:srgbClr val="800000"/>
                </a:solidFill>
                <a:latin typeface="Tahoma"/>
              </a:rPr>
              <a:t>,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 Кипренский</a:t>
            </a:r>
            <a:r>
              <a:rPr b="1" lang="en-US" sz="2800" spc="-1" strike="noStrike">
                <a:solidFill>
                  <a:srgbClr val="800000"/>
                </a:solidFill>
                <a:latin typeface="Tahoma"/>
              </a:rPr>
              <a:t>,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 Соколов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36" name="Picture 7" descr="лермантов"/>
          <p:cNvPicPr/>
          <p:nvPr/>
        </p:nvPicPr>
        <p:blipFill>
          <a:blip r:embed="rId2"/>
          <a:stretch/>
        </p:blipFill>
        <p:spPr>
          <a:xfrm>
            <a:off x="4648320" y="304920"/>
            <a:ext cx="4038480" cy="533376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8" descr="пушкин"/>
          <p:cNvPicPr/>
          <p:nvPr/>
        </p:nvPicPr>
        <p:blipFill>
          <a:blip r:embed="rId3"/>
          <a:stretch/>
        </p:blipFill>
        <p:spPr>
          <a:xfrm>
            <a:off x="228600" y="304920"/>
            <a:ext cx="4390920" cy="5333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WordArt 4"/>
          <p:cNvSpPr txBox="1"/>
          <p:nvPr/>
        </p:nvSpPr>
        <p:spPr>
          <a:xfrm>
            <a:off x="1600200" y="1676520"/>
            <a:ext cx="563868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Размин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396" name="Picture 11" descr="antn027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67280" y="4307040"/>
            <a:ext cx="4176720" cy="2550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78000" y="56383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Елизавета Ксаверьевна Воронцова подарила поэту на память о себе перстень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39" name="Picture 8" descr="лермантов"/>
          <p:cNvPicPr/>
          <p:nvPr/>
        </p:nvPicPr>
        <p:blipFill>
          <a:blip r:embed="rId2"/>
          <a:stretch/>
        </p:blipFill>
        <p:spPr>
          <a:xfrm>
            <a:off x="4648320" y="304920"/>
            <a:ext cx="4038480" cy="533376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9" descr="пушкин"/>
          <p:cNvPicPr/>
          <p:nvPr/>
        </p:nvPicPr>
        <p:blipFill>
          <a:blip r:embed="rId3"/>
          <a:stretch/>
        </p:blipFill>
        <p:spPr>
          <a:xfrm>
            <a:off x="257040" y="304920"/>
            <a:ext cx="4391280" cy="5333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28600" y="54860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На склоне одной из гор Кавказа есть грот</a:t>
            </a: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,</a:t>
            </a: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 носящий имя поэта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42" name="Picture 7" descr="лермантов"/>
          <p:cNvPicPr/>
          <p:nvPr/>
        </p:nvPicPr>
        <p:blipFill>
          <a:blip r:embed="rId2"/>
          <a:stretch/>
        </p:blipFill>
        <p:spPr>
          <a:xfrm>
            <a:off x="4619520" y="228600"/>
            <a:ext cx="4038840" cy="533412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8" descr="пушкин"/>
          <p:cNvPicPr/>
          <p:nvPr/>
        </p:nvPicPr>
        <p:blipFill>
          <a:blip r:embed="rId3"/>
          <a:stretch/>
        </p:blipFill>
        <p:spPr>
          <a:xfrm>
            <a:off x="228600" y="228600"/>
            <a:ext cx="4390920" cy="5334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4920" y="5798880"/>
            <a:ext cx="8610480" cy="99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К кому из поэтов имеет отношение эта женщина? Кто она?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45" name="Picture 5" descr="0013-008-Elizaveta-Alekseevna-Arseneva-17731845-babushka-Lermontova-po"/>
          <p:cNvPicPr/>
          <p:nvPr/>
        </p:nvPicPr>
        <p:blipFill>
          <a:blip r:embed="rId2"/>
          <a:stretch/>
        </p:blipFill>
        <p:spPr>
          <a:xfrm>
            <a:off x="2590920" y="457200"/>
            <a:ext cx="4343400" cy="5105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51920" y="56242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ahoma"/>
              </a:rPr>
              <a:t>В 1837г. написал поэму в фольклорных традициях. Главный герой является выразителем народных представлений о правде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,</a:t>
            </a:r>
            <a:r>
              <a:rPr b="1" lang="ru-RU" sz="2400" spc="-1" strike="noStrike">
                <a:solidFill>
                  <a:srgbClr val="800000"/>
                </a:solidFill>
                <a:latin typeface="Tahoma"/>
              </a:rPr>
              <a:t> чести и достоинстве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47" name="Picture 7" descr="лермантов"/>
          <p:cNvPicPr/>
          <p:nvPr/>
        </p:nvPicPr>
        <p:blipFill>
          <a:blip r:embed="rId2"/>
          <a:stretch/>
        </p:blipFill>
        <p:spPr>
          <a:xfrm>
            <a:off x="4619520" y="228600"/>
            <a:ext cx="4038840" cy="533412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8" descr="пушкин"/>
          <p:cNvPicPr/>
          <p:nvPr/>
        </p:nvPicPr>
        <p:blipFill>
          <a:blip r:embed="rId3"/>
          <a:stretch/>
        </p:blipFill>
        <p:spPr>
          <a:xfrm>
            <a:off x="228600" y="228600"/>
            <a:ext cx="4390920" cy="5334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50920" y="5562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00000"/>
                </a:solidFill>
                <a:latin typeface="Tahoma"/>
              </a:rPr>
              <a:t>В 1833 году совершил поездку на Урал с целью сбора материала для «Истории Пугачёва»</a:t>
            </a:r>
            <a:endParaRPr b="0" lang="en-US" sz="2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50" name="Picture 8" descr="лермантов"/>
          <p:cNvPicPr/>
          <p:nvPr/>
        </p:nvPicPr>
        <p:blipFill>
          <a:blip r:embed="rId2"/>
          <a:stretch/>
        </p:blipFill>
        <p:spPr>
          <a:xfrm>
            <a:off x="4619520" y="228600"/>
            <a:ext cx="4038840" cy="533412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9" descr="пушкин"/>
          <p:cNvPicPr/>
          <p:nvPr/>
        </p:nvPicPr>
        <p:blipFill>
          <a:blip r:embed="rId3"/>
          <a:stretch/>
        </p:blipFill>
        <p:spPr>
          <a:xfrm>
            <a:off x="228600" y="228600"/>
            <a:ext cx="4390920" cy="5334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WordArt 4"/>
          <p:cNvSpPr txBox="1"/>
          <p:nvPr/>
        </p:nvSpPr>
        <p:spPr>
          <a:xfrm>
            <a:off x="1600200" y="1676520"/>
            <a:ext cx="563868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торой  раунд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453" name="Picture 11" descr="antn027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67280" y="4307040"/>
            <a:ext cx="4176720" cy="2550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WordArt 6"/>
          <p:cNvSpPr txBox="1"/>
          <p:nvPr/>
        </p:nvSpPr>
        <p:spPr>
          <a:xfrm>
            <a:off x="1273320" y="1905120"/>
            <a:ext cx="670536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аинственные_x000b_ незнакомки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035240" y="228600"/>
            <a:ext cx="5143320" cy="1905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Ее глаза - как два тумана,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Полуулыбка, полуплач,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Ее глаза - как два обмана,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Покрытых мглою неудач.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6" name="TextBox 2"/>
          <p:cNvSpPr/>
          <p:nvPr/>
        </p:nvSpPr>
        <p:spPr>
          <a:xfrm>
            <a:off x="6324480" y="20574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ahoma"/>
              </a:rPr>
              <a:t>Н. Заболоцкий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7" name="Picture 2" descr="http://artsoch.ru/uploads/posts/2011-10/1318496057_f.-rokotov-portret-a.p.-struyskoy.jpg"/>
          <p:cNvPicPr/>
          <p:nvPr/>
        </p:nvPicPr>
        <p:blipFill>
          <a:blip r:embed="rId2"/>
          <a:srcRect l="3616" t="0" r="20451" b="0"/>
          <a:stretch/>
        </p:blipFill>
        <p:spPr>
          <a:xfrm>
            <a:off x="-3240" y="0"/>
            <a:ext cx="4060800" cy="6959520"/>
          </a:xfrm>
          <a:prstGeom prst="rect">
            <a:avLst/>
          </a:prstGeom>
          <a:ln w="0">
            <a:noFill/>
          </a:ln>
        </p:spPr>
      </p:pic>
      <p:sp>
        <p:nvSpPr>
          <p:cNvPr id="458" name="Rectangle 2"/>
          <p:cNvSpPr/>
          <p:nvPr/>
        </p:nvSpPr>
        <p:spPr>
          <a:xfrm>
            <a:off x="4000680" y="3479760"/>
            <a:ext cx="5143320" cy="27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Так написал известный поэт о графине 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А.П. Струйской.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А о каких литературных героинях следующие строки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/>
          </p:nvPr>
        </p:nvSpPr>
        <p:spPr>
          <a:xfrm>
            <a:off x="-11520" y="152280"/>
            <a:ext cx="891540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ahoma"/>
              </a:rPr>
              <a:t>«Она была далеко не красавица, но я имею свои предубеждения также и насчет красоты. (…)  Моей певунье казалось не более восемнадцати лет. Необыкновенная гибкость ее стана, особенное, ей только свойственное наклонение головы, длинные русые волосы, какой-то золотистый отлив ее слегка загорелой кожи на шее и плечах и особенно правильный нос - все это было для меня обворожительно.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 txBox="1"/>
          <p:nvPr/>
        </p:nvSpPr>
        <p:spPr>
          <a:xfrm>
            <a:off x="-11520" y="152280"/>
            <a:ext cx="891540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ahoma"/>
              </a:rPr>
              <a:t>«С новым, странным, почти болезненным, чувством всматривался он в это бледное, худое и неправильное угловатое личико, в эти кроткие голубые глаза, могущие сверкать таким огнем, таким суровым энергическим чувством, в это маленькое тело, еще дрожавшее от негодования и гнева, и все это казалось ему более и более странным, почти невозможным. «Юродивая! юродивая!» – твердил он про себя.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5"/>
          <p:cNvSpPr/>
          <p:nvPr/>
        </p:nvSpPr>
        <p:spPr>
          <a:xfrm>
            <a:off x="3240" y="609480"/>
            <a:ext cx="9144000" cy="51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Продолжить стихотворные строки известных поэтов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За правильное продолжение команде присуждается 1 балл, за указание автора добавляется еще один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/>
          </p:nvPr>
        </p:nvSpPr>
        <p:spPr>
          <a:xfrm>
            <a:off x="-11520" y="152280"/>
            <a:ext cx="907884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ahoma"/>
              </a:rPr>
              <a:t>«Я не видал существа  более подвижного. Ни одно мгновенье она не сидела смирно; вставала, убегала в дом и прибегала снова, запевала вполголоса, часто смеялась, и престранным образом: казалось, она смеялась не тому, что слышала, а разным мыслям, приходившим ей в голову. Ее большие глаза глядели прямо, светло, смело, но иногда веки ее слегка щурились, и тогда взор ее внезапно становился глубок и нежен.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/>
          </p:nvPr>
        </p:nvSpPr>
        <p:spPr>
          <a:xfrm>
            <a:off x="-360" y="304560"/>
            <a:ext cx="89154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ahoma"/>
              </a:rPr>
              <a:t>«Слегка шумя своею белою бальною робой, убранною плющом и мохом, и блестя белизной плеч, глянцем волос и бриллиантов, она прошла между расступившимися мужчинами и прямо, не глядя ни на кого, но всем улыбаясь и как бы любезно предоставляя каждому право любоваться красотою своего стана, полных плеч, очень открытой, по тогдашней моде, груди и спины, как будто внося с собой блеск бала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WordArt 6"/>
          <p:cNvSpPr txBox="1"/>
          <p:nvPr/>
        </p:nvSpPr>
        <p:spPr>
          <a:xfrm>
            <a:off x="1447920" y="1752480"/>
            <a:ext cx="6248160" cy="135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69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ны героев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2"/>
          <p:cNvSpPr/>
          <p:nvPr/>
        </p:nvSpPr>
        <p:spPr>
          <a:xfrm>
            <a:off x="4941720" y="914400"/>
            <a:ext cx="40719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Какие литературные герои видят эти сны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Назовите героя, произведение и автор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5" name="Рисунок 5" descr="http://os1.i.ua/3/1/5509081_3434fb4f.jpg"/>
          <p:cNvPicPr/>
          <p:nvPr/>
        </p:nvPicPr>
        <p:blipFill>
          <a:blip r:embed="rId2"/>
          <a:srcRect l="10749" t="0" r="11799" b="0"/>
          <a:stretch/>
        </p:blipFill>
        <p:spPr>
          <a:xfrm>
            <a:off x="0" y="0"/>
            <a:ext cx="492444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-11520" y="152280"/>
            <a:ext cx="891540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ahoma"/>
              </a:rPr>
              <a:t>«С беспокойством я выпрыгнул из кибитки и вижу: матушка встречает меня на крыльце с видом глубокого огорчения. "Тише, - говорит она мне,- отец болен при смерти и желает с тобою проститься". Пораженный страхом, я иду за нею в спальню (…)  Я стал на колени и устремил глаза мои на больного. Что ж?.. Вместо отца моего, вижу в  постеле  лежит мужик с черной бородою, весело на меня поглядывая.»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 txBox="1"/>
          <p:nvPr/>
        </p:nvSpPr>
        <p:spPr>
          <a:xfrm>
            <a:off x="-3600" y="380520"/>
            <a:ext cx="89154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ahoma"/>
              </a:rPr>
              <a:t>«А какие сны мне снились (….),  какие сны!  Или храмы золотые, или сады какие-то необыкновенные, и все поют невидимые голоса, и кипарисом пахнет, и горы и  деревья будто не такие, как обыкновенно, а как на образах пишутся. А то, будто я летаю, так и летаю по воздуху.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WordArt 5"/>
          <p:cNvSpPr txBox="1"/>
          <p:nvPr/>
        </p:nvSpPr>
        <p:spPr>
          <a:xfrm>
            <a:off x="1295280" y="1066680"/>
            <a:ext cx="655344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онкурс_x000b_капитан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469" name="Picture 11" descr="antn027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4307040"/>
            <a:ext cx="4176720" cy="2550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Text Box 6"/>
          <p:cNvSpPr/>
          <p:nvPr/>
        </p:nvSpPr>
        <p:spPr>
          <a:xfrm>
            <a:off x="2041560" y="2622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Text Box 9"/>
          <p:cNvSpPr/>
          <p:nvPr/>
        </p:nvSpPr>
        <p:spPr>
          <a:xfrm>
            <a:off x="-6480" y="1074600"/>
            <a:ext cx="9150480" cy="40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800000"/>
                </a:solidFill>
                <a:latin typeface="Tahoma"/>
              </a:rPr>
              <a:t>Ученику было дано задание назвать авторов предложенных стихотворений. Учащийся перепутал имена, отчества и фамилии поэтов. Его ответы выглядели так: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 Box 6"/>
          <p:cNvSpPr/>
          <p:nvPr/>
        </p:nvSpPr>
        <p:spPr>
          <a:xfrm>
            <a:off x="2041560" y="2622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Text Box 9"/>
          <p:cNvSpPr/>
          <p:nvPr/>
        </p:nvSpPr>
        <p:spPr>
          <a:xfrm>
            <a:off x="-112680" y="0"/>
            <a:ext cx="912168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Иван Алексеевич Фе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Федор Саввич Некрасо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Афанасий Иванович Никитин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Николай Афанасьевич Тютче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Восстановите справедливость</a:t>
            </a:r>
            <a:br>
              <a:rPr sz="4000"/>
            </a:br>
            <a:r>
              <a:rPr b="1" lang="ru-RU" sz="2400" spc="-1" strike="noStrike">
                <a:solidFill>
                  <a:srgbClr val="800000"/>
                </a:solidFill>
                <a:latin typeface="Tahoma"/>
              </a:rPr>
              <a:t>(оба капитана выполняют работу одновременно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779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Угадайте литературного героя, назовите произведение и автор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762120" y="24379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Кому из героев отец дал такое наставление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ahoma"/>
              </a:rPr>
              <a:t>«Смотри же, учись, не дури, не паясничай, а больше всего угождай учителям и начальникам.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 Box 6"/>
          <p:cNvSpPr/>
          <p:nvPr/>
        </p:nvSpPr>
        <p:spPr>
          <a:xfrm>
            <a:off x="2041560" y="2622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Text Box 9"/>
          <p:cNvSpPr/>
          <p:nvPr/>
        </p:nvSpPr>
        <p:spPr>
          <a:xfrm>
            <a:off x="-27000" y="1600200"/>
            <a:ext cx="932328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800000"/>
                </a:solidFill>
                <a:latin typeface="Tahoma"/>
              </a:rPr>
              <a:t>Унылая пора! Очей очарованье!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800000"/>
                </a:solidFill>
                <a:latin typeface="Tahoma"/>
              </a:rPr>
              <a:t>Приятна мне твоя прощальная краса…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381880" cy="2514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О какой науке говорится в цитате? Кто произносит эти слова? Назовите произведение и автор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762120" y="28954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ahoma"/>
              </a:rPr>
              <a:t>«Ах, мой батюшка! Да извозчики-то на что ж? Это их дело. Это-таки и наука-то не дворянская. Дворянин только скажи: повези меня туда, свезут, куда изволишь.»</a:t>
            </a: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WordArt 5"/>
          <p:cNvSpPr txBox="1"/>
          <p:nvPr/>
        </p:nvSpPr>
        <p:spPr>
          <a:xfrm>
            <a:off x="1447920" y="1676520"/>
            <a:ext cx="65530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ретий раунд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479" name="Picture 11" descr="antn027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4307040"/>
            <a:ext cx="4176720" cy="2550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WordArt 6"/>
          <p:cNvSpPr txBox="1"/>
          <p:nvPr/>
        </p:nvSpPr>
        <p:spPr>
          <a:xfrm>
            <a:off x="304920" y="1523880"/>
            <a:ext cx="8229600" cy="289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амятники_x000b_литературным героям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dissolv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 Box 6"/>
          <p:cNvSpPr/>
          <p:nvPr/>
        </p:nvSpPr>
        <p:spPr>
          <a:xfrm>
            <a:off x="2041560" y="2622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Text Box 9"/>
          <p:cNvSpPr/>
          <p:nvPr/>
        </p:nvSpPr>
        <p:spPr>
          <a:xfrm>
            <a:off x="0" y="990720"/>
            <a:ext cx="8991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На цифровом поле команды по очереди выбирают номер задания. На экране появляется фотография памятника литературному герою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Отгадайте героя, назовите литературное произведение и его автор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AutoShape 12"/>
          <p:cNvSpPr/>
          <p:nvPr/>
        </p:nvSpPr>
        <p:spPr>
          <a:xfrm>
            <a:off x="990720" y="838080"/>
            <a:ext cx="1904760" cy="2133720"/>
          </a:xfrm>
          <a:custGeom>
            <a:avLst/>
            <a:gdLst>
              <a:gd name="textAreaLeft" fmla="*/ 123120 w 1904760"/>
              <a:gd name="textAreaRight" fmla="*/ 1781640 w 1904760"/>
              <a:gd name="textAreaTop" fmla="*/ 123120 h 2133720"/>
              <a:gd name="textAreaBottom" fmla="*/ 2010600 h 2133720"/>
            </a:gdLst>
            <a:ahLst/>
            <a:rect l="textAreaLeft" t="textAreaTop" r="textAreaRight" b="textAreaBottom"/>
            <a:pathLst>
              <a:path w="21600" h="24196">
                <a:moveTo>
                  <a:pt x="0" y="0"/>
                </a:moveTo>
                <a:lnTo>
                  <a:pt x="21600" y="0"/>
                </a:lnTo>
                <a:lnTo>
                  <a:pt x="21600" y="24196"/>
                </a:lnTo>
                <a:lnTo>
                  <a:pt x="0" y="24196"/>
                </a:lnTo>
                <a:close/>
              </a:path>
              <a:path fill="lightenLess" w="21600" h="2419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96">
                <a:moveTo>
                  <a:pt x="21600" y="0"/>
                </a:moveTo>
                <a:lnTo>
                  <a:pt x="21600" y="24196"/>
                </a:lnTo>
                <a:lnTo>
                  <a:pt x="20200" y="22796"/>
                </a:lnTo>
                <a:lnTo>
                  <a:pt x="20200" y="1400"/>
                </a:lnTo>
                <a:close/>
              </a:path>
              <a:path fill="darkenLess" w="21600" h="24196">
                <a:moveTo>
                  <a:pt x="21600" y="24196"/>
                </a:moveTo>
                <a:lnTo>
                  <a:pt x="0" y="24196"/>
                </a:lnTo>
                <a:lnTo>
                  <a:pt x="1400" y="22796"/>
                </a:lnTo>
                <a:lnTo>
                  <a:pt x="20200" y="22796"/>
                </a:lnTo>
                <a:close/>
              </a:path>
              <a:path fill="lighten" w="21600" h="24196">
                <a:moveTo>
                  <a:pt x="0" y="2419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9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 u="sng">
                <a:solidFill>
                  <a:srgbClr val="996600"/>
                </a:solidFill>
                <a:uFillTx/>
                <a:latin typeface="Tahoma"/>
                <a:hlinkClick r:id="rId2" action="ppaction://hlinksldjump"/>
              </a:rPr>
              <a:t>1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AutoShape 13"/>
          <p:cNvSpPr/>
          <p:nvPr/>
        </p:nvSpPr>
        <p:spPr>
          <a:xfrm>
            <a:off x="2895480" y="838080"/>
            <a:ext cx="1905120" cy="2133720"/>
          </a:xfrm>
          <a:custGeom>
            <a:avLst/>
            <a:gdLst>
              <a:gd name="textAreaLeft" fmla="*/ 123480 w 1905120"/>
              <a:gd name="textAreaRight" fmla="*/ 1781640 w 1905120"/>
              <a:gd name="textAreaTop" fmla="*/ 123480 h 2133720"/>
              <a:gd name="textAreaBottom" fmla="*/ 2010240 h 2133720"/>
            </a:gdLst>
            <a:ahLst/>
            <a:rect l="textAreaLeft" t="textAreaTop" r="textAreaRight" b="textAreaBottom"/>
            <a:pathLst>
              <a:path w="21600" h="24191">
                <a:moveTo>
                  <a:pt x="0" y="0"/>
                </a:moveTo>
                <a:lnTo>
                  <a:pt x="21600" y="0"/>
                </a:lnTo>
                <a:lnTo>
                  <a:pt x="21600" y="24191"/>
                </a:lnTo>
                <a:lnTo>
                  <a:pt x="0" y="24191"/>
                </a:lnTo>
                <a:close/>
              </a:path>
              <a:path fill="lightenLess" w="21600" h="2419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91">
                <a:moveTo>
                  <a:pt x="21600" y="0"/>
                </a:moveTo>
                <a:lnTo>
                  <a:pt x="21600" y="24191"/>
                </a:lnTo>
                <a:lnTo>
                  <a:pt x="20200" y="22791"/>
                </a:lnTo>
                <a:lnTo>
                  <a:pt x="20200" y="1400"/>
                </a:lnTo>
                <a:close/>
              </a:path>
              <a:path fill="darkenLess" w="21600" h="24191">
                <a:moveTo>
                  <a:pt x="21600" y="24191"/>
                </a:moveTo>
                <a:lnTo>
                  <a:pt x="0" y="24191"/>
                </a:lnTo>
                <a:lnTo>
                  <a:pt x="1400" y="22791"/>
                </a:lnTo>
                <a:lnTo>
                  <a:pt x="20200" y="22791"/>
                </a:lnTo>
                <a:close/>
              </a:path>
              <a:path fill="lighten" w="21600" h="24191">
                <a:moveTo>
                  <a:pt x="0" y="2419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91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 u="sng">
                <a:solidFill>
                  <a:srgbClr val="996600"/>
                </a:solidFill>
                <a:uFillTx/>
                <a:latin typeface="Tahoma"/>
                <a:hlinkClick r:id="rId3" action="ppaction://hlinksldjump"/>
              </a:rPr>
              <a:t>2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AutoShape 14"/>
          <p:cNvSpPr/>
          <p:nvPr/>
        </p:nvSpPr>
        <p:spPr>
          <a:xfrm>
            <a:off x="4800600" y="838080"/>
            <a:ext cx="1905120" cy="2133720"/>
          </a:xfrm>
          <a:custGeom>
            <a:avLst/>
            <a:gdLst>
              <a:gd name="textAreaLeft" fmla="*/ 123480 w 1905120"/>
              <a:gd name="textAreaRight" fmla="*/ 1781640 w 1905120"/>
              <a:gd name="textAreaTop" fmla="*/ 123480 h 2133720"/>
              <a:gd name="textAreaBottom" fmla="*/ 2010240 h 2133720"/>
            </a:gdLst>
            <a:ahLst/>
            <a:rect l="textAreaLeft" t="textAreaTop" r="textAreaRight" b="textAreaBottom"/>
            <a:pathLst>
              <a:path w="21600" h="24191">
                <a:moveTo>
                  <a:pt x="0" y="0"/>
                </a:moveTo>
                <a:lnTo>
                  <a:pt x="21600" y="0"/>
                </a:lnTo>
                <a:lnTo>
                  <a:pt x="21600" y="24191"/>
                </a:lnTo>
                <a:lnTo>
                  <a:pt x="0" y="24191"/>
                </a:lnTo>
                <a:close/>
              </a:path>
              <a:path fill="lightenLess" w="21600" h="2419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91">
                <a:moveTo>
                  <a:pt x="21600" y="0"/>
                </a:moveTo>
                <a:lnTo>
                  <a:pt x="21600" y="24191"/>
                </a:lnTo>
                <a:lnTo>
                  <a:pt x="20200" y="22791"/>
                </a:lnTo>
                <a:lnTo>
                  <a:pt x="20200" y="1400"/>
                </a:lnTo>
                <a:close/>
              </a:path>
              <a:path fill="darkenLess" w="21600" h="24191">
                <a:moveTo>
                  <a:pt x="21600" y="24191"/>
                </a:moveTo>
                <a:lnTo>
                  <a:pt x="0" y="24191"/>
                </a:lnTo>
                <a:lnTo>
                  <a:pt x="1400" y="22791"/>
                </a:lnTo>
                <a:lnTo>
                  <a:pt x="20200" y="22791"/>
                </a:lnTo>
                <a:close/>
              </a:path>
              <a:path fill="lighten" w="21600" h="24191">
                <a:moveTo>
                  <a:pt x="0" y="2419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91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 u="sng">
                <a:solidFill>
                  <a:srgbClr val="996600"/>
                </a:solidFill>
                <a:uFillTx/>
                <a:latin typeface="Tahoma"/>
                <a:hlinkClick r:id="rId4" action="ppaction://hlinksldjump"/>
              </a:rPr>
              <a:t>3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AutoShape 15"/>
          <p:cNvSpPr/>
          <p:nvPr/>
        </p:nvSpPr>
        <p:spPr>
          <a:xfrm>
            <a:off x="6705720" y="838080"/>
            <a:ext cx="1904760" cy="2133720"/>
          </a:xfrm>
          <a:custGeom>
            <a:avLst/>
            <a:gdLst>
              <a:gd name="textAreaLeft" fmla="*/ 123120 w 1904760"/>
              <a:gd name="textAreaRight" fmla="*/ 1781640 w 1904760"/>
              <a:gd name="textAreaTop" fmla="*/ 123120 h 2133720"/>
              <a:gd name="textAreaBottom" fmla="*/ 2010600 h 2133720"/>
            </a:gdLst>
            <a:ahLst/>
            <a:rect l="textAreaLeft" t="textAreaTop" r="textAreaRight" b="textAreaBottom"/>
            <a:pathLst>
              <a:path w="21600" h="24196">
                <a:moveTo>
                  <a:pt x="0" y="0"/>
                </a:moveTo>
                <a:lnTo>
                  <a:pt x="21600" y="0"/>
                </a:lnTo>
                <a:lnTo>
                  <a:pt x="21600" y="24196"/>
                </a:lnTo>
                <a:lnTo>
                  <a:pt x="0" y="24196"/>
                </a:lnTo>
                <a:close/>
              </a:path>
              <a:path fill="lightenLess" w="21600" h="2419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96">
                <a:moveTo>
                  <a:pt x="21600" y="0"/>
                </a:moveTo>
                <a:lnTo>
                  <a:pt x="21600" y="24196"/>
                </a:lnTo>
                <a:lnTo>
                  <a:pt x="20200" y="22796"/>
                </a:lnTo>
                <a:lnTo>
                  <a:pt x="20200" y="1400"/>
                </a:lnTo>
                <a:close/>
              </a:path>
              <a:path fill="darkenLess" w="21600" h="24196">
                <a:moveTo>
                  <a:pt x="21600" y="24196"/>
                </a:moveTo>
                <a:lnTo>
                  <a:pt x="0" y="24196"/>
                </a:lnTo>
                <a:lnTo>
                  <a:pt x="1400" y="22796"/>
                </a:lnTo>
                <a:lnTo>
                  <a:pt x="20200" y="22796"/>
                </a:lnTo>
                <a:close/>
              </a:path>
              <a:path fill="lighten" w="21600" h="24196">
                <a:moveTo>
                  <a:pt x="0" y="2419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9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 u="sng">
                <a:solidFill>
                  <a:srgbClr val="996600"/>
                </a:solidFill>
                <a:uFillTx/>
                <a:latin typeface="Tahoma"/>
                <a:hlinkClick r:id="rId5" action="ppaction://hlinksldjump"/>
              </a:rPr>
              <a:t>4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AutoShape 16"/>
          <p:cNvSpPr/>
          <p:nvPr/>
        </p:nvSpPr>
        <p:spPr>
          <a:xfrm>
            <a:off x="990720" y="2971800"/>
            <a:ext cx="1904760" cy="2133720"/>
          </a:xfrm>
          <a:custGeom>
            <a:avLst/>
            <a:gdLst>
              <a:gd name="textAreaLeft" fmla="*/ 123120 w 1904760"/>
              <a:gd name="textAreaRight" fmla="*/ 1781640 w 1904760"/>
              <a:gd name="textAreaTop" fmla="*/ 123120 h 2133720"/>
              <a:gd name="textAreaBottom" fmla="*/ 2010600 h 2133720"/>
            </a:gdLst>
            <a:ahLst/>
            <a:rect l="textAreaLeft" t="textAreaTop" r="textAreaRight" b="textAreaBottom"/>
            <a:pathLst>
              <a:path w="21600" h="24196">
                <a:moveTo>
                  <a:pt x="0" y="0"/>
                </a:moveTo>
                <a:lnTo>
                  <a:pt x="21600" y="0"/>
                </a:lnTo>
                <a:lnTo>
                  <a:pt x="21600" y="24196"/>
                </a:lnTo>
                <a:lnTo>
                  <a:pt x="0" y="24196"/>
                </a:lnTo>
                <a:close/>
              </a:path>
              <a:path fill="lightenLess" w="21600" h="2419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96">
                <a:moveTo>
                  <a:pt x="21600" y="0"/>
                </a:moveTo>
                <a:lnTo>
                  <a:pt x="21600" y="24196"/>
                </a:lnTo>
                <a:lnTo>
                  <a:pt x="20200" y="22796"/>
                </a:lnTo>
                <a:lnTo>
                  <a:pt x="20200" y="1400"/>
                </a:lnTo>
                <a:close/>
              </a:path>
              <a:path fill="darkenLess" w="21600" h="24196">
                <a:moveTo>
                  <a:pt x="21600" y="24196"/>
                </a:moveTo>
                <a:lnTo>
                  <a:pt x="0" y="24196"/>
                </a:lnTo>
                <a:lnTo>
                  <a:pt x="1400" y="22796"/>
                </a:lnTo>
                <a:lnTo>
                  <a:pt x="20200" y="22796"/>
                </a:lnTo>
                <a:close/>
              </a:path>
              <a:path fill="lighten" w="21600" h="24196">
                <a:moveTo>
                  <a:pt x="0" y="2419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9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 u="sng">
                <a:solidFill>
                  <a:srgbClr val="996600"/>
                </a:solidFill>
                <a:uFillTx/>
                <a:latin typeface="Tahoma"/>
                <a:hlinkClick r:id="rId6" action="ppaction://hlinksldjump"/>
              </a:rPr>
              <a:t>5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AutoShape 17"/>
          <p:cNvSpPr/>
          <p:nvPr/>
        </p:nvSpPr>
        <p:spPr>
          <a:xfrm>
            <a:off x="2895480" y="2971800"/>
            <a:ext cx="1905120" cy="2133720"/>
          </a:xfrm>
          <a:custGeom>
            <a:avLst/>
            <a:gdLst>
              <a:gd name="textAreaLeft" fmla="*/ 123480 w 1905120"/>
              <a:gd name="textAreaRight" fmla="*/ 1781640 w 1905120"/>
              <a:gd name="textAreaTop" fmla="*/ 123480 h 2133720"/>
              <a:gd name="textAreaBottom" fmla="*/ 2010240 h 2133720"/>
            </a:gdLst>
            <a:ahLst/>
            <a:rect l="textAreaLeft" t="textAreaTop" r="textAreaRight" b="textAreaBottom"/>
            <a:pathLst>
              <a:path w="21600" h="24191">
                <a:moveTo>
                  <a:pt x="0" y="0"/>
                </a:moveTo>
                <a:lnTo>
                  <a:pt x="21600" y="0"/>
                </a:lnTo>
                <a:lnTo>
                  <a:pt x="21600" y="24191"/>
                </a:lnTo>
                <a:lnTo>
                  <a:pt x="0" y="24191"/>
                </a:lnTo>
                <a:close/>
              </a:path>
              <a:path fill="lightenLess" w="21600" h="2419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91">
                <a:moveTo>
                  <a:pt x="21600" y="0"/>
                </a:moveTo>
                <a:lnTo>
                  <a:pt x="21600" y="24191"/>
                </a:lnTo>
                <a:lnTo>
                  <a:pt x="20200" y="22791"/>
                </a:lnTo>
                <a:lnTo>
                  <a:pt x="20200" y="1400"/>
                </a:lnTo>
                <a:close/>
              </a:path>
              <a:path fill="darkenLess" w="21600" h="24191">
                <a:moveTo>
                  <a:pt x="21600" y="24191"/>
                </a:moveTo>
                <a:lnTo>
                  <a:pt x="0" y="24191"/>
                </a:lnTo>
                <a:lnTo>
                  <a:pt x="1400" y="22791"/>
                </a:lnTo>
                <a:lnTo>
                  <a:pt x="20200" y="22791"/>
                </a:lnTo>
                <a:close/>
              </a:path>
              <a:path fill="lighten" w="21600" h="24191">
                <a:moveTo>
                  <a:pt x="0" y="2419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91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 u="sng">
                <a:solidFill>
                  <a:srgbClr val="996600"/>
                </a:solidFill>
                <a:uFillTx/>
                <a:latin typeface="Tahoma"/>
                <a:hlinkClick r:id="rId7" action="ppaction://hlinksldjump"/>
              </a:rPr>
              <a:t>6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AutoShape 18"/>
          <p:cNvSpPr/>
          <p:nvPr/>
        </p:nvSpPr>
        <p:spPr>
          <a:xfrm>
            <a:off x="4800600" y="2971800"/>
            <a:ext cx="1905120" cy="2133720"/>
          </a:xfrm>
          <a:custGeom>
            <a:avLst/>
            <a:gdLst>
              <a:gd name="textAreaLeft" fmla="*/ 123480 w 1905120"/>
              <a:gd name="textAreaRight" fmla="*/ 1781640 w 1905120"/>
              <a:gd name="textAreaTop" fmla="*/ 123480 h 2133720"/>
              <a:gd name="textAreaBottom" fmla="*/ 2010240 h 2133720"/>
            </a:gdLst>
            <a:ahLst/>
            <a:rect l="textAreaLeft" t="textAreaTop" r="textAreaRight" b="textAreaBottom"/>
            <a:pathLst>
              <a:path w="21600" h="24191">
                <a:moveTo>
                  <a:pt x="0" y="0"/>
                </a:moveTo>
                <a:lnTo>
                  <a:pt x="21600" y="0"/>
                </a:lnTo>
                <a:lnTo>
                  <a:pt x="21600" y="24191"/>
                </a:lnTo>
                <a:lnTo>
                  <a:pt x="0" y="24191"/>
                </a:lnTo>
                <a:close/>
              </a:path>
              <a:path fill="lightenLess" w="21600" h="2419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91">
                <a:moveTo>
                  <a:pt x="21600" y="0"/>
                </a:moveTo>
                <a:lnTo>
                  <a:pt x="21600" y="24191"/>
                </a:lnTo>
                <a:lnTo>
                  <a:pt x="20200" y="22791"/>
                </a:lnTo>
                <a:lnTo>
                  <a:pt x="20200" y="1400"/>
                </a:lnTo>
                <a:close/>
              </a:path>
              <a:path fill="darkenLess" w="21600" h="24191">
                <a:moveTo>
                  <a:pt x="21600" y="24191"/>
                </a:moveTo>
                <a:lnTo>
                  <a:pt x="0" y="24191"/>
                </a:lnTo>
                <a:lnTo>
                  <a:pt x="1400" y="22791"/>
                </a:lnTo>
                <a:lnTo>
                  <a:pt x="20200" y="22791"/>
                </a:lnTo>
                <a:close/>
              </a:path>
              <a:path fill="lighten" w="21600" h="24191">
                <a:moveTo>
                  <a:pt x="0" y="2419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91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 u="sng">
                <a:solidFill>
                  <a:srgbClr val="996600"/>
                </a:solidFill>
                <a:uFillTx/>
                <a:latin typeface="Tahoma"/>
                <a:hlinkClick r:id="rId8" action="ppaction://hlinksldjump"/>
              </a:rPr>
              <a:t>7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AutoShape 19"/>
          <p:cNvSpPr/>
          <p:nvPr/>
        </p:nvSpPr>
        <p:spPr>
          <a:xfrm>
            <a:off x="6705720" y="2971800"/>
            <a:ext cx="1904760" cy="2133720"/>
          </a:xfrm>
          <a:custGeom>
            <a:avLst/>
            <a:gdLst>
              <a:gd name="textAreaLeft" fmla="*/ 123120 w 1904760"/>
              <a:gd name="textAreaRight" fmla="*/ 1781640 w 1904760"/>
              <a:gd name="textAreaTop" fmla="*/ 123120 h 2133720"/>
              <a:gd name="textAreaBottom" fmla="*/ 2010600 h 2133720"/>
            </a:gdLst>
            <a:ahLst/>
            <a:rect l="textAreaLeft" t="textAreaTop" r="textAreaRight" b="textAreaBottom"/>
            <a:pathLst>
              <a:path w="21600" h="24196">
                <a:moveTo>
                  <a:pt x="0" y="0"/>
                </a:moveTo>
                <a:lnTo>
                  <a:pt x="21600" y="0"/>
                </a:lnTo>
                <a:lnTo>
                  <a:pt x="21600" y="24196"/>
                </a:lnTo>
                <a:lnTo>
                  <a:pt x="0" y="24196"/>
                </a:lnTo>
                <a:close/>
              </a:path>
              <a:path fill="lightenLess" w="21600" h="2419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96">
                <a:moveTo>
                  <a:pt x="21600" y="0"/>
                </a:moveTo>
                <a:lnTo>
                  <a:pt x="21600" y="24196"/>
                </a:lnTo>
                <a:lnTo>
                  <a:pt x="20200" y="22796"/>
                </a:lnTo>
                <a:lnTo>
                  <a:pt x="20200" y="1400"/>
                </a:lnTo>
                <a:close/>
              </a:path>
              <a:path fill="darkenLess" w="21600" h="24196">
                <a:moveTo>
                  <a:pt x="21600" y="24196"/>
                </a:moveTo>
                <a:lnTo>
                  <a:pt x="0" y="24196"/>
                </a:lnTo>
                <a:lnTo>
                  <a:pt x="1400" y="22796"/>
                </a:lnTo>
                <a:lnTo>
                  <a:pt x="20200" y="22796"/>
                </a:lnTo>
                <a:close/>
              </a:path>
              <a:path fill="lighten" w="21600" h="24196">
                <a:moveTo>
                  <a:pt x="0" y="2419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9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 u="sng">
                <a:solidFill>
                  <a:srgbClr val="996600"/>
                </a:solidFill>
                <a:uFillTx/>
                <a:latin typeface="Tahoma"/>
                <a:hlinkClick r:id="rId9" action="ppaction://hlinksldjump"/>
              </a:rPr>
              <a:t>8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AutoShape 20"/>
          <p:cNvSpPr/>
          <p:nvPr/>
        </p:nvSpPr>
        <p:spPr>
          <a:xfrm>
            <a:off x="6172200" y="6248520"/>
            <a:ext cx="2590920" cy="457200"/>
          </a:xfrm>
          <a:custGeom>
            <a:avLst/>
            <a:gdLst>
              <a:gd name="textAreaLeft" fmla="*/ 29520 w 2590920"/>
              <a:gd name="textAreaRight" fmla="*/ 2561400 w 2590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22326" h="21600">
                <a:moveTo>
                  <a:pt x="0" y="0"/>
                </a:moveTo>
                <a:lnTo>
                  <a:pt x="122326" y="0"/>
                </a:lnTo>
                <a:lnTo>
                  <a:pt x="122326" y="21600"/>
                </a:lnTo>
                <a:lnTo>
                  <a:pt x="0" y="21600"/>
                </a:lnTo>
                <a:close/>
              </a:path>
              <a:path fill="lightenLess" w="122326" h="21600">
                <a:moveTo>
                  <a:pt x="0" y="0"/>
                </a:moveTo>
                <a:lnTo>
                  <a:pt x="122326" y="0"/>
                </a:lnTo>
                <a:lnTo>
                  <a:pt x="120926" y="1400"/>
                </a:lnTo>
                <a:lnTo>
                  <a:pt x="1400" y="1400"/>
                </a:lnTo>
                <a:close/>
              </a:path>
              <a:path fill="darken" w="122326" h="21600">
                <a:moveTo>
                  <a:pt x="122326" y="0"/>
                </a:moveTo>
                <a:lnTo>
                  <a:pt x="122326" y="21600"/>
                </a:lnTo>
                <a:lnTo>
                  <a:pt x="120926" y="20200"/>
                </a:lnTo>
                <a:lnTo>
                  <a:pt x="120926" y="1400"/>
                </a:lnTo>
                <a:close/>
              </a:path>
              <a:path fill="darkenLess" w="122326" h="21600">
                <a:moveTo>
                  <a:pt x="1223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0926" y="20200"/>
                </a:lnTo>
                <a:close/>
              </a:path>
              <a:path fill="lighten" w="1223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ДАЛЕ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5" descr="60290288_assol"/>
          <p:cNvPicPr/>
          <p:nvPr/>
        </p:nvPicPr>
        <p:blipFill>
          <a:blip r:embed="rId2"/>
          <a:stretch/>
        </p:blipFill>
        <p:spPr>
          <a:xfrm>
            <a:off x="2209680" y="304920"/>
            <a:ext cx="3837240" cy="5790960"/>
          </a:xfrm>
          <a:prstGeom prst="rect">
            <a:avLst/>
          </a:prstGeom>
          <a:ln w="0">
            <a:noFill/>
          </a:ln>
        </p:spPr>
      </p:pic>
      <p:sp>
        <p:nvSpPr>
          <p:cNvPr id="493" name="AutoShape 7"/>
          <p:cNvSpPr/>
          <p:nvPr/>
        </p:nvSpPr>
        <p:spPr>
          <a:xfrm>
            <a:off x="6934320" y="6248520"/>
            <a:ext cx="1752480" cy="609480"/>
          </a:xfrm>
          <a:custGeom>
            <a:avLst/>
            <a:gdLst>
              <a:gd name="textAreaLeft" fmla="*/ 39240 w 1752480"/>
              <a:gd name="textAreaRight" fmla="*/ 1713240 w 1752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62084" h="21600">
                <a:moveTo>
                  <a:pt x="0" y="0"/>
                </a:moveTo>
                <a:lnTo>
                  <a:pt x="62084" y="0"/>
                </a:lnTo>
                <a:lnTo>
                  <a:pt x="62084" y="21600"/>
                </a:lnTo>
                <a:lnTo>
                  <a:pt x="0" y="21600"/>
                </a:lnTo>
                <a:close/>
              </a:path>
              <a:path fill="lightenLess" w="62084" h="21600">
                <a:moveTo>
                  <a:pt x="0" y="0"/>
                </a:moveTo>
                <a:lnTo>
                  <a:pt x="62084" y="0"/>
                </a:lnTo>
                <a:lnTo>
                  <a:pt x="60684" y="1400"/>
                </a:lnTo>
                <a:lnTo>
                  <a:pt x="1400" y="1400"/>
                </a:lnTo>
                <a:close/>
              </a:path>
              <a:path fill="darken" w="62084" h="21600">
                <a:moveTo>
                  <a:pt x="62084" y="0"/>
                </a:moveTo>
                <a:lnTo>
                  <a:pt x="62084" y="21600"/>
                </a:lnTo>
                <a:lnTo>
                  <a:pt x="60684" y="20200"/>
                </a:lnTo>
                <a:lnTo>
                  <a:pt x="60684" y="1400"/>
                </a:lnTo>
                <a:close/>
              </a:path>
              <a:path fill="darkenLess" w="62084" h="21600">
                <a:moveTo>
                  <a:pt x="620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684" y="20200"/>
                </a:lnTo>
                <a:close/>
              </a:path>
              <a:path fill="lighten" w="620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 таблиц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5" descr="811d7deb0536"/>
          <p:cNvPicPr/>
          <p:nvPr/>
        </p:nvPicPr>
        <p:blipFill>
          <a:blip r:embed="rId2"/>
          <a:stretch/>
        </p:blipFill>
        <p:spPr>
          <a:xfrm>
            <a:off x="457200" y="304920"/>
            <a:ext cx="8305920" cy="5532480"/>
          </a:xfrm>
          <a:prstGeom prst="rect">
            <a:avLst/>
          </a:prstGeom>
          <a:ln w="0">
            <a:noFill/>
          </a:ln>
        </p:spPr>
      </p:pic>
      <p:sp>
        <p:nvSpPr>
          <p:cNvPr id="495" name="AutoShape 6"/>
          <p:cNvSpPr/>
          <p:nvPr/>
        </p:nvSpPr>
        <p:spPr>
          <a:xfrm>
            <a:off x="7010280" y="6248520"/>
            <a:ext cx="1752840" cy="609480"/>
          </a:xfrm>
          <a:custGeom>
            <a:avLst/>
            <a:gdLst>
              <a:gd name="textAreaLeft" fmla="*/ 39240 w 1752840"/>
              <a:gd name="textAreaRight" fmla="*/ 1713600 w 1752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62097" h="21600">
                <a:moveTo>
                  <a:pt x="0" y="0"/>
                </a:moveTo>
                <a:lnTo>
                  <a:pt x="62097" y="0"/>
                </a:lnTo>
                <a:lnTo>
                  <a:pt x="62097" y="21600"/>
                </a:lnTo>
                <a:lnTo>
                  <a:pt x="0" y="21600"/>
                </a:lnTo>
                <a:close/>
              </a:path>
              <a:path fill="lightenLess" w="62097" h="21600">
                <a:moveTo>
                  <a:pt x="0" y="0"/>
                </a:moveTo>
                <a:lnTo>
                  <a:pt x="62097" y="0"/>
                </a:lnTo>
                <a:lnTo>
                  <a:pt x="60697" y="1400"/>
                </a:lnTo>
                <a:lnTo>
                  <a:pt x="1400" y="1400"/>
                </a:lnTo>
                <a:close/>
              </a:path>
              <a:path fill="darken" w="62097" h="21600">
                <a:moveTo>
                  <a:pt x="62097" y="0"/>
                </a:moveTo>
                <a:lnTo>
                  <a:pt x="62097" y="21600"/>
                </a:lnTo>
                <a:lnTo>
                  <a:pt x="60697" y="20200"/>
                </a:lnTo>
                <a:lnTo>
                  <a:pt x="60697" y="1400"/>
                </a:lnTo>
                <a:close/>
              </a:path>
              <a:path fill="darkenLess" w="62097" h="21600">
                <a:moveTo>
                  <a:pt x="620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697" y="20200"/>
                </a:lnTo>
                <a:close/>
              </a:path>
              <a:path fill="lighten" w="620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 таблиц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Picture 5" descr="66638695_4cc33d75bfcfd"/>
          <p:cNvPicPr/>
          <p:nvPr/>
        </p:nvPicPr>
        <p:blipFill>
          <a:blip r:embed="rId2"/>
          <a:stretch/>
        </p:blipFill>
        <p:spPr>
          <a:xfrm>
            <a:off x="762120" y="304920"/>
            <a:ext cx="7543800" cy="5646600"/>
          </a:xfrm>
          <a:prstGeom prst="rect">
            <a:avLst/>
          </a:prstGeom>
          <a:ln w="0">
            <a:noFill/>
          </a:ln>
        </p:spPr>
      </p:pic>
      <p:sp>
        <p:nvSpPr>
          <p:cNvPr id="497" name="AutoShape 6"/>
          <p:cNvSpPr/>
          <p:nvPr/>
        </p:nvSpPr>
        <p:spPr>
          <a:xfrm>
            <a:off x="7010280" y="6248520"/>
            <a:ext cx="1752840" cy="609480"/>
          </a:xfrm>
          <a:custGeom>
            <a:avLst/>
            <a:gdLst>
              <a:gd name="textAreaLeft" fmla="*/ 39240 w 1752840"/>
              <a:gd name="textAreaRight" fmla="*/ 1713600 w 1752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62097" h="21600">
                <a:moveTo>
                  <a:pt x="0" y="0"/>
                </a:moveTo>
                <a:lnTo>
                  <a:pt x="62097" y="0"/>
                </a:lnTo>
                <a:lnTo>
                  <a:pt x="62097" y="21600"/>
                </a:lnTo>
                <a:lnTo>
                  <a:pt x="0" y="21600"/>
                </a:lnTo>
                <a:close/>
              </a:path>
              <a:path fill="lightenLess" w="62097" h="21600">
                <a:moveTo>
                  <a:pt x="0" y="0"/>
                </a:moveTo>
                <a:lnTo>
                  <a:pt x="62097" y="0"/>
                </a:lnTo>
                <a:lnTo>
                  <a:pt x="60697" y="1400"/>
                </a:lnTo>
                <a:lnTo>
                  <a:pt x="1400" y="1400"/>
                </a:lnTo>
                <a:close/>
              </a:path>
              <a:path fill="darken" w="62097" h="21600">
                <a:moveTo>
                  <a:pt x="62097" y="0"/>
                </a:moveTo>
                <a:lnTo>
                  <a:pt x="62097" y="21600"/>
                </a:lnTo>
                <a:lnTo>
                  <a:pt x="60697" y="20200"/>
                </a:lnTo>
                <a:lnTo>
                  <a:pt x="60697" y="1400"/>
                </a:lnTo>
                <a:close/>
              </a:path>
              <a:path fill="darkenLess" w="62097" h="21600">
                <a:moveTo>
                  <a:pt x="620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697" y="20200"/>
                </a:lnTo>
                <a:close/>
              </a:path>
              <a:path fill="lighten" w="620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 таблиц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7" descr="09c1a2eded04"/>
          <p:cNvPicPr/>
          <p:nvPr/>
        </p:nvPicPr>
        <p:blipFill>
          <a:blip r:embed="rId2"/>
          <a:stretch/>
        </p:blipFill>
        <p:spPr>
          <a:xfrm>
            <a:off x="2286000" y="304920"/>
            <a:ext cx="4343400" cy="5790960"/>
          </a:xfrm>
          <a:prstGeom prst="rect">
            <a:avLst/>
          </a:prstGeom>
          <a:ln w="0">
            <a:noFill/>
          </a:ln>
        </p:spPr>
      </p:pic>
      <p:sp>
        <p:nvSpPr>
          <p:cNvPr id="499" name="AutoShape 8"/>
          <p:cNvSpPr/>
          <p:nvPr/>
        </p:nvSpPr>
        <p:spPr>
          <a:xfrm>
            <a:off x="7086600" y="6248520"/>
            <a:ext cx="1752480" cy="609480"/>
          </a:xfrm>
          <a:custGeom>
            <a:avLst/>
            <a:gdLst>
              <a:gd name="textAreaLeft" fmla="*/ 39240 w 1752480"/>
              <a:gd name="textAreaRight" fmla="*/ 1713240 w 1752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62084" h="21600">
                <a:moveTo>
                  <a:pt x="0" y="0"/>
                </a:moveTo>
                <a:lnTo>
                  <a:pt x="62084" y="0"/>
                </a:lnTo>
                <a:lnTo>
                  <a:pt x="62084" y="21600"/>
                </a:lnTo>
                <a:lnTo>
                  <a:pt x="0" y="21600"/>
                </a:lnTo>
                <a:close/>
              </a:path>
              <a:path fill="lightenLess" w="62084" h="21600">
                <a:moveTo>
                  <a:pt x="0" y="0"/>
                </a:moveTo>
                <a:lnTo>
                  <a:pt x="62084" y="0"/>
                </a:lnTo>
                <a:lnTo>
                  <a:pt x="60684" y="1400"/>
                </a:lnTo>
                <a:lnTo>
                  <a:pt x="1400" y="1400"/>
                </a:lnTo>
                <a:close/>
              </a:path>
              <a:path fill="darken" w="62084" h="21600">
                <a:moveTo>
                  <a:pt x="62084" y="0"/>
                </a:moveTo>
                <a:lnTo>
                  <a:pt x="62084" y="21600"/>
                </a:lnTo>
                <a:lnTo>
                  <a:pt x="60684" y="20200"/>
                </a:lnTo>
                <a:lnTo>
                  <a:pt x="60684" y="1400"/>
                </a:lnTo>
                <a:close/>
              </a:path>
              <a:path fill="darkenLess" w="62084" h="21600">
                <a:moveTo>
                  <a:pt x="620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684" y="20200"/>
                </a:lnTo>
                <a:close/>
              </a:path>
              <a:path fill="lighten" w="620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 таблиц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Picture 5" descr="nos_gogolya_1_0"/>
          <p:cNvPicPr/>
          <p:nvPr/>
        </p:nvPicPr>
        <p:blipFill>
          <a:blip r:embed="rId2"/>
          <a:stretch/>
        </p:blipFill>
        <p:spPr>
          <a:xfrm>
            <a:off x="685800" y="304920"/>
            <a:ext cx="7620120" cy="5729040"/>
          </a:xfrm>
          <a:prstGeom prst="rect">
            <a:avLst/>
          </a:prstGeom>
          <a:ln w="0">
            <a:noFill/>
          </a:ln>
        </p:spPr>
      </p:pic>
      <p:sp>
        <p:nvSpPr>
          <p:cNvPr id="501" name="AutoShape 6"/>
          <p:cNvSpPr/>
          <p:nvPr/>
        </p:nvSpPr>
        <p:spPr>
          <a:xfrm>
            <a:off x="7086600" y="6248520"/>
            <a:ext cx="1752480" cy="609480"/>
          </a:xfrm>
          <a:custGeom>
            <a:avLst/>
            <a:gdLst>
              <a:gd name="textAreaLeft" fmla="*/ 39240 w 1752480"/>
              <a:gd name="textAreaRight" fmla="*/ 1713240 w 1752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62084" h="21600">
                <a:moveTo>
                  <a:pt x="0" y="0"/>
                </a:moveTo>
                <a:lnTo>
                  <a:pt x="62084" y="0"/>
                </a:lnTo>
                <a:lnTo>
                  <a:pt x="62084" y="21600"/>
                </a:lnTo>
                <a:lnTo>
                  <a:pt x="0" y="21600"/>
                </a:lnTo>
                <a:close/>
              </a:path>
              <a:path fill="lightenLess" w="62084" h="21600">
                <a:moveTo>
                  <a:pt x="0" y="0"/>
                </a:moveTo>
                <a:lnTo>
                  <a:pt x="62084" y="0"/>
                </a:lnTo>
                <a:lnTo>
                  <a:pt x="60684" y="1400"/>
                </a:lnTo>
                <a:lnTo>
                  <a:pt x="1400" y="1400"/>
                </a:lnTo>
                <a:close/>
              </a:path>
              <a:path fill="darken" w="62084" h="21600">
                <a:moveTo>
                  <a:pt x="62084" y="0"/>
                </a:moveTo>
                <a:lnTo>
                  <a:pt x="62084" y="21600"/>
                </a:lnTo>
                <a:lnTo>
                  <a:pt x="60684" y="20200"/>
                </a:lnTo>
                <a:lnTo>
                  <a:pt x="60684" y="1400"/>
                </a:lnTo>
                <a:close/>
              </a:path>
              <a:path fill="darkenLess" w="62084" h="21600">
                <a:moveTo>
                  <a:pt x="620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684" y="20200"/>
                </a:lnTo>
                <a:close/>
              </a:path>
              <a:path fill="lighten" w="620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 таблиц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6"/>
          <p:cNvSpPr/>
          <p:nvPr/>
        </p:nvSpPr>
        <p:spPr>
          <a:xfrm>
            <a:off x="2041560" y="2622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Text Box 9"/>
          <p:cNvSpPr/>
          <p:nvPr/>
        </p:nvSpPr>
        <p:spPr>
          <a:xfrm>
            <a:off x="0" y="1652760"/>
            <a:ext cx="9344160" cy="23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800000"/>
                </a:solidFill>
                <a:latin typeface="Tahoma"/>
              </a:rPr>
              <a:t>Выхожу один я на дорогу;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800000"/>
                </a:solidFill>
                <a:latin typeface="Tahoma"/>
              </a:rPr>
              <a:t>Сквозь туман кремнистый путь блестит…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5" descr="0_1ead2_98d812a8_XL"/>
          <p:cNvPicPr/>
          <p:nvPr/>
        </p:nvPicPr>
        <p:blipFill>
          <a:blip r:embed="rId2"/>
          <a:stretch/>
        </p:blipFill>
        <p:spPr>
          <a:xfrm>
            <a:off x="2133720" y="304920"/>
            <a:ext cx="4286160" cy="5715000"/>
          </a:xfrm>
          <a:prstGeom prst="rect">
            <a:avLst/>
          </a:prstGeom>
          <a:ln w="0">
            <a:noFill/>
          </a:ln>
        </p:spPr>
      </p:pic>
      <p:sp>
        <p:nvSpPr>
          <p:cNvPr id="503" name="AutoShape 6"/>
          <p:cNvSpPr/>
          <p:nvPr/>
        </p:nvSpPr>
        <p:spPr>
          <a:xfrm>
            <a:off x="7086600" y="6248520"/>
            <a:ext cx="1752480" cy="609480"/>
          </a:xfrm>
          <a:custGeom>
            <a:avLst/>
            <a:gdLst>
              <a:gd name="textAreaLeft" fmla="*/ 39240 w 1752480"/>
              <a:gd name="textAreaRight" fmla="*/ 1713240 w 1752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62084" h="21600">
                <a:moveTo>
                  <a:pt x="0" y="0"/>
                </a:moveTo>
                <a:lnTo>
                  <a:pt x="62084" y="0"/>
                </a:lnTo>
                <a:lnTo>
                  <a:pt x="62084" y="21600"/>
                </a:lnTo>
                <a:lnTo>
                  <a:pt x="0" y="21600"/>
                </a:lnTo>
                <a:close/>
              </a:path>
              <a:path fill="lightenLess" w="62084" h="21600">
                <a:moveTo>
                  <a:pt x="0" y="0"/>
                </a:moveTo>
                <a:lnTo>
                  <a:pt x="62084" y="0"/>
                </a:lnTo>
                <a:lnTo>
                  <a:pt x="60684" y="1400"/>
                </a:lnTo>
                <a:lnTo>
                  <a:pt x="1400" y="1400"/>
                </a:lnTo>
                <a:close/>
              </a:path>
              <a:path fill="darken" w="62084" h="21600">
                <a:moveTo>
                  <a:pt x="62084" y="0"/>
                </a:moveTo>
                <a:lnTo>
                  <a:pt x="62084" y="21600"/>
                </a:lnTo>
                <a:lnTo>
                  <a:pt x="60684" y="20200"/>
                </a:lnTo>
                <a:lnTo>
                  <a:pt x="60684" y="1400"/>
                </a:lnTo>
                <a:close/>
              </a:path>
              <a:path fill="darkenLess" w="62084" h="21600">
                <a:moveTo>
                  <a:pt x="620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684" y="20200"/>
                </a:lnTo>
                <a:close/>
              </a:path>
              <a:path fill="lighten" w="620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 таблиц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5" descr="tb19916"/>
          <p:cNvPicPr/>
          <p:nvPr/>
        </p:nvPicPr>
        <p:blipFill>
          <a:blip r:embed="rId2"/>
          <a:stretch/>
        </p:blipFill>
        <p:spPr>
          <a:xfrm>
            <a:off x="457200" y="380880"/>
            <a:ext cx="8305920" cy="5532480"/>
          </a:xfrm>
          <a:prstGeom prst="rect">
            <a:avLst/>
          </a:prstGeom>
          <a:ln w="0">
            <a:noFill/>
          </a:ln>
        </p:spPr>
      </p:pic>
      <p:sp>
        <p:nvSpPr>
          <p:cNvPr id="505" name="AutoShape 6"/>
          <p:cNvSpPr/>
          <p:nvPr/>
        </p:nvSpPr>
        <p:spPr>
          <a:xfrm>
            <a:off x="7010280" y="6248520"/>
            <a:ext cx="1752840" cy="609480"/>
          </a:xfrm>
          <a:custGeom>
            <a:avLst/>
            <a:gdLst>
              <a:gd name="textAreaLeft" fmla="*/ 39240 w 1752840"/>
              <a:gd name="textAreaRight" fmla="*/ 1713600 w 1752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62097" h="21600">
                <a:moveTo>
                  <a:pt x="0" y="0"/>
                </a:moveTo>
                <a:lnTo>
                  <a:pt x="62097" y="0"/>
                </a:lnTo>
                <a:lnTo>
                  <a:pt x="62097" y="21600"/>
                </a:lnTo>
                <a:lnTo>
                  <a:pt x="0" y="21600"/>
                </a:lnTo>
                <a:close/>
              </a:path>
              <a:path fill="lightenLess" w="62097" h="21600">
                <a:moveTo>
                  <a:pt x="0" y="0"/>
                </a:moveTo>
                <a:lnTo>
                  <a:pt x="62097" y="0"/>
                </a:lnTo>
                <a:lnTo>
                  <a:pt x="60697" y="1400"/>
                </a:lnTo>
                <a:lnTo>
                  <a:pt x="1400" y="1400"/>
                </a:lnTo>
                <a:close/>
              </a:path>
              <a:path fill="darken" w="62097" h="21600">
                <a:moveTo>
                  <a:pt x="62097" y="0"/>
                </a:moveTo>
                <a:lnTo>
                  <a:pt x="62097" y="21600"/>
                </a:lnTo>
                <a:lnTo>
                  <a:pt x="60697" y="20200"/>
                </a:lnTo>
                <a:lnTo>
                  <a:pt x="60697" y="1400"/>
                </a:lnTo>
                <a:close/>
              </a:path>
              <a:path fill="darkenLess" w="62097" h="21600">
                <a:moveTo>
                  <a:pt x="620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697" y="20200"/>
                </a:lnTo>
                <a:close/>
              </a:path>
              <a:path fill="lighten" w="620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 таблиц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5" descr="terkin2"/>
          <p:cNvPicPr/>
          <p:nvPr/>
        </p:nvPicPr>
        <p:blipFill>
          <a:blip r:embed="rId2"/>
          <a:stretch/>
        </p:blipFill>
        <p:spPr>
          <a:xfrm>
            <a:off x="1676520" y="304920"/>
            <a:ext cx="5715000" cy="5867280"/>
          </a:xfrm>
          <a:prstGeom prst="rect">
            <a:avLst/>
          </a:prstGeom>
          <a:ln w="0">
            <a:noFill/>
          </a:ln>
        </p:spPr>
      </p:pic>
      <p:sp>
        <p:nvSpPr>
          <p:cNvPr id="507" name="AutoShape 6"/>
          <p:cNvSpPr/>
          <p:nvPr/>
        </p:nvSpPr>
        <p:spPr>
          <a:xfrm>
            <a:off x="7086600" y="6248520"/>
            <a:ext cx="1752480" cy="609480"/>
          </a:xfrm>
          <a:custGeom>
            <a:avLst/>
            <a:gdLst>
              <a:gd name="textAreaLeft" fmla="*/ 39240 w 1752480"/>
              <a:gd name="textAreaRight" fmla="*/ 1713240 w 1752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62084" h="21600">
                <a:moveTo>
                  <a:pt x="0" y="0"/>
                </a:moveTo>
                <a:lnTo>
                  <a:pt x="62084" y="0"/>
                </a:lnTo>
                <a:lnTo>
                  <a:pt x="62084" y="21600"/>
                </a:lnTo>
                <a:lnTo>
                  <a:pt x="0" y="21600"/>
                </a:lnTo>
                <a:close/>
              </a:path>
              <a:path fill="lightenLess" w="62084" h="21600">
                <a:moveTo>
                  <a:pt x="0" y="0"/>
                </a:moveTo>
                <a:lnTo>
                  <a:pt x="62084" y="0"/>
                </a:lnTo>
                <a:lnTo>
                  <a:pt x="60684" y="1400"/>
                </a:lnTo>
                <a:lnTo>
                  <a:pt x="1400" y="1400"/>
                </a:lnTo>
                <a:close/>
              </a:path>
              <a:path fill="darken" w="62084" h="21600">
                <a:moveTo>
                  <a:pt x="62084" y="0"/>
                </a:moveTo>
                <a:lnTo>
                  <a:pt x="62084" y="21600"/>
                </a:lnTo>
                <a:lnTo>
                  <a:pt x="60684" y="20200"/>
                </a:lnTo>
                <a:lnTo>
                  <a:pt x="60684" y="1400"/>
                </a:lnTo>
                <a:close/>
              </a:path>
              <a:path fill="darkenLess" w="62084" h="21600">
                <a:moveTo>
                  <a:pt x="620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684" y="20200"/>
                </a:lnTo>
                <a:close/>
              </a:path>
              <a:path fill="lighten" w="620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 таблиц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WordArt 4"/>
          <p:cNvSpPr txBox="1"/>
          <p:nvPr/>
        </p:nvSpPr>
        <p:spPr>
          <a:xfrm>
            <a:off x="838080" y="1905120"/>
            <a:ext cx="716292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екреты черного ящ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 Box 6"/>
          <p:cNvSpPr/>
          <p:nvPr/>
        </p:nvSpPr>
        <p:spPr>
          <a:xfrm>
            <a:off x="2041560" y="2622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Text Box 9"/>
          <p:cNvSpPr/>
          <p:nvPr/>
        </p:nvSpPr>
        <p:spPr>
          <a:xfrm>
            <a:off x="0" y="990720"/>
            <a:ext cx="8991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В черном ящике лежат предметы.</a:t>
            </a:r>
            <a:br>
              <a:rPr sz="4000"/>
            </a:b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С каким художественным произведением они связаны? Кто его автор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WordArt 4"/>
          <p:cNvSpPr txBox="1"/>
          <p:nvPr/>
        </p:nvSpPr>
        <p:spPr>
          <a:xfrm>
            <a:off x="1219320" y="1752480"/>
            <a:ext cx="59436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онец иг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 Box 6"/>
          <p:cNvSpPr/>
          <p:nvPr/>
        </p:nvSpPr>
        <p:spPr>
          <a:xfrm>
            <a:off x="2041560" y="2622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Text Box 9"/>
          <p:cNvSpPr/>
          <p:nvPr/>
        </p:nvSpPr>
        <p:spPr>
          <a:xfrm>
            <a:off x="304920" y="1600200"/>
            <a:ext cx="88390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Умом Россию не понять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Аршином общим не измерить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6"/>
          <p:cNvSpPr/>
          <p:nvPr/>
        </p:nvSpPr>
        <p:spPr>
          <a:xfrm>
            <a:off x="2041560" y="2622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Text Box 9"/>
          <p:cNvSpPr/>
          <p:nvPr/>
        </p:nvSpPr>
        <p:spPr>
          <a:xfrm>
            <a:off x="-27000" y="1600200"/>
            <a:ext cx="917100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800000"/>
                </a:solidFill>
                <a:latin typeface="Tahoma"/>
              </a:rPr>
              <a:t>Славная осень! Здоровый, ядреный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800000"/>
                </a:solidFill>
                <a:latin typeface="Tahoma"/>
              </a:rPr>
              <a:t>Воздух усталые силы бодрит…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6"/>
          <p:cNvSpPr/>
          <p:nvPr/>
        </p:nvSpPr>
        <p:spPr>
          <a:xfrm>
            <a:off x="2041560" y="2622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Text Box 9"/>
          <p:cNvSpPr/>
          <p:nvPr/>
        </p:nvSpPr>
        <p:spPr>
          <a:xfrm>
            <a:off x="277920" y="1600200"/>
            <a:ext cx="88660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Лес, точно терем расписной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Лиловый, золотой, багряный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6"/>
          <p:cNvSpPr/>
          <p:nvPr/>
        </p:nvSpPr>
        <p:spPr>
          <a:xfrm>
            <a:off x="2041560" y="2622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Text Box 9"/>
          <p:cNvSpPr/>
          <p:nvPr/>
        </p:nvSpPr>
        <p:spPr>
          <a:xfrm>
            <a:off x="-27000" y="1600200"/>
            <a:ext cx="1079964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Скинуло кафтан зеленый лето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Отсвистали жаворонки всласть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Таня</dc:creator>
  <dc:description/>
  <dc:language>en-US</dc:language>
  <cp:lastModifiedBy>Настя</cp:lastModifiedBy>
  <dcterms:modified xsi:type="dcterms:W3CDTF">2015-10-12T20:04:57Z</dcterms:modified>
  <cp:revision>4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