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ABB4-302E-43AD-8E64-449ED4800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327-5BA7-41CB-9790-74E2EB634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C7C-1A40-46AB-81B3-3E47F47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72C-6D33-45F6-A653-6D7370E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9BD-FF6B-4453-81D3-D78A7A6A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51F-395D-426E-B983-7CFD7DEF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484-21E4-494D-AC60-A3EF2455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2E4-B475-4175-AB48-9A13ACB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BFE-219E-401C-AB20-89C5CB66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BFB-D31A-4449-9441-FFEC8B69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BFA-DA88-4D85-9D50-8F1D7F0B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149-A2CF-4326-8A81-368828B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3D5-5E90-431F-AEB5-5B6D744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445-17F8-4FEC-ABE8-D3ABCFB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6EA-40C2-4780-AE7A-C11A9EF4AED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47D-4977-470F-B657-78A798A90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A00E-507E-4EBF-A8F3-5DAE3CB1D7F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3FE5-582C-4FAA-8DEE-B98C88D05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«Международные отношения в 1930-е годы 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523880" y="0"/>
            <a:ext cx="60962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ейшая история.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DA48-8568-47D2-8CFD-47BCECEA67D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96C-E390-4F71-B08E-44AD7DB85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11480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-30 сентября 1938г. – Мюнхенский с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емберле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Великобритания)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ладь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ранц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итл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ермания)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уссоли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талия).</a:t>
            </a:r>
            <a:br>
              <a:rPr sz="2800"/>
            </a:b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7b10c369-c0ee-49fb-8f1d-fe665e5d0ed4"/>
          <p:cNvPicPr/>
          <p:nvPr/>
        </p:nvPicPr>
        <p:blipFill>
          <a:blip r:embed="rId2"/>
          <a:stretch/>
        </p:blipFill>
        <p:spPr>
          <a:xfrm>
            <a:off x="0" y="1752480"/>
            <a:ext cx="4343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457200" y="4876920"/>
            <a:ext cx="32767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юнхен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534520" cy="141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о-политический б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Берлин-Рим- Токи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87D9-8474-4F29-AEF7-33328D8BDD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0BD1-3C6F-4F88-AF2F-A89D2203E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136 - 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ли было предотвратить вторую мировую вой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Советский союз пошёл на подписание дого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22860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ал ид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лектив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0_5a94c_4006b984_XL"/>
          <p:cNvPicPr/>
          <p:nvPr/>
        </p:nvPicPr>
        <p:blipFill>
          <a:blip r:embed="rId2"/>
          <a:stretch/>
        </p:blipFill>
        <p:spPr>
          <a:xfrm>
            <a:off x="0" y="1523880"/>
            <a:ext cx="3792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843-DABA-4866-B3D4-8E3C06C3303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FC3-0D0A-46DF-A1EB-C33114437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 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52280" y="228600"/>
            <a:ext cx="87631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E42-E35A-48C9-88AC-513DE90DC9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4CE-7430-499D-9944-2CFA7E34D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х Версальско-Вашингтонск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есостоятельность Лиги Н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Военно- политический блок « Берлин – Рим – Токи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Чехословацкий кризис. Мюнхенский сговор 193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Провал идеи коллективной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80880" y="380880"/>
            <a:ext cx="83059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D3FC-37FE-4B4D-AD8D-050990C432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6F0-99C4-4DA8-93A0-67C566828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авайте вспомним: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вайте вспомним, когда состоялась конференция в Версал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решения были приняты на этой конференц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отношение имеет Версальская система к Вашингтон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A8B1-0CCA-4A69-A942-617F6E3070A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C29-43C6-4DAD-B398-94BE6656C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019240" y="2819520"/>
            <a:ext cx="51055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знаки неустойчив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сальско-Вашингтон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 rot="1543800">
            <a:off x="7010280" y="1904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329000" y="1447920"/>
            <a:ext cx="486000" cy="1357200"/>
          </a:xfrm>
          <a:prstGeom prst="upArrow">
            <a:avLst>
              <a:gd name="adj1" fmla="val 50000"/>
              <a:gd name="adj2" fmla="val 69815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 rot="19953600">
            <a:off x="1599840" y="1904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7471200">
            <a:off x="7179480" y="4555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 rot="10800000">
            <a:off x="4329000" y="4800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 rot="13672800">
            <a:off x="1311840" y="4478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-228600" y="6094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ёртывание торг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2895480" y="1522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ведены б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иде тамо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ш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6095880" y="533520"/>
            <a:ext cx="304812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ова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оч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-228600" y="5410080"/>
            <a:ext cx="30481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ША верну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поли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ляцион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3048120" y="57150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пон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ан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тер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2"/>
          <p:cNvSpPr/>
          <p:nvPr/>
        </p:nvSpPr>
        <p:spPr>
          <a:xfrm>
            <a:off x="6324480" y="54100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и и Ита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B549-CE5A-4063-BE44-3820A2DD78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12F-DE00-48F8-BAC6-E549D8560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что это за организ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Сколько государств входило в Лигу Нац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С какой целью она была созда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480" y="22860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5C32-2EED-42AE-BC0C-471B82AA6E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4C9A-ACB8-4C39-ADF7-3ECAA70D7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952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1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льзуясь гражданской войной, японцы захватили Маньчжурию, чем нарушили договор 9 Вашингтонской конферен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7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жение в Центральный Кита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по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272-B92E-4D35-B21E-18F47942A4F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55BC-59B2-445D-8C92-CD66ADDE6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90760" y="1523520"/>
            <a:ext cx="5105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3-1935г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-полный пересмотр Версальско-Вашингтонской системы, отмена военных ограничений. Восстановление «равенства» и ликви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справедливости». </a:t>
            </a:r>
            <a:br>
              <a:rPr sz="2400"/>
            </a:b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6г.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мания поддержала фашистский мятеж в Ис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938г.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манские войска вошли в Авст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рм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F38A-FCE4-4F9A-8774-C70FE3A75D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C80F-6E66-431B-9290-B6C8CF7DD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952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5-1936г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агрессия Италии против Эфиоп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36г.- оформлен союз «Берлин-Ри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936г.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коминтеровский пакт Германии и Япон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37г.- оформилась ось «Берлин-Рим-Токи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14480" y="152280"/>
            <a:ext cx="8915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состоятельность Лиги Н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52280" y="2133720"/>
            <a:ext cx="4191120" cy="20574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ал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938-C188-4963-8430-9E076854CC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.В. МОУ Будин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7903-3524-4DD2-BCE4-9AC1D7420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15а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державы агрессора, заключили военно-политические договор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ктябрь 1936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тало-германское соглашение (Берлинский протокол) ось «Берлин-Р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оябрь 1936 г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германо-японское соглашение о борьбе против комму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8686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о-политический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Берлин-Рим- Токи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300px-1938_Naka_yoshi_sangoku"/>
          <p:cNvPicPr/>
          <p:nvPr/>
        </p:nvPicPr>
        <p:blipFill>
          <a:blip r:embed="rId2"/>
          <a:stretch/>
        </p:blipFill>
        <p:spPr>
          <a:xfrm>
            <a:off x="157320" y="1219320"/>
            <a:ext cx="345096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0" y="6172200"/>
            <a:ext cx="3962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понский плак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вященный под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йственного п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 Серкин</dc:creator>
  <dc:description/>
  <dc:language>en-US</dc:language>
  <cp:lastModifiedBy>Дмитрий Серкин</cp:lastModifiedBy>
  <dcterms:modified xsi:type="dcterms:W3CDTF">2015-10-11T13:3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