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D75DE-AE8A-437F-ACC4-73449E3CED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3F6DC-C846-4757-8DE6-24050D0E58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DD8E-8707-4052-95B5-04190670D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2CAD-0644-4255-AF91-5A03E5CA8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9A9A-CA14-470C-B908-1BD73F6D7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F2FE-FC1D-4593-AB81-96532102B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C166-DAC5-4736-AB4F-51CE0458D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6512-7871-42CC-A59F-8E1FBAC34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54E2-91D3-4308-BFCA-182C89D8A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631D-70A9-43B3-BA3F-F5588D6D0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ACDE-2BB3-47C5-A68D-C1761591B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11A1-CB88-4CE7-A0CA-6BC034F0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C1CC-1B6F-4607-AABB-D2CC7FBBA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896C-3EF4-44BE-BE38-7FCB0AC4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298A4-ACCD-40DF-9CF1-6B912F867A6F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оненкова А.В. МОУ Будинская ОО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EF69E-0781-4D45-ABD3-4AC9B9F2CE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610F9-EBD7-4BDA-847F-6CB2B8D10045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оненкова А.В. МОУ Будинская ОО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2D941-A27C-47A7-B1D6-23915BD63E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15а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comic"/>
              </a:rPr>
              <a:t>Тема урока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0" y="2742840"/>
            <a:ext cx="91440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mic"/>
              </a:rPr>
              <a:t>«Международные отношения в 1930-е годы 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1523880" y="0"/>
            <a:ext cx="609624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овейшая история. 9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C3795-1D48-4D87-9B74-F12CE7C38235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оненкова А.В. МОУ Будинская ОО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D7BE0-F15E-4292-AE9D-856D689A1A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15а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114800" y="1599840"/>
            <a:ext cx="5029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9-30 сентября 1938г. – Мюнхенский сгов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астники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Чемберлен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(Великобритания),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Даладь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Франция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Гитлер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(Германия),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Муссолини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Италия).</a:t>
            </a:r>
            <a:br>
              <a:rPr sz="2800"/>
            </a:br>
            <a:br>
              <a:rPr sz="2800"/>
            </a:br>
            <a:br>
              <a:rPr sz="1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3" descr="7b10c369-c0ee-49fb-8f1d-fe665e5d0ed4"/>
          <p:cNvPicPr/>
          <p:nvPr/>
        </p:nvPicPr>
        <p:blipFill>
          <a:blip r:embed="rId2"/>
          <a:stretch/>
        </p:blipFill>
        <p:spPr>
          <a:xfrm>
            <a:off x="0" y="1752480"/>
            <a:ext cx="4343400" cy="238932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5"/>
          <p:cNvSpPr/>
          <p:nvPr/>
        </p:nvSpPr>
        <p:spPr>
          <a:xfrm>
            <a:off x="457200" y="4876920"/>
            <a:ext cx="327672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юнхенск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гла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456840" y="0"/>
            <a:ext cx="8534520" cy="1417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енно-политический блок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 Берлин-Рим- Токио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E991C-D823-4A2E-B256-5E23CC0BCA67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оненкова А.В. МОУ Будинская ОО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5F4F3-8AA1-4284-9E2A-056A3F7F54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15а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114800" y="1523880"/>
            <a:ext cx="50292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читайте материал на стр.136 - 13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жно ли было предотвратить вторую мировую войн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чему Советский союз пошёл на подписание договор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228600"/>
            <a:ext cx="89154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вал иде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ллективной безопас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4" descr="0_5a94c_4006b984_XL"/>
          <p:cNvPicPr/>
          <p:nvPr/>
        </p:nvPicPr>
        <p:blipFill>
          <a:blip r:embed="rId2"/>
          <a:stretch/>
        </p:blipFill>
        <p:spPr>
          <a:xfrm>
            <a:off x="0" y="1523880"/>
            <a:ext cx="379260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066F9-998C-4DCB-ADD9-C4A1DF1EBFE1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оненкова А.В. МОУ Будинская ОО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809F9-52DB-4EA6-B8FF-36B28BB91C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15а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просы на стр. 13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152280" y="228600"/>
            <a:ext cx="8763120" cy="1219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ведём итог уро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45F8F-B2EB-411F-9956-F8AE058FDB09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оненкова А.В. МОУ Будинская ОО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44E0D-7551-403B-A8D8-F7DF38234A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15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рах Версальско-Вашингтонской сист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 Несостоятельность Лиги На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 Военно- политический блок « Берлин – Рим – Токи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. Чехословацкий кризис. Мюнхенский сговор 1938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. Провал идеи коллективной безопас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380880" y="380880"/>
            <a:ext cx="8305920" cy="1067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ла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B8C43-289D-4B88-85C0-8FD55E392564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оненкова А.В. МОУ Будинская ОО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692EA-82C7-4106-9B60-9E270277C0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15а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Arial"/>
              </a:rPr>
              <a:t>Давайте вспомним: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9372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авайте вспомним, когда состоялась конференция в Версале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ие решения были приняты на этой конференции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ое отношение имеет Версальская система к Вашингтону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1BA12-D85C-45CA-95AE-176FE4893A34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оненкова А.В. МОУ Будинская ОО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676FE-2EAA-49F3-AB3B-35136E08CA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15а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5"/>
          <p:cNvSpPr/>
          <p:nvPr/>
        </p:nvSpPr>
        <p:spPr>
          <a:xfrm>
            <a:off x="2019240" y="2819520"/>
            <a:ext cx="5105520" cy="19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знаки неустойчив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рсальско-Вашингтонск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стем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1"/>
          <p:cNvSpPr/>
          <p:nvPr/>
        </p:nvSpPr>
        <p:spPr>
          <a:xfrm rot="1543800">
            <a:off x="7010280" y="190476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ff99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2"/>
          <p:cNvSpPr/>
          <p:nvPr/>
        </p:nvSpPr>
        <p:spPr>
          <a:xfrm>
            <a:off x="4329000" y="1447920"/>
            <a:ext cx="486000" cy="1357200"/>
          </a:xfrm>
          <a:prstGeom prst="upArrow">
            <a:avLst>
              <a:gd name="adj1" fmla="val 50000"/>
              <a:gd name="adj2" fmla="val 69815"/>
            </a:avLst>
          </a:prstGeom>
          <a:solidFill>
            <a:srgbClr val="ff99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3"/>
          <p:cNvSpPr/>
          <p:nvPr/>
        </p:nvSpPr>
        <p:spPr>
          <a:xfrm rot="19953600">
            <a:off x="1599840" y="190476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ff99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4"/>
          <p:cNvSpPr/>
          <p:nvPr/>
        </p:nvSpPr>
        <p:spPr>
          <a:xfrm rot="7471200">
            <a:off x="7179480" y="455508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ff99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5"/>
          <p:cNvSpPr/>
          <p:nvPr/>
        </p:nvSpPr>
        <p:spPr>
          <a:xfrm rot="10800000">
            <a:off x="4329000" y="480060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ff99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6"/>
          <p:cNvSpPr/>
          <p:nvPr/>
        </p:nvSpPr>
        <p:spPr>
          <a:xfrm rot="13672800">
            <a:off x="1311840" y="447876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ff99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7"/>
          <p:cNvSpPr/>
          <p:nvPr/>
        </p:nvSpPr>
        <p:spPr>
          <a:xfrm>
            <a:off x="-228600" y="609480"/>
            <a:ext cx="3048120" cy="1295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вёртывание торгово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кономических связ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8"/>
          <p:cNvSpPr/>
          <p:nvPr/>
        </p:nvSpPr>
        <p:spPr>
          <a:xfrm>
            <a:off x="2895480" y="152280"/>
            <a:ext cx="3048120" cy="1295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зведены барь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виде таможен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шли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9"/>
          <p:cNvSpPr/>
          <p:nvPr/>
        </p:nvSpPr>
        <p:spPr>
          <a:xfrm>
            <a:off x="6095880" y="533520"/>
            <a:ext cx="3048120" cy="1295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ждая стр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йствовала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диночк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20"/>
          <p:cNvSpPr/>
          <p:nvPr/>
        </p:nvSpPr>
        <p:spPr>
          <a:xfrm>
            <a:off x="-228600" y="5410080"/>
            <a:ext cx="3048120" cy="1295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ША вернулас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 политик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оляционизм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21"/>
          <p:cNvSpPr/>
          <p:nvPr/>
        </p:nvSpPr>
        <p:spPr>
          <a:xfrm>
            <a:off x="3048120" y="5715000"/>
            <a:ext cx="3047760" cy="1295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понск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кспанс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матери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22"/>
          <p:cNvSpPr/>
          <p:nvPr/>
        </p:nvSpPr>
        <p:spPr>
          <a:xfrm>
            <a:off x="6324480" y="5410080"/>
            <a:ext cx="2971800" cy="12193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грессивн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и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ермании и Итал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0B4AB-77C5-44F6-8583-5C0196F0D71B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оненкова А.В. МОУ Будинская ОО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6F9D6-7E59-4B2C-9050-1275E4C0C8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15а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. что это за организаци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. Сколько государств входило в Лигу Наций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. С какой целью она была создана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114480" y="228600"/>
            <a:ext cx="89154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есостоятельность Лиги На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D08A6-89D1-47A5-AF81-59A693A3F555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оненкова А.В. МОУ Будинская ОО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B5A4A-6CC7-4304-93D2-FD37EB95DB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15а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191120" y="1523880"/>
            <a:ext cx="49528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1931г.-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пользуясь гражданской войной, японцы захватили Маньчжурию, чем нарушили договор 9 Вашингтонской конференции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1937г.-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торжение в Центральный Кита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114480" y="152280"/>
            <a:ext cx="89154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есостоятельность Лиги На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2"/>
          <p:cNvSpPr/>
          <p:nvPr/>
        </p:nvSpPr>
        <p:spPr>
          <a:xfrm>
            <a:off x="152280" y="2133720"/>
            <a:ext cx="4191120" cy="2057400"/>
          </a:xfrm>
          <a:prstGeom prst="octagon">
            <a:avLst>
              <a:gd name="adj" fmla="val 29287"/>
            </a:avLst>
          </a:prstGeom>
          <a:solidFill>
            <a:srgbClr val="ffff99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Япон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0F99D-D534-4CB8-A4F4-7F294E98927E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оненкова А.В. МОУ Будинская ОО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129D7-5C0D-4554-B9C0-4D407483AB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15а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190760" y="1523520"/>
            <a:ext cx="5105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1933-1935гг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-полный пересмотр Версальско-Вашингтонской системы, отмена военных ограничений. Восстановление «равенства» и ликвида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несправедливости». </a:t>
            </a:r>
            <a:br>
              <a:rPr sz="2400"/>
            </a:br>
            <a:r>
              <a:rPr b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1936г.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Германия поддержала фашистский мятеж в Исп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1938г.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германские войска вошли в Австр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14480" y="152280"/>
            <a:ext cx="89154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есостоятельность Лиги На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5"/>
          <p:cNvSpPr/>
          <p:nvPr/>
        </p:nvSpPr>
        <p:spPr>
          <a:xfrm>
            <a:off x="152280" y="2133720"/>
            <a:ext cx="4191120" cy="2057400"/>
          </a:xfrm>
          <a:prstGeom prst="octagon">
            <a:avLst>
              <a:gd name="adj" fmla="val 29287"/>
            </a:avLst>
          </a:prstGeom>
          <a:solidFill>
            <a:srgbClr val="ffff99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ерман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3A077-8A31-4DB7-9A83-BD02E81C10BD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оненкова А.В. МОУ Будинская ОО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9418A-A105-4431-BCB2-5B8595047A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15а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191120" y="1523880"/>
            <a:ext cx="49528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1935-1936гг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агрессия Италии против Эфиопии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936г.- оформлен союз «Берлин-Рим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1936г.-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нтикоминтеровский пакт Германии и Японии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937г.- оформилась ось «Берлин-Рим-Токи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114480" y="152280"/>
            <a:ext cx="89154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есостоятельность Лиги На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5"/>
          <p:cNvSpPr/>
          <p:nvPr/>
        </p:nvSpPr>
        <p:spPr>
          <a:xfrm>
            <a:off x="152280" y="2133720"/>
            <a:ext cx="4191120" cy="2057400"/>
          </a:xfrm>
          <a:prstGeom prst="octagon">
            <a:avLst>
              <a:gd name="adj" fmla="val 29287"/>
            </a:avLst>
          </a:prstGeom>
          <a:solidFill>
            <a:srgbClr val="ffff99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тал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A1779-496B-4DC8-89E2-435EEDA66477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оненкова А.В. МОУ Будинская ОО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6CEA2-3B72-4CC1-B83D-50657CB9F2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15а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809520" y="1447920"/>
            <a:ext cx="53341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и державы агрессора, заключили военно-политические договорё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Октябрь 1936 г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итало-германское соглашение (Берлинский протокол) ось «Берлин-Рим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Ноябрь 1936 г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германо-японское соглашение о борьбе против коммунизм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0" y="0"/>
            <a:ext cx="86868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енно-политический блок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 Берлин-Рим- Токио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3" descr="300px-1938_Naka_yoshi_sangoku"/>
          <p:cNvPicPr/>
          <p:nvPr/>
        </p:nvPicPr>
        <p:blipFill>
          <a:blip r:embed="rId2"/>
          <a:stretch/>
        </p:blipFill>
        <p:spPr>
          <a:xfrm>
            <a:off x="157320" y="1219320"/>
            <a:ext cx="3450960" cy="52578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14"/>
          <p:cNvSpPr/>
          <p:nvPr/>
        </p:nvSpPr>
        <p:spPr>
          <a:xfrm>
            <a:off x="0" y="6172200"/>
            <a:ext cx="39625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понский плака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вященный подписа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ойственного пак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митрий Серкин</dc:creator>
  <dc:description/>
  <dc:language>en-US</dc:language>
  <cp:lastModifiedBy>Дмитрий Серкин</cp:lastModifiedBy>
  <dcterms:modified xsi:type="dcterms:W3CDTF">2015-10-11T13:32:20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