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6569-7048-4281-A999-FF94CCBE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E789-3267-470E-A3E7-F5999FF4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A257-1DFF-4EED-9818-906B9578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B9E5-92DD-4A05-A42F-E27A80F6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C8C-0891-4ECB-9D16-A7EBEC72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7522-D1A4-4220-BBED-922197D9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FE1D-F4B2-467F-8050-95ED5053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75FA-60A0-40E9-8261-369C5792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B322-2836-459D-B072-3E2AA8CD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E30E-9330-48FD-A9AB-1415527F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B812-D2B8-4BDC-9F6E-47E04E7B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5BD3-D14D-4C2C-B335-A2855A37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88B4-6168-4C0C-A2A0-FB1DB752DB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714240"/>
            <a:ext cx="818676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i="1" lang="ru-RU" sz="2500" spc="-1" strike="noStrike">
                <a:solidFill>
                  <a:srgbClr val="002060"/>
                </a:solidFill>
                <a:latin typeface="Calibri"/>
              </a:rPr>
              <a:t>«</a:t>
            </a:r>
            <a:r>
              <a:rPr b="1" i="1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познавательного интереса  школьников </a:t>
            </a:r>
            <a:br>
              <a:rPr sz="2900"/>
            </a:br>
            <a:r>
              <a:rPr b="1" i="1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рез систему заданий исследовательского</a:t>
            </a:r>
            <a:br>
              <a:rPr sz="2900"/>
            </a:br>
            <a:r>
              <a:rPr b="1" i="1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арактера на уроках математики и во внеурочной деятельности</a:t>
            </a:r>
            <a:r>
              <a:rPr b="1" lang="ru-RU" sz="2300" spc="-1" strike="noStrike">
                <a:solidFill>
                  <a:srgbClr val="002060"/>
                </a:solidFill>
                <a:latin typeface="Arial"/>
                <a:ea typeface="Arial"/>
              </a:rPr>
              <a:t>»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300"/>
            </a:br>
            <a:br>
              <a:rPr sz="2500"/>
            </a:br>
            <a:br>
              <a:rPr sz="36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7"/>
          <p:cNvSpPr/>
          <p:nvPr/>
        </p:nvSpPr>
        <p:spPr>
          <a:xfrm>
            <a:off x="5072040" y="3429000"/>
            <a:ext cx="3689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Уч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Миронова Мар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Михайл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I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 квалификационная катег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Научный 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Панфилова Людмила Вячеслав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Содержимое 5" descr="IMG_0468"/>
          <p:cNvPicPr/>
          <p:nvPr/>
        </p:nvPicPr>
        <p:blipFill>
          <a:blip r:embed="rId1"/>
          <a:stretch/>
        </p:blipFill>
        <p:spPr>
          <a:xfrm>
            <a:off x="357120" y="3143160"/>
            <a:ext cx="464364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визна опыта.</a:t>
            </a:r>
            <a:br>
              <a:rPr sz="4000"/>
            </a:br>
            <a:r>
              <a:rPr b="0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За основу мной были взяты идеи, разработанные авторами  и последователями  системы Эльконина – Давыдова. Особенность же состоит в том, что, работая в системе развивающего образования, я продумываю и адаптирую  различные варианты  проблемных заданий  как способа развития познавательной активности уч-ся, помогаю им выстраивать собственные  образовательные траектории, используя всё новое в педагогике в этом направлении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13840"/>
            <a:ext cx="8258040" cy="63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я опыта</a:t>
            </a:r>
            <a:br>
              <a:rPr sz="4000"/>
            </a:b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. Подбор заданий, содержащих проблему; организация самостоятельной поисковой деятельности учащихся по её решению. 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. Решение задачи различными способами. 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. Нестандартная задача.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4. Компьютерные технологии (работе с программами Microsoft Word, Microsoft PowerPoint, Microsoft Publisher). 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5. использование геометрического материала 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6. игровые моменты: задачи шутки, математические ребусы, кроссворды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7. дидактические игры. 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еклассная работ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-357120" y="221472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Школь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у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б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«Эруд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0" descr="K:\МАМА\Фото\фото семинар\BKDC1984.JPG"/>
          <p:cNvPicPr/>
          <p:nvPr/>
        </p:nvPicPr>
        <p:blipFill>
          <a:blip r:embed="rId1"/>
          <a:stretch/>
        </p:blipFill>
        <p:spPr>
          <a:xfrm>
            <a:off x="3857760" y="2071800"/>
            <a:ext cx="50004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деля матема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2" descr="D:\МАМА\Фото\фото 15 кабинет\CIMG0009.JPG"/>
          <p:cNvPicPr/>
          <p:nvPr/>
        </p:nvPicPr>
        <p:blipFill>
          <a:blip r:embed="rId1"/>
          <a:stretch/>
        </p:blipFill>
        <p:spPr>
          <a:xfrm>
            <a:off x="3132000" y="1341360"/>
            <a:ext cx="3095640" cy="2448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" descr="D:\МАМА\Фото\школа\BKDC1044.JPG"/>
          <p:cNvPicPr/>
          <p:nvPr/>
        </p:nvPicPr>
        <p:blipFill>
          <a:blip r:embed="rId2"/>
          <a:stretch/>
        </p:blipFill>
        <p:spPr>
          <a:xfrm>
            <a:off x="714240" y="3929040"/>
            <a:ext cx="3606840" cy="23446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3" descr="D:\МАМА\Фото\фото 15 кабинет\CIMG0010.JPG"/>
          <p:cNvPicPr/>
          <p:nvPr/>
        </p:nvPicPr>
        <p:blipFill>
          <a:blip r:embed="rId3"/>
          <a:stretch/>
        </p:blipFill>
        <p:spPr>
          <a:xfrm>
            <a:off x="5364000" y="3860640"/>
            <a:ext cx="33591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71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естиваль исследовательских и творческих работ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щихся «Портфолио»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 0" descr=""/>
          <p:cNvPicPr/>
          <p:nvPr/>
        </p:nvPicPr>
        <p:blipFill>
          <a:blip r:embed="rId1"/>
          <a:stretch/>
        </p:blipFill>
        <p:spPr>
          <a:xfrm>
            <a:off x="4857840" y="2786040"/>
            <a:ext cx="4033800" cy="273672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4"/>
          <p:cNvSpPr/>
          <p:nvPr/>
        </p:nvSpPr>
        <p:spPr>
          <a:xfrm>
            <a:off x="214200" y="2286000"/>
            <a:ext cx="45720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2008-2009 уч. г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. -  Сухаревская Екатерина 10 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«Этот удивительный мир симметрии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2009-2010 уч. г.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-  группа учащихся 6 «А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«Жизнь и деятельность древнегреческого философа и математика Пифагора»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ждународный конкурс «Кенгур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3" descr="D:\МАМА\Фото\6а кенгуру\BKDC1897.JPG"/>
          <p:cNvPicPr/>
          <p:nvPr/>
        </p:nvPicPr>
        <p:blipFill>
          <a:blip r:embed="rId1"/>
          <a:stretch/>
        </p:blipFill>
        <p:spPr>
          <a:xfrm>
            <a:off x="1428840" y="1928880"/>
            <a:ext cx="65516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зентации учащих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2" descr="D:\МАМА\Фото\фото 15 кабинет\CIMG0017.JPG"/>
          <p:cNvPicPr/>
          <p:nvPr/>
        </p:nvPicPr>
        <p:blipFill>
          <a:blip r:embed="rId1"/>
          <a:stretch/>
        </p:blipFill>
        <p:spPr>
          <a:xfrm>
            <a:off x="500040" y="1571760"/>
            <a:ext cx="2214720" cy="29527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3" descr="D:\МАМА\Фото\фото 15 кабинет\CIMG0015.JPG"/>
          <p:cNvPicPr/>
          <p:nvPr/>
        </p:nvPicPr>
        <p:blipFill>
          <a:blip r:embed="rId2"/>
          <a:stretch/>
        </p:blipFill>
        <p:spPr>
          <a:xfrm>
            <a:off x="3071880" y="1285920"/>
            <a:ext cx="2571840" cy="25002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8" descr="G:\фото семинар\фото с уроков\DSC00130.JPG"/>
          <p:cNvPicPr/>
          <p:nvPr/>
        </p:nvPicPr>
        <p:blipFill>
          <a:blip r:embed="rId3"/>
          <a:stretch/>
        </p:blipFill>
        <p:spPr>
          <a:xfrm>
            <a:off x="2857680" y="4000680"/>
            <a:ext cx="3369960" cy="25304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D:\МАМА\Фото\фото 15 кабинет\CIMG0011.JPG"/>
          <p:cNvPicPr/>
          <p:nvPr/>
        </p:nvPicPr>
        <p:blipFill>
          <a:blip r:embed="rId4"/>
          <a:stretch/>
        </p:blipFill>
        <p:spPr>
          <a:xfrm>
            <a:off x="6215040" y="1571760"/>
            <a:ext cx="264312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зультативность опы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646200" y="1662480"/>
            <a:ext cx="7342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е существует сколько-ниб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остоверных тестов на одаренно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роме тех, которые проявля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 результате активного учас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хотя бы в самой малень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исковой исследовательской рабо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.Н. Колмог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Мои учащиеся – активные участники </a:t>
            </a:r>
            <a:r>
              <a:rPr b="1" lang="ru-RU" sz="2200" spc="-1" strike="noStrike" u="sng">
                <a:solidFill>
                  <a:srgbClr val="1f497d"/>
                </a:solidFill>
                <a:uFillTx/>
                <a:latin typeface="Arial"/>
                <a:ea typeface="Arial"/>
              </a:rPr>
              <a:t>Международной игры «Кенгуру»</a:t>
            </a: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, где показывают хорошие результаты:</a:t>
            </a:r>
            <a:br>
              <a:rPr sz="2200"/>
            </a:b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2009 г. – из 22 участников одно призовое место в районе;</a:t>
            </a:r>
            <a:br>
              <a:rPr sz="2200"/>
            </a:b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2010 г. – из 23 участников два призовых места в районе, 13 и 33 место в регионе.</a:t>
            </a:r>
            <a:br>
              <a:rPr sz="2200"/>
            </a:b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Участие в </a:t>
            </a:r>
            <a:r>
              <a:rPr b="1" lang="ru-RU" sz="2200" spc="-1" strike="noStrike" u="sng">
                <a:solidFill>
                  <a:srgbClr val="1f497d"/>
                </a:solidFill>
                <a:uFillTx/>
                <a:latin typeface="Arial"/>
                <a:ea typeface="Arial"/>
              </a:rPr>
              <a:t>районных олимпиадах</a:t>
            </a: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:</a:t>
            </a:r>
            <a:br>
              <a:rPr sz="2200"/>
            </a:b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2006-2007 уч. год – победитель олимпиады по математике;</a:t>
            </a:r>
            <a:br>
              <a:rPr sz="2200"/>
            </a:b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2007-2008 уч. год – призер олимпиады по математике.</a:t>
            </a:r>
            <a:br>
              <a:rPr sz="2200"/>
            </a:br>
            <a:r>
              <a:rPr b="1" lang="ru-RU" sz="2200" spc="-1" strike="noStrike" u="sng">
                <a:solidFill>
                  <a:srgbClr val="1f497d"/>
                </a:solidFill>
                <a:uFillTx/>
                <a:latin typeface="Arial"/>
                <a:ea typeface="Arial"/>
              </a:rPr>
              <a:t>Международный конкурс «Перспектива 2010» </a:t>
            </a: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- два победителя в регионе в номинации «Технические науки».</a:t>
            </a:r>
            <a:br>
              <a:rPr sz="2200"/>
            </a:br>
            <a:r>
              <a:rPr b="1" lang="ru-RU" sz="2200" spc="-1" strike="noStrike" u="sng">
                <a:solidFill>
                  <a:srgbClr val="1f497d"/>
                </a:solidFill>
                <a:uFillTx/>
                <a:latin typeface="Arial"/>
                <a:ea typeface="Arial"/>
              </a:rPr>
              <a:t>Всероссийский конкурс исследовательских и творческих работ  учащихся «Портфолио</a:t>
            </a: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» в области математики:</a:t>
            </a:r>
            <a:br>
              <a:rPr sz="2200"/>
            </a:b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2009 г. – 1 лауреат;</a:t>
            </a:r>
            <a:br>
              <a:rPr sz="2200"/>
            </a:b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2010 г. – 5 лауреат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Диаграмма 1" descr=""/>
          <p:cNvPicPr/>
          <p:nvPr/>
        </p:nvPicPr>
        <p:blipFill>
          <a:blip r:embed="rId1"/>
          <a:stretch/>
        </p:blipFill>
        <p:spPr>
          <a:xfrm>
            <a:off x="357120" y="571680"/>
            <a:ext cx="4071960" cy="2519280"/>
          </a:xfrm>
          <a:prstGeom prst="rect">
            <a:avLst/>
          </a:prstGeom>
          <a:ln w="0">
            <a:noFill/>
          </a:ln>
        </p:spPr>
      </p:pic>
      <p:pic>
        <p:nvPicPr>
          <p:cNvPr id="125" name="Диаграмма 2" descr=""/>
          <p:cNvPicPr/>
          <p:nvPr/>
        </p:nvPicPr>
        <p:blipFill>
          <a:blip r:embed="rId2"/>
          <a:stretch/>
        </p:blipFill>
        <p:spPr>
          <a:xfrm>
            <a:off x="4786200" y="571680"/>
            <a:ext cx="3907080" cy="2500200"/>
          </a:xfrm>
          <a:prstGeom prst="rect">
            <a:avLst/>
          </a:prstGeom>
          <a:ln w="0">
            <a:noFill/>
          </a:ln>
        </p:spPr>
      </p:pic>
      <p:pic>
        <p:nvPicPr>
          <p:cNvPr id="126" name="Диаграмма 13" descr=""/>
          <p:cNvPicPr/>
          <p:nvPr/>
        </p:nvPicPr>
        <p:blipFill>
          <a:blip r:embed="rId3"/>
          <a:stretch/>
        </p:blipFill>
        <p:spPr>
          <a:xfrm>
            <a:off x="2500200" y="3429000"/>
            <a:ext cx="4092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-18720"/>
            <a:ext cx="9144000" cy="68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здание условий для развития познавательного интереса школьников на уроках математики и во внеурочной деятельности через систему заданий исследовательского харак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дачи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зучение психолого-педагогической литературы по данной те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зучение опыта педагогов-новаторов, работающих по данному вопрос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азработка и включение в тематическое планирование по курсу математики исследовательских и творческих заданий для формирования и развития индивидуальных способностей каждого ученика на применение  уже имеющихся и новых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иагностика реализуем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нализ результативности исследовательской деятельности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ресная направл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1"/>
          <p:cNvSpPr/>
          <p:nvPr/>
        </p:nvSpPr>
        <p:spPr>
          <a:xfrm>
            <a:off x="244440" y="2365200"/>
            <a:ext cx="837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анный опыт может быть использован уч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атематики, работающими над развит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знавательного интереса у учащих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через исследовательскую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72120" y="274320"/>
            <a:ext cx="264312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ло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285840" y="2880"/>
            <a:ext cx="257184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6"/>
          <p:cNvSpPr/>
          <p:nvPr/>
        </p:nvSpPr>
        <p:spPr>
          <a:xfrm>
            <a:off x="285840" y="3000240"/>
            <a:ext cx="2286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иаграмма: «Приоритетность предмет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8"/>
          <p:cNvSpPr/>
          <p:nvPr/>
        </p:nvSpPr>
        <p:spPr>
          <a:xfrm>
            <a:off x="3500280" y="5000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4"/>
          <p:cNvSpPr/>
          <p:nvPr/>
        </p:nvSpPr>
        <p:spPr>
          <a:xfrm>
            <a:off x="6215040" y="114300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5929200" y="3714840"/>
            <a:ext cx="30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125640" y="723960"/>
            <a:ext cx="89751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естандартны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осстановите пример: 6*5*-*8*4=285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Calibri"/>
              </a:rPr>
              <a:t>Летели утки: одна впереди и две позади, одна позади и две вперед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Calibri"/>
              </a:rPr>
              <a:t>одна между двумя и три в ряд. Сколько всего летело ут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Вычеркните в числе 4000538 пять цифр так, чтобы оставшееся число стало наибольш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алыш может съесть банку варенья за 6 минут, а Карлсон – в два раза быстр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а какое время они съедят это варенье вместе?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13" descr="img2"/>
          <p:cNvPicPr/>
          <p:nvPr/>
        </p:nvPicPr>
        <p:blipFill>
          <a:blip r:embed="rId1"/>
          <a:stretch/>
        </p:blipFill>
        <p:spPr>
          <a:xfrm>
            <a:off x="4857840" y="3071880"/>
            <a:ext cx="3143160" cy="13827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4" descr="img1"/>
          <p:cNvPicPr/>
          <p:nvPr/>
        </p:nvPicPr>
        <p:blipFill>
          <a:blip r:embed="rId2"/>
          <a:stretch/>
        </p:blipFill>
        <p:spPr>
          <a:xfrm>
            <a:off x="4929120" y="5000760"/>
            <a:ext cx="30718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геометрического материа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2" descr=""/>
          <p:cNvPicPr/>
          <p:nvPr/>
        </p:nvPicPr>
        <p:blipFill>
          <a:blip r:embed="rId1"/>
          <a:stretch/>
        </p:blipFill>
        <p:spPr>
          <a:xfrm>
            <a:off x="6215040" y="1500120"/>
            <a:ext cx="1711440" cy="765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1000080" y="1415880"/>
            <a:ext cx="444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.Сосчитать количество треуг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070640" y="2502360"/>
            <a:ext cx="545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.Разрежьте фигуру, изображённую на рисун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 2 равные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6" descr="http://gymn1549.ru/kr/img/z032.gif"/>
          <p:cNvPicPr/>
          <p:nvPr/>
        </p:nvPicPr>
        <p:blipFill>
          <a:blip r:embed="rId2"/>
          <a:stretch/>
        </p:blipFill>
        <p:spPr>
          <a:xfrm>
            <a:off x="6929280" y="2714760"/>
            <a:ext cx="1046160" cy="82872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7"/>
          <p:cNvSpPr/>
          <p:nvPr/>
        </p:nvSpPr>
        <p:spPr>
          <a:xfrm>
            <a:off x="1145880" y="3643200"/>
            <a:ext cx="134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.Тангр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9" descr=""/>
          <p:cNvPicPr/>
          <p:nvPr/>
        </p:nvPicPr>
        <p:blipFill>
          <a:blip r:embed="rId3"/>
          <a:stretch/>
        </p:blipFill>
        <p:spPr>
          <a:xfrm>
            <a:off x="3571920" y="3571920"/>
            <a:ext cx="22143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ловоломка-шифровка.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357120" y="2143080"/>
            <a:ext cx="45720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бойди кружочки в определённом порядке и только по одному разу так, чтобы удалось прочитать старинную русскую послов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4" descr="http://lh4.ggpht.com/_npCHGR3NokI/Sm85NEr4G3I/AAAAAAAABv8/l_DyXYtUb0E/gol-02.jpg"/>
          <p:cNvPicPr/>
          <p:nvPr/>
        </p:nvPicPr>
        <p:blipFill>
          <a:blip r:embed="rId1"/>
          <a:stretch/>
        </p:blipFill>
        <p:spPr>
          <a:xfrm>
            <a:off x="5429160" y="1857240"/>
            <a:ext cx="30258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ебус</a:t>
            </a:r>
            <a:r>
              <a:rPr b="1" i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</a:t>
            </a: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разгадайте четыре имен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Рисунок 4" descr="http://lh4.ggpht.com/_npCHGR3NokI/Sm85NB2Ej3I/AAAAAAAABwA/TbyDNs32PvE/gol-03.jpg"/>
          <p:cNvPicPr/>
          <p:nvPr/>
        </p:nvPicPr>
        <p:blipFill>
          <a:blip r:embed="rId1"/>
          <a:stretch/>
        </p:blipFill>
        <p:spPr>
          <a:xfrm>
            <a:off x="1428840" y="1571760"/>
            <a:ext cx="6337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ешить анаграмму и исключить лишнее слово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928800" y="1571760"/>
            <a:ext cx="742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Чадаза; менпернаея; варунеине; циякун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муяоникголь; грук; дракват; палераллепип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шниене; тиверныекаль; жнсмеые; ружок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оеборд, закопатель, лоеце, пень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АДАНИЯ ИССЛЕДОВАТЕЛЬСКОГО ХАРАКТЕРА  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 ШКОЛЬНОМ КУРСЕ АЛГЕБРЫ 7 КЛАССА</a:t>
            </a:r>
            <a:br>
              <a:rPr sz="2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785880" y="1357200"/>
          <a:ext cx="7572240" cy="3840120"/>
        </p:xfrm>
        <a:graphic>
          <a:graphicData uri="http://schemas.openxmlformats.org/drawingml/2006/table">
            <a:tbl>
              <a:tblPr/>
              <a:tblGrid>
                <a:gridCol w="2058840"/>
                <a:gridCol w="5513400"/>
              </a:tblGrid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Исследовательск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Исследование площади прямоугольника данного перимет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ериметр прямоугольника , а его основание х см. Задайте формулой зависимость площади  от осн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ри каком значении х у вас получится прямоугольник наибольшей площади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Выберите сами два допустимых значения х и вычислите соответствующее значение площад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Удалось ли вам получить значение площади, больше, чем найденное ранее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Какую гипотезу можно высказать на основании проведенного ранее исследования о форме прямоугольника наибольшей площади, имеющей данный периметр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214200" y="576720"/>
            <a:ext cx="892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214200" y="-351360"/>
            <a:ext cx="8715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-190800"/>
            <a:ext cx="878688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ловия возникновения и стано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ывать, искать, исследовать -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и  сл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новятся ключевыми в организации учеб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ятельности учащихся на современном уро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во внеуроч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следовательская  деятельность  предполагает  совместный процесс  учителя и уче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449000" y="571680"/>
            <a:ext cx="526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уальность опы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857160" y="1582560"/>
            <a:ext cx="77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смотря на то, что предмет «математика» является одним из ведущих предметов естественнонаучного цикла и выходит на Единый Государственный Экзамен, далеко не всегда учащиеся осознают значимость данного предмета. Таким образом, сложилось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тиворечие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между необходимостью глубокого изучения, связанного с познавательным интересом самих учащихся и несформированностью данного интереса у н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-21420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дущая педагогическая идея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285840" y="107496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57120" y="226800"/>
            <a:ext cx="842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Times New Roman"/>
                <a:ea typeface="Calibri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Times New Roman"/>
                <a:ea typeface="Calibri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500040" y="733320"/>
            <a:ext cx="8072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целенность современного образования на развитие личности выдвигает на первые позиции </a:t>
            </a:r>
            <a:r>
              <a:rPr b="1" i="1" lang="ru-RU" sz="28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проблему</a:t>
            </a:r>
            <a:r>
              <a:rPr b="1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развития </a:t>
            </a:r>
            <a:r>
              <a:rPr b="1" i="1" lang="ru-RU" sz="28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познавательного интереса </a:t>
            </a:r>
            <a:r>
              <a:rPr b="1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еализация данной идеи </a:t>
            </a:r>
            <a:r>
              <a:rPr b="1" i="1" lang="ru-RU" sz="28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способствует</a:t>
            </a:r>
            <a:r>
              <a:rPr b="1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аскрытию перед учащимися актуальности формирования предметных зн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зданию представлений о процессе познания математики как ц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боснованию необходимости развития умений и навыков исследовательской деятельности как основы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57232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оретическая база опыта</a:t>
            </a:r>
            <a:br>
              <a:rPr sz="3800"/>
            </a:br>
            <a:br>
              <a:rPr sz="3600"/>
            </a:br>
            <a:r>
              <a:rPr b="1" i="1" lang="ru-RU" sz="24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Познавательный интерес </a:t>
            </a: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это избирательная направленность     личности на предметы и явления окружающей действительности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Интерес имеет множество трактовок в своих психологических определениях С.Л.Рубинштейна, А.А.Гордона, В.Г. Иванова, Н.Г.Морозовой, А.Г.Ковалева, Н.Ф.Добрынина, Т.Рибо.</a:t>
            </a:r>
            <a:br>
              <a:rPr sz="2500"/>
            </a:br>
            <a:br>
              <a:rPr sz="2900"/>
            </a:br>
            <a:br>
              <a:rPr sz="2900"/>
            </a:br>
            <a:r>
              <a:rPr b="1" i="1" lang="ru-RU" sz="29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</a:t>
            </a:r>
            <a:br>
              <a:rPr sz="2200"/>
            </a:b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дии познавательного </a:t>
            </a:r>
            <a:br>
              <a:rPr sz="3800"/>
            </a:br>
            <a:r>
              <a:rPr b="1" i="1" lang="ru-RU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реса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Group 3"/>
          <p:cNvGrpSpPr/>
          <p:nvPr/>
        </p:nvGrpSpPr>
        <p:grpSpPr>
          <a:xfrm>
            <a:off x="2500200" y="2356920"/>
            <a:ext cx="4572000" cy="1714680"/>
            <a:chOff x="2500200" y="2356920"/>
            <a:chExt cx="4572000" cy="1714680"/>
          </a:xfrm>
        </p:grpSpPr>
        <p:sp>
          <p:nvSpPr>
            <p:cNvPr id="57" name="AutoShape 4"/>
            <p:cNvSpPr/>
            <p:nvPr/>
          </p:nvSpPr>
          <p:spPr>
            <a:xfrm>
              <a:off x="2500200" y="2463480"/>
              <a:ext cx="4572000" cy="1608120"/>
            </a:xfrm>
            <a:custGeom>
              <a:avLst/>
              <a:gdLst>
                <a:gd name="textAreaLeft" fmla="*/ 669240 w 4572000"/>
                <a:gd name="textAreaRight" fmla="*/ 3902760 w 4572000"/>
                <a:gd name="textAreaTop" fmla="*/ 235080 h 1608120"/>
                <a:gd name="textAreaBottom" fmla="*/ 1373040 h 160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5"/>
            <p:cNvSpPr/>
            <p:nvPr/>
          </p:nvSpPr>
          <p:spPr>
            <a:xfrm>
              <a:off x="2500200" y="2361600"/>
              <a:ext cx="4572000" cy="1610280"/>
            </a:xfrm>
            <a:custGeom>
              <a:avLst/>
              <a:gdLst>
                <a:gd name="textAreaLeft" fmla="*/ 669240 w 4572000"/>
                <a:gd name="textAreaRight" fmla="*/ 3902760 w 4572000"/>
                <a:gd name="textAreaTop" fmla="*/ 235440 h 1610280"/>
                <a:gd name="textAreaBottom" fmla="*/ 1374840 h 161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c0504d"/>
                </a:gs>
                <a:gs pos="50000">
                  <a:srgbClr val="0000ff"/>
                </a:gs>
                <a:gs pos="100000">
                  <a:srgbClr val="c050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V="1">
              <a:off x="4767480" y="2356920"/>
              <a:ext cx="0" cy="328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7"/>
            <p:cNvSpPr/>
            <p:nvPr/>
          </p:nvSpPr>
          <p:spPr>
            <a:xfrm>
              <a:off x="3463920" y="2817000"/>
              <a:ext cx="0" cy="1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070680" y="2803320"/>
              <a:ext cx="0" cy="11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V="1">
              <a:off x="6070680" y="2652120"/>
              <a:ext cx="463680" cy="151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 flipH="1" flipV="1">
              <a:off x="3004920" y="2658240"/>
              <a:ext cx="456480" cy="15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H="1">
              <a:off x="3539520" y="3650760"/>
              <a:ext cx="351720" cy="191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>
              <a:off x="5830200" y="3612960"/>
              <a:ext cx="441000" cy="165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3"/>
            <p:cNvSpPr/>
            <p:nvPr/>
          </p:nvSpPr>
          <p:spPr>
            <a:xfrm flipH="1">
              <a:off x="3532320" y="3839400"/>
              <a:ext cx="8280" cy="10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4"/>
            <p:cNvSpPr/>
            <p:nvPr/>
          </p:nvSpPr>
          <p:spPr>
            <a:xfrm flipH="1">
              <a:off x="6265080" y="3777120"/>
              <a:ext cx="8280" cy="10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Прямоугольник 16"/>
          <p:cNvSpPr/>
          <p:nvPr/>
        </p:nvSpPr>
        <p:spPr>
          <a:xfrm>
            <a:off x="540360" y="164304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Arial"/>
              </a:rPr>
              <a:t>любопыт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7"/>
          <p:cNvSpPr/>
          <p:nvPr/>
        </p:nvSpPr>
        <p:spPr>
          <a:xfrm>
            <a:off x="5264280" y="1643040"/>
            <a:ext cx="33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Arial"/>
              </a:rPr>
              <a:t>любозн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8"/>
          <p:cNvSpPr/>
          <p:nvPr/>
        </p:nvSpPr>
        <p:spPr>
          <a:xfrm>
            <a:off x="584640" y="4429080"/>
            <a:ext cx="285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Arial"/>
              </a:rPr>
              <a:t>познава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Arial"/>
              </a:rPr>
              <a:t>интер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9"/>
          <p:cNvSpPr/>
          <p:nvPr/>
        </p:nvSpPr>
        <p:spPr>
          <a:xfrm>
            <a:off x="6374160" y="4500720"/>
            <a:ext cx="2747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Arial"/>
              </a:rPr>
              <a:t>теоретиче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Arial"/>
              </a:rPr>
              <a:t>интер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5"/>
          <p:cNvSpPr/>
          <p:nvPr/>
        </p:nvSpPr>
        <p:spPr>
          <a:xfrm flipH="1">
            <a:off x="6572160" y="2143080"/>
            <a:ext cx="3571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2000160" y="2143080"/>
            <a:ext cx="64296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"/>
          <p:cNvSpPr/>
          <p:nvPr/>
        </p:nvSpPr>
        <p:spPr>
          <a:xfrm flipV="1">
            <a:off x="2071800" y="3785760"/>
            <a:ext cx="5000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 flipV="1">
            <a:off x="7000920" y="3786120"/>
            <a:ext cx="64296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Цель исследовательской деятельности</a:t>
            </a:r>
            <a:br>
              <a:rPr sz="3200"/>
            </a:br>
            <a:r>
              <a:rPr b="1" i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– научить исследовать.</a:t>
            </a:r>
            <a:br>
              <a:rPr sz="3200"/>
            </a:br>
            <a:br>
              <a:rPr sz="18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Овал 2"/>
          <p:cNvSpPr/>
          <p:nvPr/>
        </p:nvSpPr>
        <p:spPr>
          <a:xfrm>
            <a:off x="3357720" y="1571760"/>
            <a:ext cx="2571480" cy="1071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этапы учебног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Группа 25"/>
          <p:cNvGrpSpPr/>
          <p:nvPr/>
        </p:nvGrpSpPr>
        <p:grpSpPr>
          <a:xfrm>
            <a:off x="5286240" y="2214720"/>
            <a:ext cx="3571920" cy="3195360"/>
            <a:chOff x="5286240" y="2214720"/>
            <a:chExt cx="3571920" cy="3195360"/>
          </a:xfrm>
        </p:grpSpPr>
        <p:sp>
          <p:nvSpPr>
            <p:cNvPr id="79" name="Овал 26"/>
            <p:cNvSpPr/>
            <p:nvPr/>
          </p:nvSpPr>
          <p:spPr>
            <a:xfrm>
              <a:off x="6429240" y="4071960"/>
              <a:ext cx="2246400" cy="133812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Овал 4"/>
            <p:cNvSpPr/>
            <p:nvPr/>
          </p:nvSpPr>
          <p:spPr>
            <a:xfrm>
              <a:off x="5286240" y="3571920"/>
              <a:ext cx="158904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" rIns="504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Овал 41"/>
            <p:cNvSpPr/>
            <p:nvPr/>
          </p:nvSpPr>
          <p:spPr>
            <a:xfrm>
              <a:off x="6357600" y="2214720"/>
              <a:ext cx="2500560" cy="133812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Прямоугольник 28"/>
          <p:cNvSpPr/>
          <p:nvPr/>
        </p:nvSpPr>
        <p:spPr>
          <a:xfrm>
            <a:off x="2786040" y="5214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Прямая со стрелкой 30"/>
          <p:cNvCxnSpPr/>
          <p:nvPr/>
        </p:nvCxnSpPr>
        <p:spPr>
          <a:xfrm flipH="1">
            <a:off x="2999880" y="3070800"/>
            <a:ext cx="92952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Прямая со стрелкой 32"/>
          <p:cNvCxnSpPr/>
          <p:nvPr/>
        </p:nvCxnSpPr>
        <p:spPr>
          <a:xfrm flipH="1">
            <a:off x="3857040" y="3071880"/>
            <a:ext cx="572040" cy="1929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Прямая со стрелкой 35"/>
          <p:cNvCxnSpPr/>
          <p:nvPr/>
        </p:nvCxnSpPr>
        <p:spPr>
          <a:xfrm>
            <a:off x="5070960" y="3214800"/>
            <a:ext cx="214920" cy="1929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38"/>
          <p:cNvCxnSpPr/>
          <p:nvPr/>
        </p:nvCxnSpPr>
        <p:spPr>
          <a:xfrm>
            <a:off x="5571000" y="3071520"/>
            <a:ext cx="71532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87" name="Группа 25"/>
          <p:cNvGrpSpPr/>
          <p:nvPr/>
        </p:nvGrpSpPr>
        <p:grpSpPr>
          <a:xfrm>
            <a:off x="2000160" y="5214960"/>
            <a:ext cx="5318280" cy="1409760"/>
            <a:chOff x="2000160" y="5214960"/>
            <a:chExt cx="5318280" cy="1409760"/>
          </a:xfrm>
        </p:grpSpPr>
        <p:sp>
          <p:nvSpPr>
            <p:cNvPr id="88" name="Овал 44"/>
            <p:cNvSpPr/>
            <p:nvPr/>
          </p:nvSpPr>
          <p:spPr>
            <a:xfrm>
              <a:off x="2000160" y="5214960"/>
              <a:ext cx="2246400" cy="133848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Овал 46"/>
            <p:cNvSpPr/>
            <p:nvPr/>
          </p:nvSpPr>
          <p:spPr>
            <a:xfrm>
              <a:off x="5072040" y="5286240"/>
              <a:ext cx="2246400" cy="133848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Группа 25"/>
          <p:cNvGrpSpPr/>
          <p:nvPr/>
        </p:nvGrpSpPr>
        <p:grpSpPr>
          <a:xfrm>
            <a:off x="285840" y="2071800"/>
            <a:ext cx="2460600" cy="3124080"/>
            <a:chOff x="285840" y="2071800"/>
            <a:chExt cx="2460600" cy="3124080"/>
          </a:xfrm>
        </p:grpSpPr>
        <p:sp>
          <p:nvSpPr>
            <p:cNvPr id="91" name="Овал 49"/>
            <p:cNvSpPr/>
            <p:nvPr/>
          </p:nvSpPr>
          <p:spPr>
            <a:xfrm>
              <a:off x="285840" y="2071800"/>
              <a:ext cx="2246400" cy="133812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Овал 50"/>
            <p:cNvSpPr/>
            <p:nvPr/>
          </p:nvSpPr>
          <p:spPr>
            <a:xfrm>
              <a:off x="500040" y="3857760"/>
              <a:ext cx="2246400" cy="133812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3" name="Прямая со стрелкой 60"/>
          <p:cNvCxnSpPr/>
          <p:nvPr/>
        </p:nvCxnSpPr>
        <p:spPr>
          <a:xfrm>
            <a:off x="6000840" y="2000160"/>
            <a:ext cx="7149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Прямая со стрелкой 61"/>
          <p:cNvCxnSpPr/>
          <p:nvPr/>
        </p:nvCxnSpPr>
        <p:spPr>
          <a:xfrm flipH="1">
            <a:off x="2499480" y="2070720"/>
            <a:ext cx="715320" cy="28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5" name="Прямоугольник 67"/>
          <p:cNvSpPr/>
          <p:nvPr/>
        </p:nvSpPr>
        <p:spPr>
          <a:xfrm>
            <a:off x="214200" y="221472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тивация исследователь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73"/>
          <p:cNvSpPr/>
          <p:nvPr/>
        </p:nvSpPr>
        <p:spPr>
          <a:xfrm>
            <a:off x="6655680" y="2357280"/>
            <a:ext cx="20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ель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овер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пот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78"/>
          <p:cNvSpPr/>
          <p:nvPr/>
        </p:nvSpPr>
        <p:spPr>
          <a:xfrm>
            <a:off x="578520" y="4214880"/>
            <a:ext cx="22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ул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9"/>
          <p:cNvSpPr/>
          <p:nvPr/>
        </p:nvSpPr>
        <p:spPr>
          <a:xfrm>
            <a:off x="5368320" y="557208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ви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пот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80"/>
          <p:cNvSpPr/>
          <p:nvPr/>
        </p:nvSpPr>
        <p:spPr>
          <a:xfrm>
            <a:off x="7006320" y="435780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пот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83"/>
          <p:cNvSpPr/>
          <p:nvPr/>
        </p:nvSpPr>
        <p:spPr>
          <a:xfrm>
            <a:off x="2153880" y="5214960"/>
            <a:ext cx="207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бо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тиз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анал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23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 качестве основного средства организации исследовательской работы выступает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система исследовательских заданий</a:t>
            </a: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 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сследовательские задания – это предъявляемые учащимся задания, содержащие проблему,  решение ее требует проведения теоретического анали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6:13:07Z</dcterms:created>
  <dc:creator>ольга</dc:creator>
  <dc:description/>
  <dc:language>en-US</dc:language>
  <cp:lastModifiedBy>Olga</cp:lastModifiedBy>
  <dcterms:modified xsi:type="dcterms:W3CDTF">2015-10-11T19:22:54Z</dcterms:modified>
  <cp:revision>127</cp:revision>
  <dc:subject/>
  <dc:title>«Игровая деятельность на уроках иностранного языка в начальной школе как средство реализации личностно-ориентированного подхода в обучении»</dc:title>
</cp:coreProperties>
</file>