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EAB-53A5-480B-9F0B-026E89FA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0E5-96A2-41EF-82D4-70EB3E75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623-50DC-4AD1-A142-934C3FBF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D0A-DE91-4700-8F38-9A138EFE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BFE-48E2-41A4-B415-C371F7DA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9D7-FFDC-4A34-964F-B09115AC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D33-CF58-4B15-ACC7-E70F2B89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62E-3BA0-45D0-A90B-CB9710B9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55A-61E7-4CD3-8649-62BF8907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1C0-A0AE-4DBC-839E-3A08F5E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EE3-7CB8-4403-9E9D-B1A088EF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758-11C2-48CB-AA7F-3B436FA9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8A1C-AFA6-4BC8-97B4-27749C423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логовая система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н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 налогов показывают как реализуется общественное назначение налогов, как инструмента стоимостного распределения и перераспределения дохо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о выделяют следующие функции н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налог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ска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и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мулиру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скаль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слова «фискус» – государственная) проявляется в формировании финансовых ресурсов государ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ранах с рыночной экономикой 80-90% доходов бюджета формируется за счет налог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улирующ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является в использовании налогов в целях организации социальной и хозяйственной жизни в стр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 функция может быть стимулирующей (предоставление льгот) и дестимулирующей (повышение налоговых ставок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ределительна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социальная) 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налоги происходит передача средств в пользу более слабых и незащищенных категорий граждан за счет возложения налогового бремени на более сильные категории насел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роль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ов проявляется в том, что государство через налоги контролирует финансово-хозяйственную деятельность организаций и граждан, источники их доходов и расх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контрольной функции оценивается эффективность налоговой системы, обеспечивается контроль за видами деятельности и финансовыми потоками. Через контрольную функцию налогообложения выявляется необходимость внесения изменений в налоговую систем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ощритель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налоги государство признает особые заслуги отдельных граждан перед отечеством и предоставляет им льготы по налогам. Например, льготы участникам войн, героям стран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нципы налогообло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ведущие положения, определяющие начала чего-либо. Применительно к налогообложению принципами считаются базовые идеи и положения, существующие в налогов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различные системы принц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принци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принци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е принци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принципы касаются налогов как экономического явления. Впервые они были сформулированы в 1776 году Адамом Смитом в работе «Исследование о природе и причинах богатства народ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нцип справедливости, определенности,  удобности  и принцип эконом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значает, что издержки по взиманию налога должны быть меньше, чем налоговые по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татье три НК изложены принципы налогообложения, которые положены в основу налоговой системы РФ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ципы всеобщ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равен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логооб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оги не могут име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криминационный характ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ифференцироваться по налогоплательщикам исходя из социальных, религиозных критери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должно быть дифференциации ставок нало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зависимости от форм собственности, гражданства физических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оги 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ут быть произвольны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должны иметь экономическое основ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цип ясности и доступ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логового законода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неустранимые сомнения, противоречия и неясности актов законодательства толкуются в пользу налогоплательщ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создании налоговой системы России стояла задача реализации принцип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венств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вых статусов субъектов Федерации и разграничения полномочий между Федеральными и региональными управлениями власти в сфере налоготворчества и бюджетных отношений. Необходимость разграничения налоговых полномочий между уровнями власти определило трех уровневую систему России, включающую Федеральные, региональные и местные нал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 делятся на разнообразные группы по многим признакам. Они классифицир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и косвенные (по характеру налогового изъя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е, региональные, местные (по уровням управл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и с юридических и физических лиц (по субъектам налогооблож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ональный, прогрессивный и регрессивный (в зависимости, какую долю дохода платит налогоплательщик с высоким доход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целевому назначению налога (общие, специаль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алоговой системой понимается совокупность налогов, пошлин и сборов, взимаемых на территории государства в соответствии с Налоговым законодательством, а также совокупность налоговых органов, норм и правил, определяющих правомочия сторон, участвующих в налоговых правоотнош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овыми органами являются Федеральная Служба РФ по налогам и сборам и его подраз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й задачей налоговых органов явля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 правильностью исчисления, полнотой и своевременностью уплаты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е представлена структура налоговых органо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ямые налог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логи, которые непосредственно связаны с результатом хозяйственно-финансовой деятельности, оборотом капитала, увеличением стоимости имущества, ростом рентной составляющей и т.д., т.е непосредственно с объектом налогооб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числу прямых  налогов относятся: подоходный налог, налог на прибыль, ресурсные платежи, налоги на имущество, владение и пользование которыми служат основанием для обложения. Прямые налоги трудно перенести на потребител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свенные налог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налоги, которые являются надбавкой к ц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  переносятся на конечного потреб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 называют ещ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зуслов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тому что они ни связаны непосредственно с доходом налогоплательщика и взимаются вне зависимости от конечных результатов деятельности, получения при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 называетс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ьным, прогрессивным,  или регрессивны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того, какую долю дохода платит налогоплательщ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егрессивны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 характеризуется взиманием более высокого процента с низких доходов и меньшего процента с высоких доход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опорциональны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, забирает одинаковую часть от любого дохода (единая ставка для доходов любой величин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 счит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огрессив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если с увеличением дохода ставка налога увеличив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ие налог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ользуются на финансирование расходов государственного и местных бюджетов без закрепления за каким-либо определенным видом ра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ьные налог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ют целевое назначение (отчисления на социальные нужды, отчисления в дорожные фонды, транспортный налог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налоговой системы РФ с другими стр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говая система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езным для Российской Федерации может оказаться опыт реформирования налоговой системы Германии. Как федеративное государство оно прошло различные стадии политического и экономического устр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ногие федеральные земли Германии не одно столетие были самостоятельными государствами. Отсюда была постоянная необходимость поиска оптимальных взаимоотношений вертикальных и горизонтальных ветвей вл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езультате крупнейшей налоговой реформы в декабре 1919 года был ликвидирован финансовый суверенитет земель. Право получать налоги и управлять ими осталось исключительно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 государств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Налоговая система стала централизова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е принципы построения системы налогооб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по возможности д.б. минимальным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мальны затраты необходимые на их взима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не могут препятствовать конкуренции, изменять чьи-либо шанс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соответствуют структурной политик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нацелены на более справедливое распределение доход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овая система исключает двойное налогообложе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личина налогов соответствует размеру государственных услуг, включая защиту человека и все, что гражданин может получить от госуда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Германии применяется как вертикальное, так и горизонтальное выравн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оходов. Высокодоходные земли (Бавария, Вюртемберг, Северный Рейн-Вестфалия) перечисляют часть своих финансовых ресурсов менее развитым землям (Саксония, Шлезвиг-Голштейн). Это явилось итогом многолетнего развития налогов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налоговой политики страны определил еще канцлер Германии Отто Бисмарк (1815-1898) перенеся бремя налогов с доходов на потребление (расх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виды налогов в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ходный налог на физических лиц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корпо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добавленную стоим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ысловый на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имущ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емельный нал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, уплачиваемый при покупке земельного учас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ховые взно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с наследства и дар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обильный на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содержание пожарной охра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изы на кофе, сахар, минеральные масла, вино-водочные и табачные издел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оженные пошлины, сборы, идущие на развитие добычи нефти и газа на территории Герм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настоящее время в Германии два крупнейших налога - подоходного с физических лиц и налога на добавленную стоимость. Удельный вес НДС в доходах бюджета страны составляет до  28 % второе место после подоходного налог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 В общих доходах бюджета налоги составляют около 80 %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налоговой системы РФ с другими стр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оговая система Шв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ая система Швеции двухуровневая, децентрализованна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и взимаются как центральной властью, так и региональными (земельными) органами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налогов определяет парламент страны, а ставки устанавливают местные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обложение ориентировано на потребление. Налоги на личные налоги граждан и взносы (налоги) по социальному страхованию находятся на довольно высоком уровне, а за счет НДС и налогов на потребление обеспечивается до 2/3 всех налоговых доходов бюджета и еще примерно 20 % дают прямые нал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 из крупнейших статей дохода бюджета Швеции составляют социальные платежи в виде начислений на фонд оплаты труд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7"/>
          <p:cNvGrpSpPr/>
          <p:nvPr/>
        </p:nvGrpSpPr>
        <p:grpSpPr>
          <a:xfrm>
            <a:off x="358920" y="1231920"/>
            <a:ext cx="8460360" cy="4290840"/>
            <a:chOff x="358920" y="1231920"/>
            <a:chExt cx="8460360" cy="4290840"/>
          </a:xfrm>
        </p:grpSpPr>
        <p:cxnSp>
          <p:nvCxnSpPr>
            <p:cNvPr id="45" name="_s1028"/>
            <p:cNvCxnSpPr>
              <a:stCxn id="46" idx="1"/>
              <a:endCxn id="47" idx="2"/>
            </p:cNvCxnSpPr>
            <p:nvPr/>
          </p:nvCxnSpPr>
          <p:spPr>
            <a:xfrm rot="10800000">
              <a:off x="4233600" y="3691800"/>
              <a:ext cx="361800" cy="103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9" idx="3"/>
              <a:endCxn id="47" idx="2"/>
            </p:cNvCxnSpPr>
            <p:nvPr/>
          </p:nvCxnSpPr>
          <p:spPr>
            <a:xfrm flipV="1">
              <a:off x="3868560" y="3692160"/>
              <a:ext cx="366480" cy="103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30"/>
            <p:cNvCxnSpPr>
              <a:stCxn id="51" idx="0"/>
              <a:endCxn id="52" idx="2"/>
            </p:cNvCxnSpPr>
            <p:nvPr/>
          </p:nvCxnSpPr>
          <p:spPr>
            <a:xfrm flipV="1" rot="16200000">
              <a:off x="5887080" y="1153440"/>
              <a:ext cx="229320" cy="282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47" idx="0"/>
              <a:endCxn id="52" idx="2"/>
            </p:cNvCxnSpPr>
            <p:nvPr/>
          </p:nvCxnSpPr>
          <p:spPr>
            <a:xfrm flipH="1" flipV="1" rot="5400000">
              <a:off x="4297320" y="2387160"/>
              <a:ext cx="229320" cy="356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032"/>
            <p:cNvSpPr/>
            <p:nvPr/>
          </p:nvSpPr>
          <p:spPr>
            <a:xfrm>
              <a:off x="3499920" y="1231920"/>
              <a:ext cx="2179080" cy="121932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Федеральн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служба РФ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о налога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 сбор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826000" y="2679840"/>
              <a:ext cx="2815200" cy="101268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правления Фед. Службы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налогам и сбора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краям, республик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004800" y="2679840"/>
              <a:ext cx="2814480" cy="101268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жрегион. инспек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Фед. службы РФ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налогам и сбор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федеральным округ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5"/>
            <p:cNvSpPr/>
            <p:nvPr/>
          </p:nvSpPr>
          <p:spPr>
            <a:xfrm>
              <a:off x="358920" y="3921120"/>
              <a:ext cx="3509640" cy="160164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Межрайонные инспекц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Фед. службы РФ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налогам и сбора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6"/>
            <p:cNvSpPr/>
            <p:nvPr/>
          </p:nvSpPr>
          <p:spPr>
            <a:xfrm>
              <a:off x="4595760" y="3921120"/>
              <a:ext cx="3509280" cy="160164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Инспекц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Фед. Службы РФ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 налогам и сбор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 город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и район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районные налоговые инспекции в основном созданы путем объединения  инспекций нескольких административных районов, поэтому вновь образованные инспекции контролируют деятельность налогоплательщиков на территории нескольких районов. В результате такого объединения число инспекции по стране сократилось с 2600 до 15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а налогов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овать от налогоплательщиков или налоговых агентов докумен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ь налоговые провер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ь осмотр помещений налогоплательщика, используемых для извлечения дохода, проводить инвентаризацию имущества налогоплательщ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останавливать операции по счетам налогоплательщика в случае неуплаты налога в ср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ыскивать недоимки по налогам и пе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кать для проведения налоговых проверок специалистов, экспертов, переводч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ъявлять в суды иски к налогоплательщик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ять суммы налогов расчетным путем в случае отказа налогоплательщиков допустить должностных лиц налогового органа к осмотру помещений, используемых для извлечения дохода, не представления в течение более двух месяцев налоговому агенту необходимых для расчета налогов документов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г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ется обязательный, индивидуально-безвозмездный платеж, взимаемый с организаций и граждан в форме отчуждения принадлежащих им на праве собственности денежных средств в целях финансового обеспечения деятельности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логовой системе РФ имеются такж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 которыми понимается обязательный взнос, уплата которого является одним из условий совершения в отношении плательщиков сборов государственными органами местного самоуправления юридически значимых действий, включая предоставление определенных прав или выдачу разрешений (лиценз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налогов России  строится по территориальному принципу и имеет три уровня: федеральный, региональный и мес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е нало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80360" cy="5005440"/>
        </p:xfrm>
        <a:graphic>
          <a:graphicData uri="http://schemas.openxmlformats.org/drawingml/2006/table">
            <a:tbl>
              <a:tblPr/>
              <a:tblGrid>
                <a:gridCol w="4314960"/>
                <a:gridCol w="39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января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Д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кци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ДФ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ЕС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прибыл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воспроизводство минерально-сырьевой ба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пользование недр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дополнительные доходы от добычи углеводор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за право пользования объектами животного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о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е лицензионные сб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и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осударственная  и тамож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Д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кциз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ДФ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ЕСН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прибыл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добычу полезных ископаем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лог на наследование и дар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ный налог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боры за пользование объектами живого мира и за пользование объектами водных биологических ресурс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осударственная пош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ональные налог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38480" cy="43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ные налог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620640"/>
          <a:ext cx="8424720" cy="1736640"/>
        </p:xfrm>
        <a:graphic>
          <a:graphicData uri="http://schemas.openxmlformats.org/drawingml/2006/table">
            <a:tbl>
              <a:tblPr/>
              <a:tblGrid>
                <a:gridCol w="4321080"/>
                <a:gridCol w="4103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января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мущество организа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горный бизне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ранспортный нало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мущество организа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горный бизне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ранспортный нало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39640" y="3213000"/>
          <a:ext cx="8280360" cy="203040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января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емельный налог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рекла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с продаж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емельный налог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мущество физических ли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установления налогов и с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е налоги и сб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анавливаются Налоговым кодексом  (НК) и обязательны к уплате на всей территории Р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ые налоги и сб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анавливаются НК РФ и законами субъектов Федерации, вводятся в соответствии с Кодексом и обязательны на территории соответствующих субъектов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ные налоги и сб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анавливаются НК и нормативными правовыми актами представительных органов местного самоуправления, вводятся в действие в соответствии с Кодексом  и обязательны к уплате на территориях соответствующих муниципальных образ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могут устанавливаться региональные или местные налоги , которые не предусмотрены Налоговым кодексом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4:18:38Z</dcterms:created>
  <dc:creator>Riabova Elena</dc:creator>
  <dc:description/>
  <dc:language>en-US</dc:language>
  <cp:lastModifiedBy>Сова</cp:lastModifiedBy>
  <dcterms:modified xsi:type="dcterms:W3CDTF">2011-05-01T11:25:08Z</dcterms:modified>
  <cp:revision>33</cp:revision>
  <dc:subject/>
  <dc:title>Налоговая система РФ</dc:title>
</cp:coreProperties>
</file>