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559F-248D-406E-B294-E09357D6D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145D-7EE0-4BD2-9055-9D04623E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A1AC-E636-4BF9-91D1-D27A825E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6392-1501-4FBD-8FB6-9B49F1386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42AE-6890-46E7-9DAF-7C708D8C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937D-D865-441A-92F7-ADC0DDD5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9676-FB68-4CC3-BE0D-909B6C54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7FDD-63F8-449C-B344-C0C19E05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0573-5AF9-4ABC-9B5F-04397CD9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F0AB-DB45-4AAB-9E0A-AC5728A1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F907-692E-40BE-B76F-51603CCB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706B-680C-4C9B-B5B4-1ECF6358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89D2-E878-4185-B49D-E53338FB42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Налоговая система Р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ункции налог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и налогов показывают как реализуется общественное назначение налогов, как инструмента стоимостного распределения и перераспределения доход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ычно выделяют следующие функции налог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ункции налог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скаль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гулирующ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пределитель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оль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имулирующ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искальная функ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т слова «фискус» – государственная) проявляется в формировании финансовых ресурсов государ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транах с рыночной экономикой 80-90% доходов бюджета формируется за счет налогов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гулирующая функ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является в использовании налогов в целях организации социальной и хозяйственной жизни в стран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гулирующая функция может быть стимулирующей (предоставление льгот) и дестимулирующей (повышение налоговых ставок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спределительная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социальная) функ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ез налоги происходит передача средств в пользу более слабых и незащищенных категорий граждан за счет возложения налогового бремени на более сильные категории населе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нтрольная функ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огов проявляется в том, что государство через налоги контролирует финансово-хозяйственную деятельность организаций и граждан, источники их доходов и расход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агодаря контрольной функции оценивается эффективность налоговой системы, обеспечивается контроль за видами деятельности и финансовыми потоками. Через контрольную функцию налогообложения выявляется необходимость внесения изменений в налоговую систему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ощрительная функ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ез налоги государство признает особые заслуги отдельных граждан перед отечеством и предоставляет им льготы по налогам. Например, льготы участникам войн, героям страны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нципы налогообложе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нцип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ведущие положения, определяющие начала чего-либо. Применительно к налогообложению принципами считаются базовые идеи и положения, существующие в налоговой сфе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деляют различные системы принцип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ие принцип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ридические принцип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онные принци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ие принципы касаются налогов как экономического явления. Впервые они были сформулированы в 1776 году Адамом Смитом в работе «Исследование о природе и причинах богатства народов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нцип справедливости, определенности,  удобности  и принцип эконом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значает, что издержки по взиманию налога должны быть меньше, чем налоговые по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татье три НК изложены принципы налогообложения, которые положены в основу налоговой системы РФ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нципы всеобщно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равенст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логооблож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логи не могут иметь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искриминационный характе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дифференцироваться по налогоплательщикам исходя из социальных, религиозных критерие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должно быть дифференциации ставок налог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зависимости от форм собственности, гражданства физических лиц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логи н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гут быть произвольным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должны иметь экономическое основа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нцип ясности и доступно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логового законодатель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 неустранимые сомнения, противоречия и неясности актов законодательства толкуются в пользу налогоплательщ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создании налоговой системы России стояла задача реализации принципа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равенств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вовых статусов субъектов Федерации и разграничения полномочий между Федеральными и региональными управлениями власти в сфере налоготворчества и бюджетных отношений. Необходимость разграничения налоговых полномочий между уровнями власти определило трех уровневую систему России, включающую Федеральные, региональные и местные налог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ы налог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оги делятся на разнообразные группы по многим признакам. Они классифициру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ые и косвенные (по характеру налогового изъят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деральные, региональные, местные (по уровням управл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оги с юридических и физических лиц (по субъектам налогооблож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порциональный, прогрессивный и регрессивный (в зависимости, какую долю дохода платит налогоплательщик с высоким доходом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целевому назначению налога (общие, специальны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налоговой системой понимается совокупность налогов, пошлин и сборов, взимаемых на территории государства в соответствии с Налоговым законодательством, а также совокупность налоговых органов, норм и правил, определяющих правомочия сторон, участвующих в налоговых правоотношен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оговыми органами являются Федеральная Служба РФ по налогам и сборам и его подразде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ой задачей налоговых органов является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нтроль за правильностью исчисления, полнотой и своевременностью уплаты нал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же представлена структура налоговых органов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ямые налог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логи, которые непосредственно связаны с результатом хозяйственно-финансовой деятельности, оборотом капитала, увеличением стоимости имущества, ростом рентной составляющей и т.д., т.е непосредственно с объектом налогооблож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числу прямых  налогов относятся: подоходный налог, налог на прибыль, ресурсные платежи, налоги на имущество, владение и пользование которыми служат основанием для обложения. Прямые налоги трудно перенести на потребителя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освенные налог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о налоги, которые являются надбавкой к це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свенные налоги  переносятся на конечного потребите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свенные налоги называют ещ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езусловны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отому что они ни связаны непосредственно с доходом налогоплательщика и взимаются вне зависимости от конечных результатов деятельности, получения прибы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ог называется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опорциональным, прогрессивным,  или регрессивным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висимости от того, какую долю дохода платит налогоплательщ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Регрессивный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лог характеризуется взиманием более высокого процента с низких доходов и меньшего процента с высоких доходо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Пропорциональный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лог, забирает одинаковую часть от любого дохода (единая ставка для доходов любой величины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лог считается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прогрессивны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если с увеличением дохода ставка налога увеличиваетс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ие налог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спользуются на финансирование расходов государственного и местных бюджетов без закрепления за каким-либо определенным видом расх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ециальные налог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меют целевое назначение (отчисления на социальные нужды, отчисления в дорожные фонды, транспортный налог и т.д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ение налоговой системы РФ с другими стра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836280"/>
            <a:ext cx="84358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логовая система Герм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лезным для Российской Федерации может оказаться опыт реформирования налоговой системы Германии. Как федеративное государство оно прошло различные стадии политического и экономического устрой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ногие федеральные земли Германии не одно столетие были самостоятельными государствами. Отсюда была постоянная необходимость поиска оптимальных взаимоотношений вертикальных и горизонтальных ветвей вла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результате крупнейшей налоговой реформы в декабре 1919 года был ликвидирован финансовый суверенитет земель. Право получать налоги и управлять ими осталось исключительно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за государством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 Налоговая система стала централизованн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жнейшие принципы построения системы налогооб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логи по возможности д.б. минимальными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нимальны затраты необходимые на их взимание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логи не могут препятствовать конкуренции, изменять чьи-либо шансы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логи соответствуют структурной политике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логи нацелены на более справедливое распределение доходо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логовая система исключает двойное налогообложение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еличина налогов соответствует размеру государственных услуг, включая защиту человека и все, что гражданин может получить от государств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 Германии применяется как вертикальное, так и горизонтальное выравнива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доходов. Высокодоходные земли (Бавария, Вюртемберг, Северный Рейн-Вестфалия) перечисляют часть своих финансовых ресурсов менее развитым землям (Саксония, Шлезвиг-Голштейн). Это явилось итогом многолетнего развития налоговой систе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и налоговой политики страны определил еще канцлер Германии Отто Бисмарк (1815-1898) перенеся бремя налогов с доходов на потребление (расход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виды налогов в Герм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оходный налог на физических лиц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ог на корпорац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ог на добавленную стоим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мысловый нало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ог на имуществ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емельный нало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ог, уплачиваемый при покупке земельного участ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ховые взнос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ог с наследства и дар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обильный нало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ог на содержание пожарной охран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цизы на кофе, сахар, минеральные масла, вино-водочные и табачные издел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моженные пошлины, сборы, идущие на развитие добычи нефти и газа на территории Герма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настоящее время в Германии два крупнейших налога - подоходного с физических лиц и налога на добавленную стоимость. Удельный вес НДС в доходах бюджета страны составляет до  28 % второе место после подоходного налог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 В общих доходах бюджета налоги составляют около 80 %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ение налоговой системы РФ с другими стра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логовая система Шве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оговая система Швеции двухуровневая, децентрализованна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оги взимаются как центральной властью, так и региональными (земельными) органами вла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ды налогов определяет парламент страны, а ставки устанавливают местные вла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огообложение ориентировано на потребление. Налоги на личные налоги граждан и взносы (налоги) по социальному страхованию находятся на довольно высоком уровне, а за счет НДС и налогов на потребление обеспечивается до 2/3 всех налоговых доходов бюджета и еще примерно 20 % дают прямые налог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ной из крупнейших статей дохода бюджета Швеции составляют социальные платежи в виде начислений на фонд оплаты труд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Organization Chart 7"/>
          <p:cNvGrpSpPr/>
          <p:nvPr/>
        </p:nvGrpSpPr>
        <p:grpSpPr>
          <a:xfrm>
            <a:off x="358920" y="1231920"/>
            <a:ext cx="8460360" cy="4290840"/>
            <a:chOff x="358920" y="1231920"/>
            <a:chExt cx="8460360" cy="4290840"/>
          </a:xfrm>
        </p:grpSpPr>
        <p:cxnSp>
          <p:nvCxnSpPr>
            <p:cNvPr id="45" name="_s1028"/>
            <p:cNvCxnSpPr>
              <a:stCxn id="46" idx="1"/>
              <a:endCxn id="47" idx="2"/>
            </p:cNvCxnSpPr>
            <p:nvPr/>
          </p:nvCxnSpPr>
          <p:spPr>
            <a:xfrm rot="10800000">
              <a:off x="4233600" y="3691800"/>
              <a:ext cx="361800" cy="1031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1029"/>
            <p:cNvCxnSpPr>
              <a:stCxn id="49" idx="3"/>
              <a:endCxn id="47" idx="2"/>
            </p:cNvCxnSpPr>
            <p:nvPr/>
          </p:nvCxnSpPr>
          <p:spPr>
            <a:xfrm flipV="1">
              <a:off x="3868560" y="3692160"/>
              <a:ext cx="366480" cy="1031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1030"/>
            <p:cNvCxnSpPr>
              <a:stCxn id="51" idx="0"/>
              <a:endCxn id="52" idx="2"/>
            </p:cNvCxnSpPr>
            <p:nvPr/>
          </p:nvCxnSpPr>
          <p:spPr>
            <a:xfrm flipV="1" rot="16200000">
              <a:off x="5887080" y="1153440"/>
              <a:ext cx="229320" cy="2823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1031"/>
            <p:cNvCxnSpPr>
              <a:stCxn id="47" idx="0"/>
              <a:endCxn id="52" idx="2"/>
            </p:cNvCxnSpPr>
            <p:nvPr/>
          </p:nvCxnSpPr>
          <p:spPr>
            <a:xfrm flipH="1" flipV="1" rot="5400000">
              <a:off x="4297320" y="2387160"/>
              <a:ext cx="229320" cy="356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2" name="_s1032"/>
            <p:cNvSpPr/>
            <p:nvPr/>
          </p:nvSpPr>
          <p:spPr>
            <a:xfrm>
              <a:off x="3499920" y="1231920"/>
              <a:ext cx="2179080" cy="1219320"/>
            </a:xfrm>
            <a:prstGeom prst="roundRect">
              <a:avLst>
                <a:gd name="adj" fmla="val 16667"/>
              </a:avLst>
            </a:prstGeom>
            <a:solidFill>
              <a:srgbClr val="c0c0c0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400" rIns="594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Федеральная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служба РФ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по налогам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и сборам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1033"/>
            <p:cNvSpPr/>
            <p:nvPr/>
          </p:nvSpPr>
          <p:spPr>
            <a:xfrm>
              <a:off x="2826000" y="2679840"/>
              <a:ext cx="2815200" cy="1012680"/>
            </a:xfrm>
            <a:prstGeom prst="roundRect">
              <a:avLst>
                <a:gd name="adj" fmla="val 16667"/>
              </a:avLst>
            </a:prstGeom>
            <a:solidFill>
              <a:srgbClr val="c0c0c0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400" rIns="594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Управления Фед. Службы Р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о налогам и сборам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о краям, республика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и областя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034"/>
            <p:cNvSpPr/>
            <p:nvPr/>
          </p:nvSpPr>
          <p:spPr>
            <a:xfrm>
              <a:off x="6004800" y="2679840"/>
              <a:ext cx="2814480" cy="1012680"/>
            </a:xfrm>
            <a:prstGeom prst="roundRect">
              <a:avLst>
                <a:gd name="adj" fmla="val 16667"/>
              </a:avLst>
            </a:prstGeom>
            <a:solidFill>
              <a:srgbClr val="c0c0c0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400" rIns="594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Межрегион. инспекци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Фед. службы РФ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о налогам и сбора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о федеральным округа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1035"/>
            <p:cNvSpPr/>
            <p:nvPr/>
          </p:nvSpPr>
          <p:spPr>
            <a:xfrm>
              <a:off x="358920" y="3921120"/>
              <a:ext cx="3509640" cy="1601640"/>
            </a:xfrm>
            <a:prstGeom prst="roundRect">
              <a:avLst>
                <a:gd name="adj" fmla="val 16667"/>
              </a:avLst>
            </a:prstGeom>
            <a:solidFill>
              <a:srgbClr val="c0c0c0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Межрайонные инспекции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Фед. службы РФ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по налогам и сборам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1036"/>
            <p:cNvSpPr/>
            <p:nvPr/>
          </p:nvSpPr>
          <p:spPr>
            <a:xfrm>
              <a:off x="4595760" y="3921120"/>
              <a:ext cx="3509280" cy="1601640"/>
            </a:xfrm>
            <a:prstGeom prst="roundRect">
              <a:avLst>
                <a:gd name="adj" fmla="val 16667"/>
              </a:avLst>
            </a:prstGeom>
            <a:solidFill>
              <a:srgbClr val="c0c0c0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Инспекции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Фед. Службы РФ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по налогам и сборам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по городам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и районам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районные налоговые инспекции в основном созданы путем объединения  инспекций нескольких административных районов, поэтому вновь образованные инспекции контролируют деятельность налогоплательщиков на территории нескольких районов. В результате такого объединения число инспекции по стране сократилось с 2600 до 15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а налоговых орга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5075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ебовать от налогоплательщиков или налоговых агентов документ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водить налоговые проверк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водить осмотр помещений налогоплательщика, используемых для извлечения дохода, проводить инвентаризацию имущества налогоплательщик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останавливать операции по счетам налогоплательщика в случае неуплаты налога в срок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зыскивать недоимки по налогам и пен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лекать для проведения налоговых проверок специалистов, экспертов, переводчик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ъявлять в суды иски к налогоплательщика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ять суммы налогов расчетным путем в случае отказа налогоплательщиков допустить должностных лиц налогового органа к осмотру помещений, используемых для извлечения дохода, не представления в течение более двух месяцев налоговому агенту необходимых для расчета налогов документов и д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лого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имается обязательный, индивидуально-безвозмездный платеж, взимаемый с организаций и граждан в форме отчуждения принадлежащих им на праве собственности денежных средств в целях финансового обеспечения деятельности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логовой системе РФ имеются такж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бо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д которыми понимается обязательный взнос, уплата которого является одним из условий совершения в отношении плательщиков сборов государственными органами местного самоуправления юридически значимых действий, включая предоставление определенных прав или выдачу разрешений (лиценз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ы нал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692280"/>
            <a:ext cx="84358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стема налогов России  строится по территориальному принципу и имеет три уровня: федеральный, региональный и мест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еральные налог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95280" y="1484280"/>
          <a:ext cx="8280360" cy="5005440"/>
        </p:xfrm>
        <a:graphic>
          <a:graphicData uri="http://schemas.openxmlformats.org/drawingml/2006/table">
            <a:tbl>
              <a:tblPr/>
              <a:tblGrid>
                <a:gridCol w="4314960"/>
                <a:gridCol w="3965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1 января 2005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 2005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ДС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Акциз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ДФЛ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ЕСН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лог на прибыль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лог на воспроизводство минерально-сырьевой баз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лог на пользование недрам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 на дополнительные доходы от добычи углеводор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бор за право пользования объектами животного ми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сной на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ный на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ные лицензионные сб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ческий на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Государственная  и таможенная пош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ДС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Акцизы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ДФЛ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ЕСН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лог на прибыль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лог на добычу полезных ископаемых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Налог на наследование и дарени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одный налог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боры за пользование объектами живого мира и за пользование объектами водных биологических ресурс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Государственная пошл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гиональные налоги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4038480" cy="43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стные налоги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95280" y="620640"/>
          <a:ext cx="8424720" cy="1736640"/>
        </p:xfrm>
        <a:graphic>
          <a:graphicData uri="http://schemas.openxmlformats.org/drawingml/2006/table">
            <a:tbl>
              <a:tblPr/>
              <a:tblGrid>
                <a:gridCol w="4321080"/>
                <a:gridCol w="4103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1 января 2005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 2005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лог на имущество организаци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лог на игорный бизнес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транспортный нало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лог на имущество организаци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лог на игорный бизнес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транспортный нало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539640" y="3213000"/>
          <a:ext cx="8280360" cy="203040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1 января 2005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 2005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Земельный налог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 на имущество физических лиц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 на рекла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 с продаж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Земельный налог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лог на имущество физических лиц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ядок установления налогов и сб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едеральные налоги и сбор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станавливаются Налоговым кодексом  (НК) и обязательны к уплате на всей территории РФ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гиональные налоги и сбор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станавливаются НК РФ и законами субъектов Федерации, вводятся в соответствии с Кодексом и обязательны на территории соответствующих субъектов 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стные налоги и сбор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станавливаются НК и нормативными правовыми актами представительных органов местного самоуправления, вводятся в действие в соответствии с Кодексом  и обязательны к уплате на территориях соответствующих муниципальных образо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могут устанавливаться региональные или местные налоги , которые не предусмотрены Налоговым кодексом Р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4:18:38Z</dcterms:created>
  <dc:creator>Riabova Elena</dc:creator>
  <dc:description/>
  <dc:language>en-US</dc:language>
  <cp:lastModifiedBy>Сова</cp:lastModifiedBy>
  <dcterms:modified xsi:type="dcterms:W3CDTF">2011-05-01T11:25:08Z</dcterms:modified>
  <cp:revision>33</cp:revision>
  <dc:subject/>
  <dc:title>Налоговая система РФ</dc:title>
</cp:coreProperties>
</file>