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7A1-9264-48EB-9606-19BE30B2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A21-C23C-4BCB-AFCA-464C10D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A8C-F72B-4F16-983F-E58D6F16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944-B1BA-4D44-B85C-F74EA1BF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B94-9D09-4490-9C0D-D1ACD78E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9B7-793F-42A3-95B0-BBD1B56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B3E-41B4-40C8-A176-3240E9BE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D09-08D2-4CF1-B6E1-97BE54FB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63E-1590-46DB-A84E-E0487576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D42-D2E3-4887-92F2-AC5CFFCD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A43-CF9B-44C1-987A-FEE842A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3BA-850E-4D7C-B9C5-8184A09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A77F-1E3F-4AC5-B07E-B521CD863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логовая система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 налогов показывают как реализуется общественное назначение налогов, как инструмента стоимостного распределения и перераспределения дохо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выделяют следующие 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ска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и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мулиру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ска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слова «фискус» – государственная) проявляется в формировании финансовых ресурсов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анах с рыночной экономикой 80-90% доходов бюджета формируется за счет налог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улирующ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яется в использовании налогов в целях организации социальной и хозяйственной жизни в стр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 функция может быть стимулирующей (предоставление льгот) и дестимулирующей (повышение налоговых ставок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ределительна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социальная) 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алоги происходит передача средств в пользу более слабых и незащищенных категорий граждан за счет возложения налогового бремени на более сильные категории насе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ро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ов проявляется в том, что государство через налоги контролирует финансово-хозяйственную деятельность организаций и граждан, источники их доходов и рас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контрольной функции оценивается эффективность налоговой системы, обеспечивается контроль за видами деятельности и финансовыми потоками. Через контрольную функцию налогообложения выявляется необходимость внесения изменений в налоговую систем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ощритель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алоги государство признает особые заслуги отдельных граждан перед отечеством и предоставляет им льготы по налогам. Например, льготы участникам войн, героям стран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налогообло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ведущие положения, определяющие начала чего-либо. Применительно к налогообложению принципами считаются базовые идеи и положения, существующие в налогов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различные системы принц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принци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принци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е принци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принципы касаются налогов как экономического явления. Впервые они были сформулированы в 1776 году Адамом Смитом в работе «Исследование о природе и причинах богатства народ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 справедливости, определенности,  удобности  и принцип эконом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значает, что издержки по взиманию налога должны быть меньше, чем налоговы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татье три НК изложены принципы налогообложения, которые положены в основу налоговой системы РФ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ы всеобщ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равен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логооб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и не могут име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риминационный характ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ифференцироваться по налогоплательщикам исходя из социальных, религиозных критери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должно быть дифференциации ставок нало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зависимости от форм собственности, гражданства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и 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ут быть произвольны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должны иметь экономическое осно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цип ясности и доступ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логового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неустранимые сомнения, противоречия и неясности актов законодательства толкуются в пользу налогоплательщ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создании налоговой системы России стояла задача реализации принцип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венств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вых статусов субъектов Федерации и разграничения полномочий между Федеральными и региональными управлениями власти в сфере налоготворчества и бюджетных отношений. Необходимость разграничения налоговых полномочий между уровнями власти определило трех уровневую систему России, включающую Федеральные, региональные и местные нал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 делятся на разнообразные группы по многим признакам. Они классифицир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и косвенные (по характеру налогового изъя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е, региональные, местные (по уровням управл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и с юридических и физических лиц (по субъектам налогооблож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ональный, прогрессивный и регрессивный (в зависимости, какую долю дохода платит налогоплательщик с высоким доход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целевому назначению налога (общие, специаль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алоговой системой понимается совокупность налогов, пошлин и сборов, взимаемых на территории государства в соответствии с Налоговым законодательством, а также совокупность налоговых органов, норм и правил, определяющих правомочия сторон, участвующих в налоговых правоотнош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овыми органами являются Федеральная Служба РФ по налогам и сборам и его подраз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й задачей налоговых органов явля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 правильностью исчисления, полнотой и своевременностью уплаты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е представлена структура налоговых органо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ямые налог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логи, которые непосредственно связаны с результатом хозяйственно-финансовой деятельности, оборотом капитала, увеличением стоимости имущества, ростом рентной составляющей и т.д., т.е непосредственно с объектом налогооб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числу прямых  налогов относятся: подоходный налог, налог на прибыль, ресурсные платежи, налоги на имущество, владение и пользование которыми служат основанием для обложения. Прямые налоги трудно перенести на потребител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свенные налог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налоги, которые являются надбавкой к ц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  переносятся на конечного потреб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 называют ещ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зуслов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тому что они ни связаны непосредственно с доходом налогоплательщика и взимаются вне зависимости от конечных результатов деятельности, получения приб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 называ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ым, прогрессивным,  или регрессив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того, какую долю дохода платит налогоплательщ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егрессивны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 характеризуется взиманием более высокого процента с низких доходов и меньшего процента с высоких доход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порциональны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, забирает одинаковую часть от любого дохода (единая ставка для доходов любой величин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 счит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грессив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если с увеличением дохода ставка налога увеличив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нал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ользуются на финансирование расходов государственного и местных бюджетов без закрепления за каким-либо определенным видом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ьные нал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ют целевое назначение (отчисления на социальные нужды, отчисления в дорожные фонды, транспортный налог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налоговой системы РФ с другими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говая система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езным для Российской Федерации может оказаться опыт реформирования налоговой системы Германии. Как федеративное государство оно прошло различные стадии политического и экономического устр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ногие федеральные земли Германии не одно столетие были самостоятельными государствами. Отсюда была постоянная необходимость поиска оптимальных взаимоотношений вертикальных и горизонтальных ветвей в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езультате крупнейшей налоговой реформы в декабре 1919 года был ликвидирован финансовый суверенитет земель. Право получать налоги и управлять ими осталось исключительно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 государств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 Налоговая система стала централизова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е принципы построения системы налогооб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по возможности д.б. минимальным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мальны затраты необходимые на их взима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не могут препятствовать конкуренции, изменять чьи-либо шанс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соответствуют структурной политик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и нацелены на более справедливое распределение доход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оговая система исключает двойное налогооблож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чина налогов соответствует размеру государственных услуг, включая защиту человека и все, что гражданин может получить от госуда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Германии применяется как вертикальное, так и горизонтальное выравн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ходов. Высокодоходные земли (Бавария, Вюртемберг, Северный Рейн-Вестфалия) перечисляют часть своих финансовых ресурсов менее развитым землям (Саксония, Шлезвиг-Голштейн). Это явилось итогом многолетнего развития налогов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налоговой политики страны определил еще канцлер Германии Отто Бисмарк (1815-1898) перенеся бремя налогов с доходов на потребление (расх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виды налогов в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ходный налог на физических ли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корпо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добавленную стоим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ысловый на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имуще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емельный нал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, уплачиваемый при покупке земельного учас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овые взн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с наследства и дар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ьный на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содержание пожарной охр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изы на кофе, сахар, минеральные масла, вино-водочные и табачные издел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оженные пошлины, сборы, идущие на развитие добычи нефти и газа на территории Герм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настоящее время в Германии два крупнейших налога - подоходного с физических лиц и налога на добавленную стоимость. Удельный вес НДС в доходах бюджета страны составляет до  28 % второе место после подоходного налог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 В общих доходах бюджета налоги составляют около 80 %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налоговой системы РФ с другими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оговая система Шв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ая система Швеции двухуровневая, децентрализованна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и взимаются как центральной властью, так и региональными (земельными) органами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налогов определяет парламент страны, а ставки устанавливают местные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обложение ориентировано на потребление. Налоги на личные налоги граждан и взносы (налоги) по социальному страхованию находятся на довольно высоком уровне, а за счет НДС и налогов на потребление обеспечивается до 2/3 всех налоговых доходов бюджета и еще примерно 20 % дают прямые нал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из крупнейших статей дохода бюджета Швеции составляют социальные платежи в виде начислений на фонд оплаты труд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7"/>
          <p:cNvGrpSpPr/>
          <p:nvPr/>
        </p:nvGrpSpPr>
        <p:grpSpPr>
          <a:xfrm>
            <a:off x="358920" y="1231920"/>
            <a:ext cx="8460360" cy="4290840"/>
            <a:chOff x="358920" y="1231920"/>
            <a:chExt cx="8460360" cy="4290840"/>
          </a:xfrm>
        </p:grpSpPr>
        <p:cxnSp>
          <p:nvCxnSpPr>
            <p:cNvPr id="45" name="_s1028"/>
            <p:cNvCxnSpPr>
              <a:stCxn id="46" idx="1"/>
              <a:endCxn id="47" idx="2"/>
            </p:cNvCxnSpPr>
            <p:nvPr/>
          </p:nvCxnSpPr>
          <p:spPr>
            <a:xfrm rot="10800000">
              <a:off x="4233600" y="3691800"/>
              <a:ext cx="361800" cy="103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3"/>
              <a:endCxn id="47" idx="2"/>
            </p:cNvCxnSpPr>
            <p:nvPr/>
          </p:nvCxnSpPr>
          <p:spPr>
            <a:xfrm flipV="1">
              <a:off x="3868560" y="3692160"/>
              <a:ext cx="366480" cy="103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52" idx="2"/>
            </p:cNvCxnSpPr>
            <p:nvPr/>
          </p:nvCxnSpPr>
          <p:spPr>
            <a:xfrm flipV="1" rot="16200000">
              <a:off x="5887080" y="1153440"/>
              <a:ext cx="229320" cy="282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47" idx="0"/>
              <a:endCxn id="52" idx="2"/>
            </p:cNvCxnSpPr>
            <p:nvPr/>
          </p:nvCxnSpPr>
          <p:spPr>
            <a:xfrm flipH="1" flipV="1" rot="5400000">
              <a:off x="4297320" y="2387160"/>
              <a:ext cx="229320" cy="356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2"/>
            <p:cNvSpPr/>
            <p:nvPr/>
          </p:nvSpPr>
          <p:spPr>
            <a:xfrm>
              <a:off x="3499920" y="1231920"/>
              <a:ext cx="2179080" cy="121932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Федеральн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служба РФ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о налога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 сбор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826000" y="2679840"/>
              <a:ext cx="2815200" cy="101268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правления Фед. Службы 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налогам и сбора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краям, республи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облас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004800" y="2679840"/>
              <a:ext cx="2814480" cy="101268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жрегион. инспек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Фед. службы РФ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налогам и сбор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 федеральным округ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5"/>
            <p:cNvSpPr/>
            <p:nvPr/>
          </p:nvSpPr>
          <p:spPr>
            <a:xfrm>
              <a:off x="358920" y="3921120"/>
              <a:ext cx="3509640" cy="160164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Межрайонные инспек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Фед. службы РФ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налогам и сбора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6"/>
            <p:cNvSpPr/>
            <p:nvPr/>
          </p:nvSpPr>
          <p:spPr>
            <a:xfrm>
              <a:off x="4595760" y="3921120"/>
              <a:ext cx="3509280" cy="160164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Инспек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Фед. Службы РФ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 налогам и сбор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 город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и района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районные налоговые инспекции в основном созданы путем объединения  инспекций нескольких административных районов, поэтому вновь образованные инспекции контролируют деятельность налогоплательщиков на территории нескольких районов. В результате такого объединения число инспекции по стране сократилось с 2600 до 15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а налогов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овать от налогоплательщиков или налоговых агентов докумен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налоговые провер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осмотр помещений налогоплательщика, используемых для извлечения дохода, проводить инвентаризацию имущества налогоплательщ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останавливать операции по счетам налогоплательщика в случае неуплаты налога в ср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ыскивать недоимки по налогам и пе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кать для проведения налоговых проверок специалистов, экспертов, перевод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ъявлять в суды иски к налогоплательщи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ять суммы налогов расчетным путем в случае отказа налогоплательщиков допустить должностных лиц налогового органа к осмотру помещений, используемых для извлечения дохода, не представления в течение более двух месяцев налоговому агенту необходимых для расчета налогов документов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ог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ется обязательный, индивидуально-безвозмездный платеж, взимаемый с организаций и граждан в форме отчуждения принадлежащих им на праве собственности денежных средств в целях финансового обеспечения деятельност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логовой системе РФ имеются такж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 которыми понимается обязательный взнос, уплата которого является одним из условий совершения в отношении плательщиков сборов государственными органами местного самоуправления юридически значимых действий, включая предоставление определенных прав или выдачу разрешений (лиценз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налогов России  строится по территориальному принципу и имеет три уровня: федеральный, региональный и мес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е нало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80360" cy="5005440"/>
        </p:xfrm>
        <a:graphic>
          <a:graphicData uri="http://schemas.openxmlformats.org/drawingml/2006/table">
            <a:tbl>
              <a:tblPr/>
              <a:tblGrid>
                <a:gridCol w="4314960"/>
                <a:gridCol w="39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Д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ци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ДФ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рибыл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воспроизводство минерально-сырьевой ба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ользование недр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дополнительные доходы от добычи углеводор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за право пользования объектами животного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о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е лицензионные сб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и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осударственная  и тамож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Д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циз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ДФ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Н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прибы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добычу полезных ископаем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лог на наследование и дар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ный налог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боры за пользование объектами живого мира и за пользование объектами водных биологических ресурс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осударственная пош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альные налог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38480" cy="43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ные налог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620640"/>
          <a:ext cx="8424720" cy="1736640"/>
        </p:xfrm>
        <a:graphic>
          <a:graphicData uri="http://schemas.openxmlformats.org/drawingml/2006/table">
            <a:tbl>
              <a:tblPr/>
              <a:tblGrid>
                <a:gridCol w="4321080"/>
                <a:gridCol w="4103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организ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горный бизне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анспортный нало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организ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горный бизне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анспортный нало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39640" y="3213000"/>
          <a:ext cx="8280360" cy="203040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января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ельный налог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рекла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с продаж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емельный налог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лог на имущество физических ли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установления налогов и с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алоговым кодексом  (НК) и обязательны к уплате на всей территории Р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К РФ и законами субъектов Федерации, вводятся в соответствии с Кодексом и обязательны на территории соответствующих субъектов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ные налоги и сб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анавливаются НК и нормативными правовыми актами представительных органов местного самоуправления, вводятся в действие в соответствии с Кодексом  и обязательны к уплате на территориях соответствующих муниципальных 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могут устанавливаться региональные или местные налоги , которые не предусмотрены Налоговым кодексом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4:18:38Z</dcterms:created>
  <dc:creator>Riabova Elena</dc:creator>
  <dc:description/>
  <dc:language>en-US</dc:language>
  <cp:lastModifiedBy>Сова</cp:lastModifiedBy>
  <dcterms:modified xsi:type="dcterms:W3CDTF">2011-05-01T11:25:08Z</dcterms:modified>
  <cp:revision>33</cp:revision>
  <dc:subject/>
  <dc:title>Налоговая система РФ</dc:title>
</cp:coreProperties>
</file>