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906-4F48-4BEE-8834-4D04A707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4A3-8004-43F8-B7F3-5C03F06D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D9F3A-500C-4D78-ACAB-0FA11DE6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36887-E320-4C8F-B6C4-788813AE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BFF36-C1E7-456E-B419-5998363D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88111-0DF5-4EA6-BE30-1CC4D982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7BD1C-C62E-4E41-99CB-10241299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00A26-C915-4B4F-8BA2-90C980B8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ADB5A-EB44-4682-9DD6-0E400744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30068-6861-4261-B292-E47D2377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79B43-CBF5-45B9-9356-32F0E9EB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F5B-4085-4114-A681-DA4998D7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929-3DD8-4715-BA51-7251E0AC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962E-3A12-4EFF-9839-668C0BCA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1DCD-0637-421B-9088-567A111F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51A9-0A71-4565-9C33-B3BA2B9B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675E-AB2B-4E3F-8AEE-A8BA84E4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C88D-0F56-4F82-A407-F7B46338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849C-6027-4238-B4E7-48DBDF72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7C18-4FB6-4739-AC97-A0EEFBE8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F9E-D9D4-46C2-8611-03F6CE0D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16CF-24B3-4CD2-BAA9-62EC678B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A7F4-0491-4F3C-B0F1-E8C0C6FF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DFB7-70C2-4080-908C-18AC4448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E704-2151-4B3F-A774-83E3ABFE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360D-5ADA-4FA6-ADD6-0B680B72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5284-8DC4-4586-9848-C63C80EE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72D4-43AA-4D55-90D1-A47168B8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4FC6-31B6-4CB2-AF14-603CA09D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FD139-2767-4567-B724-6FCD6A8B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29815-62AD-4615-9C81-599A98C3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471-91D4-4B40-AF93-CD33C809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53B5-FAD6-453B-A8D0-CA15DC88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E3ACB-46D3-4326-AFBF-6E6DB199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2FA14-5F70-4633-95CE-7CC1A98B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FEB6-E2BB-42EC-956D-80CD53DC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1C32A-B223-434A-8211-5EFEBDA9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F611-C8C2-40C0-BFF1-27DD087D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C1E5-1618-4812-B1C2-B40B4DA8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2204-5D0D-4215-9ACF-04007AFF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FB13E-6815-4D49-B59A-1A163C48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CBFFA-B941-49DF-B63C-7B112F91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9BD-0549-4448-81A1-A5F1D8B4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DF776-4105-452E-B846-183B703A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1FA6B-CB25-4CEF-8AFA-4F576B98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73A8F-D032-4ED9-BCCF-5BCCFA9D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ADFC7-A90B-4865-BC40-63BE4B10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BF848-3B83-48E8-8864-6F64AAF9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89576-67CA-4989-B513-C714A954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5579-7ADA-4235-AC9C-018EE539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A2CD8-0232-40F6-8F3F-379E922A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57212-D524-4363-A2F7-0A4D7E39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D09A1-4FDF-4173-B568-20449974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720-6E45-4A27-A6E8-D9A663E0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CDF61-9989-417B-9B35-8960C663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DBB34-4EA1-4B45-AE07-C4B010E0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A6991-9724-4FA7-9F86-667D65C8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2FD56-D7D1-40D7-B71A-5711F7ED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52E1C-4489-46CA-8F72-2C7A45E6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E9AD9-CCE5-484A-A8FE-2ACC7ED6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B382C-58D7-4994-A178-0E19DF64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88B73-8898-4CA8-B004-B37CE4DD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13ECF-632B-427F-AE4E-B1A2F946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28431-E5F0-43E0-993E-4066409E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151-AF98-47DA-B761-46835A6B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7A2CE-9E1E-4379-9974-1FFC253F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6EB87-EBF5-45C9-B580-8A281FB3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C1C6B-054B-47E3-AE82-DA6B74B3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E7FE8-3426-4DCA-BC60-68FAE43D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55D91-8923-4D18-9227-04109585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678CB-1D0D-4FD5-B7C9-D6DCD217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8B7E7-61EC-440D-BB8A-CA1F59CA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D88A6-4378-4845-9019-6626B387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9DAD9-7D12-4AB0-892A-96A70254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85607-B510-480E-9E3B-52B433A1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F44-F230-44F5-908C-65D671A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0BE6B-6F04-4B1B-8984-9FA25C46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A2D58-5424-4EDC-A57D-6907F439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4404A-A61B-4A5A-9C46-21176C7E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50C1A-8D7E-47CA-AB19-9BFCD49E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9BC55-647A-483F-BF64-4B9A0849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8BE99-C92F-4007-AB54-3394C5FB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C4351-6CD1-4046-9C4C-58A97A6B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B8504-A39D-46FC-9EF2-50DF3D1A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B2F9E-02CD-4AB2-AE1F-8863E0B5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A68BA-87C8-4FD2-B2DC-5107BDE8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DB2-568A-41FC-860B-C574FE13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6E830-8E7A-48F6-82B2-2C87E33D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4B525-6349-434B-A114-A55B89C3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0FECA-4F3E-45A3-BF6B-1E3DBA85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4E252-497E-49A6-B5B3-0E3378AC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77BBB-B3DD-4710-9023-9C01E0F9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07BB3-5DC1-447D-BE2C-A481EA13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5CED8-B8F0-4F53-8FE2-D278576F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2E399-2553-4326-9FEA-CDF21489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0ED96-EF97-4AA4-9182-C8AB4B48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6DBA1-2EEE-4948-B487-D1A91C49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A33-1212-4063-B159-8C4030A7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FC290-AB4A-4C14-81FA-501A328B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41059-3686-4A5E-BC09-9412B7F5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38673-EC5E-46E1-B1B4-83B34AF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D8795-57C6-414E-AB0E-DAD1052E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E3356-7F21-4F15-B216-CC1D5D69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358A2-9423-417F-8942-9F2B7000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AFB2-70CC-4522-8CB9-1302CD8C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E9BD7-F68B-454E-8801-14051440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C9B45-DA78-4301-9609-DC2EF1E3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B7296-040B-4E93-8706-E5769B8E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63B9-279E-437A-9A0E-93F4B86D4F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BDD5-DEBB-44DD-A5E0-C34D2BE1B5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726F-7ED8-45D4-B7E8-13E266E061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4B02-F88C-461A-9BA5-4F4E78DF00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81DE-56DD-408A-8DA9-FEADBE736F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B304-3B79-4DCD-88E4-F3C2AF73F5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CCBC-812F-45D4-8D43-36DA3AEFDE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014A-7F35-4BC6-AD03-11B3806B9E3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D645-2350-4608-9631-36FA537F9F8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57120" y="1428840"/>
            <a:ext cx="8786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c4b3b"/>
                </a:solidFill>
                <a:latin typeface="Franklin Gothic Book"/>
              </a:rPr>
              <a:t>Однокоренные слова</a:t>
            </a: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Прямоугольник 3"/>
          <p:cNvSpPr/>
          <p:nvPr/>
        </p:nvSpPr>
        <p:spPr>
          <a:xfrm>
            <a:off x="1785960" y="214200"/>
            <a:ext cx="607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c4b3b"/>
                </a:solidFill>
                <a:latin typeface="Franklin Gothic Book"/>
              </a:rPr>
              <a:t>Игра «Редактор»</a:t>
            </a:r>
            <a:endParaRPr b="0" lang="en-US" sz="44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9137520" y="1066680"/>
            <a:ext cx="513000" cy="12985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2512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Franklin Gothic Book"/>
              </a:rPr>
              <a:t>У меня встали … . Ещё … назад ходили. А сейчас … стрелка стоит неподвижно. Нужно, чтобы их починил мастер - … 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250920" indent="251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250920" indent="2512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3b14"/>
                </a:solidFill>
                <a:latin typeface="Franklin Gothic Book"/>
              </a:rPr>
              <a:t>Слова для справок:  </a:t>
            </a:r>
            <a:r>
              <a:rPr b="1" lang="ru-RU" sz="4400" spc="-1" strike="noStrike">
                <a:solidFill>
                  <a:srgbClr val="c00000"/>
                </a:solidFill>
                <a:latin typeface="Franklin Gothic Book"/>
              </a:rPr>
              <a:t>часовщик, час, часовая, часики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3" name="Picture 6" descr="http://g02.a.alicdn.com/kf/HTB1DqLiIpXXXXbEXFXXq6xXFXXXH/Bronze-Tone-font-b-Lady-b-font-font-b-Vintage-b-font-font-b-Watches-b.jpg"/>
          <p:cNvPicPr/>
          <p:nvPr/>
        </p:nvPicPr>
        <p:blipFill>
          <a:blip r:embed="rId2"/>
          <a:stretch/>
        </p:blipFill>
        <p:spPr>
          <a:xfrm>
            <a:off x="492912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http://watch.kvels55.ru/uploads/company/-972706733/3488/5.jpg"/>
          <p:cNvPicPr/>
          <p:nvPr/>
        </p:nvPicPr>
        <p:blipFill>
          <a:blip r:embed="rId3"/>
          <a:stretch/>
        </p:blipFill>
        <p:spPr>
          <a:xfrm>
            <a:off x="2857680" y="4286160"/>
            <a:ext cx="785520" cy="77796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10"/>
          <p:cNvSpPr/>
          <p:nvPr/>
        </p:nvSpPr>
        <p:spPr>
          <a:xfrm>
            <a:off x="325440" y="-503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6" name="AutoShape 12"/>
          <p:cNvSpPr/>
          <p:nvPr/>
        </p:nvSpPr>
        <p:spPr>
          <a:xfrm>
            <a:off x="325440" y="-503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67" name="Picture 14" descr="http://ic.pics.livejournal.com/pryf/39738266/6086906/6086906_original.jpg"/>
          <p:cNvPicPr/>
          <p:nvPr/>
        </p:nvPicPr>
        <p:blipFill>
          <a:blip r:embed="rId4"/>
          <a:srcRect l="22601" t="11571" r="24449" b="13120"/>
          <a:stretch/>
        </p:blipFill>
        <p:spPr>
          <a:xfrm>
            <a:off x="7358040" y="12859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6" descr="http://ic.pics.livejournal.com/dmitry_emkin/73453016/7207/7207_original.png"/>
          <p:cNvPicPr/>
          <p:nvPr/>
        </p:nvPicPr>
        <p:blipFill>
          <a:blip r:embed="rId5"/>
          <a:stretch/>
        </p:blipFill>
        <p:spPr>
          <a:xfrm>
            <a:off x="7215120" y="2214720"/>
            <a:ext cx="828720" cy="776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Ну</a:t>
            </a:r>
            <a:r>
              <a:rPr b="1" i="1" lang="ru-RU" sz="3200" spc="-1" strike="noStrike">
                <a:solidFill>
                  <a:srgbClr val="002060"/>
                </a:solidFill>
                <a:latin typeface="Franklin Gothic Book"/>
              </a:rPr>
              <a:t>-</a:t>
            </a: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ка, всё проверь, дружок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Ты готов начать урок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Всё ль на месте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Всё ль в порядке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Ручка, книжка и тетрадь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Все ли правильно сидя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Все ль внимательно глядя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Каждый хочет получа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Только лишь оценку «пять»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7" descr="MCj04238280000[1]"/>
          <p:cNvPicPr/>
          <p:nvPr/>
        </p:nvPicPr>
        <p:blipFill>
          <a:blip r:embed="rId1"/>
          <a:stretch/>
        </p:blipFill>
        <p:spPr>
          <a:xfrm>
            <a:off x="7000920" y="4387680"/>
            <a:ext cx="1328760" cy="2106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MCj04348590000[1]"/>
          <p:cNvPicPr/>
          <p:nvPr/>
        </p:nvPicPr>
        <p:blipFill>
          <a:blip r:embed="rId2"/>
          <a:stretch/>
        </p:blipFill>
        <p:spPr>
          <a:xfrm>
            <a:off x="6000840" y="307188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Franklin Gothic Book"/>
              </a:rPr>
              <a:t>Словарь: за.ц, м.дведь, с.бака, х.зяин, ч.ловек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7" descr="MCj04238280000[1]"/>
          <p:cNvPicPr/>
          <p:nvPr/>
        </p:nvPicPr>
        <p:blipFill>
          <a:blip r:embed="rId1"/>
          <a:stretch/>
        </p:blipFill>
        <p:spPr>
          <a:xfrm>
            <a:off x="6981840" y="4357800"/>
            <a:ext cx="1347840" cy="213660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4"/>
          <p:cNvSpPr/>
          <p:nvPr/>
        </p:nvSpPr>
        <p:spPr>
          <a:xfrm>
            <a:off x="1428840" y="2786040"/>
            <a:ext cx="5214960" cy="22147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Назови животных ласково.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Содержимое 2"/>
          <p:cNvSpPr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07" name="Picture 15" descr="мальчик"/>
          <p:cNvPicPr/>
          <p:nvPr/>
        </p:nvPicPr>
        <p:blipFill>
          <a:blip r:embed="rId1"/>
          <a:stretch/>
        </p:blipFill>
        <p:spPr>
          <a:xfrm>
            <a:off x="498600" y="3714840"/>
            <a:ext cx="1885680" cy="258444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4"/>
          <p:cNvSpPr/>
          <p:nvPr/>
        </p:nvSpPr>
        <p:spPr>
          <a:xfrm>
            <a:off x="1143000" y="142920"/>
            <a:ext cx="6858000" cy="257184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Какие слова родные по смыслу можно подобрать к слову </a:t>
            </a: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собака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Какое слово не имеет общей части  с другими словами?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2286000" y="335772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Arial"/>
              </a:rPr>
              <a:t>Собачка, собачий, собачонка, щенок.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Содержимое 4" descr="2164618.jpg"/>
          <p:cNvPicPr/>
          <p:nvPr/>
        </p:nvPicPr>
        <p:blipFill>
          <a:blip r:embed="rId1"/>
          <a:stretch/>
        </p:blipFill>
        <p:spPr>
          <a:xfrm>
            <a:off x="1714680" y="0"/>
            <a:ext cx="5829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1" name="Группа 16"/>
          <p:cNvGrpSpPr/>
          <p:nvPr/>
        </p:nvGrpSpPr>
        <p:grpSpPr>
          <a:xfrm>
            <a:off x="3286080" y="1135080"/>
            <a:ext cx="2786040" cy="865080"/>
            <a:chOff x="3286080" y="1135080"/>
            <a:chExt cx="2786040" cy="865080"/>
          </a:xfrm>
        </p:grpSpPr>
        <p:pic>
          <p:nvPicPr>
            <p:cNvPr id="412" name="Picture 4" descr="http://s1.pic4you.ru/allimage/y2012/09-26/12216/2477340.png"/>
            <p:cNvPicPr/>
            <p:nvPr/>
          </p:nvPicPr>
          <p:blipFill>
            <a:blip r:embed="rId2"/>
            <a:stretch/>
          </p:blipFill>
          <p:spPr>
            <a:xfrm>
              <a:off x="3286080" y="1135080"/>
              <a:ext cx="27860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Box 8"/>
            <p:cNvSpPr/>
            <p:nvPr/>
          </p:nvSpPr>
          <p:spPr>
            <a:xfrm>
              <a:off x="4000320" y="1356840"/>
              <a:ext cx="18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собачий</a:t>
              </a:r>
              <a:endParaRPr b="0" lang="en-US" sz="32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414" name="Группа 17"/>
          <p:cNvGrpSpPr/>
          <p:nvPr/>
        </p:nvGrpSpPr>
        <p:grpSpPr>
          <a:xfrm>
            <a:off x="5572080" y="2071800"/>
            <a:ext cx="2071800" cy="1211040"/>
            <a:chOff x="5572080" y="2071800"/>
            <a:chExt cx="2071800" cy="1211040"/>
          </a:xfrm>
        </p:grpSpPr>
        <p:pic>
          <p:nvPicPr>
            <p:cNvPr id="415" name="Picture 6" descr="http://img-fotki.yandex.ru/get/6410/60408636.9/0_82d98_1cd5a37d_L.jpg"/>
            <p:cNvPicPr/>
            <p:nvPr/>
          </p:nvPicPr>
          <p:blipFill>
            <a:blip r:embed="rId3"/>
            <a:stretch/>
          </p:blipFill>
          <p:spPr>
            <a:xfrm>
              <a:off x="5572080" y="2071800"/>
              <a:ext cx="202608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Box 9"/>
            <p:cNvSpPr/>
            <p:nvPr/>
          </p:nvSpPr>
          <p:spPr>
            <a:xfrm>
              <a:off x="5786280" y="2643120"/>
              <a:ext cx="18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собачка</a:t>
              </a:r>
              <a:endParaRPr b="0" lang="en-US" sz="32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417" name="Группа 15"/>
          <p:cNvGrpSpPr/>
          <p:nvPr/>
        </p:nvGrpSpPr>
        <p:grpSpPr>
          <a:xfrm>
            <a:off x="2214720" y="1857240"/>
            <a:ext cx="2428560" cy="1211400"/>
            <a:chOff x="2214720" y="1857240"/>
            <a:chExt cx="2428560" cy="1211400"/>
          </a:xfrm>
        </p:grpSpPr>
        <p:pic>
          <p:nvPicPr>
            <p:cNvPr id="418" name="Picture 6" descr="http://img-fotki.yandex.ru/get/6410/60408636.9/0_82d98_1cd5a37d_L.jpg"/>
            <p:cNvPicPr/>
            <p:nvPr/>
          </p:nvPicPr>
          <p:blipFill>
            <a:blip r:embed="rId4"/>
            <a:stretch/>
          </p:blipFill>
          <p:spPr>
            <a:xfrm flipH="1">
              <a:off x="2214720" y="1857240"/>
              <a:ext cx="242856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Box 10"/>
            <p:cNvSpPr/>
            <p:nvPr/>
          </p:nvSpPr>
          <p:spPr>
            <a:xfrm>
              <a:off x="2286000" y="24289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собачонка</a:t>
              </a:r>
              <a:endParaRPr b="0" lang="en-US" sz="32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420" name="Группа 14"/>
          <p:cNvGrpSpPr/>
          <p:nvPr/>
        </p:nvGrpSpPr>
        <p:grpSpPr>
          <a:xfrm>
            <a:off x="4214880" y="2754360"/>
            <a:ext cx="1643040" cy="1879560"/>
            <a:chOff x="4214880" y="2754360"/>
            <a:chExt cx="1643040" cy="1879560"/>
          </a:xfrm>
        </p:grpSpPr>
        <p:pic>
          <p:nvPicPr>
            <p:cNvPr id="421" name="Picture 10" descr="http://s4.pic4you.ru/y2014/09-07/24687/4580470-thumb.png"/>
            <p:cNvPicPr/>
            <p:nvPr/>
          </p:nvPicPr>
          <p:blipFill>
            <a:blip r:embed="rId5"/>
            <a:stretch/>
          </p:blipFill>
          <p:spPr>
            <a:xfrm>
              <a:off x="4214880" y="2754360"/>
              <a:ext cx="157176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Box 12"/>
            <p:cNvSpPr/>
            <p:nvPr/>
          </p:nvSpPr>
          <p:spPr>
            <a:xfrm>
              <a:off x="4357440" y="314316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щенок</a:t>
              </a:r>
              <a:endParaRPr b="0" lang="en-US" sz="32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423" name="Rectangle 2"/>
          <p:cNvSpPr/>
          <p:nvPr/>
        </p:nvSpPr>
        <p:spPr>
          <a:xfrm>
            <a:off x="142920" y="6215040"/>
            <a:ext cx="90010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c4b3b"/>
                </a:solidFill>
                <a:latin typeface="Franklin Gothic Book"/>
              </a:rPr>
              <a:t>Однокоренные слова</a:t>
            </a:r>
            <a:endParaRPr b="0" lang="en-US" sz="44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424" name="Дуга 18"/>
          <p:cNvGrpSpPr/>
          <p:nvPr/>
        </p:nvGrpSpPr>
        <p:grpSpPr>
          <a:xfrm>
            <a:off x="3962520" y="926280"/>
            <a:ext cx="1341360" cy="963360"/>
            <a:chOff x="3962520" y="926280"/>
            <a:chExt cx="1341360" cy="963360"/>
          </a:xfrm>
        </p:grpSpPr>
        <p:pic>
          <p:nvPicPr>
            <p:cNvPr id="425" name="Дуга 18" descr=""/>
            <p:cNvPicPr/>
            <p:nvPr/>
          </p:nvPicPr>
          <p:blipFill>
            <a:blip r:embed="rId6"/>
            <a:stretch/>
          </p:blipFill>
          <p:spPr>
            <a:xfrm>
              <a:off x="3962520" y="1163880"/>
              <a:ext cx="1341360" cy="36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 rot="18629400">
              <a:off x="4384440" y="972720"/>
              <a:ext cx="52380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427" name="Дуга 20"/>
          <p:cNvGrpSpPr/>
          <p:nvPr/>
        </p:nvGrpSpPr>
        <p:grpSpPr>
          <a:xfrm>
            <a:off x="5748480" y="2211840"/>
            <a:ext cx="1341360" cy="959760"/>
            <a:chOff x="5748480" y="2211840"/>
            <a:chExt cx="1341360" cy="959760"/>
          </a:xfrm>
        </p:grpSpPr>
        <p:pic>
          <p:nvPicPr>
            <p:cNvPr id="428" name="Дуга 20" descr=""/>
            <p:cNvPicPr/>
            <p:nvPr/>
          </p:nvPicPr>
          <p:blipFill>
            <a:blip r:embed="rId7"/>
            <a:stretch/>
          </p:blipFill>
          <p:spPr>
            <a:xfrm>
              <a:off x="5748480" y="2449440"/>
              <a:ext cx="1341360" cy="3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 rot="18629400">
              <a:off x="6172560" y="2256840"/>
              <a:ext cx="51912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430" name="Дуга 21"/>
          <p:cNvGrpSpPr/>
          <p:nvPr/>
        </p:nvGrpSpPr>
        <p:grpSpPr>
          <a:xfrm>
            <a:off x="2249640" y="1998720"/>
            <a:ext cx="1341360" cy="958320"/>
            <a:chOff x="2249640" y="1998720"/>
            <a:chExt cx="1341360" cy="958320"/>
          </a:xfrm>
        </p:grpSpPr>
        <p:pic>
          <p:nvPicPr>
            <p:cNvPr id="431" name="Дуга 21" descr=""/>
            <p:cNvPicPr/>
            <p:nvPr/>
          </p:nvPicPr>
          <p:blipFill>
            <a:blip r:embed="rId8"/>
            <a:stretch/>
          </p:blipFill>
          <p:spPr>
            <a:xfrm>
              <a:off x="2249640" y="2237760"/>
              <a:ext cx="134136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 rot="18629400">
              <a:off x="2673360" y="2042640"/>
              <a:ext cx="51732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pic>
        <p:nvPicPr>
          <p:cNvPr id="433" name="Picture 12" descr="http://poisk-druga.ru/uploads/posts/2010-01/1264527372_golden.jpg"/>
          <p:cNvPicPr/>
          <p:nvPr/>
        </p:nvPicPr>
        <p:blipFill>
          <a:blip r:embed="rId9"/>
          <a:stretch/>
        </p:blipFill>
        <p:spPr>
          <a:xfrm>
            <a:off x="785880" y="4357800"/>
            <a:ext cx="1785960" cy="1739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Содержимое 4" descr="2164618.jpg"/>
          <p:cNvPicPr/>
          <p:nvPr/>
        </p:nvPicPr>
        <p:blipFill>
          <a:blip r:embed="rId1"/>
          <a:stretch/>
        </p:blipFill>
        <p:spPr>
          <a:xfrm>
            <a:off x="2000160" y="0"/>
            <a:ext cx="582948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"/>
          <p:cNvSpPr/>
          <p:nvPr/>
        </p:nvSpPr>
        <p:spPr>
          <a:xfrm>
            <a:off x="142920" y="6215040"/>
            <a:ext cx="90010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c4b3b"/>
                </a:solidFill>
                <a:latin typeface="Franklin Gothic Book"/>
              </a:rPr>
              <a:t>Однокоренные слова</a:t>
            </a:r>
            <a:endParaRPr b="0" lang="en-US" sz="44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6" name="TextBox 23"/>
          <p:cNvSpPr/>
          <p:nvPr/>
        </p:nvSpPr>
        <p:spPr>
          <a:xfrm>
            <a:off x="2857680" y="1143000"/>
            <a:ext cx="428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водяной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вода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водить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7" name="Прямоугольник 24"/>
          <p:cNvSpPr/>
          <p:nvPr/>
        </p:nvSpPr>
        <p:spPr>
          <a:xfrm>
            <a:off x="428760" y="1429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"/>
              </a:rPr>
              <a:t>Где слова родные – однокоренные?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8" name="AutoShape 2"/>
          <p:cNvSpPr/>
          <p:nvPr/>
        </p:nvSpPr>
        <p:spPr>
          <a:xfrm>
            <a:off x="325440" y="-503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39" name="Picture 6" descr="http://img11.nnm.me/6/a/b/7/7/d33d3ace2f8c330ab2de43013b6.jpg"/>
          <p:cNvPicPr/>
          <p:nvPr/>
        </p:nvPicPr>
        <p:blipFill>
          <a:blip r:embed="rId2"/>
          <a:stretch/>
        </p:blipFill>
        <p:spPr>
          <a:xfrm>
            <a:off x="341280" y="3846600"/>
            <a:ext cx="2262240" cy="4462200"/>
          </a:xfrm>
          <a:prstGeom prst="rect">
            <a:avLst/>
          </a:prstGeom>
          <a:ln w="0">
            <a:noFill/>
          </a:ln>
        </p:spPr>
      </p:pic>
      <p:sp>
        <p:nvSpPr>
          <p:cNvPr id="440" name="Волна 27"/>
          <p:cNvSpPr/>
          <p:nvPr/>
        </p:nvSpPr>
        <p:spPr>
          <a:xfrm>
            <a:off x="3786120" y="2643120"/>
            <a:ext cx="2357640" cy="857160"/>
          </a:xfrm>
          <a:custGeom>
            <a:avLst/>
            <a:gdLst>
              <a:gd name="textAreaLeft" fmla="*/ 0 w 2357640"/>
              <a:gd name="textAreaRight" fmla="*/ 2358000 w 235764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Содержимое 4" descr="2164618.jpg"/>
          <p:cNvPicPr/>
          <p:nvPr/>
        </p:nvPicPr>
        <p:blipFill>
          <a:blip r:embed="rId1"/>
          <a:stretch/>
        </p:blipFill>
        <p:spPr>
          <a:xfrm>
            <a:off x="1785960" y="0"/>
            <a:ext cx="582912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"/>
          <p:cNvSpPr/>
          <p:nvPr/>
        </p:nvSpPr>
        <p:spPr>
          <a:xfrm>
            <a:off x="142920" y="6215040"/>
            <a:ext cx="90010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c4b3b"/>
                </a:solidFill>
                <a:latin typeface="Franklin Gothic Book"/>
              </a:rPr>
              <a:t>Однокоренные слова</a:t>
            </a:r>
            <a:endParaRPr b="0" lang="en-US" sz="44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3" name="TextBox 23"/>
          <p:cNvSpPr/>
          <p:nvPr/>
        </p:nvSpPr>
        <p:spPr>
          <a:xfrm>
            <a:off x="2857680" y="1143000"/>
            <a:ext cx="428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ист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иса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исёнок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4" name="Прямоугольник 4"/>
          <p:cNvSpPr/>
          <p:nvPr/>
        </p:nvSpPr>
        <p:spPr>
          <a:xfrm>
            <a:off x="428760" y="1429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"/>
              </a:rPr>
              <a:t>Где слова родные – однокоренные?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45" name="Picture 2" descr="http://900igr.net/data/skazki-i-igry/Otkuda-ja-vzjalsja-1.files/0043-246-U-lisy-lisenok.jpg"/>
          <p:cNvPicPr/>
          <p:nvPr/>
        </p:nvPicPr>
        <p:blipFill>
          <a:blip r:embed="rId2"/>
          <a:stretch/>
        </p:blipFill>
        <p:spPr>
          <a:xfrm>
            <a:off x="6643800" y="4357800"/>
            <a:ext cx="2274840" cy="1577880"/>
          </a:xfrm>
          <a:prstGeom prst="rect">
            <a:avLst/>
          </a:prstGeom>
          <a:ln w="0">
            <a:noFill/>
          </a:ln>
        </p:spPr>
      </p:pic>
      <p:sp>
        <p:nvSpPr>
          <p:cNvPr id="446" name="Волна 6"/>
          <p:cNvSpPr/>
          <p:nvPr/>
        </p:nvSpPr>
        <p:spPr>
          <a:xfrm>
            <a:off x="3714840" y="1143000"/>
            <a:ext cx="2357280" cy="857160"/>
          </a:xfrm>
          <a:custGeom>
            <a:avLst/>
            <a:gdLst>
              <a:gd name="textAreaLeft" fmla="*/ 0 w 2357280"/>
              <a:gd name="textAreaRight" fmla="*/ 2357640 w 235728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Содержимое 4" descr="2164618.jpg"/>
          <p:cNvPicPr/>
          <p:nvPr/>
        </p:nvPicPr>
        <p:blipFill>
          <a:blip r:embed="rId1"/>
          <a:stretch/>
        </p:blipFill>
        <p:spPr>
          <a:xfrm>
            <a:off x="1785960" y="0"/>
            <a:ext cx="582912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"/>
          <p:cNvSpPr/>
          <p:nvPr/>
        </p:nvSpPr>
        <p:spPr>
          <a:xfrm>
            <a:off x="142920" y="6215040"/>
            <a:ext cx="90010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c4b3b"/>
                </a:solidFill>
                <a:latin typeface="Franklin Gothic Book"/>
              </a:rPr>
              <a:t>Однокоренные слова</a:t>
            </a:r>
            <a:endParaRPr b="0" lang="en-US" sz="44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9" name="TextBox 23"/>
          <p:cNvSpPr/>
          <p:nvPr/>
        </p:nvSpPr>
        <p:spPr>
          <a:xfrm>
            <a:off x="2857680" y="1143000"/>
            <a:ext cx="428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ось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оскут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осёнок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0" name="Прямоугольник 4"/>
          <p:cNvSpPr/>
          <p:nvPr/>
        </p:nvSpPr>
        <p:spPr>
          <a:xfrm>
            <a:off x="428760" y="1429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"/>
              </a:rPr>
              <a:t>Где слова родные – однокоренные?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1" name="AutoShape 2"/>
          <p:cNvSpPr/>
          <p:nvPr/>
        </p:nvSpPr>
        <p:spPr>
          <a:xfrm>
            <a:off x="325440" y="-503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52" name="Picture 4" descr="http://logoped18.ru/images/rabochaya-tetrad-po-obucheniyu-detey-3.jpg"/>
          <p:cNvPicPr/>
          <p:nvPr/>
        </p:nvPicPr>
        <p:blipFill>
          <a:blip r:embed="rId2"/>
          <a:stretch/>
        </p:blipFill>
        <p:spPr>
          <a:xfrm>
            <a:off x="142920" y="4429080"/>
            <a:ext cx="2500200" cy="1774800"/>
          </a:xfrm>
          <a:prstGeom prst="rect">
            <a:avLst/>
          </a:prstGeom>
          <a:ln w="0">
            <a:noFill/>
          </a:ln>
        </p:spPr>
      </p:pic>
      <p:sp>
        <p:nvSpPr>
          <p:cNvPr id="453" name="Волна 7"/>
          <p:cNvSpPr/>
          <p:nvPr/>
        </p:nvSpPr>
        <p:spPr>
          <a:xfrm>
            <a:off x="3929040" y="1928880"/>
            <a:ext cx="2357640" cy="857160"/>
          </a:xfrm>
          <a:custGeom>
            <a:avLst/>
            <a:gdLst>
              <a:gd name="textAreaLeft" fmla="*/ 0 w 2357640"/>
              <a:gd name="textAreaRight" fmla="*/ 2358000 w 235764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603360" y="208080"/>
            <a:ext cx="8235720" cy="116352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2060"/>
                </a:solidFill>
                <a:latin typeface="Franklin Gothic Book"/>
              </a:rPr>
              <a:t>Больной, больница, большой.</a:t>
            </a:r>
            <a:endParaRPr b="0" lang="en-US" sz="4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2060"/>
                </a:solidFill>
                <a:latin typeface="Franklin Gothic Book"/>
              </a:rPr>
              <a:t>Путь, дорога, путник.</a:t>
            </a:r>
            <a:endParaRPr b="0" lang="en-US" sz="4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2060"/>
                </a:solidFill>
                <a:latin typeface="Franklin Gothic Book"/>
              </a:rPr>
              <a:t>Часовщик, час, часть</a:t>
            </a:r>
            <a:r>
              <a:rPr b="1" lang="ru-RU" sz="46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4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Волна 7"/>
          <p:cNvSpPr/>
          <p:nvPr/>
        </p:nvSpPr>
        <p:spPr>
          <a:xfrm>
            <a:off x="5072040" y="1857240"/>
            <a:ext cx="2571840" cy="914400"/>
          </a:xfrm>
          <a:custGeom>
            <a:avLst/>
            <a:gdLst>
              <a:gd name="textAreaLeft" fmla="*/ 0 w 2571840"/>
              <a:gd name="textAreaRight" fmla="*/ 2572200 w 25718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7" name="Волна 8"/>
          <p:cNvSpPr/>
          <p:nvPr/>
        </p:nvSpPr>
        <p:spPr>
          <a:xfrm>
            <a:off x="1357200" y="2928960"/>
            <a:ext cx="2000520" cy="771480"/>
          </a:xfrm>
          <a:custGeom>
            <a:avLst/>
            <a:gdLst>
              <a:gd name="textAreaLeft" fmla="*/ 0 w 2000520"/>
              <a:gd name="textAreaRight" fmla="*/ 2000880 w 2000520"/>
              <a:gd name="textAreaTop" fmla="*/ 192960 h 771480"/>
              <a:gd name="textAreaBottom" fmla="*/ 578880 h 7714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8" name="Волна 9"/>
          <p:cNvSpPr/>
          <p:nvPr/>
        </p:nvSpPr>
        <p:spPr>
          <a:xfrm>
            <a:off x="4143240" y="3500280"/>
            <a:ext cx="2571840" cy="914400"/>
          </a:xfrm>
          <a:custGeom>
            <a:avLst/>
            <a:gdLst>
              <a:gd name="textAreaLeft" fmla="*/ 0 w 2571840"/>
              <a:gd name="textAreaRight" fmla="*/ 2572200 w 25718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59" name="Picture 7" descr="MCj04238280000[1]"/>
          <p:cNvPicPr/>
          <p:nvPr/>
        </p:nvPicPr>
        <p:blipFill>
          <a:blip r:embed="rId2"/>
          <a:stretch/>
        </p:blipFill>
        <p:spPr>
          <a:xfrm>
            <a:off x="6981840" y="4357800"/>
            <a:ext cx="1347840" cy="2136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5:33:02Z</dcterms:created>
  <dc:creator>Admin</dc:creator>
  <dc:description/>
  <dc:language>en-US</dc:language>
  <cp:lastModifiedBy>Пирожок</cp:lastModifiedBy>
  <dcterms:modified xsi:type="dcterms:W3CDTF">2015-10-10T13:05:15Z</dcterms:modified>
  <cp:revision>99</cp:revision>
  <dc:subject/>
  <dc:title>Маленькое дело лучше   большого безделья.</dc:title>
</cp:coreProperties>
</file>