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CCB-02B2-46F5-987C-6062251E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A72-1D3B-4B63-9F0E-2AF203C9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E9AD4-F719-4C74-BF8D-CB461932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303C9-0DA5-405B-92E5-4D78DFF3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37414-CE79-4F59-8090-E607D27A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F391C-07A2-4B93-BDC5-AF03DF0F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94D34-77B6-49BA-A16C-DA50B653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B852C-59D0-45AD-B431-CCEA4E88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3AB9D-B76A-4982-B2A8-9BC32254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0A478-2552-470E-BD26-6A61C947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8FF7E-C0D9-4513-9271-3EE6615F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5C9-1038-4E58-9054-B63271B6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F0C-B115-4C30-9F37-A64CF986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19FF-E047-4DF3-A68C-EDC585DA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94F8-96F1-46D6-873D-8C0514E4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BEC8-94FD-4ADF-8E4C-8B25816D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B877-D7F6-4464-B5E7-5D8F0748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D637-AEA3-439A-A6BC-1587DEF0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AB75-DC64-409F-8301-5BA9129F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FD8D-CAC1-4710-9290-806B6CF4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548-4840-48B4-B0FF-E5A32DD7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B21D-BE94-4471-83E1-356C139D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6B34-F67A-41A2-86B9-8EF3AC5A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C0F8-BFE3-4299-BF32-E5C0E223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0241-5FF4-491F-9DFA-0AFCE464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51A5-B808-474C-B25F-281FBCA2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CBAE8-841E-46AB-B1DD-1021A492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1D45E-F072-4688-BDF4-3F7F479A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AF45B-0F21-4C9A-97CD-A2E05FA9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6D6B5-7BA1-4B3C-9F4F-418D9433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94F73-043F-4609-8A4A-C1B5B07E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958-D7E9-4DF5-B2D9-AFBFB309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79A86-C80F-4364-918B-43A129D4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3A12A-57C1-4B54-AE1A-7F962DD3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1764-067A-4808-A40C-8FF4CA66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B49A2-AD9B-4C56-ADD5-DC86EC39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2428C-4D03-454C-BF03-828153EF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BC153-5E15-45B2-A6A0-20925BEA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4F06A-71C5-43F5-97F2-A652C854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80929-E2D5-4252-BD32-A67B828E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84DAF-0BEA-40F4-9EEF-FBAD43FC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8B1DE-D7BA-459A-BAAA-CE1FD321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C26-F74A-4E86-A6B3-3C21F8C9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EB9BE-BF82-4ACC-98AF-50A1F4D6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D504A-581C-4851-AD49-F4B33DCC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3605C-A95A-439A-B2A7-1ACCF373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CD1F6-29D5-431D-A1A7-D1748BCF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D300D-94F3-430B-8FF3-DDE52BB9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0584D-8470-4A52-863A-03C1D9F0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2A88B-1749-4F4B-93A4-760E8F77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64C6E-72AE-46FD-8807-CC5F8A8A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8764C-1C17-4600-B44B-0EAB7B9C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8720D-C23E-44BE-997E-5927AE28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B48-76EC-4C6C-B57A-C929C40B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79C47-36C2-432B-AEB3-8B2593FB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C1A78-821C-412A-B567-433CE2B6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507DB-7015-4573-8173-C491F4EC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19115-F47E-4728-8976-AB51B3EB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5D459-BD69-43E4-95A9-B1C52F79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5203D-8CD5-4A5A-A1DF-9D45A56E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5A3AF-8392-4865-9EB0-81883E83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99E62-C6DD-4C65-AD34-D70CFDC5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046ED-FDCF-4176-A40D-F4E3F937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9FC5F-3251-4C2B-BE24-9A01C7CC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5121-0B00-4DC5-832A-54FC16BB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C0451-198D-4AF0-9392-0E3C87CB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A7C7B-7C33-4349-925C-F68C76AD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F2546-A947-4BD8-AE42-11C43AEB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80CC2-C2C6-4BBE-A6C8-E4A05400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C3487-39CA-4B59-99FC-FE049661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DAE59-D2D0-47A9-A357-03886E1C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EAFB0-DF32-4D0C-B8C1-BD1E363A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8B993-BB59-479C-96F5-A30A32FC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26F88-F83E-44C2-945F-B1751602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EA4E8-905E-443B-9DE2-1D696BF2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0D7-6C30-47F1-82F6-8A55E289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9F1C2-BC17-4CF7-85B7-7CB0F8C4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FA725-7C0F-4AB5-9270-D2C1A1A4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EB3B5-AB02-4EF6-8E18-FDA62F90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FACCC-D07B-48C6-9ECE-C09A24D1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236B6-CA97-4B79-94AB-FE776E07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6CF75-B8EF-40DD-BCCC-C45108D8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991D9-F8EB-402C-A4B2-D6A10EF0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630D2-D1C5-4285-AA34-B6C1CCC4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A89E6-1FEB-47EF-982A-E1E9255F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055C6-E510-454D-A31A-4F6FE683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E042-C341-4DC1-BFAE-3A5E2651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71F94-A322-4C95-9FBD-D94A8DC7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15991-61FE-407C-AB00-1DD6253A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19C92-C3E7-4B6D-8A81-85B3D314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68BD1-3D9A-4EC0-8806-149B9808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2250A-91AD-452B-8629-3164AADC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75DD0-7BF4-4212-91B4-4C960B3A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C669E-4FBA-4336-9C87-F65A8A8F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BE3C3-08E7-468D-B89E-E99A9C5A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DBF7A-7264-4917-9CDE-38AE96A1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BA522-551C-48C1-9B1C-53208765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051-14C4-40AB-80A3-5B2B83AB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CE744-3836-44DF-B27A-2511E284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DBDCC-BC3A-43BB-9DA7-577B1B8B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88A7F-6455-4845-9F60-8F8C0C52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0F5AE-0CBA-4D29-AC29-18E2F448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0C433-F0F0-463F-BB96-8BA3F44C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A54A9-E572-45FF-A9EC-03334E7A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AC9F8-BABF-489E-BC9B-FC88761C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1C610-2561-4D02-B035-22474E00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024C5-C865-4DA3-8CC6-29692F6C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20242-D5EA-400F-8304-C2782367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0E1E-8699-47F5-BA71-E04B279C3FC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8730-FC39-4E89-8AB9-B38B62A4A9B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F55A-2E28-4B53-95D4-070E7A1CF04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D17D-AB85-4FF5-86D4-AB696F44F96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A135-1ECB-4B72-ADA5-B38EE9E636F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9F46-1503-420D-8DB8-7B319D01E62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EB1C-DAF7-4B28-A409-77421E6B599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F6C1-1C77-4E42-8E2B-E59F1B4CE6D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2E64-A1D4-4C6F-AE14-5B9CD73A5F5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357120" y="1428840"/>
            <a:ext cx="8786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7c4b3b"/>
                </a:solidFill>
                <a:latin typeface="Franklin Gothic Book"/>
              </a:rPr>
              <a:t>Однокоренные слова</a:t>
            </a: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Прямоугольник 3"/>
          <p:cNvSpPr/>
          <p:nvPr/>
        </p:nvSpPr>
        <p:spPr>
          <a:xfrm>
            <a:off x="1785960" y="214200"/>
            <a:ext cx="607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c4b3b"/>
                </a:solidFill>
                <a:latin typeface="Franklin Gothic Book"/>
              </a:rPr>
              <a:t>Игра «Редактор»</a:t>
            </a:r>
            <a:endParaRPr b="0" lang="en-US" sz="44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9137520" y="1066680"/>
            <a:ext cx="513000" cy="12985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2512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5400" spc="-1" strike="noStrike">
                <a:solidFill>
                  <a:srgbClr val="002060"/>
                </a:solidFill>
                <a:latin typeface="Franklin Gothic Book"/>
              </a:rPr>
              <a:t>У меня встали … . Ещё … назад ходили. А сейчас … стрелка стоит неподвижно. Нужно, чтобы их починил мастер - … .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250920" indent="251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250920" indent="2512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3b14"/>
                </a:solidFill>
                <a:latin typeface="Franklin Gothic Book"/>
              </a:rPr>
              <a:t>Слова для справок:  </a:t>
            </a:r>
            <a:r>
              <a:rPr b="1" lang="ru-RU" sz="4400" spc="-1" strike="noStrike">
                <a:solidFill>
                  <a:srgbClr val="c00000"/>
                </a:solidFill>
                <a:latin typeface="Franklin Gothic Book"/>
              </a:rPr>
              <a:t>часовщик, час, часовая, часики.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3" name="Picture 6" descr="http://g02.a.alicdn.com/kf/HTB1DqLiIpXXXXbEXFXXq6xXFXXXH/Bronze-Tone-font-b-Lady-b-font-font-b-Vintage-b-font-font-b-Watches-b.jpg"/>
          <p:cNvPicPr/>
          <p:nvPr/>
        </p:nvPicPr>
        <p:blipFill>
          <a:blip r:embed="rId2"/>
          <a:stretch/>
        </p:blipFill>
        <p:spPr>
          <a:xfrm>
            <a:off x="492912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http://watch.kvels55.ru/uploads/company/-972706733/3488/5.jpg"/>
          <p:cNvPicPr/>
          <p:nvPr/>
        </p:nvPicPr>
        <p:blipFill>
          <a:blip r:embed="rId3"/>
          <a:stretch/>
        </p:blipFill>
        <p:spPr>
          <a:xfrm>
            <a:off x="2857680" y="4286160"/>
            <a:ext cx="785520" cy="777960"/>
          </a:xfrm>
          <a:prstGeom prst="rect">
            <a:avLst/>
          </a:prstGeom>
          <a:ln w="0">
            <a:noFill/>
          </a:ln>
        </p:spPr>
      </p:pic>
      <p:sp>
        <p:nvSpPr>
          <p:cNvPr id="465" name="AutoShape 10"/>
          <p:cNvSpPr/>
          <p:nvPr/>
        </p:nvSpPr>
        <p:spPr>
          <a:xfrm>
            <a:off x="325440" y="-503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6" name="AutoShape 12"/>
          <p:cNvSpPr/>
          <p:nvPr/>
        </p:nvSpPr>
        <p:spPr>
          <a:xfrm>
            <a:off x="325440" y="-503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67" name="Picture 14" descr="http://ic.pics.livejournal.com/pryf/39738266/6086906/6086906_original.jpg"/>
          <p:cNvPicPr/>
          <p:nvPr/>
        </p:nvPicPr>
        <p:blipFill>
          <a:blip r:embed="rId4"/>
          <a:srcRect l="22601" t="11571" r="24449" b="13120"/>
          <a:stretch/>
        </p:blipFill>
        <p:spPr>
          <a:xfrm>
            <a:off x="7358040" y="12859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6" descr="http://ic.pics.livejournal.com/dmitry_emkin/73453016/7207/7207_original.png"/>
          <p:cNvPicPr/>
          <p:nvPr/>
        </p:nvPicPr>
        <p:blipFill>
          <a:blip r:embed="rId5"/>
          <a:stretch/>
        </p:blipFill>
        <p:spPr>
          <a:xfrm>
            <a:off x="7215120" y="2214720"/>
            <a:ext cx="828720" cy="776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Franklin Gothic Book"/>
              </a:rPr>
              <a:t>Ну</a:t>
            </a:r>
            <a:r>
              <a:rPr b="1" i="1" lang="ru-RU" sz="3200" spc="-1" strike="noStrike">
                <a:solidFill>
                  <a:srgbClr val="002060"/>
                </a:solidFill>
                <a:latin typeface="Franklin Gothic Book"/>
              </a:rPr>
              <a:t>-</a:t>
            </a:r>
            <a:r>
              <a:rPr b="0" i="1" lang="ru-RU" sz="3200" spc="-1" strike="noStrike">
                <a:solidFill>
                  <a:srgbClr val="002060"/>
                </a:solidFill>
                <a:latin typeface="Franklin Gothic Book"/>
              </a:rPr>
              <a:t>ка, всё проверь, дружок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Franklin Gothic Book"/>
              </a:rPr>
              <a:t>Ты готов начать урок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Franklin Gothic Book"/>
              </a:rPr>
              <a:t>Всё ль на месте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Franklin Gothic Book"/>
              </a:rPr>
              <a:t>Всё ль в порядке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Franklin Gothic Book"/>
              </a:rPr>
              <a:t>Ручка, книжка и тетрадь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Franklin Gothic Book"/>
              </a:rPr>
              <a:t>Все ли правильно сидят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Franklin Gothic Book"/>
              </a:rPr>
              <a:t>Все ль внимательно глядят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Franklin Gothic Book"/>
              </a:rPr>
              <a:t>Каждый хочет получа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Franklin Gothic Book"/>
              </a:rPr>
              <a:t>Только лишь оценку «пять»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7" descr="MCj04238280000[1]"/>
          <p:cNvPicPr/>
          <p:nvPr/>
        </p:nvPicPr>
        <p:blipFill>
          <a:blip r:embed="rId1"/>
          <a:stretch/>
        </p:blipFill>
        <p:spPr>
          <a:xfrm>
            <a:off x="7000920" y="4387680"/>
            <a:ext cx="1328760" cy="21067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MCj04348590000[1]"/>
          <p:cNvPicPr/>
          <p:nvPr/>
        </p:nvPicPr>
        <p:blipFill>
          <a:blip r:embed="rId2"/>
          <a:stretch/>
        </p:blipFill>
        <p:spPr>
          <a:xfrm>
            <a:off x="6000840" y="307188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Franklin Gothic Book"/>
              </a:rPr>
              <a:t>Словарь: за.ц, м.дведь, с.бака, х.зяин, ч.ловек.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7" descr="MCj04238280000[1]"/>
          <p:cNvPicPr/>
          <p:nvPr/>
        </p:nvPicPr>
        <p:blipFill>
          <a:blip r:embed="rId1"/>
          <a:stretch/>
        </p:blipFill>
        <p:spPr>
          <a:xfrm>
            <a:off x="6981840" y="4357800"/>
            <a:ext cx="1347840" cy="213660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4"/>
          <p:cNvSpPr/>
          <p:nvPr/>
        </p:nvSpPr>
        <p:spPr>
          <a:xfrm>
            <a:off x="1428840" y="2786040"/>
            <a:ext cx="5214960" cy="22147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Назови животных ласково.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Содержимое 2"/>
          <p:cNvSpPr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07" name="Picture 15" descr="мальчик"/>
          <p:cNvPicPr/>
          <p:nvPr/>
        </p:nvPicPr>
        <p:blipFill>
          <a:blip r:embed="rId1"/>
          <a:stretch/>
        </p:blipFill>
        <p:spPr>
          <a:xfrm>
            <a:off x="498600" y="3714840"/>
            <a:ext cx="1885680" cy="258444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4"/>
          <p:cNvSpPr/>
          <p:nvPr/>
        </p:nvSpPr>
        <p:spPr>
          <a:xfrm>
            <a:off x="1143000" y="142920"/>
            <a:ext cx="6858000" cy="257184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Какие слова родные по смыслу можно подобрать к слову </a:t>
            </a:r>
            <a:r>
              <a:rPr b="1" lang="ru-RU" sz="2800" spc="-1" strike="noStrike">
                <a:solidFill>
                  <a:srgbClr val="c00000"/>
                </a:solidFill>
                <a:latin typeface="Franklin Gothic Book"/>
              </a:rPr>
              <a:t>собака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Какое слово не имеет общей части  с другими словами?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9" name="Прямоугольник 5"/>
          <p:cNvSpPr/>
          <p:nvPr/>
        </p:nvSpPr>
        <p:spPr>
          <a:xfrm>
            <a:off x="2286000" y="3357720"/>
            <a:ext cx="657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Arial"/>
              </a:rPr>
              <a:t>Собачка, собачий, собачонка, щенок.</a:t>
            </a:r>
            <a:endParaRPr b="0" lang="en-US" sz="4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Содержимое 4" descr="2164618.jpg"/>
          <p:cNvPicPr/>
          <p:nvPr/>
        </p:nvPicPr>
        <p:blipFill>
          <a:blip r:embed="rId1"/>
          <a:stretch/>
        </p:blipFill>
        <p:spPr>
          <a:xfrm>
            <a:off x="1714680" y="0"/>
            <a:ext cx="5829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1" name="Группа 16"/>
          <p:cNvGrpSpPr/>
          <p:nvPr/>
        </p:nvGrpSpPr>
        <p:grpSpPr>
          <a:xfrm>
            <a:off x="3286080" y="1135080"/>
            <a:ext cx="2786040" cy="865080"/>
            <a:chOff x="3286080" y="1135080"/>
            <a:chExt cx="2786040" cy="865080"/>
          </a:xfrm>
        </p:grpSpPr>
        <p:pic>
          <p:nvPicPr>
            <p:cNvPr id="412" name="Picture 4" descr="http://s1.pic4you.ru/allimage/y2012/09-26/12216/2477340.png"/>
            <p:cNvPicPr/>
            <p:nvPr/>
          </p:nvPicPr>
          <p:blipFill>
            <a:blip r:embed="rId2"/>
            <a:stretch/>
          </p:blipFill>
          <p:spPr>
            <a:xfrm>
              <a:off x="3286080" y="1135080"/>
              <a:ext cx="27860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Box 8"/>
            <p:cNvSpPr/>
            <p:nvPr/>
          </p:nvSpPr>
          <p:spPr>
            <a:xfrm>
              <a:off x="4000320" y="1356840"/>
              <a:ext cx="185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Arial"/>
                </a:rPr>
                <a:t>собачий</a:t>
              </a:r>
              <a:endParaRPr b="0" lang="en-US" sz="32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grpSp>
        <p:nvGrpSpPr>
          <p:cNvPr id="414" name="Группа 17"/>
          <p:cNvGrpSpPr/>
          <p:nvPr/>
        </p:nvGrpSpPr>
        <p:grpSpPr>
          <a:xfrm>
            <a:off x="5572080" y="2071800"/>
            <a:ext cx="2071800" cy="1211040"/>
            <a:chOff x="5572080" y="2071800"/>
            <a:chExt cx="2071800" cy="1211040"/>
          </a:xfrm>
        </p:grpSpPr>
        <p:pic>
          <p:nvPicPr>
            <p:cNvPr id="415" name="Picture 6" descr="http://img-fotki.yandex.ru/get/6410/60408636.9/0_82d98_1cd5a37d_L.jpg"/>
            <p:cNvPicPr/>
            <p:nvPr/>
          </p:nvPicPr>
          <p:blipFill>
            <a:blip r:embed="rId3"/>
            <a:stretch/>
          </p:blipFill>
          <p:spPr>
            <a:xfrm>
              <a:off x="5572080" y="2071800"/>
              <a:ext cx="2026080" cy="12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TextBox 9"/>
            <p:cNvSpPr/>
            <p:nvPr/>
          </p:nvSpPr>
          <p:spPr>
            <a:xfrm>
              <a:off x="5786280" y="2643120"/>
              <a:ext cx="185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Arial"/>
                </a:rPr>
                <a:t>собачка</a:t>
              </a:r>
              <a:endParaRPr b="0" lang="en-US" sz="32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grpSp>
        <p:nvGrpSpPr>
          <p:cNvPr id="417" name="Группа 15"/>
          <p:cNvGrpSpPr/>
          <p:nvPr/>
        </p:nvGrpSpPr>
        <p:grpSpPr>
          <a:xfrm>
            <a:off x="2214720" y="1857240"/>
            <a:ext cx="2428560" cy="1211400"/>
            <a:chOff x="2214720" y="1857240"/>
            <a:chExt cx="2428560" cy="1211400"/>
          </a:xfrm>
        </p:grpSpPr>
        <p:pic>
          <p:nvPicPr>
            <p:cNvPr id="418" name="Picture 6" descr="http://img-fotki.yandex.ru/get/6410/60408636.9/0_82d98_1cd5a37d_L.jpg"/>
            <p:cNvPicPr/>
            <p:nvPr/>
          </p:nvPicPr>
          <p:blipFill>
            <a:blip r:embed="rId4"/>
            <a:stretch/>
          </p:blipFill>
          <p:spPr>
            <a:xfrm flipH="1">
              <a:off x="2214720" y="1857240"/>
              <a:ext cx="2428560" cy="12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Box 10"/>
            <p:cNvSpPr/>
            <p:nvPr/>
          </p:nvSpPr>
          <p:spPr>
            <a:xfrm>
              <a:off x="2286000" y="242892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Arial"/>
                </a:rPr>
                <a:t>собачонка</a:t>
              </a:r>
              <a:endParaRPr b="0" lang="en-US" sz="32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grpSp>
        <p:nvGrpSpPr>
          <p:cNvPr id="420" name="Группа 14"/>
          <p:cNvGrpSpPr/>
          <p:nvPr/>
        </p:nvGrpSpPr>
        <p:grpSpPr>
          <a:xfrm>
            <a:off x="4214880" y="2754360"/>
            <a:ext cx="1643040" cy="1879560"/>
            <a:chOff x="4214880" y="2754360"/>
            <a:chExt cx="1643040" cy="1879560"/>
          </a:xfrm>
        </p:grpSpPr>
        <p:pic>
          <p:nvPicPr>
            <p:cNvPr id="421" name="Picture 10" descr="http://s4.pic4you.ru/y2014/09-07/24687/4580470-thumb.png"/>
            <p:cNvPicPr/>
            <p:nvPr/>
          </p:nvPicPr>
          <p:blipFill>
            <a:blip r:embed="rId5"/>
            <a:stretch/>
          </p:blipFill>
          <p:spPr>
            <a:xfrm>
              <a:off x="4214880" y="2754360"/>
              <a:ext cx="157176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TextBox 12"/>
            <p:cNvSpPr/>
            <p:nvPr/>
          </p:nvSpPr>
          <p:spPr>
            <a:xfrm>
              <a:off x="4357440" y="3143160"/>
              <a:ext cx="150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Arial"/>
                </a:rPr>
                <a:t>щенок</a:t>
              </a:r>
              <a:endParaRPr b="0" lang="en-US" sz="32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sp>
        <p:nvSpPr>
          <p:cNvPr id="423" name="Rectangle 2"/>
          <p:cNvSpPr/>
          <p:nvPr/>
        </p:nvSpPr>
        <p:spPr>
          <a:xfrm>
            <a:off x="142920" y="6215040"/>
            <a:ext cx="90010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c4b3b"/>
                </a:solidFill>
                <a:latin typeface="Franklin Gothic Book"/>
              </a:rPr>
              <a:t>Однокоренные слова</a:t>
            </a:r>
            <a:endParaRPr b="0" lang="en-US" sz="44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424" name="Дуга 18"/>
          <p:cNvGrpSpPr/>
          <p:nvPr/>
        </p:nvGrpSpPr>
        <p:grpSpPr>
          <a:xfrm>
            <a:off x="3962520" y="926280"/>
            <a:ext cx="1341360" cy="963360"/>
            <a:chOff x="3962520" y="926280"/>
            <a:chExt cx="1341360" cy="963360"/>
          </a:xfrm>
        </p:grpSpPr>
        <p:pic>
          <p:nvPicPr>
            <p:cNvPr id="425" name="Дуга 18" descr=""/>
            <p:cNvPicPr/>
            <p:nvPr/>
          </p:nvPicPr>
          <p:blipFill>
            <a:blip r:embed="rId6"/>
            <a:stretch/>
          </p:blipFill>
          <p:spPr>
            <a:xfrm>
              <a:off x="3962520" y="1163880"/>
              <a:ext cx="1341360" cy="36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 rot="18629400">
              <a:off x="4384440" y="972720"/>
              <a:ext cx="523800" cy="8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grpSp>
        <p:nvGrpSpPr>
          <p:cNvPr id="427" name="Дуга 20"/>
          <p:cNvGrpSpPr/>
          <p:nvPr/>
        </p:nvGrpSpPr>
        <p:grpSpPr>
          <a:xfrm>
            <a:off x="5748480" y="2211840"/>
            <a:ext cx="1341360" cy="959760"/>
            <a:chOff x="5748480" y="2211840"/>
            <a:chExt cx="1341360" cy="959760"/>
          </a:xfrm>
        </p:grpSpPr>
        <p:pic>
          <p:nvPicPr>
            <p:cNvPr id="428" name="Дуга 20" descr=""/>
            <p:cNvPicPr/>
            <p:nvPr/>
          </p:nvPicPr>
          <p:blipFill>
            <a:blip r:embed="rId7"/>
            <a:stretch/>
          </p:blipFill>
          <p:spPr>
            <a:xfrm>
              <a:off x="5748480" y="2449440"/>
              <a:ext cx="1341360" cy="3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 rot="18629400">
              <a:off x="6172560" y="2256840"/>
              <a:ext cx="519120" cy="8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grpSp>
        <p:nvGrpSpPr>
          <p:cNvPr id="430" name="Дуга 21"/>
          <p:cNvGrpSpPr/>
          <p:nvPr/>
        </p:nvGrpSpPr>
        <p:grpSpPr>
          <a:xfrm>
            <a:off x="2249640" y="1998720"/>
            <a:ext cx="1341360" cy="958320"/>
            <a:chOff x="2249640" y="1998720"/>
            <a:chExt cx="1341360" cy="958320"/>
          </a:xfrm>
        </p:grpSpPr>
        <p:pic>
          <p:nvPicPr>
            <p:cNvPr id="431" name="Дуга 21" descr=""/>
            <p:cNvPicPr/>
            <p:nvPr/>
          </p:nvPicPr>
          <p:blipFill>
            <a:blip r:embed="rId8"/>
            <a:stretch/>
          </p:blipFill>
          <p:spPr>
            <a:xfrm>
              <a:off x="2249640" y="2237760"/>
              <a:ext cx="134136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 rot="18629400">
              <a:off x="2673360" y="2042640"/>
              <a:ext cx="517320" cy="8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4e3b30"/>
                </a:solidFill>
                <a:latin typeface="Arial"/>
              </a:endParaRPr>
            </a:p>
          </p:txBody>
        </p:sp>
      </p:grpSp>
      <p:pic>
        <p:nvPicPr>
          <p:cNvPr id="433" name="Picture 12" descr="http://poisk-druga.ru/uploads/posts/2010-01/1264527372_golden.jpg"/>
          <p:cNvPicPr/>
          <p:nvPr/>
        </p:nvPicPr>
        <p:blipFill>
          <a:blip r:embed="rId9"/>
          <a:stretch/>
        </p:blipFill>
        <p:spPr>
          <a:xfrm>
            <a:off x="785880" y="4357800"/>
            <a:ext cx="1785960" cy="1739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Содержимое 4" descr="2164618.jpg"/>
          <p:cNvPicPr/>
          <p:nvPr/>
        </p:nvPicPr>
        <p:blipFill>
          <a:blip r:embed="rId1"/>
          <a:stretch/>
        </p:blipFill>
        <p:spPr>
          <a:xfrm>
            <a:off x="2000160" y="0"/>
            <a:ext cx="582948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2"/>
          <p:cNvSpPr/>
          <p:nvPr/>
        </p:nvSpPr>
        <p:spPr>
          <a:xfrm>
            <a:off x="142920" y="6215040"/>
            <a:ext cx="90010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c4b3b"/>
                </a:solidFill>
                <a:latin typeface="Franklin Gothic Book"/>
              </a:rPr>
              <a:t>Однокоренные слова</a:t>
            </a:r>
            <a:endParaRPr b="0" lang="en-US" sz="44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36" name="TextBox 23"/>
          <p:cNvSpPr/>
          <p:nvPr/>
        </p:nvSpPr>
        <p:spPr>
          <a:xfrm>
            <a:off x="2857680" y="1143000"/>
            <a:ext cx="4286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водяной</a:t>
            </a:r>
            <a:endParaRPr b="0" lang="en-US" sz="48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вода</a:t>
            </a:r>
            <a:endParaRPr b="0" lang="en-US" sz="48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водить</a:t>
            </a:r>
            <a:endParaRPr b="0" lang="en-US" sz="4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37" name="Прямоугольник 24"/>
          <p:cNvSpPr/>
          <p:nvPr/>
        </p:nvSpPr>
        <p:spPr>
          <a:xfrm>
            <a:off x="428760" y="14292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Arial"/>
              </a:rPr>
              <a:t>Где слова родные – однокоренные?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38" name="AutoShape 2"/>
          <p:cNvSpPr/>
          <p:nvPr/>
        </p:nvSpPr>
        <p:spPr>
          <a:xfrm>
            <a:off x="325440" y="-503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39" name="Picture 6" descr="http://img11.nnm.me/6/a/b/7/7/d33d3ace2f8c330ab2de43013b6.jpg"/>
          <p:cNvPicPr/>
          <p:nvPr/>
        </p:nvPicPr>
        <p:blipFill>
          <a:blip r:embed="rId2"/>
          <a:stretch/>
        </p:blipFill>
        <p:spPr>
          <a:xfrm>
            <a:off x="341280" y="3846600"/>
            <a:ext cx="2262240" cy="4462200"/>
          </a:xfrm>
          <a:prstGeom prst="rect">
            <a:avLst/>
          </a:prstGeom>
          <a:ln w="0">
            <a:noFill/>
          </a:ln>
        </p:spPr>
      </p:pic>
      <p:sp>
        <p:nvSpPr>
          <p:cNvPr id="440" name="Волна 27"/>
          <p:cNvSpPr/>
          <p:nvPr/>
        </p:nvSpPr>
        <p:spPr>
          <a:xfrm>
            <a:off x="3786120" y="2643120"/>
            <a:ext cx="2357640" cy="857160"/>
          </a:xfrm>
          <a:custGeom>
            <a:avLst/>
            <a:gdLst>
              <a:gd name="textAreaLeft" fmla="*/ 0 w 2357640"/>
              <a:gd name="textAreaRight" fmla="*/ 2358000 w 235764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Содержимое 4" descr="2164618.jpg"/>
          <p:cNvPicPr/>
          <p:nvPr/>
        </p:nvPicPr>
        <p:blipFill>
          <a:blip r:embed="rId1"/>
          <a:stretch/>
        </p:blipFill>
        <p:spPr>
          <a:xfrm>
            <a:off x="1785960" y="0"/>
            <a:ext cx="5829120" cy="685800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2"/>
          <p:cNvSpPr/>
          <p:nvPr/>
        </p:nvSpPr>
        <p:spPr>
          <a:xfrm>
            <a:off x="142920" y="6215040"/>
            <a:ext cx="90010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c4b3b"/>
                </a:solidFill>
                <a:latin typeface="Franklin Gothic Book"/>
              </a:rPr>
              <a:t>Однокоренные слова</a:t>
            </a:r>
            <a:endParaRPr b="0" lang="en-US" sz="44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3" name="TextBox 23"/>
          <p:cNvSpPr/>
          <p:nvPr/>
        </p:nvSpPr>
        <p:spPr>
          <a:xfrm>
            <a:off x="2857680" y="1143000"/>
            <a:ext cx="4286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лист</a:t>
            </a:r>
            <a:endParaRPr b="0" lang="en-US" sz="48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лиса</a:t>
            </a:r>
            <a:endParaRPr b="0" lang="en-US" sz="48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лисёнок</a:t>
            </a:r>
            <a:endParaRPr b="0" lang="en-US" sz="4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4" name="Прямоугольник 4"/>
          <p:cNvSpPr/>
          <p:nvPr/>
        </p:nvSpPr>
        <p:spPr>
          <a:xfrm>
            <a:off x="428760" y="14292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Arial"/>
              </a:rPr>
              <a:t>Где слова родные – однокоренные?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45" name="Picture 2" descr="http://900igr.net/data/skazki-i-igry/Otkuda-ja-vzjalsja-1.files/0043-246-U-lisy-lisenok.jpg"/>
          <p:cNvPicPr/>
          <p:nvPr/>
        </p:nvPicPr>
        <p:blipFill>
          <a:blip r:embed="rId2"/>
          <a:stretch/>
        </p:blipFill>
        <p:spPr>
          <a:xfrm>
            <a:off x="6643800" y="4357800"/>
            <a:ext cx="2274840" cy="1577880"/>
          </a:xfrm>
          <a:prstGeom prst="rect">
            <a:avLst/>
          </a:prstGeom>
          <a:ln w="0">
            <a:noFill/>
          </a:ln>
        </p:spPr>
      </p:pic>
      <p:sp>
        <p:nvSpPr>
          <p:cNvPr id="446" name="Волна 6"/>
          <p:cNvSpPr/>
          <p:nvPr/>
        </p:nvSpPr>
        <p:spPr>
          <a:xfrm>
            <a:off x="3714840" y="1143000"/>
            <a:ext cx="2357280" cy="857160"/>
          </a:xfrm>
          <a:custGeom>
            <a:avLst/>
            <a:gdLst>
              <a:gd name="textAreaLeft" fmla="*/ 0 w 2357280"/>
              <a:gd name="textAreaRight" fmla="*/ 2357640 w 235728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Содержимое 4" descr="2164618.jpg"/>
          <p:cNvPicPr/>
          <p:nvPr/>
        </p:nvPicPr>
        <p:blipFill>
          <a:blip r:embed="rId1"/>
          <a:stretch/>
        </p:blipFill>
        <p:spPr>
          <a:xfrm>
            <a:off x="1785960" y="0"/>
            <a:ext cx="582912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2"/>
          <p:cNvSpPr/>
          <p:nvPr/>
        </p:nvSpPr>
        <p:spPr>
          <a:xfrm>
            <a:off x="142920" y="6215040"/>
            <a:ext cx="90010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c4b3b"/>
                </a:solidFill>
                <a:latin typeface="Franklin Gothic Book"/>
              </a:rPr>
              <a:t>Однокоренные слова</a:t>
            </a:r>
            <a:endParaRPr b="0" lang="en-US" sz="44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9" name="TextBox 23"/>
          <p:cNvSpPr/>
          <p:nvPr/>
        </p:nvSpPr>
        <p:spPr>
          <a:xfrm>
            <a:off x="2857680" y="1143000"/>
            <a:ext cx="4286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лось</a:t>
            </a:r>
            <a:endParaRPr b="0" lang="en-US" sz="48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лоскут</a:t>
            </a:r>
            <a:endParaRPr b="0" lang="en-US" sz="48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лосёнок</a:t>
            </a:r>
            <a:endParaRPr b="0" lang="en-US" sz="4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0" name="Прямоугольник 4"/>
          <p:cNvSpPr/>
          <p:nvPr/>
        </p:nvSpPr>
        <p:spPr>
          <a:xfrm>
            <a:off x="428760" y="14292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Arial"/>
              </a:rPr>
              <a:t>Где слова родные – однокоренные?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1" name="AutoShape 2"/>
          <p:cNvSpPr/>
          <p:nvPr/>
        </p:nvSpPr>
        <p:spPr>
          <a:xfrm>
            <a:off x="325440" y="-503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52" name="Picture 4" descr="http://logoped18.ru/images/rabochaya-tetrad-po-obucheniyu-detey-3.jpg"/>
          <p:cNvPicPr/>
          <p:nvPr/>
        </p:nvPicPr>
        <p:blipFill>
          <a:blip r:embed="rId2"/>
          <a:stretch/>
        </p:blipFill>
        <p:spPr>
          <a:xfrm>
            <a:off x="142920" y="4429080"/>
            <a:ext cx="2500200" cy="1774800"/>
          </a:xfrm>
          <a:prstGeom prst="rect">
            <a:avLst/>
          </a:prstGeom>
          <a:ln w="0">
            <a:noFill/>
          </a:ln>
        </p:spPr>
      </p:pic>
      <p:sp>
        <p:nvSpPr>
          <p:cNvPr id="453" name="Волна 7"/>
          <p:cNvSpPr/>
          <p:nvPr/>
        </p:nvSpPr>
        <p:spPr>
          <a:xfrm>
            <a:off x="3929040" y="1928880"/>
            <a:ext cx="2357640" cy="857160"/>
          </a:xfrm>
          <a:custGeom>
            <a:avLst/>
            <a:gdLst>
              <a:gd name="textAreaLeft" fmla="*/ 0 w 2357640"/>
              <a:gd name="textAreaRight" fmla="*/ 2358000 w 235764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Rectangle 2" descr=""/>
          <p:cNvPicPr/>
          <p:nvPr/>
        </p:nvPicPr>
        <p:blipFill>
          <a:blip r:embed="rId1"/>
          <a:stretch/>
        </p:blipFill>
        <p:spPr>
          <a:xfrm>
            <a:off x="603360" y="208080"/>
            <a:ext cx="8235720" cy="116352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2060"/>
                </a:solidFill>
                <a:latin typeface="Franklin Gothic Book"/>
              </a:rPr>
              <a:t>Больной, больница, большой.</a:t>
            </a:r>
            <a:endParaRPr b="0" lang="en-US" sz="4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2060"/>
                </a:solidFill>
                <a:latin typeface="Franklin Gothic Book"/>
              </a:rPr>
              <a:t>Путь, дорога, путник.</a:t>
            </a:r>
            <a:endParaRPr b="0" lang="en-US" sz="4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2060"/>
                </a:solidFill>
                <a:latin typeface="Franklin Gothic Book"/>
              </a:rPr>
              <a:t>Часовщик, час, часть</a:t>
            </a:r>
            <a:r>
              <a:rPr b="1" lang="ru-RU" sz="4600" spc="-1" strike="noStrike">
                <a:solidFill>
                  <a:srgbClr val="0070c0"/>
                </a:solidFill>
                <a:latin typeface="Franklin Gothic Book"/>
              </a:rPr>
              <a:t>.</a:t>
            </a:r>
            <a:endParaRPr b="0" lang="en-US" sz="4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Волна 7"/>
          <p:cNvSpPr/>
          <p:nvPr/>
        </p:nvSpPr>
        <p:spPr>
          <a:xfrm>
            <a:off x="5072040" y="1857240"/>
            <a:ext cx="2571840" cy="914400"/>
          </a:xfrm>
          <a:custGeom>
            <a:avLst/>
            <a:gdLst>
              <a:gd name="textAreaLeft" fmla="*/ 0 w 2571840"/>
              <a:gd name="textAreaRight" fmla="*/ 2572200 w 25718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7" name="Волна 8"/>
          <p:cNvSpPr/>
          <p:nvPr/>
        </p:nvSpPr>
        <p:spPr>
          <a:xfrm>
            <a:off x="1357200" y="2928960"/>
            <a:ext cx="2000520" cy="771480"/>
          </a:xfrm>
          <a:custGeom>
            <a:avLst/>
            <a:gdLst>
              <a:gd name="textAreaLeft" fmla="*/ 0 w 2000520"/>
              <a:gd name="textAreaRight" fmla="*/ 2000880 w 2000520"/>
              <a:gd name="textAreaTop" fmla="*/ 192960 h 771480"/>
              <a:gd name="textAreaBottom" fmla="*/ 578880 h 7714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8" name="Волна 9"/>
          <p:cNvSpPr/>
          <p:nvPr/>
        </p:nvSpPr>
        <p:spPr>
          <a:xfrm>
            <a:off x="4143240" y="3500280"/>
            <a:ext cx="2571840" cy="914400"/>
          </a:xfrm>
          <a:custGeom>
            <a:avLst/>
            <a:gdLst>
              <a:gd name="textAreaLeft" fmla="*/ 0 w 2571840"/>
              <a:gd name="textAreaRight" fmla="*/ 2572200 w 25718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59" name="Picture 7" descr="MCj04238280000[1]"/>
          <p:cNvPicPr/>
          <p:nvPr/>
        </p:nvPicPr>
        <p:blipFill>
          <a:blip r:embed="rId2"/>
          <a:stretch/>
        </p:blipFill>
        <p:spPr>
          <a:xfrm>
            <a:off x="6981840" y="4357800"/>
            <a:ext cx="1347840" cy="2136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5:33:02Z</dcterms:created>
  <dc:creator>Admin</dc:creator>
  <dc:description/>
  <dc:language>en-US</dc:language>
  <cp:lastModifiedBy>Пирожок</cp:lastModifiedBy>
  <dcterms:modified xsi:type="dcterms:W3CDTF">2015-10-10T13:05:15Z</dcterms:modified>
  <cp:revision>99</cp:revision>
  <dc:subject/>
  <dc:title>Маленькое дело лучше   большого безделья.</dc:title>
</cp:coreProperties>
</file>