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6751-5CF7-43A8-AF62-9330AADB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8942-5FFD-4425-9114-F4CF2944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83F9-4854-46E5-9D6F-C15C9D3F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CF84-533F-4519-9791-39E865E0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C32-D88C-4C1A-AEB7-2C0845C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1EB-B753-4548-8D63-B8D337E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FD8-5D90-4F03-88F4-DC4E932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FF4-67D2-4C34-BD90-C27F2FBA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C964-3E3C-4341-A190-BFAB0E6C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26EE-9CCB-4B90-9C39-BAA04FBE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3275-0D31-41F0-8843-3222556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E7EB-AB83-46B3-8CB9-14028DF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1849-3890-4298-AC94-4EB8EFE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2DB1-81E7-4FA9-B817-C97121D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659-3BCF-4AFE-9E6E-C839A34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504-E07B-4DD7-A0F4-A8BCA62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79BC-A50F-4E42-95FB-36E94CFC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928A-E198-4731-B432-92C8E41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B77E-A5E1-42FD-A0B7-4016AE34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EE0F-7DA6-4FE1-8FDA-86159B4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42F8-B73B-489D-A1C6-8348596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9D49-4634-4BB2-B14E-AEBDB1A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5D92-5067-4BA4-A650-444CCB7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F6FA-0744-4954-8389-3AB29A1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AFD-5CE4-4487-842C-9AAD2E5E59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D1D-E7E4-434A-9169-83C789861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Педагогическое обследование воспитанников детского сада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08400" y="4005360"/>
            <a:ext cx="310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Подготовила: </a:t>
            </a:r>
            <a:br>
              <a:rPr sz="1800"/>
            </a:b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учитель-логопед</a:t>
            </a:r>
            <a:br>
              <a:rPr sz="1800"/>
            </a:b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 кв.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МДОУ «Детский сад №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комбинированного вида»</a:t>
            </a:r>
            <a:br>
              <a:rPr sz="1800"/>
            </a:b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Маркина И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5111640" cy="923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Педагогическое  обследов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Цель :</a:t>
            </a:r>
            <a:r>
              <a:rPr b="0" lang="en-US" sz="40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явление детей, нуждающихся в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ррекционно-речевой помощи и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равлении  на городскую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МП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Протокол </a:t>
            </a:r>
            <a:br>
              <a:rPr sz="3600"/>
            </a:b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педагогического обследов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610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Схема</a:t>
            </a:r>
            <a:br>
              <a:rPr sz="40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педагогического обследования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Фамилия, имя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Дата р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Дата обследова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1. Уровень представлений  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ления контакта с ребенком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явление общего кругозор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можности связного высказы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с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38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2. Интеллектуальное развит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верка уровня развития психических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цессов ребенка: восприятия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ышления, пам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ециальные задания диагностического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арак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Речевое развитие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выявление уровня развития всех сторон речи.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беседа, специальные задания    </a:t>
            </a: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                          диагностического характера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остояния  звукопроиз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грамматического  строя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 предикативного слов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фонематического вос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логовой  структуры с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вязной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4. Мелкая и артикуляционная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мото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выявление  состояния пальчиковой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ртикуляционной мотор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изучение  продуктов деятель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блюдение, специальные задания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иагностическ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5. Заключение логоп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468360" y="155736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624" name=""/>
          <p:cNvGrpSpPr/>
          <p:nvPr/>
        </p:nvGrpSpPr>
        <p:grpSpPr>
          <a:xfrm>
            <a:off x="3076200" y="836640"/>
            <a:ext cx="2675520" cy="5371920"/>
            <a:chOff x="3076200" y="836640"/>
            <a:chExt cx="2675520" cy="5371920"/>
          </a:xfrm>
        </p:grpSpPr>
        <p:sp>
          <p:nvSpPr>
            <p:cNvPr id="625" name=""/>
            <p:cNvSpPr/>
            <p:nvPr/>
          </p:nvSpPr>
          <p:spPr>
            <a:xfrm rot="5400000">
              <a:off x="3974040" y="2109960"/>
              <a:ext cx="976320" cy="486360"/>
            </a:xfrm>
            <a:prstGeom prst="rightArrow">
              <a:avLst>
                <a:gd name="adj1" fmla="val 50000"/>
                <a:gd name="adj2" fmla="val 50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3974040" y="4053240"/>
              <a:ext cx="976320" cy="486360"/>
            </a:xfrm>
            <a:prstGeom prst="rightArrow">
              <a:avLst>
                <a:gd name="adj1" fmla="val 50000"/>
                <a:gd name="adj2" fmla="val 50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90680" y="2894040"/>
              <a:ext cx="2514240" cy="125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80"/>
                  </a:solidFill>
                  <a:latin typeface="Arial"/>
                </a:rPr>
                <a:t>Засед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80"/>
                  </a:solidFill>
                  <a:latin typeface="Arial"/>
                </a:rPr>
                <a:t>МПк  ДО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5160" y="4836960"/>
              <a:ext cx="2400120" cy="1371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правление на городску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ПМП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76200" y="836640"/>
              <a:ext cx="2675520" cy="1371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Times New Roman"/>
                </a:rPr>
                <a:t>Обслед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Times New Roman"/>
                </a:rPr>
                <a:t>специалистами МПк  ДО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86080" y="1048320"/>
            <a:ext cx="7793280" cy="4877640"/>
            <a:chOff x="586080" y="1048320"/>
            <a:chExt cx="7793280" cy="4877640"/>
          </a:xfrm>
        </p:grpSpPr>
        <p:sp>
          <p:nvSpPr>
            <p:cNvPr id="633" name=""/>
            <p:cNvSpPr/>
            <p:nvPr/>
          </p:nvSpPr>
          <p:spPr>
            <a:xfrm rot="5782200">
              <a:off x="1015560" y="2289960"/>
              <a:ext cx="2600640" cy="1089360"/>
            </a:xfrm>
            <a:custGeom>
              <a:avLst/>
              <a:gdLst>
                <a:gd name="textAreaLeft" fmla="*/ 455760 w 2600640"/>
                <a:gd name="textAreaRight" fmla="*/ 1884600 w 2600640"/>
                <a:gd name="textAreaTop" fmla="*/ 145800 h 1089360"/>
                <a:gd name="textAreaBottom" fmla="*/ 943560 h 10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73" hR="21600" stAng="10800000" swAng="-5400000"/>
                  <a:lnTo>
                    <a:pt x="11867" y="21600"/>
                  </a:lnTo>
                  <a:arcTo wR="7573" hR="21600" stAng="5400000" swAng="-2685590"/>
                  <a:lnTo>
                    <a:pt x="21167" y="7200"/>
                  </a:lnTo>
                  <a:lnTo>
                    <a:pt x="17293" y="0"/>
                  </a:lnTo>
                  <a:lnTo>
                    <a:pt x="12553" y="7200"/>
                  </a:lnTo>
                  <a:lnTo>
                    <a:pt x="14713" y="7200"/>
                  </a:lnTo>
                  <a:arcTo wR="7573" hR="21600" stAng="2714410" swAng="2330533"/>
                  <a:lnTo>
                    <a:pt x="9720" y="20714"/>
                  </a:lnTo>
                  <a:arcTo wR="7573" hR="21600" stAng="5755058" swAng="5044942"/>
                  <a:close/>
                </a:path>
                <a:path fill="darkenLess" w="21600" h="21600">
                  <a:moveTo>
                    <a:pt x="0" y="0"/>
                  </a:moveTo>
                  <a:arcTo wR="7573" hR="21600" stAng="10800000" swAng="-5400000"/>
                  <a:lnTo>
                    <a:pt x="11867" y="21600"/>
                  </a:lnTo>
                  <a:arcTo wR="7573" hR="21600" stAng="5400000" swAng="355058"/>
                  <a:lnTo>
                    <a:pt x="9720" y="20714"/>
                  </a:lnTo>
                  <a:arcTo wR="7573" hR="21600" stAng="5755058" swAng="5044942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1258600">
              <a:off x="6177240" y="1534680"/>
              <a:ext cx="1087200" cy="2604240"/>
            </a:xfrm>
            <a:custGeom>
              <a:avLst/>
              <a:gdLst>
                <a:gd name="textAreaLeft" fmla="*/ 145440 w 1087200"/>
                <a:gd name="textAreaRight" fmla="*/ 941760 w 1087200"/>
                <a:gd name="textAreaTop" fmla="*/ 455760 h 2604240"/>
                <a:gd name="textAreaBottom" fmla="*/ 1888200 h 260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9000" y="1048320"/>
              <a:ext cx="3727440" cy="195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80"/>
                  </a:solidFill>
                  <a:latin typeface="Times New Roman"/>
                </a:rPr>
                <a:t>МП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80"/>
                  </a:solidFill>
                  <a:latin typeface="Times New Roman"/>
                </a:rPr>
                <a:t>детского са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6080" y="3974400"/>
              <a:ext cx="3966120" cy="1949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</a:rPr>
                <a:t>Поликлин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21120" y="3974400"/>
              <a:ext cx="3558240" cy="1951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</a:rPr>
                <a:t>ПМП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Методический и  диагностический материалы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 rot="1475400">
            <a:off x="6732360" y="1628280"/>
            <a:ext cx="1590480" cy="20592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 rot="19909800">
            <a:off x="323640" y="1773000"/>
            <a:ext cx="2449440" cy="17809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1295280" cy="17287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3348000" y="1341360"/>
            <a:ext cx="2583000" cy="1800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5"/>
          <a:stretch/>
        </p:blipFill>
        <p:spPr>
          <a:xfrm>
            <a:off x="1403280" y="4365720"/>
            <a:ext cx="1295640" cy="17272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6"/>
          <a:stretch/>
        </p:blipFill>
        <p:spPr>
          <a:xfrm>
            <a:off x="7380360" y="4724280"/>
            <a:ext cx="1295280" cy="16560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7"/>
          <a:stretch/>
        </p:blipFill>
        <p:spPr>
          <a:xfrm>
            <a:off x="6443640" y="4292640"/>
            <a:ext cx="1224000" cy="17272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5508720" y="393372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9"/>
          <a:stretch/>
        </p:blipFill>
        <p:spPr>
          <a:xfrm>
            <a:off x="1979640" y="400536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10"/>
          <a:stretch/>
        </p:blipFill>
        <p:spPr>
          <a:xfrm>
            <a:off x="4572000" y="3716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11"/>
          <a:stretch/>
        </p:blipFill>
        <p:spPr>
          <a:xfrm>
            <a:off x="2700360" y="3716280"/>
            <a:ext cx="122400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cc"/>
                </a:solidFill>
                <a:latin typeface="Times New Roman"/>
              </a:rPr>
              <a:t>Спасибо  за 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755964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71760" y="1122480"/>
            <a:ext cx="7175880" cy="4936680"/>
            <a:chOff x="671760" y="1122480"/>
            <a:chExt cx="7175880" cy="4936680"/>
          </a:xfrm>
        </p:grpSpPr>
        <p:sp>
          <p:nvSpPr>
            <p:cNvPr id="519" name=""/>
            <p:cNvSpPr/>
            <p:nvPr/>
          </p:nvSpPr>
          <p:spPr>
            <a:xfrm>
              <a:off x="671760" y="2307960"/>
              <a:ext cx="4277880" cy="1974960"/>
            </a:xfrm>
            <a:custGeom>
              <a:avLst/>
              <a:gdLst>
                <a:gd name="textAreaLeft" fmla="*/ 0 w 4277880"/>
                <a:gd name="textAreaRight" fmla="*/ 4278240 w 4277880"/>
                <a:gd name="textAreaTop" fmla="*/ 0 h 1974960"/>
                <a:gd name="textAreaBottom" fmla="*/ 1975320 h 19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Речевая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  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деятель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0120" y="1122480"/>
              <a:ext cx="2747520" cy="59328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dfde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Фон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00120" y="2109600"/>
              <a:ext cx="2747520" cy="59184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Лекс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0120" y="3097440"/>
              <a:ext cx="2747520" cy="590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Грамма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00120" y="4084560"/>
              <a:ext cx="2747520" cy="98748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Фонематические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процесс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0120" y="5467320"/>
              <a:ext cx="2747520" cy="59184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Семан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73520" y="2701800"/>
              <a:ext cx="10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3520" y="17157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3520" y="3689280"/>
              <a:ext cx="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3520" y="5072040"/>
              <a:ext cx="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Принципы анализа речевых нарушений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развит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оценки коммуникативного поведения в процессе об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системного подх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 связи речи с другими сторонами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33" name=""/>
          <p:cNvGrpSpPr/>
          <p:nvPr/>
        </p:nvGrpSpPr>
        <p:grpSpPr>
          <a:xfrm>
            <a:off x="43200" y="298080"/>
            <a:ext cx="9100440" cy="6261480"/>
            <a:chOff x="43200" y="298080"/>
            <a:chExt cx="9100440" cy="6261480"/>
          </a:xfrm>
        </p:grpSpPr>
        <p:sp>
          <p:nvSpPr>
            <p:cNvPr id="534" name=""/>
            <p:cNvSpPr/>
            <p:nvPr/>
          </p:nvSpPr>
          <p:spPr>
            <a:xfrm>
              <a:off x="152640" y="298080"/>
              <a:ext cx="8641080" cy="745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Классификация речевых нарушений по Р.Е. Леви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7720" y="1490760"/>
              <a:ext cx="2953080" cy="446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Times New Roman"/>
                </a:rPr>
                <a:t>Клинико-педаго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72040" y="1490760"/>
              <a:ext cx="2953080" cy="446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Times New Roman"/>
                </a:rPr>
                <a:t>Психолого-педаго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12560" y="2235960"/>
              <a:ext cx="153108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cc"/>
                  </a:solidFill>
                  <a:latin typeface="Times New Roman"/>
                </a:rPr>
                <a:t>Нарушения в применении средств обще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7040" y="2235960"/>
              <a:ext cx="185940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я  устной реч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18600" y="2235960"/>
              <a:ext cx="183744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я письменной речи</a:t>
              </a: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62600" y="2235960"/>
              <a:ext cx="153108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е средств общ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00" y="4770720"/>
              <a:ext cx="1203120" cy="178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Дисфо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Брадилалия Тахилал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Заика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Дислал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Ринолалия Дизартр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56120" y="4770720"/>
              <a:ext cx="120312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Алал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Афаз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81480" y="3727080"/>
              <a:ext cx="120312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ФФН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ОН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1440" y="3727080"/>
              <a:ext cx="109368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Заик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706040" y="1937880"/>
              <a:ext cx="43704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5636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09520" y="1043280"/>
              <a:ext cx="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84600" y="1043280"/>
              <a:ext cx="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5976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51852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8320" y="3130560"/>
              <a:ext cx="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78280" y="3130560"/>
              <a:ext cx="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7776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продуктив-ного вид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0680" y="3428640"/>
              <a:ext cx="120276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663300"/>
                  </a:solidFill>
                  <a:latin typeface="Times New Roman"/>
                </a:rPr>
                <a:t>Нарушение рецептивной  письменной деятельност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5612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структурно-семантичес-кого оформл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20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фонацион-ного оформл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77760" y="4770720"/>
              <a:ext cx="120312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92929"/>
                  </a:solidFill>
                  <a:latin typeface="Times New Roman"/>
                </a:rPr>
                <a:t>Дисграф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0680" y="4770720"/>
              <a:ext cx="120276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Дислекс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9948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352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984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1240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2460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1864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2496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3752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69" name=""/>
          <p:cNvGrpSpPr/>
          <p:nvPr/>
        </p:nvGrpSpPr>
        <p:grpSpPr>
          <a:xfrm>
            <a:off x="530640" y="1285920"/>
            <a:ext cx="8042400" cy="4429080"/>
            <a:chOff x="530640" y="1285920"/>
            <a:chExt cx="8042400" cy="4429080"/>
          </a:xfrm>
        </p:grpSpPr>
        <p:sp>
          <p:nvSpPr>
            <p:cNvPr id="570" name=""/>
            <p:cNvSpPr/>
            <p:nvPr/>
          </p:nvSpPr>
          <p:spPr>
            <a:xfrm>
              <a:off x="530640" y="2571840"/>
              <a:ext cx="3146760" cy="2000160"/>
            </a:xfrm>
            <a:custGeom>
              <a:avLst/>
              <a:gdLst>
                <a:gd name="textAreaLeft" fmla="*/ 0 w 3146760"/>
                <a:gd name="textAreaRight" fmla="*/ 3147120 w 314676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Этап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диагности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77240" y="1285920"/>
              <a:ext cx="4195800" cy="1143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1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Ориентиров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7240" y="2857680"/>
              <a:ext cx="4195800" cy="128556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2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Дифференциров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   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77240" y="4572000"/>
              <a:ext cx="4195800" cy="1143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3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Заключитель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76" name=""/>
          <p:cNvGrpSpPr/>
          <p:nvPr/>
        </p:nvGrpSpPr>
        <p:grpSpPr>
          <a:xfrm>
            <a:off x="495360" y="315360"/>
            <a:ext cx="8475480" cy="6302520"/>
            <a:chOff x="495360" y="315360"/>
            <a:chExt cx="8475480" cy="6302520"/>
          </a:xfrm>
        </p:grpSpPr>
        <p:sp>
          <p:nvSpPr>
            <p:cNvPr id="577" name=""/>
            <p:cNvSpPr/>
            <p:nvPr/>
          </p:nvSpPr>
          <p:spPr>
            <a:xfrm>
              <a:off x="495360" y="1417680"/>
              <a:ext cx="4186080" cy="945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Логопедическое обслед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28480" y="1417680"/>
              <a:ext cx="3942360" cy="945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Психолого-педагогическ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обслед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587320" y="945000"/>
              <a:ext cx="69660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41520" y="315360"/>
              <a:ext cx="6625440" cy="6138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Диагностика  детей  дошкольного  возрас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9600" y="2678760"/>
              <a:ext cx="3486600" cy="393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1. Связная реч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2. Словар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3. Грамматический стр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4. Звукопроизнош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5. Фонематические     процесс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6. Мелкая мотор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7. Артикуляционная мотор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52280" y="2678760"/>
              <a:ext cx="2790000" cy="203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1. Интеллектуальное развит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2. Эмоционально-личностное развит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13800" y="2363040"/>
              <a:ext cx="108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46560" y="23630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24200" y="945000"/>
              <a:ext cx="69660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88" name=""/>
          <p:cNvGrpSpPr/>
          <p:nvPr/>
        </p:nvGrpSpPr>
        <p:grpSpPr>
          <a:xfrm>
            <a:off x="0" y="545400"/>
            <a:ext cx="8743680" cy="5834520"/>
            <a:chOff x="0" y="545400"/>
            <a:chExt cx="8743680" cy="5834520"/>
          </a:xfrm>
        </p:grpSpPr>
        <p:sp>
          <p:nvSpPr>
            <p:cNvPr id="589" name=""/>
            <p:cNvSpPr/>
            <p:nvPr/>
          </p:nvSpPr>
          <p:spPr>
            <a:xfrm>
              <a:off x="0" y="545400"/>
              <a:ext cx="4672800" cy="1576080"/>
            </a:xfrm>
            <a:custGeom>
              <a:avLst/>
              <a:gdLst>
                <a:gd name="textAreaLeft" fmla="*/ 0 w 4672800"/>
                <a:gd name="textAreaRight" fmla="*/ 4673160 w 46728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          </a:t>
              </a: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Диагностическ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          </a:t>
              </a: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метод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72800" y="70272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a0e"/>
                  </a:solidFill>
                  <a:latin typeface="Times New Roman"/>
                </a:rPr>
                <a:t>Беседы с детьми (индивидуальные и групповые</a:t>
              </a:r>
              <a:r>
                <a:rPr b="1" lang="en-US" sz="1600" spc="-1" strike="noStrike">
                  <a:solidFill>
                    <a:srgbClr val="52527c"/>
                  </a:solidFill>
                  <a:latin typeface="Times New Roman"/>
                </a:rPr>
                <a:t>)</a:t>
              </a:r>
              <a:r>
                <a:rPr b="1" lang="en-US" sz="16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18920" y="1648440"/>
              <a:ext cx="4070880" cy="110556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Специальные задания диагностического характе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87200" y="259452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Наблюдение за ребенком в процессе разных видов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79080" y="385596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Изучение медико-педагогической документации и продуктов деятельности ребен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48800" y="5117400"/>
              <a:ext cx="4068000" cy="126252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Беседы с педагогами ДОУ и родителями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97" name=""/>
          <p:cNvGrpSpPr/>
          <p:nvPr/>
        </p:nvGrpSpPr>
        <p:grpSpPr>
          <a:xfrm>
            <a:off x="1022040" y="1134000"/>
            <a:ext cx="7119000" cy="2969280"/>
            <a:chOff x="1022040" y="1134000"/>
            <a:chExt cx="7119000" cy="2969280"/>
          </a:xfrm>
        </p:grpSpPr>
        <p:sp>
          <p:nvSpPr>
            <p:cNvPr id="598" name=""/>
            <p:cNvSpPr/>
            <p:nvPr/>
          </p:nvSpPr>
          <p:spPr>
            <a:xfrm>
              <a:off x="1022040" y="1134000"/>
              <a:ext cx="3414600" cy="2043360"/>
            </a:xfrm>
            <a:custGeom>
              <a:avLst/>
              <a:gdLst>
                <a:gd name="textAreaLeft" fmla="*/ 0 w 3414600"/>
                <a:gd name="textAreaRight" fmla="*/ 3414960 w 341460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Формы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раб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89800" y="1586160"/>
              <a:ext cx="3351240" cy="1384560"/>
            </a:xfrm>
            <a:prstGeom prst="flowChartPunchedCar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a0e"/>
                  </a:solidFill>
                  <a:latin typeface="Times New Roman"/>
                </a:rPr>
                <a:t>Индивидуа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10280" y="2720520"/>
              <a:ext cx="3352680" cy="1382760"/>
            </a:xfrm>
            <a:prstGeom prst="flowChartPunchedCar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a0e"/>
                  </a:solidFill>
                  <a:latin typeface="Times New Roman"/>
                </a:rPr>
                <a:t>Групп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603" name=""/>
          <p:cNvGrpSpPr/>
          <p:nvPr/>
        </p:nvGrpSpPr>
        <p:grpSpPr>
          <a:xfrm>
            <a:off x="441000" y="342000"/>
            <a:ext cx="8526600" cy="5966280"/>
            <a:chOff x="441000" y="342000"/>
            <a:chExt cx="8526600" cy="5966280"/>
          </a:xfrm>
        </p:grpSpPr>
        <p:sp>
          <p:nvSpPr>
            <p:cNvPr id="604" name=""/>
            <p:cNvSpPr/>
            <p:nvPr/>
          </p:nvSpPr>
          <p:spPr>
            <a:xfrm>
              <a:off x="441000" y="2636640"/>
              <a:ext cx="3749040" cy="2141640"/>
            </a:xfrm>
            <a:custGeom>
              <a:avLst/>
              <a:gdLst>
                <a:gd name="textAreaLeft" fmla="*/ 0 w 3749040"/>
                <a:gd name="textAreaRight" fmla="*/ 3749400 w 3749040"/>
                <a:gd name="textAreaTop" fmla="*/ 0 h 2141640"/>
                <a:gd name="textAreaBottom" fmla="*/ 2142000 h 21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Логопед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и психолого-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педагогическая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диагности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в  дошкольн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учрежден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95600" y="342000"/>
              <a:ext cx="4572000" cy="1988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I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 и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II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младшей общеразвивающих групп ДОУ, определение уровня речевого развития и направление при необходимости нуждающихся воспитанников на городскую ПМПК.</a:t>
              </a:r>
              <a:r>
                <a:rPr b="0" lang="ru-RU" sz="16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95600" y="2942640"/>
              <a:ext cx="4572000" cy="1376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логопедической группы ДОУ в начале и в конце учебного года, определение уровня речевого развития речи к концу  учебного года.</a:t>
              </a:r>
              <a:r>
                <a:rPr b="0" lang="en-US" sz="16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95600" y="4931640"/>
              <a:ext cx="4572000" cy="1376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старших, подготовительных общеразвива-ющих групп ДОУ в конце учебного года и определение уровня  речевого развития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6:08:08Z</dcterms:created>
  <dc:creator>Инна</dc:creator>
  <dc:description/>
  <dc:language>en-US</dc:language>
  <cp:lastModifiedBy>Инна</cp:lastModifiedBy>
  <dcterms:modified xsi:type="dcterms:W3CDTF">2015-10-09T17:12:20Z</dcterms:modified>
  <cp:revision>34</cp:revision>
  <dc:subject/>
  <dc:title>Слайд 1</dc:title>
</cp:coreProperties>
</file>