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6D19-AC81-4D50-A541-382E25C2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1071-86F1-4494-A761-C1C63C03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F504-B513-44AF-8593-BBDE3BF6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CEA4-FDD5-43B8-B10B-F0AF8883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397D-2C96-41A3-AB5E-A745C191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AB9B-5BAA-4C1D-8074-9660C7D6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14C5-88E4-4804-8842-A1872DB3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B72D-20EE-4FF6-8754-66997363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7010-F1D7-4B9C-B02E-AA77B2BF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134C-769E-49C5-AB81-899C8E71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9741-2A10-45A8-9188-1D0236E5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A396-B08B-41F8-9B21-C1A90F62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2DCF-34D3-4431-A17E-BC1C4A7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B429-820D-4113-AED6-295FA56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EB84-94E3-4BF1-A981-5AECC560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72EA-9875-48D2-B475-51F3E5C3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646A-7279-437F-9F89-6998C9F3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F1E4-B050-4659-B475-DFA80DE5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8749-2C7F-44D2-9419-F424DDE0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2A13-882B-4365-820D-3A4A75D6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EC36-C1F6-4AD1-8572-4A7030B6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5638-25DC-4A10-9E24-6CF5256E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D3F1-5953-4F61-8265-0D19E7D4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2375-D33D-4338-B9E3-79E108BF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F1D0-EC44-4913-8ED5-FCCC7BAC78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96F4-41E6-4B68-BB52-056D050A4D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400" spc="-1" strike="noStrike">
                <a:solidFill>
                  <a:srgbClr val="ff9900"/>
                </a:solidFill>
                <a:latin typeface="Times New Roman"/>
              </a:rPr>
              <a:t>Педагогическое обследование воспитанников детского сада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08400" y="4005360"/>
            <a:ext cx="310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cc"/>
                </a:solidFill>
                <a:latin typeface="Arial"/>
              </a:rPr>
              <a:t>Подготовила: </a:t>
            </a:r>
            <a:br>
              <a:rPr sz="1800"/>
            </a:br>
            <a:r>
              <a:rPr b="1" lang="ru-RU" sz="1800" spc="-1" strike="noStrike">
                <a:solidFill>
                  <a:srgbClr val="99ffcc"/>
                </a:solidFill>
                <a:latin typeface="Arial"/>
              </a:rPr>
              <a:t>учитель-логопед</a:t>
            </a:r>
            <a:br>
              <a:rPr sz="1800"/>
            </a:br>
            <a:r>
              <a:rPr b="1" lang="en-US" sz="1800" spc="-1" strike="noStrike">
                <a:solidFill>
                  <a:srgbClr val="99ffcc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99ffcc"/>
                </a:solidFill>
                <a:latin typeface="Arial"/>
              </a:rPr>
              <a:t> кв.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cc"/>
                </a:solidFill>
                <a:latin typeface="Arial"/>
              </a:rPr>
              <a:t>МДОУ «Детский сад №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cc"/>
                </a:solidFill>
                <a:latin typeface="Arial"/>
              </a:rPr>
              <a:t>комбинированного вида»</a:t>
            </a:r>
            <a:br>
              <a:rPr sz="1800"/>
            </a:br>
            <a:r>
              <a:rPr b="1" lang="ru-RU" sz="1800" spc="-1" strike="noStrike">
                <a:solidFill>
                  <a:srgbClr val="99ffcc"/>
                </a:solidFill>
                <a:latin typeface="Arial"/>
              </a:rPr>
              <a:t>Маркина И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5111640" cy="923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Педагогическое  обследование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Цель :</a:t>
            </a:r>
            <a:r>
              <a:rPr b="0" lang="en-US" sz="40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явление детей, нуждающихся в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ррекционно-речевой помощи и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правлении  на городскую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МП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Протокол </a:t>
            </a:r>
            <a:br>
              <a:rPr sz="3600"/>
            </a:b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педагогического обследован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610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Схема</a:t>
            </a:r>
            <a:br>
              <a:rPr sz="40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педагогического обследования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Фамилия, имя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Дата ро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Дата обследован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1. Уровень представлений  реб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Цель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становления контакта с ребенком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явление общего кругозор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можности связного высказы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ес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8880" bIns="38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2. Интеллектуальное развит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Цель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верка уровня развития психических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цессов ребенка: восприятия,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ышления, памя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ециальные задания диагностического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аракт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Речевое развитие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Цель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dfdef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dfdef6"/>
                </a:solidFill>
                <a:latin typeface="Times New Roman"/>
              </a:rPr>
              <a:t>выявление уровня развития всех сторон речи.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dfdef6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ы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dfdef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dfdef6"/>
                </a:solidFill>
                <a:latin typeface="Times New Roman"/>
              </a:rPr>
              <a:t>беседа, специальные задания    </a:t>
            </a:r>
            <a:br>
              <a:rPr sz="2400"/>
            </a:br>
            <a:r>
              <a:rPr b="1" lang="en-US" sz="2400" spc="-1" strike="noStrike">
                <a:solidFill>
                  <a:srgbClr val="dfdef6"/>
                </a:solidFill>
                <a:latin typeface="Times New Roman"/>
              </a:rPr>
              <a:t>                          диагностического характера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Исследование состояния  звукопроиз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Исследование грамматического  строя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Исследование  предикативного слова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Исследование фонематического воспри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Исследование слоговой  структуры сл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Исследование связной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4. Мелкая и артикуляционная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мото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Цель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выявление  состояния пальчиковой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ртикуляционной мотор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изучение  продуктов деятельно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блюдение, специальные задания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иагностического харак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5. Заключение логопе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6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468360" y="155736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624" name=""/>
          <p:cNvGrpSpPr/>
          <p:nvPr/>
        </p:nvGrpSpPr>
        <p:grpSpPr>
          <a:xfrm>
            <a:off x="3076200" y="836640"/>
            <a:ext cx="2675520" cy="5371920"/>
            <a:chOff x="3076200" y="836640"/>
            <a:chExt cx="2675520" cy="5371920"/>
          </a:xfrm>
        </p:grpSpPr>
        <p:sp>
          <p:nvSpPr>
            <p:cNvPr id="625" name=""/>
            <p:cNvSpPr/>
            <p:nvPr/>
          </p:nvSpPr>
          <p:spPr>
            <a:xfrm rot="5400000">
              <a:off x="3974040" y="2109960"/>
              <a:ext cx="976320" cy="486360"/>
            </a:xfrm>
            <a:prstGeom prst="rightArrow">
              <a:avLst>
                <a:gd name="adj1" fmla="val 50000"/>
                <a:gd name="adj2" fmla="val 501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5400000">
              <a:off x="3974040" y="4053240"/>
              <a:ext cx="976320" cy="486360"/>
            </a:xfrm>
            <a:prstGeom prst="rightArrow">
              <a:avLst>
                <a:gd name="adj1" fmla="val 50000"/>
                <a:gd name="adj2" fmla="val 501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190680" y="2894040"/>
              <a:ext cx="2514240" cy="1257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8080"/>
                  </a:solidFill>
                  <a:latin typeface="Arial"/>
                </a:rPr>
                <a:t>Заседа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8080"/>
                  </a:solidFill>
                  <a:latin typeface="Arial"/>
                </a:rPr>
                <a:t>МПк  ДО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05160" y="4836960"/>
              <a:ext cx="2400120" cy="1371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Направление на городску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ПМП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76200" y="836640"/>
              <a:ext cx="2675520" cy="13712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cc"/>
                  </a:solidFill>
                  <a:latin typeface="Times New Roman"/>
                </a:rPr>
                <a:t>Обследова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cc"/>
                  </a:solidFill>
                  <a:latin typeface="Times New Roman"/>
                </a:rPr>
                <a:t>специалистами МПк  ДО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86080" y="1048320"/>
            <a:ext cx="7793280" cy="4877640"/>
            <a:chOff x="586080" y="1048320"/>
            <a:chExt cx="7793280" cy="4877640"/>
          </a:xfrm>
        </p:grpSpPr>
        <p:sp>
          <p:nvSpPr>
            <p:cNvPr id="633" name=""/>
            <p:cNvSpPr/>
            <p:nvPr/>
          </p:nvSpPr>
          <p:spPr>
            <a:xfrm rot="5782200">
              <a:off x="1015560" y="2289960"/>
              <a:ext cx="2600640" cy="1089360"/>
            </a:xfrm>
            <a:custGeom>
              <a:avLst/>
              <a:gdLst>
                <a:gd name="textAreaLeft" fmla="*/ 455760 w 2600640"/>
                <a:gd name="textAreaRight" fmla="*/ 1884600 w 2600640"/>
                <a:gd name="textAreaTop" fmla="*/ 145800 h 1089360"/>
                <a:gd name="textAreaBottom" fmla="*/ 943560 h 10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73" hR="21600" stAng="10800000" swAng="-5400000"/>
                  <a:lnTo>
                    <a:pt x="11867" y="21600"/>
                  </a:lnTo>
                  <a:arcTo wR="7573" hR="21600" stAng="5400000" swAng="-2685590"/>
                  <a:lnTo>
                    <a:pt x="21167" y="7200"/>
                  </a:lnTo>
                  <a:lnTo>
                    <a:pt x="17293" y="0"/>
                  </a:lnTo>
                  <a:lnTo>
                    <a:pt x="12553" y="7200"/>
                  </a:lnTo>
                  <a:lnTo>
                    <a:pt x="14713" y="7200"/>
                  </a:lnTo>
                  <a:arcTo wR="7573" hR="21600" stAng="2714410" swAng="2330533"/>
                  <a:lnTo>
                    <a:pt x="9720" y="20714"/>
                  </a:lnTo>
                  <a:arcTo wR="7573" hR="21600" stAng="5755058" swAng="5044942"/>
                  <a:close/>
                </a:path>
                <a:path fill="darkenLess" w="21600" h="21600">
                  <a:moveTo>
                    <a:pt x="0" y="0"/>
                  </a:moveTo>
                  <a:arcTo wR="7573" hR="21600" stAng="10800000" swAng="-5400000"/>
                  <a:lnTo>
                    <a:pt x="11867" y="21600"/>
                  </a:lnTo>
                  <a:arcTo wR="7573" hR="21600" stAng="5400000" swAng="355058"/>
                  <a:lnTo>
                    <a:pt x="9720" y="20714"/>
                  </a:lnTo>
                  <a:arcTo wR="7573" hR="21600" stAng="5755058" swAng="5044942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1258600">
              <a:off x="6177240" y="1534680"/>
              <a:ext cx="1087200" cy="2604240"/>
            </a:xfrm>
            <a:custGeom>
              <a:avLst/>
              <a:gdLst>
                <a:gd name="textAreaLeft" fmla="*/ 145440 w 1087200"/>
                <a:gd name="textAreaRight" fmla="*/ 941760 w 1087200"/>
                <a:gd name="textAreaTop" fmla="*/ 455760 h 2604240"/>
                <a:gd name="textAreaBottom" fmla="*/ 1888200 h 260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19000" y="1048320"/>
              <a:ext cx="3727440" cy="1951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8080"/>
                  </a:solidFill>
                  <a:latin typeface="Times New Roman"/>
                </a:rPr>
                <a:t>МП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8080"/>
                  </a:solidFill>
                  <a:latin typeface="Times New Roman"/>
                </a:rPr>
                <a:t>детского са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6080" y="3974400"/>
              <a:ext cx="3966120" cy="1949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80"/>
                  </a:solidFill>
                  <a:latin typeface="Times New Roman"/>
                </a:rPr>
                <a:t>Поликлиник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21120" y="3974400"/>
              <a:ext cx="3558240" cy="1951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80"/>
                  </a:solidFill>
                  <a:latin typeface="Times New Roman"/>
                </a:rPr>
                <a:t>ПМП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Методический и  диагностический материалы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 rot="1475400">
            <a:off x="6732360" y="1628280"/>
            <a:ext cx="1590480" cy="20592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 rot="19909800">
            <a:off x="323640" y="1773000"/>
            <a:ext cx="2449440" cy="17809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395280" y="4797360"/>
            <a:ext cx="1295280" cy="172872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3348000" y="1341360"/>
            <a:ext cx="2583000" cy="18003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5"/>
          <a:stretch/>
        </p:blipFill>
        <p:spPr>
          <a:xfrm>
            <a:off x="1403280" y="4365720"/>
            <a:ext cx="1295640" cy="17272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6"/>
          <a:stretch/>
        </p:blipFill>
        <p:spPr>
          <a:xfrm>
            <a:off x="7380360" y="4724280"/>
            <a:ext cx="1295280" cy="16560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7"/>
          <a:stretch/>
        </p:blipFill>
        <p:spPr>
          <a:xfrm>
            <a:off x="6443640" y="4292640"/>
            <a:ext cx="1224000" cy="172728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8"/>
          <a:stretch/>
        </p:blipFill>
        <p:spPr>
          <a:xfrm>
            <a:off x="5508720" y="393372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9"/>
          <a:stretch/>
        </p:blipFill>
        <p:spPr>
          <a:xfrm>
            <a:off x="1979640" y="400536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10"/>
          <a:stretch/>
        </p:blipFill>
        <p:spPr>
          <a:xfrm>
            <a:off x="4572000" y="371628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11"/>
          <a:stretch/>
        </p:blipFill>
        <p:spPr>
          <a:xfrm>
            <a:off x="2700360" y="3716280"/>
            <a:ext cx="122400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cc"/>
                </a:solidFill>
                <a:latin typeface="Times New Roman"/>
              </a:rPr>
              <a:t>Спасибо  за 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684360" y="4076640"/>
            <a:ext cx="7559640" cy="165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71760" y="1122480"/>
            <a:ext cx="7175880" cy="4936680"/>
            <a:chOff x="671760" y="1122480"/>
            <a:chExt cx="7175880" cy="4936680"/>
          </a:xfrm>
        </p:grpSpPr>
        <p:sp>
          <p:nvSpPr>
            <p:cNvPr id="519" name=""/>
            <p:cNvSpPr/>
            <p:nvPr/>
          </p:nvSpPr>
          <p:spPr>
            <a:xfrm>
              <a:off x="671760" y="2307960"/>
              <a:ext cx="4277880" cy="1974960"/>
            </a:xfrm>
            <a:custGeom>
              <a:avLst/>
              <a:gdLst>
                <a:gd name="textAreaLeft" fmla="*/ 0 w 4277880"/>
                <a:gd name="textAreaRight" fmla="*/ 4278240 w 4277880"/>
                <a:gd name="textAreaTop" fmla="*/ 0 h 1974960"/>
                <a:gd name="textAreaBottom" fmla="*/ 1975320 h 19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Речевая  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         </a:t>
              </a: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деятельно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00120" y="1122480"/>
              <a:ext cx="2747520" cy="59328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dfde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Фонет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00120" y="2109600"/>
              <a:ext cx="2747520" cy="59184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Лекс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0120" y="3097440"/>
              <a:ext cx="2747520" cy="59076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Граммат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00120" y="4084560"/>
              <a:ext cx="2747520" cy="98748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Фонематические  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процесс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00120" y="5467320"/>
              <a:ext cx="2747520" cy="59184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Семант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73520" y="2701800"/>
              <a:ext cx="108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73520" y="171576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73520" y="3689280"/>
              <a:ext cx="0" cy="3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73520" y="5072040"/>
              <a:ext cx="0" cy="3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Times New Roman"/>
              </a:rPr>
              <a:t>Принципы анализа речевых нарушений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ecfa"/>
                </a:solidFill>
                <a:latin typeface="Times New Roman"/>
              </a:rPr>
              <a:t>Принцип развит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ecfa"/>
                </a:solidFill>
                <a:latin typeface="Times New Roman"/>
              </a:rPr>
              <a:t>Принцип оценки коммуникативного поведения в процессе об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ecfa"/>
                </a:solidFill>
                <a:latin typeface="Times New Roman"/>
              </a:rPr>
              <a:t>Принцип системного подх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ecfa"/>
                </a:solidFill>
                <a:latin typeface="Times New Roman"/>
              </a:rPr>
              <a:t>Принцип  связи речи с другими сторонами психическ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533" name=""/>
          <p:cNvGrpSpPr/>
          <p:nvPr/>
        </p:nvGrpSpPr>
        <p:grpSpPr>
          <a:xfrm>
            <a:off x="43200" y="298080"/>
            <a:ext cx="9100440" cy="6261480"/>
            <a:chOff x="43200" y="298080"/>
            <a:chExt cx="9100440" cy="6261480"/>
          </a:xfrm>
        </p:grpSpPr>
        <p:sp>
          <p:nvSpPr>
            <p:cNvPr id="534" name=""/>
            <p:cNvSpPr/>
            <p:nvPr/>
          </p:nvSpPr>
          <p:spPr>
            <a:xfrm>
              <a:off x="152640" y="298080"/>
              <a:ext cx="8641080" cy="745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Классификация речевых нарушений по Р.Е. Левино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77720" y="1490760"/>
              <a:ext cx="2953080" cy="44676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Times New Roman"/>
                </a:rPr>
                <a:t>Клинико-педагогическ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72040" y="1490760"/>
              <a:ext cx="2953080" cy="446760"/>
            </a:xfrm>
            <a:prstGeom prst="rect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Times New Roman"/>
                </a:rPr>
                <a:t>Психолого-педагогическ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12560" y="2235960"/>
              <a:ext cx="1531080" cy="89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cc"/>
                  </a:solidFill>
                  <a:latin typeface="Times New Roman"/>
                </a:rPr>
                <a:t>Нарушения в применении средств общени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7040" y="2235960"/>
              <a:ext cx="1859400" cy="89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Нарушения  устной реч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18600" y="2235960"/>
              <a:ext cx="1837440" cy="89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Нарушения письменной речи</a:t>
              </a: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62600" y="2235960"/>
              <a:ext cx="1531080" cy="89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Нарушение средств общ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00" y="4770720"/>
              <a:ext cx="1203120" cy="178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92929"/>
                  </a:solidFill>
                  <a:latin typeface="Times New Roman"/>
                </a:rPr>
                <a:t>Дисфон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92929"/>
                  </a:solidFill>
                  <a:latin typeface="Times New Roman"/>
                </a:rPr>
                <a:t>Брадилалия Тахилал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92929"/>
                  </a:solidFill>
                  <a:latin typeface="Times New Roman"/>
                </a:rPr>
                <a:t>Заикан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92929"/>
                  </a:solidFill>
                  <a:latin typeface="Times New Roman"/>
                </a:rPr>
                <a:t>Дислал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92929"/>
                  </a:solidFill>
                  <a:latin typeface="Times New Roman"/>
                </a:rPr>
                <a:t>Ринолалия Дизартр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56120" y="4770720"/>
              <a:ext cx="1203120" cy="59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Алал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Афаз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81480" y="3727080"/>
              <a:ext cx="1203120" cy="74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ФФН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ОНР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31440" y="3727080"/>
              <a:ext cx="1093680" cy="74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Заик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1706040" y="1937880"/>
              <a:ext cx="43704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456360" y="1937880"/>
              <a:ext cx="3279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09520" y="1043280"/>
              <a:ext cx="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84600" y="1043280"/>
              <a:ext cx="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159760" y="1937880"/>
              <a:ext cx="3279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518520" y="1937880"/>
              <a:ext cx="3279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28320" y="3130560"/>
              <a:ext cx="0" cy="5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78280" y="3130560"/>
              <a:ext cx="0" cy="5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77760" y="3428640"/>
              <a:ext cx="1203120" cy="10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663300"/>
                  </a:solidFill>
                  <a:latin typeface="Times New Roman"/>
                </a:rPr>
                <a:t>Нарушение продуктив-ного вида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90680" y="3428640"/>
              <a:ext cx="1202760" cy="10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663300"/>
                  </a:solidFill>
                  <a:latin typeface="Times New Roman"/>
                </a:rPr>
                <a:t>Нарушение рецептивной  письменной деятельност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56120" y="3428640"/>
              <a:ext cx="1203120" cy="10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663300"/>
                  </a:solidFill>
                  <a:latin typeface="Times New Roman"/>
                </a:rPr>
                <a:t>Нарушение структурно-семантичес-кого оформлен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200" y="3428640"/>
              <a:ext cx="1203120" cy="10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663300"/>
                  </a:solidFill>
                  <a:latin typeface="Times New Roman"/>
                </a:rPr>
                <a:t>Нарушение фонацион-ного оформлен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77760" y="4770720"/>
              <a:ext cx="1203120" cy="59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92929"/>
                  </a:solidFill>
                  <a:latin typeface="Times New Roman"/>
                </a:rPr>
                <a:t>Дисграф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0680" y="4770720"/>
              <a:ext cx="1202760" cy="59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292929"/>
                  </a:solidFill>
                  <a:latin typeface="Times New Roman"/>
                </a:rPr>
                <a:t>Дислекс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99480" y="3130560"/>
              <a:ext cx="21852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93520" y="3130560"/>
              <a:ext cx="21852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9840" y="4472280"/>
              <a:ext cx="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12400" y="4472280"/>
              <a:ext cx="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324600" y="3130560"/>
              <a:ext cx="21852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18640" y="3130560"/>
              <a:ext cx="21852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24960" y="4472280"/>
              <a:ext cx="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37520" y="4472280"/>
              <a:ext cx="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569" name=""/>
          <p:cNvGrpSpPr/>
          <p:nvPr/>
        </p:nvGrpSpPr>
        <p:grpSpPr>
          <a:xfrm>
            <a:off x="530640" y="1285920"/>
            <a:ext cx="8042400" cy="4429080"/>
            <a:chOff x="530640" y="1285920"/>
            <a:chExt cx="8042400" cy="4429080"/>
          </a:xfrm>
        </p:grpSpPr>
        <p:sp>
          <p:nvSpPr>
            <p:cNvPr id="570" name=""/>
            <p:cNvSpPr/>
            <p:nvPr/>
          </p:nvSpPr>
          <p:spPr>
            <a:xfrm>
              <a:off x="530640" y="2571840"/>
              <a:ext cx="3146760" cy="2000160"/>
            </a:xfrm>
            <a:custGeom>
              <a:avLst/>
              <a:gdLst>
                <a:gd name="textAreaLeft" fmla="*/ 0 w 3146760"/>
                <a:gd name="textAreaRight" fmla="*/ 3147120 w 314676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Этап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     </a:t>
              </a: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диагности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77240" y="1285920"/>
              <a:ext cx="4195800" cy="114300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1 этап</a:t>
              </a: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29"/>
                  </a:solidFill>
                  <a:latin typeface="Times New Roman"/>
                </a:rPr>
                <a:t>Ориентировочны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77240" y="2857680"/>
              <a:ext cx="4195800" cy="128556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2 этап</a:t>
              </a: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29"/>
                  </a:solidFill>
                  <a:latin typeface="Times New Roman"/>
                </a:rPr>
                <a:t>Дифференцировочны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      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77240" y="4572000"/>
              <a:ext cx="4195800" cy="114300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3 этап</a:t>
              </a: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29"/>
                  </a:solidFill>
                  <a:latin typeface="Times New Roman"/>
                </a:rPr>
                <a:t>Заключительны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576" name=""/>
          <p:cNvGrpSpPr/>
          <p:nvPr/>
        </p:nvGrpSpPr>
        <p:grpSpPr>
          <a:xfrm>
            <a:off x="495360" y="315360"/>
            <a:ext cx="8475480" cy="6302520"/>
            <a:chOff x="495360" y="315360"/>
            <a:chExt cx="8475480" cy="6302520"/>
          </a:xfrm>
        </p:grpSpPr>
        <p:sp>
          <p:nvSpPr>
            <p:cNvPr id="577" name=""/>
            <p:cNvSpPr/>
            <p:nvPr/>
          </p:nvSpPr>
          <p:spPr>
            <a:xfrm>
              <a:off x="495360" y="1417680"/>
              <a:ext cx="4186080" cy="94500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Times New Roman"/>
                </a:rPr>
                <a:t>Логопедическое обследова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28480" y="1417680"/>
              <a:ext cx="3942360" cy="94500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Times New Roman"/>
                </a:rPr>
                <a:t>Психолого-педагогическо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Times New Roman"/>
                </a:rPr>
                <a:t>обследова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587320" y="945000"/>
              <a:ext cx="69660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41520" y="315360"/>
              <a:ext cx="6625440" cy="61380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Диагностика  детей  дошкольного  возрас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9600" y="2678760"/>
              <a:ext cx="3486600" cy="393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1. Связная реч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2. Словар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3. Грамматический стро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4. Звукопроизноше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5. Фонематические     процесс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6. Мелкая мотори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7. Артикуляционная мотори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52280" y="2678760"/>
              <a:ext cx="2790000" cy="203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1. Интеллектуальное развит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2. Эмоционально-личностное развит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13800" y="2363040"/>
              <a:ext cx="108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46560" y="236304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24200" y="945000"/>
              <a:ext cx="69660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588" name=""/>
          <p:cNvGrpSpPr/>
          <p:nvPr/>
        </p:nvGrpSpPr>
        <p:grpSpPr>
          <a:xfrm>
            <a:off x="0" y="545400"/>
            <a:ext cx="8743680" cy="5834520"/>
            <a:chOff x="0" y="545400"/>
            <a:chExt cx="8743680" cy="5834520"/>
          </a:xfrm>
        </p:grpSpPr>
        <p:sp>
          <p:nvSpPr>
            <p:cNvPr id="589" name=""/>
            <p:cNvSpPr/>
            <p:nvPr/>
          </p:nvSpPr>
          <p:spPr>
            <a:xfrm>
              <a:off x="0" y="545400"/>
              <a:ext cx="4672800" cy="1576080"/>
            </a:xfrm>
            <a:custGeom>
              <a:avLst/>
              <a:gdLst>
                <a:gd name="textAreaLeft" fmla="*/ 0 w 4672800"/>
                <a:gd name="textAreaRight" fmla="*/ 4673160 w 467280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              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            </a:t>
              </a:r>
              <a:r>
                <a:rPr b="1" lang="en-US" sz="2600" spc="-1" strike="noStrike">
                  <a:solidFill>
                    <a:srgbClr val="800000"/>
                  </a:solidFill>
                  <a:latin typeface="Times New Roman"/>
                </a:rPr>
                <a:t>Диагностически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0000"/>
                  </a:solidFill>
                  <a:latin typeface="Times New Roman"/>
                </a:rPr>
                <a:t>          </a:t>
              </a:r>
              <a:r>
                <a:rPr b="1" lang="en-US" sz="2600" spc="-1" strike="noStrike">
                  <a:solidFill>
                    <a:srgbClr val="800000"/>
                  </a:solidFill>
                  <a:latin typeface="Times New Roman"/>
                </a:rPr>
                <a:t>метод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672800" y="702720"/>
              <a:ext cx="4070880" cy="1419840"/>
            </a:xfrm>
            <a:prstGeom prst="flowChartPunchedCard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a0e"/>
                  </a:solidFill>
                  <a:latin typeface="Times New Roman"/>
                </a:rPr>
                <a:t>Беседы с детьми (индивидуальные и групповые</a:t>
              </a:r>
              <a:r>
                <a:rPr b="1" lang="en-US" sz="1600" spc="-1" strike="noStrike">
                  <a:solidFill>
                    <a:srgbClr val="52527c"/>
                  </a:solidFill>
                  <a:latin typeface="Times New Roman"/>
                </a:rPr>
                <a:t>)</a:t>
              </a:r>
              <a:r>
                <a:rPr b="1" lang="en-US" sz="16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18920" y="1648440"/>
              <a:ext cx="4070880" cy="1105560"/>
            </a:xfrm>
            <a:prstGeom prst="flowChartPunchedCard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Специальные задания диагностического характер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87200" y="2594520"/>
              <a:ext cx="4070880" cy="1419840"/>
            </a:xfrm>
            <a:prstGeom prst="flowChartPunchedCard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Наблюдение за ребенком в процессе разных видов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79080" y="3855960"/>
              <a:ext cx="4070880" cy="1419840"/>
            </a:xfrm>
            <a:prstGeom prst="flowChartPunchedCard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Изучение медико-педагогической документации и продуктов деятельности ребен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48800" y="5117400"/>
              <a:ext cx="4068000" cy="1262520"/>
            </a:xfrm>
            <a:prstGeom prst="flowChartPunchedCard">
              <a:avLst/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Беседы с педагогами ДОУ и родителями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597" name=""/>
          <p:cNvGrpSpPr/>
          <p:nvPr/>
        </p:nvGrpSpPr>
        <p:grpSpPr>
          <a:xfrm>
            <a:off x="1022040" y="1134000"/>
            <a:ext cx="7119000" cy="2969280"/>
            <a:chOff x="1022040" y="1134000"/>
            <a:chExt cx="7119000" cy="2969280"/>
          </a:xfrm>
        </p:grpSpPr>
        <p:sp>
          <p:nvSpPr>
            <p:cNvPr id="598" name=""/>
            <p:cNvSpPr/>
            <p:nvPr/>
          </p:nvSpPr>
          <p:spPr>
            <a:xfrm>
              <a:off x="1022040" y="1134000"/>
              <a:ext cx="3414600" cy="2043360"/>
            </a:xfrm>
            <a:custGeom>
              <a:avLst/>
              <a:gdLst>
                <a:gd name="textAreaLeft" fmla="*/ 0 w 3414600"/>
                <a:gd name="textAreaRight" fmla="*/ 3414960 w 3414600"/>
                <a:gd name="textAreaTop" fmla="*/ 0 h 2043360"/>
                <a:gd name="textAreaBottom" fmla="*/ 2043720 h 20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Формы   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рабо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89800" y="1586160"/>
              <a:ext cx="3351240" cy="1384560"/>
            </a:xfrm>
            <a:prstGeom prst="flowChartPunchedCard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a0e"/>
                  </a:solidFill>
                  <a:latin typeface="Times New Roman"/>
                </a:rPr>
                <a:t>Индивидуа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10280" y="2720520"/>
              <a:ext cx="3352680" cy="1382760"/>
            </a:xfrm>
            <a:prstGeom prst="flowChartPunchedCard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a0e"/>
                  </a:solidFill>
                  <a:latin typeface="Times New Roman"/>
                </a:rPr>
                <a:t>Группов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6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/>
        </a:graphic>
      </p:graphicFrame>
      <p:grpSp>
        <p:nvGrpSpPr>
          <p:cNvPr id="603" name=""/>
          <p:cNvGrpSpPr/>
          <p:nvPr/>
        </p:nvGrpSpPr>
        <p:grpSpPr>
          <a:xfrm>
            <a:off x="441000" y="342000"/>
            <a:ext cx="8526600" cy="5966280"/>
            <a:chOff x="441000" y="342000"/>
            <a:chExt cx="8526600" cy="5966280"/>
          </a:xfrm>
        </p:grpSpPr>
        <p:sp>
          <p:nvSpPr>
            <p:cNvPr id="604" name=""/>
            <p:cNvSpPr/>
            <p:nvPr/>
          </p:nvSpPr>
          <p:spPr>
            <a:xfrm>
              <a:off x="441000" y="2636640"/>
              <a:ext cx="3749040" cy="2141640"/>
            </a:xfrm>
            <a:custGeom>
              <a:avLst/>
              <a:gdLst>
                <a:gd name="textAreaLeft" fmla="*/ 0 w 3749040"/>
                <a:gd name="textAreaRight" fmla="*/ 3749400 w 3749040"/>
                <a:gd name="textAreaTop" fmla="*/ 0 h 2141640"/>
                <a:gd name="textAreaBottom" fmla="*/ 2142000 h 21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Логопед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     </a:t>
              </a: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и психолого-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    </a:t>
              </a: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педагогическая         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  </a:t>
              </a: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диагности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   </a:t>
              </a: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в  дошкольно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  </a:t>
              </a:r>
              <a:r>
                <a:rPr b="1" lang="ru-RU" sz="2000" spc="-1" strike="noStrike">
                  <a:solidFill>
                    <a:srgbClr val="660033"/>
                  </a:solidFill>
                  <a:latin typeface="Times New Roman"/>
                </a:rPr>
                <a:t>учрежден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95600" y="342000"/>
              <a:ext cx="4572000" cy="198864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ru-RU" sz="1600" spc="-1" strike="noStrike">
                  <a:solidFill>
                    <a:srgbClr val="292929"/>
                  </a:solidFill>
                  <a:latin typeface="Times New Roman"/>
                </a:rPr>
                <a:t>Ежегодное обследование воспитанников </a:t>
              </a: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I</a:t>
              </a:r>
              <a:r>
                <a:rPr b="1" lang="ru-RU" sz="1600" spc="-1" strike="noStrike">
                  <a:solidFill>
                    <a:srgbClr val="292929"/>
                  </a:solidFill>
                  <a:latin typeface="Times New Roman"/>
                </a:rPr>
                <a:t> и </a:t>
              </a: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II </a:t>
              </a:r>
              <a:r>
                <a:rPr b="1" lang="ru-RU" sz="1600" spc="-1" strike="noStrike">
                  <a:solidFill>
                    <a:srgbClr val="292929"/>
                  </a:solidFill>
                  <a:latin typeface="Times New Roman"/>
                </a:rPr>
                <a:t>младшей общеразвивающих групп ДОУ, определение уровня речевого развития и направление при необходимости нуждающихся воспитанников на городскую ПМПК.</a:t>
              </a:r>
              <a:r>
                <a:rPr b="0" lang="ru-RU" sz="1600" spc="-1" strike="noStrike">
                  <a:solidFill>
                    <a:srgbClr val="292929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95600" y="2942640"/>
              <a:ext cx="4572000" cy="137664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292929"/>
                  </a:solidFill>
                  <a:latin typeface="Times New Roman"/>
                </a:rPr>
                <a:t>Ежегодное обследование воспитанников логопедической группы ДОУ в начале и в конце учебного года, определение уровня речевого развития речи к концу  учебного года.</a:t>
              </a:r>
              <a:r>
                <a:rPr b="0" lang="en-US" sz="1600" spc="-1" strike="noStrike">
                  <a:solidFill>
                    <a:srgbClr val="292929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95600" y="4931640"/>
              <a:ext cx="4572000" cy="1376640"/>
            </a:xfrm>
            <a:prstGeom prst="roundRect">
              <a:avLst>
                <a:gd name="adj" fmla="val 16667"/>
              </a:avLst>
            </a:prstGeom>
            <a:solidFill>
              <a:srgbClr val="dfd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ru-RU" sz="1600" spc="-1" strike="noStrike">
                  <a:solidFill>
                    <a:srgbClr val="292929"/>
                  </a:solidFill>
                  <a:latin typeface="Times New Roman"/>
                </a:rPr>
                <a:t>Ежегодное обследование воспитанников старших, подготовительных общеразвива-ющих групп ДОУ в конце учебного года и определение уровня  речевого развития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6:08:08Z</dcterms:created>
  <dc:creator>Инна</dc:creator>
  <dc:description/>
  <dc:language>en-US</dc:language>
  <cp:lastModifiedBy>Инна</cp:lastModifiedBy>
  <dcterms:modified xsi:type="dcterms:W3CDTF">2015-10-09T17:12:20Z</dcterms:modified>
  <cp:revision>34</cp:revision>
  <dc:subject/>
  <dc:title>Слайд 1</dc:title>
</cp:coreProperties>
</file>