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16AE-38C9-45A5-A9F0-A08677F38E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FC5E-062F-4120-B248-36B322E3AB3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7AD6-2379-416B-A0F7-1C6CF0E2525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CBA1-9C60-48A1-A2FE-890D7DF28BE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E75D-6960-4337-A7BA-379D10E47B8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5253-9261-4BB4-B431-7E05E3BFE7A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F036-BC71-4CA2-9F52-18C116E7495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CE0-3869-4063-86EA-723F43CDE69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C48E-3ADD-4BE9-9505-8753D85951F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F2AD-9344-49E3-88F6-3D2427FCE95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84C-AAC2-4276-9746-68093D066B9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2E39-898B-4A58-B61E-FEB39599D99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4CCE-B7FF-46F6-9C2C-A80034CF5F2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CE36-6A32-49F0-96BA-F2573D22921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25C-C4DE-4A7F-8621-89266964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F63-2EF3-41B8-8E98-BD1274A8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49D-69C0-484E-A7D4-CDCCDDAB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CA5-A086-446B-AA1D-A7ADDF86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9FEA-8D22-4568-9611-BFB476C6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D89D-F3D0-4860-91BB-59366FB4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881A-403B-443A-83BF-55B87245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230B-AFB0-4C10-88C6-D538A749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16EB-3399-40F6-98C3-9EF311FB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8F81-59B6-45B6-AB05-0CC8D376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96E0-C656-4342-AF66-87EC766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36B-CF55-48CB-89DF-DAB0F445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831-1D1F-4DBF-8675-92F4FEF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186F-E46B-4A8A-A613-1EB024FC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E4A0-FF9F-4BC9-9C2B-BBFFF59E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E093-6E7B-4D21-9640-1EFC2807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CF94-A8A0-4646-AAEC-54D59B90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0D9-BEF5-4AAA-A4DB-D229FDF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FA3-E07D-4D24-AFB3-65D2DA7A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CC6-528D-40A4-8453-3DE6E18E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800-CC69-4E38-9336-9E6BE442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6A0-D10E-48C4-AAE6-7F51BFD3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E73-D080-4E0B-B778-1190B3F7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7E4-C1BF-41FD-99A2-CFB8C97E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268D-B31E-4B6B-9277-E53F4F4D7A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136E-B708-45A8-B84D-59B428C0A7E1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55/423/55423542_deti_sochinenij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67/67875_or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ГБПОУ ВО «Бутурлиновский педагогический техникум»</a:t>
            </a:r>
            <a:br>
              <a:rPr sz="2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едагогика поддержки ребёнка в процессе развития и социализации его личност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495680" y="243792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Каждый ребёнок пришёл в этот мир не случайно: он рождается, потому что должен был родиться; он пришёл как бы на зов людей… У него своя жизненная миссия, которой мы не знаем, может быть великая… И для этого он наделён величайшей энергией духа, а наш долг – помочь выполнить её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55423542_deti_sochinenij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Основные принципы и структура психолого-педагогического сопровождения социального педаго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7" descr="SDC10226"/>
          <p:cNvPicPr/>
          <p:nvPr/>
        </p:nvPicPr>
        <p:blipFill>
          <a:blip r:embed="rId1"/>
          <a:stretch/>
        </p:blipFill>
        <p:spPr>
          <a:xfrm>
            <a:off x="4645080" y="2333520"/>
            <a:ext cx="4270320" cy="3152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SAM_3593"/>
          <p:cNvPicPr/>
          <p:nvPr/>
        </p:nvPicPr>
        <p:blipFill>
          <a:blip r:embed="rId2"/>
          <a:stretch/>
        </p:blipFill>
        <p:spPr>
          <a:xfrm>
            <a:off x="228600" y="304812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Психолого – педагогическая поддержка эмоционального развития учащихся и воспитанников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8" descr="DSC00003"/>
          <p:cNvPicPr/>
          <p:nvPr/>
        </p:nvPicPr>
        <p:blipFill>
          <a:blip r:embed="rId1"/>
          <a:stretch/>
        </p:blipFill>
        <p:spPr>
          <a:xfrm>
            <a:off x="4572000" y="3581280"/>
            <a:ext cx="4037040" cy="3027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DSC00006"/>
          <p:cNvPicPr/>
          <p:nvPr/>
        </p:nvPicPr>
        <p:blipFill>
          <a:blip r:embed="rId2"/>
          <a:stretch/>
        </p:blipFill>
        <p:spPr>
          <a:xfrm>
            <a:off x="457200" y="2666880"/>
            <a:ext cx="403704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Содержание деятельности классного руководителя по созданию педагогической поддерж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9" descr="DSC00004"/>
          <p:cNvPicPr/>
          <p:nvPr/>
        </p:nvPicPr>
        <p:blipFill>
          <a:blip r:embed="rId1"/>
          <a:stretch/>
        </p:blipFill>
        <p:spPr>
          <a:xfrm>
            <a:off x="228600" y="3505320"/>
            <a:ext cx="4037040" cy="3027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DSC00011"/>
          <p:cNvPicPr/>
          <p:nvPr/>
        </p:nvPicPr>
        <p:blipFill>
          <a:blip r:embed="rId2"/>
          <a:stretch/>
        </p:blipFill>
        <p:spPr>
          <a:xfrm>
            <a:off x="4572000" y="2590920"/>
            <a:ext cx="40370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105160" y="3276360"/>
            <a:ext cx="35780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собые дети должны почувствовать, что этот мир – их мир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380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Картинка 127 из 8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52480"/>
            <a:ext cx="50007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опровождение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это целостная, системно организованная деятельность, в процессе которой создаются социально-психологические и педагогические условия для успешного обучения и развития каждого ребёнка в процессе взаимодействия в школьной сред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истема взаимодействия специалистов базируетс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на взаимопонимании специалисто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на единстве целей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на обсуждении, принятии решений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Постановка пробле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Поступление запроса, осознание сути проблемы, разработка плана сбора информации о ребенке и проведения диагностического исследова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Анализ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полученно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информ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ценка и обсуждение со всеми заинтересованными лицами возможных путей и способов решения проблемы, обсуждение позитивных и негативных сторон разных решени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Разработка плана комплексной помощ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9144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пределение последовательности действий, распределение функций и обязанностей сторон, сроков реализации: совместная выработка рекомендаций для ребёнка, педагога, родителей, специалистов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Реализация плана по решению проблем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Выполнение рекомендаций каждым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участником сопровожде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7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Осмысление и оценка результатов деятельности по сопровожден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Что удалось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Что не удалось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Почему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ешение отдельной проблемы или проведение дальнейшего анализа  развития ребёнк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инципы сопровожд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блюдение интересов ребён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инцип непрерывнос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инцип системности сопровожд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5-10-10T17:54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