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EB22-4096-487A-92FF-04634408A2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BA34-A1BB-4D4F-A1CD-5C36B18132B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56B2-0B08-492F-A32E-B3A98F44802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F309-0B48-44DE-B2B3-D1C60FDE002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F448-F4A1-42B8-9854-FC47B4D03B2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D07B-5C7D-444C-8318-AE574FD1FC2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AF32-FB03-480A-8176-3C803F45D2B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9676-8A35-454B-AD71-78301FA0C68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77D9-6796-41EB-A11B-E2BA7073B01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3952-251B-4D8A-8C35-5E58F043437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1631-5064-498E-859B-7F9DEB8F1D2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AAF8-E0CB-41F2-8C44-1B79CB04EAA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88A0-92C1-4234-907E-AD9236A15D9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2639-B0FE-4900-AB9D-F9448CE0B76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089-C9F1-4CB4-AB62-E5EFF00E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4F3-F9A6-4EF7-BF9C-B41180F3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816-E739-4775-8D33-DB588EC8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97C-8999-446B-BA48-52E24BDC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F79D-F3FA-4C1F-9A0A-901759DA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3C41-9DC0-459F-9EEB-2CE88B9B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2F45-E8FD-4EC8-82E1-A79C8E7E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C73A-C05E-45A1-A562-2D100396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1BB0-8A9C-47E0-BDC7-124A3D1D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E299-773D-4515-8B62-38489FE5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A1C3-2000-4796-9799-D03F48A2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A68-9C33-4B1B-928D-8FB48F6F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801D-B1FF-4A49-90DB-14896B1F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2B2F-0F5D-464F-B97B-38BC7A7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6ABB-592A-435D-A97E-56EA5BB4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C8BA-D1DE-4506-A24C-3272C384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A220-C661-42EF-95F0-2B35397C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234-03F7-431E-AE28-BF74BF0A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98A-29DA-4373-940C-2A8D16B1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50C-C103-4CE5-A18B-8E0DEC64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41C-B2A9-4B97-8A39-F7BCE293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8FE-3296-43C4-9E00-FAF41008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9C8-CA66-45F7-A02F-315E761D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12D-B68E-4D38-9EDA-D25661CE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26A8-4534-49C9-909B-FADCC19056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AAC3-17C2-4AC6-8F84-CC518CB9BA94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1/55/423/55423542_deti_sochinenij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67/67875_or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ГБПОУ ВО «Бутурлиновский педагогический техникум»</a:t>
            </a:r>
            <a:br>
              <a:rPr sz="2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едагогика поддержки ребёнка в процессе развития и социализации его личност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495680" y="243792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Каждый ребёнок пришёл в этот мир не случайно: он рождается, потому что должен был родиться; он пришёл как бы на зов людей… У него своя жизненная миссия, которой мы не знаем, может быть великая… И для этого он наделён величайшей энергией духа, а наш долг – помочь выполнить её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55423542_deti_sochinenij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Основные принципы и структура психолого-педагогического сопровождения социального педаго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7" descr="SDC10226"/>
          <p:cNvPicPr/>
          <p:nvPr/>
        </p:nvPicPr>
        <p:blipFill>
          <a:blip r:embed="rId1"/>
          <a:stretch/>
        </p:blipFill>
        <p:spPr>
          <a:xfrm>
            <a:off x="4645080" y="2333520"/>
            <a:ext cx="4270320" cy="3152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SAM_3593"/>
          <p:cNvPicPr/>
          <p:nvPr/>
        </p:nvPicPr>
        <p:blipFill>
          <a:blip r:embed="rId2"/>
          <a:stretch/>
        </p:blipFill>
        <p:spPr>
          <a:xfrm>
            <a:off x="228600" y="304812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Психолого – педагогическая поддержка эмоционального развития учащихся и воспитанников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8" descr="DSC00003"/>
          <p:cNvPicPr/>
          <p:nvPr/>
        </p:nvPicPr>
        <p:blipFill>
          <a:blip r:embed="rId1"/>
          <a:stretch/>
        </p:blipFill>
        <p:spPr>
          <a:xfrm>
            <a:off x="4572000" y="3581280"/>
            <a:ext cx="4037040" cy="3027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DSC00006"/>
          <p:cNvPicPr/>
          <p:nvPr/>
        </p:nvPicPr>
        <p:blipFill>
          <a:blip r:embed="rId2"/>
          <a:stretch/>
        </p:blipFill>
        <p:spPr>
          <a:xfrm>
            <a:off x="457200" y="2666880"/>
            <a:ext cx="403704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Содержание деятельности классного руководителя по созданию педагогической поддерж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9" descr="DSC00004"/>
          <p:cNvPicPr/>
          <p:nvPr/>
        </p:nvPicPr>
        <p:blipFill>
          <a:blip r:embed="rId1"/>
          <a:stretch/>
        </p:blipFill>
        <p:spPr>
          <a:xfrm>
            <a:off x="228600" y="3505320"/>
            <a:ext cx="4037040" cy="3027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DSC00011"/>
          <p:cNvPicPr/>
          <p:nvPr/>
        </p:nvPicPr>
        <p:blipFill>
          <a:blip r:embed="rId2"/>
          <a:stretch/>
        </p:blipFill>
        <p:spPr>
          <a:xfrm>
            <a:off x="4572000" y="2590920"/>
            <a:ext cx="40370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105160" y="3276360"/>
            <a:ext cx="35780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собые дети должны почувствовать, что этот мир – их мир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3805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Картинка 127 из 8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52480"/>
            <a:ext cx="50007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опровождение</a:t>
            </a: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это целостная, системно организованная деятельность, в процессе которой создаются социально-психологические и педагогические условия для успешного обучения и развития каждого ребёнка в процессе взаимодействия в школьной сред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истема взаимодействия специалистов базируетс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на взаимопонимании специалисто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на единстве целей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на обсуждении, принятии решений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Постановка пробле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Поступление запроса, осознание сути проблемы, разработка плана сбора информации о ребенке и проведения диагностического исследовани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Анализ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полученно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информ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ценка и обсуждение со всеми заинтересованными лицами возможных путей и способов решения проблемы, обсуждение позитивных и негативных сторон разных решений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Разработка плана комплексной помощ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пределение последовательности действий, распределение функций и обязанностей сторон, сроков реализации: совместная выработка рекомендаций для ребёнка, педагога, родителей, специалистов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Реализация плана по решению проблем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Выполнение рекомендаций каждым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участником сопровождени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70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Осмысление и оценка результатов деятельности по сопровожден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Что удалось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Что не удалось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Почему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ешение отдельной проблемы или проведение дальнейшего анализа  развития ребёнк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ринципы сопровожд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блюдение интересов ребён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инцип непрерывност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инцип системности сопровожд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5-10-10T17:54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