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F0C-0F46-4B57-B681-62A759D7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B0F-84B6-4CA3-AA33-576108C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5AD-7466-4B29-AF16-E94094C7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498-A3F8-458E-8A5A-7F558C78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8DE-A360-4019-9A05-75BB2E72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C26-07EE-4BB4-8B24-715936F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FC9-FA47-4CDE-9F29-508DB4CE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A48-62A6-473F-B18E-C9D0D71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B14-8A37-4C54-96D1-A7C946F0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656-9074-41D2-9EE2-4A78AEB6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EB9-CB0B-48CB-A6C3-0589132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FE5-1519-428C-82B7-4E81621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65D-C954-41F3-83D3-CC8F7AE720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s://ru.wikipedia.org/wiki/&#1059;&#1088;&#1072;&#1085;_(&#1084;&#1080;&#1092;&#1086;&#1083;&#1086;&#1075;&#1080;&#1103;)" TargetMode="External"/><Relationship Id="rId4" Type="http://schemas.openxmlformats.org/officeDocument/2006/relationships/hyperlink" Target="https://ru.wikipedia.org/wiki/&#1050;&#1088;&#1086;&#1085;&#1086;&#1089;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два новых кольца Урана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3864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Уран - самая  голубая планета солнечной системы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48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Уран с кольцами"/>
          <p:cNvPicPr/>
          <p:nvPr/>
        </p:nvPicPr>
        <p:blipFill>
          <a:blip r:embed="rId2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ольца Уран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5480" y="500040"/>
            <a:ext cx="8715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истеме Урана открыто 27 естественных спутников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ия для них выбраны по именам персонажей произведений Уильяма Шекспира и Александра Поуп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спутники можно разделить на три явно выраженных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ерв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внутренние спутники: Корделия, Офелия, Бианка, Крессида, Дездемона, Джульетта, Порция, Розалинда, Купидон, Белинда, Пердита, Пак и Ма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тор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тносительно крупные спутники Урана: Миранда, Ариэль, Умбриэль, Титания и Обер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третью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у входят внешние спутники: Франциско, Калибан, Стефано, Тринкуло, Сикоракса, Маргарита, Просперо, Сетебос и Фердинан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упные спутники Ур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Рисунок 30" descr="http://upload.wikimedia.org/wikipedia/ru/2/2b/800px-Uranian_moon_montage.jpg"/>
          <p:cNvPicPr/>
          <p:nvPr/>
        </p:nvPicPr>
        <p:blipFill>
          <a:blip r:embed="rId2"/>
          <a:srcRect l="1143" t="0" r="6614" b="0"/>
          <a:stretch/>
        </p:blipFill>
        <p:spPr>
          <a:xfrm>
            <a:off x="0" y="2571840"/>
            <a:ext cx="91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Apostolov\Documents\Максу\foto0213.jpg"/>
          <p:cNvPicPr/>
          <p:nvPr/>
        </p:nvPicPr>
        <p:blipFill>
          <a:blip r:embed="rId1"/>
          <a:srcRect l="3123" t="3123" r="0" b="3123"/>
          <a:stretch/>
        </p:blipFill>
        <p:spPr>
          <a:xfrm>
            <a:off x="1136520" y="6480"/>
            <a:ext cx="70786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Users\Apostolov\Documents\Максу\8c981142cfb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90084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Видим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3548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Уран иногда видим невооруженным глазом в очень ясную ночь; довольно просто найти его с бинок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24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Apostolov\Documents\Максу\600px-Uranus,_Earth_size_comparison.jpg"/>
          <p:cNvPicPr/>
          <p:nvPr/>
        </p:nvPicPr>
        <p:blipFill>
          <a:blip r:embed="rId2"/>
          <a:stretch/>
        </p:blipFill>
        <p:spPr>
          <a:xfrm>
            <a:off x="785880" y="0"/>
            <a:ext cx="7215120" cy="721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3840" y="785520"/>
            <a:ext cx="8929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Когда о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ahoma"/>
              </a:rPr>
              <a:t>Земле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говорят, что она голубая, это ласковое преувеличение. По-настоящему голубой планетой оказался далекий </a:t>
            </a: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ahoma"/>
              </a:rPr>
              <a:t>Уран!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Уран – назван в честь греческого бога неба </a:t>
            </a:r>
            <a:r>
              <a:rPr b="0" lang="ru-RU" sz="3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Урана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, отца </a:t>
            </a:r>
            <a:r>
              <a:rPr b="0" lang="ru-RU" sz="3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роноса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 (в римской мифологии Сатурна) и, соответственно, деда Зев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Уран"/>
          <p:cNvPicPr/>
          <p:nvPr/>
        </p:nvPicPr>
        <p:blipFill>
          <a:blip r:embed="rId2"/>
          <a:stretch/>
        </p:blipFill>
        <p:spPr>
          <a:xfrm>
            <a:off x="1214280" y="0"/>
            <a:ext cx="6786720" cy="688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Уран, первая планета, обнаруженная в новой истории, была открыта случайно Вильямом Гершелем, когда он рассматривал небо в свой телескоп 13 марта 1781 года. Гершель назвал планету «Планета Георга» в честь своего покровителя, короля Англии Георга III, за что получил от монарха королевскую пенсию. Другие астрономы называли ее планетой Гершеля. Имя же «Уран» утвердилось лишь в 1850 г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postolov\Documents\Максу\William_Herschel01.jpg"/>
          <p:cNvPicPr/>
          <p:nvPr/>
        </p:nvPicPr>
        <p:blipFill>
          <a:blip r:embed="rId2"/>
          <a:stretch/>
        </p:blipFill>
        <p:spPr>
          <a:xfrm>
            <a:off x="0" y="1177920"/>
            <a:ext cx="4643280" cy="568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385776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ильям Герше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Рисунок 4" descr="http://upload.wikimedia.org/wikipedia/commons/thumb/d/d7/HerschelTelescope.jpg/200px-HerschelTelescope.jpg"/>
          <p:cNvPicPr/>
          <p:nvPr/>
        </p:nvPicPr>
        <p:blipFill>
          <a:blip r:embed="rId3"/>
          <a:stretch/>
        </p:blipFill>
        <p:spPr>
          <a:xfrm>
            <a:off x="4714920" y="142920"/>
            <a:ext cx="4429080" cy="56689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4"/>
          <p:cNvSpPr/>
          <p:nvPr/>
        </p:nvSpPr>
        <p:spPr>
          <a:xfrm>
            <a:off x="4429080" y="5357880"/>
            <a:ext cx="4714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одель телескопа, с помощью которого Гершель открыл Уран. Она находится в музее Уильяма Гершеля, в г. Б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щие с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851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Среднее расстояние планеты от Солнца равно 19,187  астрономических единиц (а.е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Звездные сутки на Уране длятся 17 часов 14 минут. Уран вращается, как говорят, «лежа на боку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Масса Урана в 14,5 раз больше массы Зем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Его радиус огромен: более 25 тыс. км, в 4 раза больше радиус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C:\Users\Apostolov\Documents\Максу\vogr_nept_triton.jpg"/>
          <p:cNvPicPr/>
          <p:nvPr/>
        </p:nvPicPr>
        <p:blipFill>
          <a:blip r:embed="rId1"/>
          <a:srcRect l="0" t="7538" r="0" b="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214280" y="285840"/>
            <a:ext cx="44006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Прямоугольная выноска 6" descr=""/>
          <p:cNvPicPr/>
          <p:nvPr/>
        </p:nvPicPr>
        <p:blipFill>
          <a:blip r:embed="rId2"/>
          <a:stretch/>
        </p:blipFill>
        <p:spPr>
          <a:xfrm>
            <a:off x="4200480" y="2346480"/>
            <a:ext cx="4462560" cy="20304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900000" y="551664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окрестностях Урана побывал только один космический аппарат "Вояджер-2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ahoma"/>
              </a:rPr>
              <a:t>Соста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ран состоит прежде всего из горной породы и различных льдов, водорода и гел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строение Урана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:\Users\Apostolov\Documents\Максу\bg_1_gif.gi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57120" y="54900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тмосфера Урана состоит на 83% из водорода, на 15% из гелия и на 2% из мета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одобно другим газовым планетам, Уран имеет кольца.  Они названы 6, 5, 4, Альфа, Бета, Эта, Гамма, Дельта и Эпсилон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3:37:52Z</dcterms:created>
  <dc:creator>dd</dc:creator>
  <dc:description/>
  <dc:language>en-US</dc:language>
  <cp:lastModifiedBy>Windows7</cp:lastModifiedBy>
  <dcterms:modified xsi:type="dcterms:W3CDTF">2015-09-08T16:08:40Z</dcterms:modified>
  <cp:revision>55</cp:revision>
  <dc:subject/>
  <dc:title>Самая голубая планета-Уран</dc:title>
</cp:coreProperties>
</file>