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9266-FABB-4154-8217-36F9037D4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A6DD-714B-483D-B97E-88806C64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D2D5-70A7-46F1-B4BA-5CE3D17D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C05E-196A-4D46-BA73-E5F0F7CED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0CE06-C437-410F-8796-09517E409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D8707-C16B-4289-9B87-2CA2653A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718CD-C6E0-496F-AE95-CD3FD4E5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705B9-A1C0-400D-8903-84F61532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D4502-D969-47B3-9AA1-29D2B682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EE4AB-BB8E-4184-8FB1-1245F482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911F3-6CBB-4853-9EDB-58F0C38B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E97F-7645-4EDD-B54A-61466809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3179F-49E4-42AF-9265-897DDC25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45A1D-57F5-4D82-A8E7-AF03D28F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6AECE-1539-42EF-955D-7DEF6385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EA43B-E3EF-4C23-A6A5-1D40D3279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8A7DC-0C70-4BD4-A9D8-C9851DEB6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7BD3F-8945-4808-8812-543C8BB4F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AFDC4-5B00-45A6-AB71-485159C4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5FCB3-0373-475A-9669-4EA8695D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3FF7F-0980-4AEE-985F-EFD75A73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02D50-59F7-4991-9B5D-2AC7C788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1CEA-16A9-4D0C-8ABA-457A8DED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F0F4D-D4F9-444B-B16E-A062A1A3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28013-B5C8-4B9E-88BA-3847A7F5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1789A-DFA9-4E95-BEF2-91DFFC64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6D8F2-B869-40F5-8E37-A55267A0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99700-C5B8-45E7-AD2D-26B15385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48649-A2F1-407A-B929-56E989315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D521C-74E2-4F7C-94A6-A37CE77B7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50719C-CCB8-45DC-AC8A-1867E8C36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62F862-1FB6-44CF-8581-AA6E4F06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A984F9-68A3-431F-95CD-FF320F59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528B-BBD2-4B7A-9027-6A49B9F9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8B26CA-560E-4076-91A8-BBDFEDF5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B7F3E3-D28B-4689-B744-B11BCF29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F7AFE9-FCAF-4DCC-9FA1-EB6E4506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0C7F45-8067-48CD-81A2-2E05F09F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A1C8F8-4139-4029-9303-D4AD47E5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7F131B-C385-4C24-A916-AB82106D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AC2960-D12E-47E9-AA7A-317A0647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B6316A-D98C-489A-B30A-32393E75B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788540-55EA-4F2D-9438-14A92FAE1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E016-B58B-476E-BFCC-49804C04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51F5-8B44-4D81-8CF1-D3974059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1212-12B9-43A1-988D-811B8953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D893-2C46-4935-BB29-0E688D84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97A0-D034-439D-99E3-8891AAC6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8D0C-4A9A-45F4-ABC3-AD56950420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B15F-C5A7-4790-ADAB-F3B75B1D54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1A56-9C7A-4914-890C-E15C08FF7F8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4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4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5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F13F-E990-4F2F-B073-E85DB2C19B7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ерная Евгения Александр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ОУ СОШ №6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боргского рай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.Санкт-Петербур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одерж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оретические основы метода проектов и проектных технолог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етод учебных проектов - образовательная технология  XXI 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предполагает проектная технолог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Урок окружающего мира с применением проектной технологи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рьезные проблемы сегодн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удем мы реша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блюдать, анализировать, рассужда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 такой вопрос нам предстоит найти отве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Экологическое равновесие – это важно или нет?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343400" y="2736720"/>
            <a:ext cx="434340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вязи между компонентами природ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3504960" cy="19875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5029200" y="1905120"/>
            <a:ext cx="3274920" cy="1987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029200" y="3983040"/>
            <a:ext cx="3276720" cy="1989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990720" y="3962520"/>
            <a:ext cx="34876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риокско - террасный заповедник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3225600" cy="19875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700600" y="4030560"/>
            <a:ext cx="1995480" cy="19893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5745240" y="1905120"/>
            <a:ext cx="1931760" cy="20113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1447920" y="3886200"/>
            <a:ext cx="327636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«Мы настолько изменили все вокруг себя, что теперь, для того чтобы существовать, мы должны изменить себя.»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Т.Хейерда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g</cp:lastModifiedBy>
  <dcterms:modified xsi:type="dcterms:W3CDTF">2011-05-15T16:59:2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