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B05-5902-4BF3-9D29-E711A9A4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C4B-837E-4214-89CB-69623A8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27D-3213-40A2-BF56-FE0DD039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751-DB1B-460D-B52F-0E633207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C3EE9-6573-4B8E-9F74-5E60A15E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8B259-338D-4894-9531-CF920571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3E6D2-1B39-4E9E-9EE5-264BF357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BA295-2C62-453B-A6DA-0701F179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77699-9ABF-4A2C-B6A7-DA6AE7F9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903C1-4676-48DE-9C91-CF05968A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C92E6-07F8-4028-A337-F334DF4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DE7-3149-4D49-B958-0F6BD3EA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C16AE-C71B-44FD-99CD-C08F53D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EC06C-4C4B-4528-992F-E2CD2810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50D40-A852-41BF-8CF8-61F0E612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96C9E-55E6-4A96-932A-FCEC8B79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DD5E7-5888-42C1-94C4-E395AB59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03C2-BEA9-4EFE-9D4D-D7C40602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E084-F267-49CF-9272-15872A70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49C25-92C0-4A3A-AC30-46AA58F3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13132-C488-42AF-A6F7-B3A281A9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E5B4-53A1-4A6C-9559-7564DAB6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760-D26B-4470-A7F0-4C457961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E9B6-1690-443F-94F6-A2174738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BDCA-A778-4CA0-8D2C-6F28C11E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51A4-4AA0-440E-A261-D1C793B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A17A-5009-45D0-A81E-AF8F3D9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EF5A-414A-4CCE-92CE-53D0D504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D5AB-3883-4779-B4BF-64B8A4D7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42C2-304B-4975-9CB5-AEBD130C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850D0-C74A-434F-B588-BB0976F8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73EAC-3733-4360-BA30-1E458387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7F059-17A4-4368-9C0C-7DB5DE2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568-6320-43AF-9249-E69A2DEB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CD29B-91AE-4A84-8B0B-B19DF0B4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317B4-638B-4E84-AC06-D8A7C70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84201-7D2E-47EB-A8F3-F99620B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98033-853B-4656-A46A-0895A00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920DC-A218-4E69-AB86-63A1FD14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953EA-8901-4A05-BB37-1E130356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58592-8B6C-4E3E-931F-3E197100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2985B-1587-4EB8-9988-88BB1A90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F3405-54F0-44D5-BD2E-6C39EAA7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A2D-815A-4242-889F-09B75F41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B4A-594C-45C6-B4B9-FDBEC198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F50-D900-4057-A37C-F85BAC6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18D-6CD2-4BAC-8E42-0F06EC1B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5C7-699F-4ABC-BA4C-EABB3F0F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563B-4FB5-4A3D-906E-A5E63D8D2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CD65-F91D-4927-A720-C5BE5CFA55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A33E-589F-446D-99BE-C3B540D4DA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478E-3213-4788-9A68-21C7DADD24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рная Евгения Александ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У СОШ №6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орг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оретические основы метода проектов и проектных технолог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од учебных проектов - образовательная технология  XXI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редполагает проектная технолог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рок окружающего мира с применением проектной технолог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ьезные проблемы сегод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удем мы реш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блюдать, анализировать, рассужд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такой вопрос нам предстоит найти 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Экологическое равновесие – это важно или нет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343400" y="2736720"/>
            <a:ext cx="43434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язи между компонентами природ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504960" cy="1987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3274920" cy="1987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29200" y="3983040"/>
            <a:ext cx="3276720" cy="198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990720" y="3962520"/>
            <a:ext cx="3487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окско - террасный заповедни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3225600" cy="1987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700600" y="4030560"/>
            <a:ext cx="1995480" cy="198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745240" y="1905120"/>
            <a:ext cx="1931760" cy="2011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327636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«Мы настолько изменили все вокруг себя, что теперь, для того чтобы существовать, мы должны изменить себя.»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.Хейерд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g</cp:lastModifiedBy>
  <dcterms:modified xsi:type="dcterms:W3CDTF">2011-05-15T16:59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