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DE8-631A-40B5-B055-134FC9CC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0E2-FEE6-4E1B-BB37-CB604B14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9DA-4FE7-40D4-8C97-F38FE1E0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CE8-A8F0-4DDC-85A5-4388B92F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7328-3B49-4B55-A6EB-AC2DDC70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8C18-BA5F-4E8F-B524-96481E9E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01A2-9CCD-4085-8C29-6E0E5E43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3BE5-32B3-464A-BE70-FE7A4F59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8B29-A4D5-4130-A791-DC3CF4E9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4C14-FBA7-48CA-AD5C-DFFBC98C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E29C-B245-483E-A93A-73E437B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4DB-E1A9-4C14-A316-7F5E8462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3A33-3C69-4E30-9F2C-9ADDFEE6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EEFA-2765-4C05-A24D-8BFD10A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58F6-93B6-4831-BA09-69771FA7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C38A-9939-4F09-9639-A684B74A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756D-6F28-49A6-AAD2-5DA861AB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6DE-356D-4891-B3CF-FB7D1C11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1BD-AA4A-4707-B70C-85D304E9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FDD-DB17-47FD-A784-D2924897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504-D54A-4D3B-8937-5E4FCFB7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488-EEE7-4D29-B041-557920E2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3C6-2D74-491B-B46E-3C979B44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673-252C-4EA9-95FF-0A738AAB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A933-4EAC-42CB-895C-2D668D525F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14C3-E9AA-4606-9427-5BEACAADCF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едеральные налог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е являются плательщиками НДС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XII Олимпийских зимних игр и XI Паралимпийских зимних игр 2014 г. в г.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кетинговые партнеры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являющиеся официальными вещательными компания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26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аспространенные полезные ископаемые и подземные воды, не числящиеся на государственном балансе запасов полезных ископаемых, добытые индивидуальным предпринимателем и используемые им непосредственно для личного потреб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бытые (собранные) минералогические, палеонтологические и другие геологические коллекционные материа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ые ископаемые, добытые из недр при образовании, использовании, реконструкции и ремонте особо охраняемых геологических объектов, имеющих научное, культурное, эстетическое, санитарно-оздоровительное или иное общественное 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ые ископаемые, извлеченные из собственных отвалов или отходов (потерь) горнодобывающего и связанных с ним перерабатывающих производств, если при их добыче из недр они подлежали налогообложению в общеустановленном поряд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нажные подземные воды, не учитываемые на государственном балансе запасов полезных ископаемых, извлекаемых при разработке месторождений полезных ископаемых или при строительстве и эксплуатации подземных сооруж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налогоплательщиком самостоятельно в отношении каждого добытого полезного ископаем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рименении различных ставок налоговая база формируется отдельно для расчета налога по каждой став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8209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о добытых полезных ископаемых в натуральном выражении является налоговой базой при добыч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фти обезвоженной, обессоленной и стабилизирова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утного газа и газа горючего природного является количество добытых полезных ископаемых в натуральном выраж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добытых полезных ископаемых является налоговой базой при добыче других полезных ископаем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завершенном технологическом цикле налогообложению подлежит только количество полезного ископаемого, реализованного или использованного на собственные нуж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8640"/>
            <a:ext cx="754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етоды опреде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ямой мет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свенный мет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ыбранный метод закрепляется в учетной полити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етод должен применяться в течение всего срока добычи полезного ископаемог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32479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519280" y="1951200"/>
                <a:ext cx="41403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ФП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7"/>
          <p:cNvSpPr/>
          <p:nvPr/>
        </p:nvSpPr>
        <p:spPr>
          <a:xfrm>
            <a:off x="395280" y="3284640"/>
            <a:ext cx="842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добытого ПИ формирования налоговой ба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п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количество добытого ПИ, определенное посредством применения измерительных прибо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П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фактические потери, при добыче полезного ископаем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товаров (работ, услуг) и передача имущественных прав на территории РФ, в том числе безвозмездная передач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ача на территории РФ товаров (выполнение работ, оказание услуг) для собственных нужд в случае, когда расходы на приобретение этих товаров (работ, услуг) не уменьшают налогооблагаемую прибыл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ение строительно-монтажных работ для собственного потреб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з товаров на территорию Р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актические потери полезного ископаемого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364464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ФП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фактические потери, при добыче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расчетное количество полезного ископаемого, на которое уменьшаются запасы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личество добытого полезного ископаемого, определенное посредством применения измерительных прибор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728720" y="1916280"/>
                <a:ext cx="5796000" cy="11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ФП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актические потери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ываются при определении количества добытого полезного ископаемог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ом налоговом периоде, в котором проводилось их изме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змере, определенном по итогам произведенных измере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извлечении драгоценных металлов из коренных (рудных), россыпных и техногенных месторожде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ся по данным обязательного учета при добыче, осуществляемого в соответствии с законодательством РФ о драгоценных металлах и драгоценных камня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извлечении драгоценных камней из коренных, россыпных и техногенных месторожде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ся после первичной сортировки, первичной классификации и первичной оценки необработанных камн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икальные драгоценные камни учитываются отд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пределяемого как полезные компоненты, содержащиеся в добытой многокомпонентной комплексной руд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количество компонента руды в химически чистом вид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ценка стоимости добытых полезных ископаемых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сложившихся у налогоплательщика за соответствующий налоговый период цен реализации без учета субсид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сложившихся у налогоплательщика за соответствующий налоговый период цен ре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расчетной стоимости добытых полезных ископаем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Цена реализац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реализации добытых полезных ископаемых принимаются к расчету б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сид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ц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ммы расходов по доставке покупател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ходы по достав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980720"/>
            <a:ext cx="82087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плату таможенных пошлин и сборов при внешнеторговых сдел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доставке (перевозке) добытого полезного ископаемого от склада готовой продукции (узла учета, входа в магистральный трубопровод, пункта отгрузки потребителю или на переработку, границы раздела сетей с получателем и тому подобных условий) до получа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обязательному страхованию грузов, исчисленные в соответствии с законодательством Российской Федер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единицы полезного ископаемого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3789000"/>
            <a:ext cx="754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ед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тоимость единицы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личество реализованного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ц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цена реализации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ичество реализованных парт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араметрический инде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3357720"/>
            <a:ext cx="914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8"/>
              <p:cNvSpPr txBox="1"/>
              <p:nvPr/>
            </p:nvSpPr>
            <p:spPr>
              <a:xfrm>
                <a:off x="1835280" y="1844640"/>
                <a:ext cx="56880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добытого полезного ископаемого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342864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тоимость добытого полезного ископаем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е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тоимость единицы полезного ископаем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количество добытого полезного ископаемого для формирования налоговой баз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2809800" y="1989000"/>
                <a:ext cx="4067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2997000"/>
            <a:ext cx="75438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чень операций определен п. 2 ст. 146 НК РФ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налогоплательщик получал субсидии, то при отсутствии реализации полезного ископаемого в отчетном периоде стоимость единицы добытого полезного ископаемого производится исходя из выручки, определяемой с учетом цен, сложившихся в предыдущем налоговом пери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четная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альные рас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 на оплату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ммы начисленной амортизации по амортизируемому имущест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 на ремонт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 на освоение природных ресур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, связанные с ликвидацией, консервацией и расконсервацией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е расх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четная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ючает только расходы непосредственно связанные с добычей полезных ископаем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по данным налогового учета в соответствии с главой 25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ые расходы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ределяются между добытым полезным ископаемым и остатками незавершенного производства на конец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свенные расходы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916280"/>
            <a:ext cx="7543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носящиеся к добытым в налоговом периоде полезны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олном объеме включаются в расчетную стоимость этих ископаем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носящихся как к добыче полезных ископаемых, так и к другим видам деятельн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лжны быть распределе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щая сумма расхо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7543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лежит распределению между добытыми полезными ископаемыми пропорционально их количеству, приведенному к единой единице измер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добытых драгоценных металлов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сложившихся у налогоплательщика в соответствующем налоговом периоде (а при их отсутствии - в ближайшем из предыдущих налоговых периодов) цен реализации химически чистого (аффинированного) металла без уче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а на добавленную стои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ходов по аффинаж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ходов по доставке (перевозке) до получате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тоимость единицы добытого полезного ископаемого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е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тоимость единицы добытого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количество добытого полезного ископаемого в пересчете на химически чистый метал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количество добытого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едч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имости единицы химически чистого метал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2519280" y="1989000"/>
                <a:ext cx="39243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ед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и добытых драгоценных камней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исходя из их первичной оценки, проводимой в соответствии с законодательством Российской Федерации о драгоценных металлах и драгоценных камн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и уникальных самородков и камн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ится в порядке, предусмотренном для других полезных ископаем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еализации товаров (работ, услу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учка от реализации товаров (работ, услуг) с учетом акциз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ередаче товаров, работ, услуг для собственных нуж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мма, определенная исходя из цены реализации идентичных товаров, в предыдущем налоговом пери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возе товаров на территорию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моженная стоимость ввозимых, включая таможенную пошлину, акциз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 341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лендарный месяц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2803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ая ставка 0 % применяется при добыч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езных ископаемых в части нормативных потерь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утного г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земных вод, содержащих полезные ископаемые, извлечение которых связано с разработкой других видов полезных ископаемых, и извлекаемых при разработке месторождений полезных ископаемых, а также при строительстве и эксплуатации подземных сооруж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езных ископаемых при разработке некондиционных (остаточных запасов пониженного качества) или ранее списанных запасов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569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ая ставка 0 % применяется при добыч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езных ископаемых, остающихся во вскрышных, вмещающих (разубоживающих) породах, в отвалах или в отходах перерабатывающих производ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неральных вод, используемых налогоплательщиком исключительно в лечебных и курортных целях без их непосредственной реал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земных вод, используемых налогоплательщиком исключительно в сельскохозяйственных целях, включая орошение земель сельскохозяйственного назначения, водоснабжение животноводческих ферм, животноводческих комплексов, птицефабрик, садоводческих, огороднических и животноводческих объединений гражд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полностью или частично в границах Республики Саха (Якутия), Иркутской области, Красноярского края при выполнении установленных услов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ая ставка 0 % применяется при добыч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ерхвязкой нефти, добываемой из участков недр, содержащих нефть вязкостью более 200 мПа x с (в пластовых условиях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севернее Северного полярного кру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полностью или частично в Азовском и Каспийском мор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полностью или частично на территории Ненецкого автономного округа, полуострове Ямал в Ямало-Ненецком автономном округ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9640" y="1980720"/>
            <a:ext cx="7993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3,8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добыче калийных со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4 % применяется при добыч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рф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ючих сланц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атит-нефелиновых, апатитовых и фосфоритовых ру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4,8 % применя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добыче кондиционных руд черных метал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5,5 % при добыч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рья радиоактивных метал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но-химического неметаллического сыр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таллического сырья, используемого в основном в строительной индуст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 природной и чистого хлористого нат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земных промышленных и термальных в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фелинов, бокси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ставка 6,0 %при добыч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рнорудного неметаллического сыр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туминозных пор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центратов и других полупродуктов, содержащих золо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ых полезных ископаемых, не включенных в другие группиров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6,5 процента при добыч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центратов и других полупродуктов, содержащих драгоценные металлы (за исключением зол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агоценных металлов, являющихся полезными компонентами многокомпонентной комплексной руды (за исключением зол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диционного продукта пьезооптического сырья, особо чистого кварцевого сырья и камнесамоцветного сыр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7,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добыче минеральных в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8,0 процента при добыч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диционных руд цветных металлов (за исключением нефелинов и боксит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дких металлов, как образующих собственные месторождения, так и являющихся попутными компонентами в рудах других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компонентных комплексных руд, а также полезных компонентов многокомпонентной комплексной руды, за исключением драгоценных метал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родных алмазов и других драгоценных и полудрагоценных кам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ставка 17,5 проц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добыче газового конденсата из всех видов месторождений углеводородного сыр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бщие принципы формирования налоговой базы по НДС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налоговая база формируется отдельно для исчисления налога по разным ставка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налоговая база определяется суммарно по всем операциям при применении одной ставки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выручка включает все доходы (в денежной и натуральной форме), полученные от реализации товаров (работ, услуг) и имущественных прав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налоговая база определяется только в рублях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19 рублей за 1 тонну добытой нефти обезвоженной, обессоленной и стабилизированной. При этом указанная налоговая ставка умножается на коэффициент, характеризующий динамику мировых цен на нефть (Кц), и на коэффициент, характеризующий степень выработанности конкретного участка недр (К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37 рублей за 1 000 кубических метров  при добыче газа горючего природного из всех видов месторождений углеводородного сыр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7 рублей за 1 тонну добытого антрац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7 рублей за 1 тонну добытого угля коксующего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1 рублей за 1 тонну добытого угля бур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4 рубля за 1 тонну добытого угля, за исключением антрацита, угля коксующегося и угля бур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3500280"/>
            <a:ext cx="75438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ДП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умма налога на добычу полезных ископаем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в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1979640" y="1916280"/>
                <a:ext cx="5905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ДП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плата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ДПИ подлежит уплате в бюджет по месту нахождения каждого участка не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ДПИ по полезным ископаемым, добытым за пределами территории РФ уплачивается по месту нахождения организации (месту жительства индивидуального предпринимателя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5-го числа месяца, следующего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деклар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оставляется начиная с того налогового периода, в котором начата фактическая добыча полезных ископаем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тавляется в налоговые органы по месту нахождения (месту жительства) налогоплательщ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тавляется не позднее последнего числа месяца, следующего за истекшим налоговым пери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омент определения налоговой базы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более ранняя из следующих д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отгрузки (передачи) товаров (работ, услуг), имущественны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оплаты, частичной оплаты в счет предстоящих поставок товаров (выполнения работ, оказания услуг), передачи имущественны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2997000"/>
            <a:ext cx="75438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квартал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новные став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четные став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/1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/118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Порядок исчисления налога на добавленную стоимость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3141720"/>
            <a:ext cx="753768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а на добавленную сто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 налогов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916360" y="2494080"/>
                <a:ext cx="3240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Д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умма НДС к уплат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7"/>
              <p:cNvSpPr txBox="1"/>
              <p:nvPr/>
            </p:nvSpPr>
            <p:spPr>
              <a:xfrm>
                <a:off x="2698920" y="2060640"/>
                <a:ext cx="3889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ДС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ДС</m:t>
                    </m:r>
                    <m:r>
                      <m:t xml:space="preserve">−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8"/>
          <p:cNvSpPr/>
          <p:nvPr/>
        </p:nvSpPr>
        <p:spPr>
          <a:xfrm>
            <a:off x="1116000" y="2852640"/>
            <a:ext cx="753732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а на добавленную стоимость подлежащая уплате в бюд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счисленная сумма налога на добавленную сто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овых вычет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едеральные налог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добавленную стои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циз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доходы физических ли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прибыль организа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добычу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ный нал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боры за пользование объектами животного мира и за пользование объектами водных биологических ресур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ственная пошл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Д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вными долями в течение трех месяцев, следующих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0-го числа каждого месяц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логовая декларация по налогу на добавленную стоимость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2637000"/>
            <a:ext cx="75438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20-го числа месяц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кциз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кциз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 глава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Акцизы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признаваемые налогоплательщиками в связи с перемещением товаров через таможенную границу Таможенного сою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на территории Российской Федерации лицами произведенных ими подакцизных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жа лицами конфискованных и бесхозяйных подакцизных товаров на основании приговоров или решений судов, арбитражных судов или других уполномоченных на то государствен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лицами произведенных ими из давальческого сырья подакцизных товаров собственнику указанного сырья либо другим лиц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в структуре организации произведенных подакцизных товаров для дальнейшего производства неподакцизных товаров, за исключением организаций, имеющих свидетельство о регистрации лица, совершающего операции с прямогонным бензином и свидетельство о регистрации организации, совершающей операции с денатурированным этиловым спир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лицами произведенных ими подакцизных товаров для собственных нуж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лицами произведенных ими подакцизных товаров в уставный капитал организаций, паевые фонды кооперативов, а также в качестве взноса по договору простого товарище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организацией произведенных ею подакцизных товаров своему участнику при его выходе (выбытии) из орган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произведенных подакцизных товаров на переработку на давальческой осно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воз подакцизных товаров на территорию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(оприходование) денатурированного этилового спирта организацией, имеющей свидетельство на производство неспиртосодержащей продук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прямогонного бензина организацией, имеющей свидетельство на переработку прямогонного бенз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по каждому виду подакцизных товар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еализации подакцизных товаров, на которые установлены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двалорн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вки акцизов, налоговая база определяется как стоимость подакцизных товаров в рубл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авленную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база по операциям получения (оприходования) денатурированного этилового спирта, по операциям с нефтепродуктами, у производителей прямогонного бензина - это количество, измеряемое в тонн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реализации подакцизных товаров, по которым установлены комбинированные ставки акциза, определяется исходя из двух показателе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а реализованных (переданных) товаров в натуральном выраж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ной стоимости этих товаров, исчисленной исходя из максимальных розничных це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ендарный меся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ставк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овлены ст. 193 НК РФ на период 2011-2013 гг. включитель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став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вердые (специфические) ставки акциза установлены в отношен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иртосодержаще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когольно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б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г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гарил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ьного бензина и дизельного топл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орных ма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гонного бензи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став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ые ставки акциза установлены н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ар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пирос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акциз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 ст. 194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акц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 налогов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132000" y="2695680"/>
                <a:ext cx="32403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умма акц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бъем реализованных (переданных) подакцизных товаров в натуральном выраж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с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твердая налоговая ста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расчетная стоимость подакцизных товаров в натуральном выраж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с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адвалорная налоговая ста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700360" y="1916280"/>
                <a:ext cx="4896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н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РС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с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щая сумма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сумма, полученная в результате сложения сумм акциза для каждого вида подакцизного товара, облагаемых акцизом по разным налоговым ставка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щая сумма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налогоплательщик не ведет раздельного учета налоговой базы в отношении подакцизных товаров, то сумма акциза определяется исходя из максимальной налоговой ставки от единой налоговой базы, определенной по всем облагаемым акцизом операци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авленную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1 глава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лог на добавленную стоимость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ычет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приобретенные подакцизные товары используются в качестве сырья для производства других подакцизных товаров, суммы акциза, уплаченные при приобретении, принимаются к вычет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четы по акцизам производятся только в случае, если ставки акциза на товары, используемые в качестве сырья, и ставки акциза на произведенные товары определены в расчете на одинаковую единицу измерения налоговой баз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цизы уплачиваются в бюджет в соответствии с п. 3 ст. 204 НК не позднее 25-го числа месяц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115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й платеж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0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язателен для производителей алкогольной и подакцизной спиртосодержащей продук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плачивается не позднее 15-го числа текущего налогового пери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читывается исходя из общего объема спирта этилового или спирта коньячного, закупка (передача) которых, производителями алкогольной или подакцизной спиртосодержащей продукции будет осуществляться в налоговом периоде, следующем за текущим налоговым период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й платеж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и, уплатившие авансовый платеж акциза, обязаны не позднее 18-го числа текущего налогового периода представить в налоговый орган по месту учета копию платежного документа, подтверждающего уплату авансового платежа акци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деклар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декларация по акцизам представляется в налоговый орган в соответствии с п. 5 ст. 204 НК РФ не позднее 25-го числа месяц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ходы физических ли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ходы физических ли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3 глава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лог доходы физических лиц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резиденты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ие лица, не являющиеся налоговыми резидентами РФ, но получающие доходы в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физических лиц, являющихся налоговыми резидентами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ход, полученный от источников в Российской Федерации и за её предел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физических лиц, не являющихся налоговыми резидентами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ход, полученный от источников в Российской Феде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остав доходов, учитываемых при налогообложени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 ст. 208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логоплательщиками налога на добавленную стоимость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 операциям внутри РФ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ы государственной власти и местного само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остав доходов, не учитываемых при налогообложени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3068280"/>
            <a:ext cx="754380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. 2, п. 5 ст. 2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 2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 217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ючает все доходы физического лиц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енежной фор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туральной фор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виде материальной выг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доходов физического лица, облагаемых по ставке 13 проце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сумма доходов, подлежащих налогооблож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сумма налоговых выч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3168720" y="3168720"/>
                <a:ext cx="27716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r>
                      <m:t xml:space="preserve">Д</m:t>
                    </m:r>
                    <m:r>
                      <m:t xml:space="preserve">−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доходы меньше вычетов, налоговая база равна нул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рицательная разница на следующий налоговый период не переноси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ключение имущественный налоговый выч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из заработной платы физического лица производятся другие удержания, то в соответствии с п. 1 ст. 210 НК РФ такие удержания не уменьшают налоговую баз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рименении  к доходам физического лица одной ставки налоговая база определяется общ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рименении  к доходам физического лица разных ставок налоговая база определяется отд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база определяется в рубл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ендарный го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. 224 НК РФ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ставка 13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ые налоговые ста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3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ется к доходам налоговых резидентов Российской Федерации, при условии, что к ним не может быть применена другая ставк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% применяетс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лучении дивидендов налоговыми резидентами Российской Феде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лучении процентов по облигациям с ипотечным покрытием, эмитированным до 1 января 2007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лучении доходов учредителями доверительного управления ипотечным покрыт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логоплательщиками налога на добавленную стоимость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ввозе товаров на территорию РФ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перемещающие товары через таможенную границу Таможенного союз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5 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ется при получении дивидендов физическими лицами, не являющимися налоговыми резидентами Российской Федер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ется в отношении доходов физических лиц, не являющимися налоговыми резидентами Российской Федер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лучении выигрышей и призов в случае превышения их стоимости 4000 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и получении процентных доходов по вкладам в банках, в том числе по срочным пенсионным вкладам (аналогичный порядок установлен при налогообложении доходов, полученных пайщиками кредитного потребительского кооператива или сельскохозяйственного кредитного потребительского кооператива) в сумме превышения установленного разм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лучении дохода в виде материальной выгоды от экономии на процентах по заемным (кредитным) средств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ношении доходов, облагаемых по ставке 13 процентов налоговая база определяетс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 налоговая б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сумма доходов физического 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сумму налоговых вычет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3693960" y="3348000"/>
                <a:ext cx="26607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r>
                      <m:t xml:space="preserve">Д</m:t>
                    </m:r>
                    <m:r>
                      <m:t xml:space="preserve">−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7024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дар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ен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ессиона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аботни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ебенка (до 18 лет, студенты очной формы обучения до 24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абот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000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00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00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00 ру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вычет 400 руб. применяется до тех пор, пока доход, исчисленный нарастающим итогом с начала налогового периода, не превысит 40 000 руб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й налоговый вычет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000 руб. на каждого иждивен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ому родите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оким родителям вдвой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 из родителей может передать вычет в пользу друг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чет применяется до месяца, когда доход, исчисленный нарастающим итогом с начала налогового периода, не превысит 280 000 ру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циальный налоговый выч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ьный размер вычета 120 000 ру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обучение (вычет на обучение детей, братье, сестер не может быть более 50 000 руб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ле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негосударственное пенсионное обеспечение и добровольное пенсионное страх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уплату дополнительных страховых взносов на накопительную часть трудовой пен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538720" y="324648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оциальные налоговые выче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вобождаются от уплаты НД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78980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, применяющие систему налогообложения для сельскохозяйственных товаропроизводи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 применяющие упрощенную систему налогообложения- применяющие систему налогообложения в виде единого налога на вмененный дохо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циальный налоговый выч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расходам на благотворительные цели и пожертв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более 25% дохода, полученного физическим лицом по итогам налогового пери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мущественный налоговый вычет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одаже имущества, находившегося в собственности физического лица менее 3- 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ая недвижимость, земельные участи - 1 000 000 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е имущество не более 250 000 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троительстве или приобретении жилья, а также земельных участков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умме фактических затрат, включая проценты по креди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фессиональный налоговый вычет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гут применять лиц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уществляют предпринимательскую деятельность в качестве индивидуальных предприним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нимаются частной практикой (нотариусы, адвокаты, учредившие адвокатские кабинеты,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яют работы (оказывают услуги) по договорам гражданско-правового х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ДФ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Ф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а на доходы физических л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в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2268360" y="2565360"/>
                <a:ext cx="5220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ДФ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ДФ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сумма налога на доходы физических лиц представляет собой сумму, полученную в результате сложения сумм налога, исчисленных по разным налоговым ставк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мма налога на доходы физических лиц определяется в полных рубл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агенты обязаны удержать начисленную сумму налога непосредственно из доходов налогоплательщика при их фактической выпла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агенты обязаны перечислять суммы исчисленного и удержанного налога не позднее дня фактического получения в банке наличных денежных средств на выплату дох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прибыль организаци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прибыль организаци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исчисления и уплаты налога на прибыль организаций регламентирован 25 главой НК РФ «Налог на прибыль организаций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ие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которые осуществляют деятельность в РФ через постоянное представительство и (или) получают доходы от источников в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вобождаются от уплаты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яющие систему налогообложения для сельскохозяйственных товаропроизвод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яющие упрощенную систему налогооб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яющие систему налогообложения в виде единого налога на вмененный дох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, занимающиеся игорным бизне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, получившие статус участника проекта «Сколково» в течение десяти лет со дня получения ею статуса участника прое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вобождаются от уплаты НД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 если за три предшествующих последовательных календарных месяца сумма выручки от реализации товаров (работ, услуг) без учета налога не превысила в совокупности два миллиона руб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 получившие статус участника проекта «Сколково» в течение десяти лет со дня получения ею статуса участника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е признаются налогоплательщикам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странные организаторы XXII Олимпийских зимних игр и XI Паралимпийских зимних игр 2014 года в городе Сочи в отношении доходов, полученных в связи с организацией и провед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рганизации, являющиеся официальными вещательными компаниями в отношении доходов от следующих операций, осуществляемых в соответствии с договором, заключенным с Международным олимпийским комитетом или уполномоченной им организаци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ница между доходами и расходами орган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охо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номическая выгода в денежной или натуральной форме, учитываемая в случае возможности ее оцен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ходы от ре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ереализацион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хо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х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номически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правдан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ценка может быть выражена в денежной форм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окументально подтвержд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нежное выражение прибы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мма прибыли определяется нарастающим итогом с начала налогового пери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уется отдельнодля исчисления налога по каждой ставк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рименяется одна ставка, то налоговая база определяется общ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нансовый результат по операциям, которые облагаются налогом на прибыль организаций в особом порядке, определяется отдель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дарный г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I квартал, полугодие и девять месяцев календарного года - для организаций, уплачивающих ежеквартальные авансовые платежи по налогу на прибы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сяц, два месяца, три месяца и так далее до окончания календарного года - для налогоплательщиков, исчисляющих ежемесячные авансовые платежи исходя из фактически полученной прибы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налоговая ставка - 20 % сумма налога на прибыль перечисля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федеральный бюджет - 2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юджет субъектов РФ - 18% (13,5 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ые налоговые ста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 9, 10, 15, 18 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П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мма налога на прибыль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в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2700360" y="2205000"/>
                <a:ext cx="4248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П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сумма налога на прибыль организаций представляет собой сумму, полученную в результате сложения сумм налога, исчисленных по разным налоговым ставка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6000" y="1981080"/>
            <a:ext cx="7848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лько квартальные авансовые платежи по налогу на прибыль уплачив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, у которых доходы от реализации за предыдущие четыре квартала не превысили 10 млн.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юджетные учре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странные организации, осуществляющие деятельность в РФ через постоянное представитель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ДС уплачивается в общеустановленном порядке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56500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возе товаров на территорию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ыставлении покупателю счета-фактуры с выделением суммы нало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3534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ько квартальные авансовые платежи по налогу на прибыль уплачив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ммерческие организации, не имеющие дохода от реализации товаров (работ, услу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ники простых товариществ в отношении доходов, получаемых ими от участия в простых товариществ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весторы соглашений о разделе продукции в части доходов, полученных от реализации указанных согла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годоприобретатели по договорам доверительного управл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альные организации помимо квартальных исчисляют и уплачивают ежемесячные платежи по налогу на прибы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месячный авансовый платеж, подлежащий уплате в течение каждого квартала текущего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ся из предполагаемой прибыли, размер которой определяется по итогам предыдущего кварта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я вправе уплачивать в течение налогового периода ежемесячные авансовые платежи исходя из фактически полученной прибы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ход осуществляется доброво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ько с начала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я обязана уведомить налоговый орган не позднее 31 декабря года, предшествующего переходу на уплату ежемесячных авансов исходя из полученной прибы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79261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жемесячные авансовые платежи, подлежащие уплате в течение отчетного периода, уплачиваются в срок не позднее 28-го числа каждого месяца этого отчетного пери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плательщики, исчисляющие ежемесячные авансовые платежи по фактически полученной прибыли, уплачивают авансовые платежи не позднее 28-го числа месяца, следующего за месяцем, по итогам которого производится исчисление нало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, подлежащий уплате по истечении налогового периода, уплачивается не позднее 28 марта года, следующего за истекшим налоговым пери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деклар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ляется не позднее 28 календарных дней со дня окончания соответствующего отчет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ые декларации по итогам налогового периода представляются не позднее 28 марта года, следующего за истекшим налоговым пери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я, в состав которой входят обособленные подразделения, по окончании каждого отчетного и налогового периода представляет в налоговые органы по месту своего нахождения налоговую декларацию в целом по организации с распределением по обособленным подразделени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ычу полезных ископаемых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ычу полезных ископаемых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6 глава НК РФ «Налог на добычу полезных ископаемых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льзователи недр в соответствии с законодательством Российской Федерации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чет налогоплательщик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и НДПИ подлежат постановке на уч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ечение 30 календарных дней с момента государственной регистрации лицензии на пользование участком не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сту нахождения участка не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сту нахождения организации (месту жительства физического лица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ытые из недр на территории РФ полезные ископаем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ые ископаемые, добытые из недр на участке, предоставленном в польз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ые ископаемые, извлеченные из отходов (потерь) добывающего производства, если такое извлечение подлежит отдельному лицензирова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1:05:38Z</dcterms:created>
  <dc:creator>Olga_V</dc:creator>
  <dc:description/>
  <dc:language>en-US</dc:language>
  <cp:lastModifiedBy>qwert</cp:lastModifiedBy>
  <dcterms:modified xsi:type="dcterms:W3CDTF">2015-09-11T10:57:03Z</dcterms:modified>
  <cp:revision>97</cp:revision>
  <dc:subject/>
  <dc:title>Федеральные налоги</dc:title>
</cp:coreProperties>
</file>