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687-7FA4-48D4-8902-37FCEAB0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0A3-2134-4A63-B57D-5AD797C1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CAE-8AEE-4C14-B29B-6D9E487D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529-DA57-49DE-ADCA-EBE3AA5E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C4F4-1CE7-4219-B71D-047DA516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FC9B-C4DC-4F55-8D50-5F40B94D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81D8-0DBB-4F26-9DA4-9AEB4345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65B7-695B-45D5-90D8-B95F0336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BCB3-D011-41AF-A23E-40BF96E7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C1B5-2746-4C6F-AF49-44ED4656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8D89-BFA7-4450-8458-D8089D71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CDD-13EA-42A4-A33E-BAF77B25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5CD1-9D7A-469B-A1F2-9B30895F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C02A-9866-4B52-9425-188E2378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58DF-5685-482E-8A3C-2043AD24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3C8A-9290-4297-8597-0EC2299D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971F-1F6D-4169-8D5F-894408BD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24B-3181-45A0-81F8-E260927F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834-E459-4CAF-8EFD-6C98D361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0E8-2D00-47F7-BBE0-04F22304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71E-33F5-4D24-AC86-7E0D5FE1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612-BC04-4B1F-B660-0A7C8E8E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166-BDF7-404E-94B6-E0B2A6CE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300-25D0-48DB-9775-F004CB4B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0ECA-0EA5-4F86-A4F9-12AC14CF87E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0955-657E-4654-A203-B3A4713F141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едеральные налог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484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е являются плательщиками НДС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торы XXII Олимпийских зимних игр и XI Паралимпийских зимних игр 2014 г. в г. С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кетинговые партнеры Международного олимпийского комит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, являющиеся официальными вещательными компания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 признаются объектом налогообложения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264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ераспространенные полезные ископаемые и подземные воды, не числящиеся на государственном балансе запасов полезных ископаемых, добытые индивидуальным предпринимателем и используемые им непосредственно для личного потреб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бытые (собранные) минералогические, палеонтологические и другие геологические коллекционные материа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 признаются объектом налогообложения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ые ископаемые, добытые из недр при образовании, использовании, реконструкции и ремонте особо охраняемых геологических объектов, имеющих научное, культурное, эстетическое, санитарно-оздоровительное или иное общественное 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 признаются объектом налогообложения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ые ископаемые, извлеченные из собственных отвалов или отходов (потерь) горнодобывающего и связанных с ним перерабатывающих производств, если при их добыче из недр они подлежали налогообложению в общеустановленном поряд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 признаются объектом налогообложения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нажные подземные воды, не учитываемые на государственном балансе запасов полезных ископаемых, извлекаемых при разработке месторождений полезных ископаемых или при строительстве и эксплуатации подземных сооруж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налогоплательщиком самостоятельно в отношении каждого добытого полезного ископаем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рименении различных ставок налоговая база формируется отдельно для расчета налога по каждой став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82090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ичество добытых полезных ископаемых в натуральном выражении является налоговой базой при добыч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фти обезвоженной, обессоленной и стабилизирова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путного газа и газа горючего природного является количество добытых полезных ископаемых в натуральном выраж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мость добытых полезных ископаемых является налоговой базой при добыче других полезных ископаем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завершенном технологическом цикле налогообложению подлежит только количество полезного ископаемого, реализованного или использованного на собственные нуж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чество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8640"/>
            <a:ext cx="7543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етоды опреде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ямой мет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свенный мето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ыбранный метод закрепляется в учетной полити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етод должен применяться в течение всего срока добычи полезного ископаемог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чество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32479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2519280" y="1951200"/>
                <a:ext cx="41403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б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ФП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Rectangle 7"/>
          <p:cNvSpPr/>
          <p:nvPr/>
        </p:nvSpPr>
        <p:spPr>
          <a:xfrm>
            <a:off x="395280" y="3284640"/>
            <a:ext cx="8424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добытого ПИ формирования налоговой ба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п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количество добытого ПИ, определенное посредством применения измерительных прибо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ФП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п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фактические потери, при добыче полезного ископаем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ализация товаров (работ, услуг) и передача имущественных прав на территории РФ, в том числе безвозмездная передач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ача на территории РФ товаров (выполнение работ, оказание услуг) для собственных нужд в случае, когда расходы на приобретение этих товаров (работ, услуг) не уменьшают налогооблагаемую прибыл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ение строительно-монтажных работ для собственного потреб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з товаров на территорию РФ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актические потери полезного ископаемого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320" y="364464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ФП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п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фактические потери, при добыче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п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расчетное количество полезного ископаемого, на которое уменьшаются запасы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п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количество добытого полезного ископаемого, определенное посредством применения измерительных прибор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728720" y="1916280"/>
                <a:ext cx="5796000" cy="11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ФП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актические потери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ываются при определении количества добытого полезного ископаемог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ом налоговом периоде, в котором проводилось их изме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змере, определенном по итогам произведенных измере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чество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извлечении драгоценных металлов из коренных (рудных), россыпных и техногенных месторожден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ется по данным обязательного учета при добыче, осуществляемого в соответствии с законодательством РФ о драгоценных металлах и драгоценных камня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чество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извлечении драгоценных камней из коренных, россыпных и техногенных месторожден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ется после первичной сортировки, первичной классификации и первичной оценки необработанных камн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никальные драгоценные камни учитываются отде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личество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пределяемого как полезные компоненты, содержащиеся в добытой многокомпонентной комплексной руд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как количество компонента руды в химически чистом вид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ценка стоимости добытых полезных ископаемых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сложившихся у налогоплательщика за соответствующий налоговый период цен реализации без учета субсид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сложившихся у налогоплательщика за соответствующий налоговый период цен реал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расчетной стоимости добытых полезных ископаем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Цена реализац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реализации добытых полезных ископаемых принимаются к расчету бе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бсид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Д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ц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ммы расходов по доставке покупател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сходы по достав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1280" y="1980720"/>
            <a:ext cx="82087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плату таможенных пошлин и сборов при внешнеторговых сдел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доставке (перевозке) добытого полезного ископаемого от склада готовой продукции (узла учета, входа в магистральный трубопровод, пункта отгрузки потребителю или на переработку, границы раздела сетей с получателем и тому подобных условий) до получа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обязательному страхованию грузов, исчисленные в соответствии с законодательством Российской Федер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ь единицы полезного ископаемого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3789000"/>
            <a:ext cx="754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ед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тоимость единицы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количество реализованного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ц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цена реализации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ичество реализованных парт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араметрический инде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3357720"/>
            <a:ext cx="914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8"/>
              <p:cNvSpPr txBox="1"/>
              <p:nvPr/>
            </p:nvSpPr>
            <p:spPr>
              <a:xfrm>
                <a:off x="1835280" y="1844640"/>
                <a:ext cx="56880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е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ь добытого полезного ископаемого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342864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ПИ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тоимость добытого полезного ископаем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е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тоимость единицы полезного ископаем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количество добытого полезного ископаемого для формирования налоговой баз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2809800" y="1989000"/>
                <a:ext cx="40672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ед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 признаются объектом налогообложения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2997000"/>
            <a:ext cx="754380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чень операций определен п. 2 ст. 146 НК РФ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ь добытого полезного ископаем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налогоплательщик получал субсидии, то при отсутствии реализации полезного ископаемого в отчетном периоде стоимость единицы добытого полезного ископаемого производится исходя из выручки, определяемой с учетом цен, сложившихся в предыдущем налоговом пери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счетная стоим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териальные рас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ходы на оплату тр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ммы начисленной амортизации по амортизируемому имуществ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ходы на ремонт основ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ходы на освоение природных ресур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ходы, связанные с ликвидацией, консервацией и расконсервацией основных сред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чие расх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счетная стоим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лючает только расходы непосредственно связанные с добычей полезных ископаем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по данным налогового учета в соответствии с главой 25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ямые расходы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пределяются между добытым полезным ископаемым и остатками незавершенного производства на конец налогового пери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свенные расходы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6320" y="1916280"/>
            <a:ext cx="7543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носящиеся к добытым в налоговом периоде полезны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олном объеме включаются в расчетную стоимость этих ископаем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носящихся как к добыче полезных ископаемых, так и к другим видам деятельно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лжны быть распределе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щая сумма расход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2205000"/>
            <a:ext cx="7543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лежит распределению между добытыми полезными ископаемыми пропорционально их количеству, приведенному к единой единице измер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ь добытых драгоценных металлов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сложившихся у налогоплательщика в соответствующем налоговом периоде (а при их отсутствии - в ближайшем из предыдущих налоговых периодов) цен реализации химически чистого (аффинированного) металла без уче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а на добавленную стоим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ходов по аффинаж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ходов по доставке (перевозке) до получател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Стоимость единицы добытого полезного ископаемого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34290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е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стоимость единицы добытого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количество добытого полезного ископаемого в пересчете на химически чистый метал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количество добытого полезного ископаем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Tahoma"/>
              </a:rPr>
              <a:t>едч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имости единицы химически чистого метал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2519280" y="1989000"/>
                <a:ext cx="392436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е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ед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и добытых драгоценных камней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исходя из их первичной оценки, проводимой в соответствии с законодательством Российской Федерации о драгоценных металлах и драгоценных камня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оимости уникальных самородков и камн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2492280"/>
            <a:ext cx="7543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одится в порядке, предусмотренном для других полезных ископаем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реализации товаров (работ, услу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ручка от реализации товаров (работ, услуг) с учетом акциз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ередаче товаров, работ, услуг для собственных нуж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мма, определенная исходя из цены реализации идентичных товаров, в предыдущем налоговом пери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возе товаров на территорию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моженная стоимость ввозимых, включая таможенную пошлину, акциз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й период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 341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лендарный месяц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2803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овая ставка 0 % применяется при добыч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езных ископаемых в части нормативных потерь полезных ископае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путного г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земных вод, содержащих полезные ископаемые, извлечение которых связано с разработкой других видов полезных ископаемых, и извлекаемых при разработке месторождений полезных ископаемых, а также при строительстве и эксплуатации подземных сооруж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езных ископаемых при разработке некондиционных (остаточных запасов пониженного качества) или ранее списанных запасов полезных ископае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569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овая ставка 0 % применяется при добыч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езных ископаемых, остающихся во вскрышных, вмещающих (разубоживающих) породах, в отвалах или в отходах перерабатывающих производст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неральных вод, используемых налогоплательщиком исключительно в лечебных и курортных целях без их непосредственной реализ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земных вод, используемых налогоплательщиком исключительно в сельскохозяйственных целях, включая орошение земель сельскохозяйственного назначения, водоснабжение животноводческих ферм, животноводческих комплексов, птицефабрик, садоводческих, огороднических и животноводческих объединений гражд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фти на участках недр, расположенных полностью или частично в границах Республики Саха (Якутия), Иркутской области, Красноярского края при выполнении установленных услов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овая ставка 0 % применяется при добыч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ерхвязкой нефти, добываемой из участков недр, содержащих нефть вязкостью более 200 мПа x с (в пластовых условиях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фти на участках недр, расположенных севернее Северного полярного кру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фти на участках недр, расположенных полностью или частично в Азовском и Каспийском мор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фти на участках недр, расположенных полностью или частично на территории Ненецкого автономного округа, полуострове Ямал в Ямало-Ненецком автономном округ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99640" y="1980720"/>
            <a:ext cx="79930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3,8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добыче калийных со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4 % применяется при добыч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рф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ючих сланц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атит-нефелиновых, апатитовых и фосфоритовых ру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4,8 % применя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добыче кондиционных руд черных металл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5,5 % при добыч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ырья радиоактивных метал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но-химического неметаллического сыр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еталлического сырья, используемого в основном в строительной индуст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и природной и чистого хлористого нат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земных промышленных и термальных в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фелинов, бокси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ая ставка 6,0 %при добыч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рнорудного неметаллического сыр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туминозных пор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центратов и других полупродуктов, содержащих золо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ых полезных ископаемых, не включенных в другие группиров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6,5 процента при добыче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центратов и других полупродуктов, содержащих драгоценные металлы (за исключением золо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агоценных металлов, являющихся полезными компонентами многокомпонентной комплексной руды (за исключением золо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диционного продукта пьезооптического сырья, особо чистого кварцевого сырья и камнесамоцветного сыр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7,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добыче минеральных в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ая ставка 8,0 процента при добыч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диционных руд цветных металлов (за исключением нефелинов и боксит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дких металлов, как образующих собственные месторождения, так и являющихся попутными компонентами в рудах других полезных ископае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компонентных комплексных руд, а также полезных компонентов многокомпонентной комплексной руды, за исключением драгоценных метал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родных алмазов и других драгоценных и полудрагоценных кам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ая ставка 17,5 проц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добыче газового конденсата из всех видов месторождений углеводородного сыр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бщие принципы формирования налоговой базы по НДС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налоговая база формируется отдельно для исчисления налога по разным ставка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налоговая база определяется суммарно по всем операциям при применении одной ставки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выручка включает все доходы (в денежной и натуральной форме), полученные от реализации товаров (работ, услуг) и имущественных прав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налоговая база определяется только в рублях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19 рублей за 1 тонну добытой нефти обезвоженной, обессоленной и стабилизированной. При этом указанная налоговая ставка умножается на коэффициент, характеризующий динамику мировых цен на нефть (Кц), и на коэффициент, характеризующий степень выработанности конкретного участка недр (К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37 рублей за 1 000 кубических метров  при добыче газа горючего природного из всех видов месторождений углеводородного сыр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7 рублей за 1 тонну добытого антраци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7 рублей за 1 тонну добытого угля коксующего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1 рублей за 1 тонну добытого угля бур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4 рубля за 1 тонну добытого угля, за исключением антрацита, угля коксующегося и угля бур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алог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3500280"/>
            <a:ext cx="75438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ДП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умма налога на добычу полезных ископаем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логовая б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логовая ставк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1979640" y="1916280"/>
                <a:ext cx="5905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ДП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Уплата налог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ДПИ подлежит уплате в бюджет по месту нахождения каждого участка нед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ДПИ по полезным ископаемым, добытым за пределами территории РФ уплачивается по месту нахождения организации (месту жительства индивидуального предпринимателя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 сроки уплаты налог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25-го числа месяца, следующего за истекшим налогов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деклар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оставляется начиная с того налогового периода, в котором начата фактическая добыча полезных ископаем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тавляется в налоговые органы по месту нахождения (месту жительства) налогоплательщ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тавляется не позднее последнего числа месяца, следующего за истекшим налоговым перио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омент определения налоговой базы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иболее ранняя из следующих д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отгрузки (передачи) товаров (работ, услуг), имущественных пр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оплаты, частичной оплаты в счет предстоящих поставок товаров (выполнения работ, оказания услуг), передачи имущественных пр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й период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2997000"/>
            <a:ext cx="754380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квартал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сновные став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четные став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/1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/118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Порядок исчисления налога на добавленную стоимость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3141720"/>
            <a:ext cx="753768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Д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умма налога на добавленную стои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 налогов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2916360" y="2494080"/>
                <a:ext cx="3240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Д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умма НДС к уплат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7"/>
              <p:cNvSpPr txBox="1"/>
              <p:nvPr/>
            </p:nvSpPr>
            <p:spPr>
              <a:xfrm>
                <a:off x="2698920" y="2060640"/>
                <a:ext cx="3889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ДС</m:t>
                        </m:r>
                      </m:e>
                      <m:sub>
                        <m:r>
                          <m:t xml:space="preserve">у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ДС</m:t>
                    </m:r>
                    <m:r>
                      <m:t xml:space="preserve">−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8"/>
          <p:cNvSpPr/>
          <p:nvPr/>
        </p:nvSpPr>
        <p:spPr>
          <a:xfrm>
            <a:off x="1116000" y="2852640"/>
            <a:ext cx="753732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ДС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Tahoma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умма налога на добавленную стоимость подлежащая уплате в бюдж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Д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исчисленная сумма налога на добавленную стои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умма налоговых вычет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едеральные налог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 на добавленную стоим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циз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 на доходы физических ли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 на прибыль организа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 на добычу полезных ископае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ный нал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боры за пользование объектами животного мира и за пользование объектами водных биологических ресур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ственная пошл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 сроки уплаты НД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вными долями в течение трех месяцев, следующих за истекшим налоговым пери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зднее 20-го числа каждого месяц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алоговая декларация по налогу на добавленную стоимость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2637000"/>
            <a:ext cx="75438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ся не позднее 20-го числа месяц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2788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кциз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кциз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2 глава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Акцизы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плательщи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признаваемые налогоплательщиками в связи с перемещением товаров через таможенную границу Таможенного сою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ализация на территории Российской Федерации лицами произведенных ими подакцизных 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жа лицами конфискованных и бесхозяйных подакцизных товаров на основании приговоров или решений судов, арбитражных судов или других уполномоченных на то государственны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ача на территории Российской Федерации лицами произведенных ими из давальческого сырья подакцизных товаров собственнику указанного сырья либо другим лиц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ача в структуре организации произведенных подакцизных товаров для дальнейшего производства неподакцизных товаров, за исключением организаций, имеющих свидетельство о регистрации лица, совершающего операции с прямогонным бензином и свидетельство о регистрации организации, совершающей операции с денатурированным этиловым спир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ача на территории Российской Федерации лицами произведенных ими подакцизных товаров для собственных нуж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ача на территории Российской Федерации лицами произведенных ими подакцизных товаров в уставный капитал организаций, паевые фонды кооперативов, а также в качестве взноса по договору простого товарище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ача на территории Российской Федерации организацией произведенных ею подакцизных товаров своему участнику при его выходе (выбытии) из организ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ача произведенных подакцизных товаров на переработку на давальческой осно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воз подакцизных товаров на территорию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(оприходование) денатурированного этилового спирта организацией, имеющей свидетельство на производство неспиртосодержащей продук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прямогонного бензина организацией, имеющей свидетельство на переработку прямогонного бенз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по каждому виду подакцизных товар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реализации подакцизных товаров, на которые установлены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двалорн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вки акцизов, налоговая база определяется как стоимость подакцизных товаров в рубля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2788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бавленную стоим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ая база по операциям получения (оприходования) денатурированного этилового спирта, по операциям с нефтепродуктами, у производителей прямогонного бензина - это количество, измеряемое в тонна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реализации подакцизных товаров, по которым установлены комбинированные ставки акциза, определяется исходя из двух показателе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а реализованных (переданных) товаров в натуральном выраж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четной стоимости этих товаров, исчисленной исходя из максимальных розничных це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й период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лендарный меся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ставки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92280"/>
            <a:ext cx="7543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ановлены ст. 193 НК РФ на период 2011-2013 гг. включитель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став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вердые (специфические) ставки акциза установлены в отношен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иртосодержащей продук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когольной продук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б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г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гарил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мобильного бензина и дизельного топл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торных мас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гонного бензи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став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бинированные ставки акциза установлены н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ар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пирос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акциз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 ст. 194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умма акц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 налогов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132000" y="2695680"/>
                <a:ext cx="324036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сумма акци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объем реализованных (переданных) подакцизных товаров в натуральном выраж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с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твердая налоговая ста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расчетная стоимость подакцизных товаров в натуральном выраж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с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адвалорная налоговая ста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700360" y="1916280"/>
                <a:ext cx="4896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н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РС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нс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щая сумма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ся как сумма, полученная в результате сложения сумм акциза для каждого вида подакцизного товара, облагаемых акцизом по разным налоговым ставка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щая сумма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налогоплательщик не ведет раздельного учета налоговой базы в отношении подакцизных товаров, то сумма акциза определяется исходя из максимальной налоговой ставки от единой налоговой базы, определенной по всем облагаемым акцизом операция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бавленную стоимос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1 глава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алог на добавленную стоимость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ычет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приобретенные подакцизные товары используются в качестве сырья для производства других подакцизных товаров, суммы акциза, уплаченные при приобретении, принимаются к вычет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четы по акцизам производятся только в случае, если ставки акциза на товары, используемые в качестве сырья, и ставки акциза на произведенные товары определены в расчете на одинаковую единицу измерения налоговой баз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 сроки уплаты налог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цизы уплачиваются в бюджет в соответствии с п. 3 ст. 204 НК не позднее 25-го числа месяц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115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й платеж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0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язателен для производителей алкогольной и подакцизной спиртосодержащей продук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плачивается не позднее 15-го числа текущего налогового пери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читывается исходя из общего объема спирта этилового или спирта коньячного, закупка (передача) которых, производителями алкогольной или подакцизной спиртосодержащей продукции будет осуществляться в налоговом периоде, следующем за текущим налоговым период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й платеж акци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плательщики, уплатившие авансовый платеж акциза, обязаны не позднее 18-го числа текущего налогового периода представить в налоговый орган по месту учета копию платежного документа, подтверждающего уплату авансового платежа акци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деклар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2492280"/>
            <a:ext cx="7543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ая декларация по акцизам представляется в налоговый орган в соответствии с п. 5 ст. 204 НК РФ не позднее 25-го числа месяца, следующего за истекшим налоговым перио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2788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ходы физических лиц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ходы физических лиц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3 глава НК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алог доходы физических лиц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плательщики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е резиденты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ие лица, не являющиеся налоговыми резидентами РФ, но получающие доходы в Р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физических лиц, являющихся налоговыми резидентами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ход, полученный от источников в Российской Федерации и за её предел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физических лиц, не являющихся налоговыми резидентами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ход, полученный от источников в Российской Феде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Состав доходов, учитываемых при налогообложени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2924280"/>
            <a:ext cx="75438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 ст. 208 НК Р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алогоплательщиками налога на добавленную стоимость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 операциям внутри РФ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ы государственной власти и местного само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Состав доходов, не учитываемых при налогообложени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3068280"/>
            <a:ext cx="7543800" cy="30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. 2, п. 5 ст. 2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 2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 217 НК Р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2421000"/>
            <a:ext cx="75438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лючает все доходы физического лиц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денежной фор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туральной фор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виде материальной выг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доходов физического лица, облагаемых по ставке 13 процен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логовая б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сумма доходов, подлежащих налогообложе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сумма налоговых выч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3168720" y="3168720"/>
                <a:ext cx="27716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r>
                      <m:t xml:space="preserve">Д</m:t>
                    </m:r>
                    <m:r>
                      <m:t xml:space="preserve">−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доходы меньше вычетов, налоговая база равна нул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рицательная разница на следующий налоговый период не переноси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ключение имущественный налоговый выч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из заработной платы физического лица производятся другие удержания, то в соответствии с п. 1 ст. 210 НК РФ такие удержания не уменьшают налоговую баз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рименении  к доходам физического лица одной ставки налоговая база определяется общ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рименении  к доходам физического лица разных ставок налоговая база определяется отде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ая база определяется в рубля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й период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2421000"/>
            <a:ext cx="75438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лендарный го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. 224 НК РФ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ставка 13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альные налоговые ста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9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0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3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яется к доходам налоговых резидентов Российской Федерации, при условии, что к ним не может быть применена другая ставк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% применяетс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лучении дивидендов налоговыми резидентами Российской Феде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лучении процентов по облигациям с ипотечным покрытием, эмитированным до 1 января 2007 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лучении доходов учредителями доверительного управления ипотечным покрыт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алогоплательщиками налога на добавленную стоимость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2492280"/>
            <a:ext cx="7543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ввозе товаров на территорию РФ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перемещающие товары через таможенную границу Таможенного союз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5 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яется при получении дивидендов физическими лицами, не являющимися налоговыми резидентами Российской Федер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яется в отношении доходов физических лиц, не являющимися налоговыми резидентами Российской Федер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60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лучении выигрышей и призов в случае превышения их стоимости 4000 ру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и получении процентных доходов по вкладам в банках, в том числе по срочным пенсионным вкладам (аналогичный порядок установлен при налогообложении доходов, полученных пайщиками кредитного потребительского кооператива или сельскохозяйственного кредитного потребительского кооператива) в сумме превышения установленного разм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лучении дохода в виде материальной выгоды от экономии на процентах по заемным (кредитным) средств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алог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тношении доходов, облагаемых по ставке 13 процентов налоговая база определяется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 налоговая ба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сумма доходов физического л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сумму налоговых вычет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3693960" y="3348000"/>
                <a:ext cx="26607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=</m:t>
                    </m:r>
                    <m:r>
                      <m:t xml:space="preserve">Д</m:t>
                    </m:r>
                    <m:r>
                      <m:t xml:space="preserve">−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выч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349000"/>
            <a:ext cx="670248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дар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а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уществен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ессиона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андартные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выч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работник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ребенка (до 18 лет, студенты очной формы обучения до 24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андартные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выч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работ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000 ру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000 ру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00 ру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00 ру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андартные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е выч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вый вычет 400 руб. применяется до тех пор, пока доход, исчисленный нарастающим итогом с начала налогового периода, не превысит 40 000 руб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андартный налоговый вычет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реб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000 руб. на каждого иждивен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ому родите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иноким родителям вдвой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ин из родителей может передать вычет в пользу друг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чет применяется до месяца, когда доход, исчисленный нарастающим итогом с начала налогового периода, не превысит 280 000 ру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оциальный налоговый выч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ьный размер вычета 120 000 ру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асходам на обучение (вычет на обучение детей, братье, сестер не может быть более 50 000 руб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асходам на леч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асходам на негосударственное пенсионное обеспечение и добровольное пенсионное страх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асходам на уплату дополнительных страховых взносов на накопительную часть трудовой пен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538720" y="324648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Социальные налоговые выче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вобождаются от уплаты НД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205000"/>
            <a:ext cx="78980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 и предприниматели, применяющие систему налогообложения для сельскохозяйственных товаропроизводи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 и предприниматели применяющие упрощенную систему налогообложения- применяющие систему налогообложения в виде единого налога на вмененный дохо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оциальный налоговый выч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расходам на благотворительные цели и пожертв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более 25% дохода, полученного физическим лицом по итогам налогового пери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мущественный налоговый вычет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родаже имущества, находившегося в собственности физического лица менее 3- 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лая недвижимость, земельные участи - 1 000 000 ру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е имущество не более 250 000 ру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строительстве или приобретении жилья, а также земельных участков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умме фактических затрат, включая проценты по кредит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офессиональный налоговый вычет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гут применять лиц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уществляют предпринимательскую деятельность в качестве индивидуальных предприним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нимаются частной практикой (нотариусы, адвокаты, учредившие адвокатские кабинеты,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яют работы (оказывают услуги) по договорам гражданско-правового характ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ДФ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ДФ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умма налога на доходы физических л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налогов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2268360" y="2565360"/>
                <a:ext cx="52200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ДФ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ДФ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сумма налога на доходы физических лиц представляет собой сумму, полученную в результате сложения сумм налога, исчисленных по разным налоговым ставк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мма налога на доходы физических лиц определяется в полных рубля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 сроки уплаты налог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ые агенты обязаны удержать начисленную сумму налога непосредственно из доходов налогоплательщика при их фактической выпла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вые агенты обязаны перечислять суммы исчисленного и удержанного налога не позднее дня фактического получения в банке наличных денежных средств на выплату дох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2788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прибыль организаци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прибыль организаци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ядок исчисления и уплаты налога на прибыль организаций регламентирован 25 главой НК РФ «Налог на прибыль организаций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плательщи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йские орган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остранные организации, которые осуществляют деятельность в РФ через постоянное представительство и (или) получают доходы от источников в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вобождаются от уплаты налог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няющие систему налогообложения для сельскохозяйственных товаропроизвод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няющие упрощенную систему налогооб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няющие систему налогообложения в виде единого налога на вмененный дох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и, занимающиеся игорным бизне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и, получившие статус участника проекта «Сколково» в течение десяти лет со дня получения ею статуса участника прое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вобождаются от уплаты НД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 и предприниматели если за три предшествующих последовательных календарных месяца сумма выручки от реализации товаров (работ, услуг) без учета налога не превысила в совокупности два миллиона руб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и и предприниматели получившие статус участника проекта «Сколково» в течение десяти лет со дня получения ею статуса участника про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е признаются налогоплательщиками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странные организаторы XXII Олимпийских зимних игр и XI Паралимпийских зимних игр 2014 года в городе Сочи в отношении доходов, полученных в связи с организацией и провед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рганизации, являющиеся официальными вещательными компаниями в отношении доходов от следующих операций, осуществляемых в соответствии с договором, заключенным с Международным олимпийским комитетом или уполномоченной им организаци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бы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ница между доходами и расходами организ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оход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2421000"/>
            <a:ext cx="75438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ономическая выгода в денежной или натуральной форме, учитываемая в случае возможности ее оцен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ходы от реал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ереализационные д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сход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хо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номически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правдан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ценка может быть выражена в денежной форм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окументально подтвержд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ба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нежное выражение прибы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мма прибыли определяется нарастающим итогом с начала налогового пери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уется отдельнодля исчисления налога по каждой ставк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рименяется одна ставка, то налоговая база определяется общ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нансовый результат по операциям, которые облагаются налогом на прибыль организаций в особом порядке, определяется отдель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ый период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ендарный го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чет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I квартал, полугодие и девять месяцев календарного года - для организаций, уплачивающих ежеквартальные авансовые платежи по налогу на прибы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сяц, два месяца, три месяца и так далее до окончания календарного года - для налогоплательщиков, исчисляющих ежемесячные авансовые платежи исходя из фактически полученной прибы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ставк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налоговая ставка - 20 % сумма налога на прибыль перечисляе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федеральный бюджет - 2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бюджет субъектов РФ - 18% (13,5 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альные налоговые ста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 9, 10, 15, 18 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алог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П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мма налога на прибыль организ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Б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логовая б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логовая ста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2700360" y="2205000"/>
                <a:ext cx="4248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П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Н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н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счисления налог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сумма налога на прибыль организаций представляет собой сумму, полученную в результате сложения сумм налога, исчисленных по разным налоговым ставка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е платежи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16000" y="1981080"/>
            <a:ext cx="7848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лько квартальные авансовые платежи по налогу на прибыль уплачиваю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, у которых доходы от реализации за предыдущие четыре квартала не превысили 10 млн. ру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юджетные учре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остранные организации, осуществляющие деятельность в РФ через постоянное представитель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ДС уплачивается в общеустановленном порядке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2565000"/>
            <a:ext cx="75438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возе товаров на территорию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ыставлении покупателю счета-фактуры с выделением суммы нало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е платежи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3534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лько квартальные авансовые платежи по налогу на прибыль уплачив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коммерческие организации, не имеющие дохода от реализации товаров (работ, услуг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ники простых товариществ в отношении доходов, получаемых ими от участия в простых товариществ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весторы соглашений о разделе продукции в части доходов, полученных от реализации указанных согла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годоприобретатели по договорам доверительного управл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е платеж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альные организации помимо квартальных исчисляют и уплачивают ежемесячные платежи по налогу на прибы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жемесячный авансовый платеж, подлежащий уплате в течение каждого квартала текущего налогов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яется из предполагаемой прибыли, размер которой определяется по итогам предыдущего кварта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вансовые платеж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я вправе уплачивать в течение налогового периода ежемесячные авансовые платежи исходя из фактически полученной прибы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ход осуществляется доброволь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лько с начала налогового пери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я обязана уведомить налоговый орган не позднее 31 декабря года, предшествующего переходу на уплату ежемесячных авансов исходя из полученной прибы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рядок и сроки уплаты налог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79261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жемесячные авансовые платежи, подлежащие уплате в течение отчетного периода, уплачиваются в срок не позднее 28-го числа каждого месяца этого отчетного пери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оплательщики, исчисляющие ежемесячные авансовые платежи по фактически полученной прибыли, уплачивают авансовые платежи не позднее 28-го числа месяца, следующего за месяцем, по итогам которого производится исчисление нало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, подлежащий уплате по истечении налогового периода, уплачивается не позднее 28 марта года, следующего за истекшим налоговым пери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вая деклар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ляется не позднее 28 календарных дней со дня окончания соответствующего отчет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оговые декларации по итогам налогового периода представляются не позднее 28 марта года, следующего за истекшим налоговым пери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я, в состав которой входят обособленные подразделения, по окончании каждого отчетного и налогового периода представляет в налоговые органы по месту своего нахождения налоговую декларацию в целом по организации с распределением по обособленным подразделени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2788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бычу полезных ископаемых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 на добычу полезных ископаемых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6 глава НК РФ «Налог на добычу полезных ископаемых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логоплательщи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льзователи недр в соответствии с законодательством Российской Федерации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ндивидуальные предпринимат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Учет налогоплательщик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оплательщики НДПИ подлежат постановке на уч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ечение 30 календарных дней с момента государственной регистрации лицензии на пользование участком нед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месту нахождения участка нед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месту нахождения организации (месту жительства физического лица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бъект налогообложения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ытые из недр на территории РФ полезные ископаемы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езные ископаемые, добытые из недр на участке, предоставленном в польз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езные ископаемые, извлеченные из отходов (потерь) добывающего производства, если такое извлечение подлежит отдельному лицензирова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1:05:38Z</dcterms:created>
  <dc:creator>Olga_V</dc:creator>
  <dc:description/>
  <dc:language>en-US</dc:language>
  <cp:lastModifiedBy>qwert</cp:lastModifiedBy>
  <dcterms:modified xsi:type="dcterms:W3CDTF">2015-09-11T10:57:03Z</dcterms:modified>
  <cp:revision>97</cp:revision>
  <dc:subject/>
  <dc:title>Федеральные налоги</dc:title>
</cp:coreProperties>
</file>