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E73C-D0E5-4D48-8808-9B1E7987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F5F2-DB51-4470-AF6E-A9A1A46A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C5D-1CE8-40CD-8C91-E45073EA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5E2-5CF4-457A-84E4-F86F8E10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FDA-0362-4E3A-8A62-ABBCF47D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ED8-B000-42FF-B23D-881FD905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516-8A01-43A2-AE6F-5AE43708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8FE-A61F-477C-8914-5A3A9C1B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9A9-B285-429C-81B8-568BCA19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761-0609-44F3-AF09-1B543B45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D108-C7B4-4471-86B6-40A79B1D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C49-517F-4B9D-B97F-DBD54BB4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C7AE-9D90-4395-8C23-E6BEF3759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tly.ru/images/hohloma/00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382240" cy="20764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Georgia"/>
              </a:rPr>
              <a:t>ЗОЛОТАЯ ХОХЛО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Молодц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4876920" cy="4191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Картинка 13 из 6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27560" y="914400"/>
            <a:ext cx="3679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6051600"/>
          </a:xfrm>
          <a:prstGeom prst="rect">
            <a:avLst/>
          </a:prstGeom>
          <a:ln w="9360">
            <a:solidFill>
              <a:srgbClr val="def6f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Верховое пись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419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Фоновое  пись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0010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Элементы травного уз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Элементы хохломского орна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6304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114800" y="304920"/>
            <a:ext cx="2662200" cy="2666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28600" y="3581280"/>
            <a:ext cx="2658960" cy="2667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200400" y="3581280"/>
            <a:ext cx="2660760" cy="2667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248520" y="3581280"/>
            <a:ext cx="2655720" cy="2667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1066680" y="380880"/>
            <a:ext cx="2662200" cy="2667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51424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                                          2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5638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                                             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0790600">
            <a:off x="380520" y="38052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 rot="20791200">
            <a:off x="3885840" y="281916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10-11T00:45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