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D9A7-9559-4A58-9F96-633DF935C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2D5E-D123-4989-9E2E-F809BCEB7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06FB-683B-4A36-85BD-2B1153AE7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A6C8-3F6E-48C7-B54F-2F42E6517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79C6-E8C2-48AF-A2C1-9F76907FC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947B-03BE-4DDC-AE1F-7A3189CA0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3174-935E-44ED-9F7C-6098DDC47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1A7C-589B-4A70-8D4F-42F6190BE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0B3D-A176-47F9-9BF4-F0BE26BF7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94C3-B075-4F3E-B2AE-67F896574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BA54-8813-4AD0-8861-1DD474B5C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C9DB-9988-45E8-8F04-586052792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CEBD4-CF7A-4300-B98B-8961D9D4AE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artly.ru/images/hohloma/001.jpg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1523880"/>
            <a:ext cx="8382240" cy="207648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969696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3300"/>
                </a:solidFill>
                <a:latin typeface="Georgia"/>
              </a:rPr>
              <a:t>ЗОЛОТАЯ ХОХЛОМ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543800" cy="565776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Молодцы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52280" y="838080"/>
            <a:ext cx="4876920" cy="41911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Картинка 13 из 688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227560" y="914400"/>
            <a:ext cx="36799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458200" cy="6051600"/>
          </a:xfrm>
          <a:prstGeom prst="rect">
            <a:avLst/>
          </a:prstGeom>
          <a:ln w="9360">
            <a:solidFill>
              <a:srgbClr val="def6f1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00"/>
                </a:solidFill>
                <a:latin typeface="Arial"/>
              </a:rPr>
              <a:t>Верховое письм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41936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00"/>
                </a:solidFill>
                <a:latin typeface="Arial"/>
              </a:rPr>
              <a:t>Фоновое  письм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09480" y="1295280"/>
            <a:ext cx="8001000" cy="53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00"/>
                </a:solidFill>
                <a:latin typeface="Arial"/>
              </a:rPr>
              <a:t>Элементы травного узо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86868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Arial"/>
              </a:rPr>
              <a:t>Элементы хохломского орнамен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7763040" cy="49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4114800" y="304920"/>
            <a:ext cx="2662200" cy="26668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228600" y="3581280"/>
            <a:ext cx="2658960" cy="26672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>
            <a:lum contrast="6000"/>
          </a:blip>
          <a:stretch/>
        </p:blipFill>
        <p:spPr>
          <a:xfrm>
            <a:off x="3200400" y="3581280"/>
            <a:ext cx="2660760" cy="26672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>
            <a:lum contrast="18000"/>
          </a:blip>
          <a:stretch/>
        </p:blipFill>
        <p:spPr>
          <a:xfrm>
            <a:off x="6248520" y="3581280"/>
            <a:ext cx="2655720" cy="26672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>
            <a:lum contrast="6000"/>
          </a:blip>
          <a:stretch/>
        </p:blipFill>
        <p:spPr>
          <a:xfrm>
            <a:off x="1066680" y="380880"/>
            <a:ext cx="2662200" cy="266724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52480" y="2514240"/>
            <a:ext cx="6477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                                             2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5638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1000"/>
          </a:bodyPr>
          <a:p>
            <a:pPr marL="140400" indent="-140400">
              <a:lnSpc>
                <a:spcPct val="80000"/>
              </a:lnSpc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14040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140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                                                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40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40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4040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14040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6"/>
          <a:stretch/>
        </p:blipFill>
        <p:spPr>
          <a:xfrm>
            <a:off x="861048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1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 rot="20790600">
            <a:off x="380520" y="380520"/>
            <a:ext cx="4191120" cy="31435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 rot="20791200">
            <a:off x="3885840" y="2819160"/>
            <a:ext cx="4648320" cy="34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5-10-11T00:45:30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