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DC2B-1DE9-472B-81E5-2ED2BAEAE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0B06-E2AA-44C5-9D8C-0D08FBEBF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FBD0-B765-43FB-8F05-98A3557A2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23AD-363D-400B-870A-4EF6704D9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11F4A-C086-4B83-8725-0F1A8B1DB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2BE3B-7C39-4E9C-9959-61EE9DE4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55056-9CF5-44CE-A97C-42EA545FF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0FEF7-A633-42AC-AB60-341EA2A44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CC399-9B2A-4266-A704-7846E3958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41294-D542-4879-9230-F3F3EC9ED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824B7-DE63-4BAE-AFF7-0B9374F4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A8D9-0481-4FA5-9F57-3727144E8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C1B3A-8439-40DB-A415-A0663F40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91B90-F1D6-4474-8497-47365757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30F63-0BC9-4242-B6C0-EFF524995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79715-4E40-4119-8D64-4A241473E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47EDE-20CB-4190-985B-31F752C75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3546-406D-4402-82FA-B50D3D1DE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3C0F-59E8-4FB5-93E5-B3A12F996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C104-540A-4A17-ACE8-5589766E1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C522-2FD2-4313-BA62-9D64B0E8F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DA07-4AEA-415F-97C7-CE8D8D71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A211-9F6A-4ABE-9FD0-6225155E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2EC9-827C-4AA5-9F1D-AFA8A6B2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17636-15C5-422C-9101-9ECA09703D03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1F4C6-EF33-480C-9E86-378B0FDF7ACA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71280" y="214200"/>
            <a:ext cx="7972200" cy="249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Tahoma"/>
              </a:rPr>
              <a:t>Налог на доходы физических лиц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68000" y="2421000"/>
            <a:ext cx="8491320" cy="36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Налоговые льготы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280" y="213840"/>
            <a:ext cx="8188200" cy="163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333399"/>
                </a:solidFill>
                <a:uFillTx/>
                <a:latin typeface="Tahoma"/>
              </a:rPr>
              <a:t>Доходы, не подлежащие налогообложению </a:t>
            </a:r>
            <a:br>
              <a:rPr sz="3600"/>
            </a:br>
            <a:r>
              <a:rPr b="0" lang="ru-RU" sz="3600" spc="-1" strike="noStrike" u="sng">
                <a:solidFill>
                  <a:srgbClr val="333399"/>
                </a:solidFill>
                <a:uFillTx/>
                <a:latin typeface="Tahoma"/>
              </a:rPr>
              <a:t>(ст.217 НК РФ):</a:t>
            </a: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55972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75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ahoma"/>
              </a:rPr>
              <a:t>Государственные пособия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75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ahoma"/>
              </a:rPr>
              <a:t>Государственные пенсии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75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ahoma"/>
              </a:rPr>
              <a:t>Вознаграждения донорам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75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ahoma"/>
              </a:rPr>
              <a:t>Алименты, получаемые налогоплательщиком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75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ahoma"/>
              </a:rPr>
              <a:t>Стипендии учащихся, студентов, аспирантов, ординаторов или докторантов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75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ahoma"/>
              </a:rPr>
              <a:t>Командировочные расходы, согласно норме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75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ahoma"/>
              </a:rPr>
              <a:t>Доходы, не превышающие 4000руб.: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950760" indent="-511920">
              <a:lnSpc>
                <a:spcPct val="75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ahoma"/>
              </a:rPr>
              <a:t>стоимость призов, подарков в денежной и натуральной форме, выигранных на конкурсах, соревнованиях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950760" indent="-511920">
              <a:lnSpc>
                <a:spcPct val="75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ahoma"/>
              </a:rPr>
              <a:t>материальная помощь своим работникам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950760" indent="-511920">
              <a:lnSpc>
                <a:spcPct val="75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ahoma"/>
              </a:rPr>
              <a:t>возмещение работодателями своим работникам, их супругам, родителям и детям, стоимости приобретенных медикаментов, назначенных лечащим врачом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42560" y="692280"/>
            <a:ext cx="7900920" cy="98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Стандартные налоговые вычеты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4866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тандартные налоговые вычет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– это суммы 1000, 400, 500 и 3000руб., которые ежемесячно вычитаются из дохода работник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2560" y="691920"/>
            <a:ext cx="790092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Стандартный налоговый вычет в размере 3000 руб. предоставляется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4866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лицам, получившим или перенесшим лучевую болезнь, получившим инвалидность, участвовавшим в ликвидации последствий катастрофы на Чернобыльской АЭС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военнослужащим, уволенным с военной службы и призванным на специальные сборы и привлеченным в этот период к ликвидации последствий Чернобыльской АЭС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лицам, участвовавшим в испытаниях ядерного оружия в атмосфере и под землей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инвалидам Великой Отечественной войны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инвалидам из числа военнослужащих, ставших инвалидами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I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II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 группы вследствие ранения, контузии, увечья, полученных при защите СССР, Российской Федерации или при исполнении иных обязанностей военной службы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572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500"/>
                            </p:stCondLst>
                            <p:childTnLst>
                              <p:par>
                                <p:cTn id="26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560" y="691920"/>
            <a:ext cx="790092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Стандартный налоговый вычет в размере 500 руб. предоставляется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4866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ероям СССР, Российской Федерации, а так же лицам награжденным орденом Славы трех степеней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Лицам, находившимся в Ленинграде в период блокады (с 08.09.1941г. по 27.01.1944г.) независимо от срока пребывани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Бывшим узникам концлагерей Второй мировой войны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нвалидам с детства, инвалидам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I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упп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едицинскому персоналу, работающему в радиационной обстановке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Лицам, отдавшим костный мозг для спасения жизни людей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Лицам, эвакуированным и выехавшим добровольно из населенных пунктов, подвергшихся радиоактивному загрязнению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одителям и супругам военнослужащих, погибших вследствие ранения, контузии или увечья при защите СССР и Российской Федераци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500"/>
                            </p:stCondLst>
                            <p:childTnLst>
                              <p:par>
                                <p:cTn id="30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3000"/>
                            </p:stCondLst>
                            <p:childTnLst>
                              <p:par>
                                <p:cTn id="31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3500"/>
                            </p:stCondLst>
                            <p:childTnLst>
                              <p:par>
                                <p:cTn id="32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42560" y="691920"/>
            <a:ext cx="790092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Стандартный налоговый вычет в размере 400 руб. предоставляется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сем остальным налогоплательщикам, если их доход не превысил 40 000руб. Начиная с месяца, в котором указанный доход превысил 40 000руб. налоговый вычет не предоставляетс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2560" y="691920"/>
            <a:ext cx="790092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Стандартный налоговый вычет в размере 1000 руб. предоставляется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4360" y="2017800"/>
            <a:ext cx="827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 каждого ребенка (ребенок до 18 лет; учащийся очного отделения, студент, аспирант, курсант до 24 лет), если доход не превысил 280 000руб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довам (вдовцам), единственным родителям, опекунам и попечителям налоговый вычет производится в двойном размере. Вычеты прекращают предоставляться с месяца, следующего за вступлением в брак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692280"/>
            <a:ext cx="7900920" cy="98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Социальные налоговые вычеты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4866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суммы, перечисленные физическими лицами на благотворительные цели в виде денежной помощи бюджетным организациям науки, культуры, здравоохранения, социального обеспечения в размере фактически произведенных расходов, но не боле 25% суммы дохода, полученного в налоговом периоде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суммы, уплаченные за обучение в образовательных учреждениях за свое обучение и обучение детей до 24 лет на дневном отделении, но не более   120 000 руб. в год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суммы, уплаченные за лечение (свое, супруга, родителей или детей), а также на приобретение медикаментов, назначенных лечащим врачом, но не более 120 000 руб. в год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500"/>
                            </p:stCondLst>
                            <p:childTnLst>
                              <p:par>
                                <p:cTn id="39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2560" y="692280"/>
            <a:ext cx="7900920" cy="98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Имущественные налоговые вычеты представляются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4866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ahoma"/>
              </a:rPr>
              <a:t>в суммах, полученных от продажи жилых домов, квартир, дач, садовых домиков или земельных участков, находившихся в собственности менее  3 лет, стоимость которых не превышает 1 000 000 руб.; иного имущества, находившегося в собственности менее 3 лет, стоимость которого не превышает 250 000 руб. (в остальных случаях налоговый вычет предоставляется в сумме, полученной от продажи)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ahoma"/>
              </a:rPr>
              <a:t>в сумме, израсходованной налогоплательщиком на новое строительство либо приобретение на территории России жилого дома, квартиры в размере фактических расходов, а также сумме, направленной на погашение процентов по целевым займам (кредитам), полученным от кредитных учреждений, но не более 2 000 000 руб. (указанные расходы должны подтверждаться документально, и вычет предоставляется с даты регистрации права собственности)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560" y="692280"/>
            <a:ext cx="8692920" cy="98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Профессиональные налоговые вычеты представляются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4866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ндивидуальным предпринимателям – в сумме фактически произведенных ими и документально подтвержденных расходов, непосредственно связанных с извлечением доходо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логоплательщикам, получающим доходы от выполнения работ по договорам гражданско-правового характера, – в сумме расходов, непосредственно связанных с выполнением этих работ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логоплательщикам, получающим авторские вознаграждения или вознаграждения за создание, исполнение произведений науки и культуры,  – в сумме фактически произведенных расход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План: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лательщики налога и объект налогообложе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логооблагаемая база и особенности ее определе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логовый перио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логовые льготы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логовые ставк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рядок исчисления и сроки уплаты налог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68000" y="2565000"/>
            <a:ext cx="849132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5.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Налоговые ставки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Налоговые ставки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55280" y="2060280"/>
            <a:ext cx="79218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ahoma"/>
              </a:rPr>
              <a:t>35%</a:t>
            </a:r>
            <a:r>
              <a:rPr b="0" lang="ru-RU" sz="2100" spc="-1" strike="noStrike">
                <a:solidFill>
                  <a:srgbClr val="000000"/>
                </a:solidFill>
                <a:latin typeface="Tahoma"/>
              </a:rPr>
              <a:t> – в отношении следующих  доходов: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ahoma"/>
              </a:rPr>
              <a:t>выигрышей и призов, полученных на конкурсах в целях рекламы, в части превышения 4 000 руб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ahoma"/>
              </a:rPr>
              <a:t>процентов по вкладам в банках, за исключением срочных пенсионных вкладов в части превышения ставки рефинансирования ЦБ РФ  на 5% по вкладам в рублях и 9% по вкладам в валюте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ahoma"/>
              </a:rPr>
              <a:t>сумм экономии на процентах по заемным средствам в части превышения их размеров 2/3 ставки рефинансирования ЦБ РФ по вкладам в рублях и 9 % годовых по вкладам в валюте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500"/>
                            </p:stCondLst>
                            <p:childTnLst>
                              <p:par>
                                <p:cTn id="47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000"/>
                            </p:stCondLst>
                            <p:childTnLst>
                              <p:par>
                                <p:cTn id="48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Налоговые ставки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55280" y="2060280"/>
            <a:ext cx="79218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30%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 – в отношении доходов физических лиц, не являющихся налоговыми резидентами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15%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 - в отношении доходов физических лиц, не являющихся налоговыми резидентами, полученных в форме дивидендов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Налоговые ставки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55280" y="2060280"/>
            <a:ext cx="79218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9%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– в отношении доходов в виде дивидендов и доходов в виде процентов по облигациям с ипотечным покрытием, эмитированным до 1 января 2007 года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Налоговые ставки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55280" y="2205000"/>
            <a:ext cx="79218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13%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 – в отношении иных видов доходов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68000" y="2565000"/>
            <a:ext cx="849132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6.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орядок исчисления и сроки уплаты налог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547280" y="2565000"/>
            <a:ext cx="741204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лог на доходы физических лиц исчисляется в полных рубля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умма налога представляет собой произведение налоговой базы на соответствующую налоговую ставку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0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115640" y="1989000"/>
            <a:ext cx="762804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Излишне удержанные налоговым агентом из дохода налогоплательщика суммы налога подлежат возврату налоговым агентом при представлении налогоплательщиком заявления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Суммы налога, не удержанные с физических лиц или удержанные налоговыми агентами не полностью, взыскиваются ими с физических лиц до полного погашения этими лицами задолженности по налогу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Суммы налога, не взысканные в результате уклонения налогоплательщика от налогообложения, взыскиваются за все время уклонения от уплат налога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0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68000" y="2781000"/>
            <a:ext cx="8491320" cy="33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лательщики налога и объект налогообложени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333399"/>
                </a:solidFill>
                <a:uFillTx/>
                <a:latin typeface="Tahoma"/>
              </a:rPr>
              <a:t>Плательщики налога</a:t>
            </a:r>
            <a:r>
              <a:rPr b="0" lang="ru-RU" sz="48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800"/>
            </a:br>
            <a:r>
              <a:rPr b="0" lang="ru-RU" sz="4800" spc="-1" strike="noStrike">
                <a:solidFill>
                  <a:srgbClr val="333399"/>
                </a:solidFill>
                <a:latin typeface="Tahoma"/>
              </a:rPr>
              <a:t>(ст.207 НК РФ) –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6920" y="1916280"/>
            <a:ext cx="812808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физические лица, как имеющие (резиденты), так и не имеющие постоянного места жительства (нерезиденты) в Российской Федерации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63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333399"/>
                </a:solidFill>
                <a:uFillTx/>
                <a:latin typeface="Tahoma"/>
              </a:rPr>
              <a:t>Объектом налогообложения</a:t>
            </a: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(ст.209 НК РФ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6920" y="1916280"/>
            <a:ext cx="812808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знается доход, полученный налогоплательщиками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54400" indent="-5544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) от источников в Российской Федерации и (или) за её пределами – для резидентов Российской Федерации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54400" indent="-5544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) от источников в Российской Федерации – для лиц, не являющихся резидентами Российской Федерации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000" y="2276280"/>
            <a:ext cx="8491320" cy="382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Налоговая база и особенности её определени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560" y="214200"/>
            <a:ext cx="7900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Налоговая база</a:t>
            </a:r>
            <a:br>
              <a:rPr sz="4400"/>
            </a:b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(ст. 210 НК РФ)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48664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пределяется как сумма доходов налогоплательщика, полученных им как в денежной, так и в натуральной формах, а также в виде материальной выгоды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68000" y="2565000"/>
            <a:ext cx="849132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Налоговый период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Налоговым периодом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050560" y="2133360"/>
            <a:ext cx="7093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знается календарный го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6T18:53:32Z</dcterms:created>
  <dc:creator>1</dc:creator>
  <dc:description/>
  <dc:language>en-US</dc:language>
  <cp:lastModifiedBy>qwert</cp:lastModifiedBy>
  <dcterms:modified xsi:type="dcterms:W3CDTF">2015-09-11T11:09:39Z</dcterms:modified>
  <cp:revision>29</cp:revision>
  <dc:subject/>
  <dc:title>Налоги в экономической системе общест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