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786-C9B0-4660-ADCB-C000342B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207-1E0D-4A4A-8F7A-1A4E0B9E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8FE-DB4F-4193-99C0-FA38ABDD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E29-1440-433A-A4A9-AD9F8587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E22-76EA-4FD5-BDCD-C57B6F3E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6C69-BD87-445F-AD37-2B5152DB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10C3-588B-4404-8DD2-5DD9471F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15A1-68CC-4591-95C8-6EEA0F3B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1380-0AD0-4F12-B039-8DC71557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5A2D-7C09-4B89-BDFB-AE4E4819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31B6-03C8-4E62-B9B3-6057D950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286-C6F0-407D-A429-F3DB1D75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06EB-1704-4A58-B6A0-F47F4E8C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1DEF-C048-47C5-A1FE-8F3AFD3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00E9-F595-4ADB-A194-91EC70E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BC38-EE99-42A4-8415-0672C4A2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8B53-EE44-4E0F-A978-81CB2C19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510-D1ED-4193-B4BE-73CE8880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12C-F285-4E6E-B314-9B1AE015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083-C13F-4EAF-AF5F-949021C9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C71-046F-4A5B-8DED-E672CE20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3A1-34F2-4ED4-85BB-42EF6EA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C49-6582-4A10-A182-2B944DA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5EE-6F75-471C-8368-7982AF6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E92A-D239-4E80-B96A-703951E3E25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F53F-6331-48BC-A0DD-8E94F4D36B9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249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Налог на доходы физических лиц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2421000"/>
            <a:ext cx="849132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е льготы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818820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Tahoma"/>
              </a:rPr>
              <a:t>Доходы, не подлежащие налогообложению </a:t>
            </a:r>
            <a:br>
              <a:rPr sz="3600"/>
            </a:br>
            <a:r>
              <a:rPr b="0" lang="ru-RU" sz="3600" spc="-1" strike="noStrike" u="sng">
                <a:solidFill>
                  <a:srgbClr val="333399"/>
                </a:solidFill>
                <a:uFillTx/>
                <a:latin typeface="Tahoma"/>
              </a:rPr>
              <a:t>(ст.217 НК РФ):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559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Государственные пособия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Государственные пенсии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ознаграждения донора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Алименты, получаемые налогоплательщико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типендии учащихся, студентов, аспирантов, ординаторов или докторантов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Командировочные расходы, согласно норме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7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Доходы, не превышающие 4000руб.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тоимость призов, подарков в денежной и натуральной форме, выигранных на конкурсах, соревнованиях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материальная помощь своим работникам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50760" indent="-511920">
              <a:lnSpc>
                <a:spcPct val="75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озмещение работодателями своим работникам, их супругам, родителям и детям, стоимости приобретенных медикаментов, назначенных лечащим врачом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е налоговые выче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ндартные налоговые выче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суммы 1000, 400, 500 и 3000руб., которые ежемесячно вычитаются из дохода работн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30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ицам, получившим или перенесшим лучевую болезнь, получившим инвалидность, участвовавшим в ликвидации последствий катастрофы на Чернобыльской АЭС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военнослужащим, уволенным с военной службы и призванным на специальные сборы и привлеченным в этот период к ликвидации последствий Чернобыльской АЭС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лицам, участвовавшим в испытаниях ядерного оружия в атмосфере и под земле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валидам Великой Отечественной войны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нвалидам из числа военнослужащих, ставших инвалидами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группы вследствие ранения, контузии, увечья, полученных при защите СССР, Российской Федерации или при исполнении иных обязанностей военной служб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5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ероям СССР, Российской Федерации, а так же лицам награжденным орденом Славы трех степен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находившимся в Ленинграде в период блокады (с 08.09.1941г. по 27.01.1944г.) независимо от срока пребыв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ывшим узникам концлагерей Второй мировой вой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валидам с детства, инвалида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пп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цинскому персоналу, работающему в радиационной обстановк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отдавшим костный мозг для спасения жизни люд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цам, эвакуированным и выехавшим добровольно из населенных пунктов, подвергшихся радиоактивному загрязнени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дителям и супругам военнослужащих, погибших вследствие ранения, контузии или увечья при защите СССР и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4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м остальным налогоплательщикам, если их доход не превысил 40 000руб. Начиная с месяца, в котором указанный доход превысил 40 000руб. налоговый вычет не предоставля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900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тандартный налоговый вычет в размере 1000 руб. предоставляе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ждого ребенка (ребенок до 18 лет; учащийся очного отделения, студент, аспирант, курсант до 24 лет), если доход не превысил 280 000ру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довам (вдовцам), единственным родителям, опекунам и попечителям налоговый вычет производится в двойном размере. Вычеты прекращают предоставляться с месяца, следующего за вступлением в брак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циальные налоговые выче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перечисленные физическими лицами на благотворительные цели в виде денежной помощи бюджетным организациям науки, культуры, здравоохранения, социального обеспечения в размере фактически произведенных расходов, но не боле 25% суммы дохода, полученного в налоговом период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уплаченные за обучение в образовательных учреждениях за свое обучение и обучение детей до 24 лет на дневном отделении, но не более   120 000 руб. в го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уммы, уплаченные за лечение (свое, супруга, родителей или детей), а также на приобретение медикаментов, назначенных лечащим врачом, но не более 120 000 руб. в го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900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мущественные налоговые вычеты представляютс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 суммах, полученных от продажи жилых домов, квартир, дач, садовых домиков или земельных участков, находившихся в собственности менее  3 лет, стоимость которых не превышает 1 000 000 руб.; иного имущества, находившегося в собственности менее 3 лет, стоимость которого не превышает 250 000 руб. (в остальных случаях налоговый вычет предоставляется в сумме, полученной от продажи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 сумме, израсходованной налогоплательщиком на новое строительство либо приобретение на территории России жилого дома, квартиры в размере фактических расходов, а также сумме, направленной на погашение процентов по целевым займам (кредитам), полученным от кредитных учреждений, но не более 2 000 000 руб. (указанные расходы должны подтверждаться документально, и вычет предоставляется с даты регистрации права собственности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6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фессиональные налоговые вычеты представляют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486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дивидуальным предпринимателям – в сумме фактически произведенных ими и документально подтвержденных расходов, непосредственно связанных с извлечением дохо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огоплательщикам, получающим доходы от выполнения работ по договорам гражданско-правового характера, – в сумме расходов, непосредственно связанных с выполнением этих рабо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огоплательщикам, получающим авторские вознаграждения или вознаграждения за создание, исполнение произведений науки и культуры,  – в сумме фактически произведенных расхо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н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ательщики налога и объект налогообло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облагаемая база и особенности ее опреде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е льгот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оговые став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рядок исчисления и сроки уплаты нало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е став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35%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– в отношении следующих  доходов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ыигрышей и призов, полученных на конкурсах в целях рекламы, в части превышения 4 000 руб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процентов по вкладам в банках, за исключением срочных пенсионных вкладов в части превышения ставки рефинансирования ЦБ РФ  на 5% по вкладам в рублях и 9% по вкладам в валюте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умм экономии на процентах по заемным средствам в части превышения их размеров 2/3 ставки рефинансирования ЦБ РФ по вкладам в рублях и 9 % годовых по вкладам в валюте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в отношении доходов физических лиц, не являющихся налоговыми резидентам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15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- в отношении доходов физических лиц, не являющихся налоговыми резидентами, полученных в форме дивидендов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9%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в отношении доходов в виде дивидендов и доходов в виде процентов по облигациям с ипотечным покрытием, эмитированным до 1 января 2007 год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е став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7921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13%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в отношении иных видов доходов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рядок исчисления и сроки уплаты налог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47280" y="2565000"/>
            <a:ext cx="741204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лог на доходы физических лиц исчисляется в полных рубл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мма налога представляет собой произведение налоговой базы на соответствующую налоговую ставк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989000"/>
            <a:ext cx="762804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Излишне удержанные налоговым агентом из дохода налогоплательщика суммы налога подлежат возврату налоговым агентом при представлении налогоплательщиком заявления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уммы налога, не удержанные с физических лиц или удержанные налоговыми агентами не полностью, взыскиваются ими с физических лиц до полного погашения этими лицами задолженности по налогу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уммы налога, не взысканные в результате уклонения налогоплательщика от налогообложения, взыскиваются за все время уклонения от уплат налога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781000"/>
            <a:ext cx="849132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лательщики налога и объект налогообло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3399"/>
                </a:solidFill>
                <a:uFillTx/>
                <a:latin typeface="Tahoma"/>
              </a:rPr>
              <a:t>Плательщики налога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(ст.207 НК РФ) –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1280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изические лица, как имеющие (резиденты), так и не имеющие постоянного места жительства (нерезиденты) в Российской Федераци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Объектом налогообложения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(ст.209 НК РФ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1280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ется доход, полученный налогоплательщиками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от источников в Российской Федерации и (или) за её пределами – для резидентов Российской Федераци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от источников в Российской Федерации – для лиц, не являющихся резидентами Российской Федера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76280"/>
            <a:ext cx="8491320" cy="38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ая база и особенности её о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7900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ая база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(ст. 210 НК РФ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86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яется как сумма доходов налогоплательщика, полученных им как в денежной, так и в натуральной формах, а также в виде материальной выгод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9132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логовый перио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Налоговым период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70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ется календарный г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8:53:32Z</dcterms:created>
  <dc:creator>1</dc:creator>
  <dc:description/>
  <dc:language>en-US</dc:language>
  <cp:lastModifiedBy>qwert</cp:lastModifiedBy>
  <dcterms:modified xsi:type="dcterms:W3CDTF">2015-09-11T11:09:39Z</dcterms:modified>
  <cp:revision>29</cp:revision>
  <dc:subject/>
  <dc:title>Налоги в экономической системе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