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563-9C87-4C4D-A48A-B41599B1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41B-00FF-4C17-8E4E-D02E0299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1B5-3D62-4C3B-8DEF-14B9FBEF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120-B874-42C4-9FE6-F219A58F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45C8-01A6-419D-8C82-546E7798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464F-3FA7-4B77-A96A-0F566C1E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7A23-7F04-408C-8DD3-777EEF2E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52F7-15CD-401F-9092-0DC1CD1C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0DD6-5C54-48DB-9887-33B040F0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8233-E722-4F58-9950-D8E9F7D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7698-D982-4838-9983-347932F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362-A63A-4AD8-8D6A-47F1EA68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1969-6261-456D-9CB6-1E5AEA5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F961-FF13-4A21-8C6D-062AD587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ECB1-688E-4AE2-851E-2DD908AD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07B6-441B-4C3C-B6E8-34C24C84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AF19-6169-49D2-B7CB-6E997247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249-0F6C-4232-B8CD-B716A57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0C8-599F-48AF-8F50-37A0BE5A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C55-8D82-4192-A2A1-8934A89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BEC-FB52-456D-920F-80D78659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8E1-6A22-4136-9262-7F873C7A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F5D-93BF-4C58-AC5D-FF486F8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376-1ADF-4D01-93F7-8EDA2811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3BF9-50A6-4715-BE6E-386D49A1A75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34DD-6D37-43AE-8835-238E1366077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249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Налог на доходы физических лиц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2421000"/>
            <a:ext cx="849132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е льготы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818820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Tahoma"/>
              </a:rPr>
              <a:t>Доходы, не подлежащие налогообложению </a:t>
            </a:r>
            <a:br>
              <a:rPr sz="3600"/>
            </a:br>
            <a:r>
              <a:rPr b="0" lang="ru-RU" sz="3600" spc="-1" strike="noStrike" u="sng">
                <a:solidFill>
                  <a:srgbClr val="333399"/>
                </a:solidFill>
                <a:uFillTx/>
                <a:latin typeface="Tahoma"/>
              </a:rPr>
              <a:t>(ст.217 НК РФ):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559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Государственные пособия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Государственные пенсии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ознаграждения донора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Алименты, получаемые налогоплательщико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типендии учащихся, студентов, аспирантов, ординаторов или докторантов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Командировочные расходы, согласно норме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Доходы, не превышающие 4000руб.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тоимость призов, подарков в денежной и натуральной форме, выигранных на конкурсах, соревнованиях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материальная помощь своим работникам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озмещение работодателями своим работникам, их супругам, родителям и детям, стоимости приобретенных медикаментов, назначенных лечащим врачо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е налоговые выче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ндартные налоговые выче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суммы 1000, 400, 500 и 3000руб., которые ежемесячно вычитаются из дохода работн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30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ицам, получившим или перенесшим лучевую болезнь, получившим инвалидность, участвовавшим в ликвидации последствий катастрофы на Чернобыльской АЭС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оеннослужащим, уволенным с военной службы и призванным на специальные сборы и привлеченным в этот период к ликвидации последствий Чернобыльской АЭС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ицам, участвовавшим в испытаниях ядерного оружия в атмосфере и под земле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валидам Великой Отечественной войны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валидам из числа военнослужащих, ставших инвалидами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группы вследствие ранения, контузии, увечья, полученных при защите СССР, Российской Федерации или при исполнении иных обязанностей военной служб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5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ероям СССР, Российской Федерации, а так же лицам награжденным орденом Славы трех степен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находившимся в Ленинграде в период блокады (с 08.09.1941г. по 27.01.1944г.) независимо от срока пребыв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ывшим узникам концлагерей Второй мировой вой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валидам с детства, инвалида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пп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цинскому персоналу, работающему в радиационной обстановк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отдавшим костный мозг для спасения жизни люд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эвакуированным и выехавшим добровольно из населенных пунктов, подвергшихся радиоактивному загрязнени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дителям и супругам военнослужащих, погибших вследствие ранения, контузии или увечья при защите СССР и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4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м остальным налогоплательщикам, если их доход не превысил 40 000руб. Начиная с месяца, в котором указанный доход превысил 40 000руб. налоговый вычет не предоставля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10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ждого ребенка (ребенок до 18 лет; учащийся очного отделения, студент, аспирант, курсант до 24 лет), если доход не превысил 280 000ру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довам (вдовцам), единственным родителям, опекунам и попечителям налоговый вычет производится в двойном размере. Вычеты прекращают предоставляться с месяца, следующего за вступлением в брак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циальные налоговые выче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перечисленные физическими лицами на благотворительные цели в виде денежной помощи бюджетным организациям науки, культуры, здравоохранения, социального обеспечения в размере фактически произведенных расходов, но не боле 25% суммы дохода, полученного в налоговом период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уплаченные за обучение в образовательных учреждениях за свое обучение и обучение детей до 24 лет на дневном отделении, но не более   120 000 руб. в го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уплаченные за лечение (свое, супруга, родителей или детей), а также на приобретение медикаментов, назначенных лечащим врачом, но не более 120 000 руб. в го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мущественные налоговые вычеты представляютс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 суммах, полученных от продажи жилых домов, квартир, дач, садовых домиков или земельных участков, находившихся в собственности менее  3 лет, стоимость которых не превышает 1 000 000 руб.; иного имущества, находившегося в собственности менее 3 лет, стоимость которого не превышает 250 000 руб. (в остальных случаях налоговый вычет предоставляется в сумме, полученной от продажи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 сумме, израсходованной налогоплательщиком на новое строительство либо приобретение на территории России жилого дома, квартиры в размере фактических расходов, а также сумме, направленной на погашение процентов по целевым займам (кредитам), полученным от кредитных учреждений, но не более 2 000 000 руб. (указанные расходы должны подтверждаться документально, и вычет предоставляется с даты регистрации права собственности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6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фессиональные налоговые вычеты представляю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дивидуальным предпринимателям – в сумме фактически произведенных ими и документально подтвержденных расходов, непосредственно связанных с извлечением дохо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огоплательщикам, получающим доходы от выполнения работ по договорам гражданско-правового характера, – в сумме расходов, непосредственно связанных с выполнением этих рабо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огоплательщикам, получающим авторские вознаграждения или вознаграждения за создание, исполнение произведений науки и культуры,  – в сумме фактически произведенных расхо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н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ательщики налога и объект налогообло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облагаемая база и особенности ее опреде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е льгот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е став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рядок исчисления и сроки уплаты нало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35%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– в отношении следующих  доходов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ыигрышей и призов, полученных на конкурсах в целях рекламы, в части превышения 4 000 руб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процентов по вкладам в банках, за исключением срочных пенсионных вкладов в части превышения ставки рефинансирования ЦБ РФ  на 5% по вкладам в рублях и 9% по вкладам в валюте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умм экономии на процентах по заемным средствам в части превышения их размеров 2/3 ставки рефинансирования ЦБ РФ по вкладам в рублях и 9 % годовых по вкладам в валюте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в отношении доходов физических лиц, не являющихся налоговыми резидентам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15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- в отношении доходов физических лиц, не являющихся налоговыми резидентами, полученных в форме дивидендов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9%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в отношении доходов в виде дивидендов и доходов в виде процентов по облигациям с ипотечным покрытием, эмитированным до 1 января 2007 год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7921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13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в отношении иных видов доходов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рядок исчисления и сроки уплаты налог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47280" y="2565000"/>
            <a:ext cx="741204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лог на доходы физических лиц исчисляется в полных рубл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мма налога представляет собой произведение налоговой базы на соответствующую налоговую ставк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989000"/>
            <a:ext cx="762804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Излишне удержанные налоговым агентом из дохода налогоплательщика суммы налога подлежат возврату налоговым агентом при представлении налогоплательщиком заявления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уммы налога, не удержанные с физических лиц или удержанные налоговыми агентами не полностью, взыскиваются ими с физических лиц до полного погашения этими лицами задолженности по налогу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уммы налога, не взысканные в результате уклонения налогоплательщика от налогообложения, взыскиваются за все время уклонения от уплат налога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781000"/>
            <a:ext cx="849132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лательщики налога и объект налогообло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3399"/>
                </a:solidFill>
                <a:uFillTx/>
                <a:latin typeface="Tahoma"/>
              </a:rPr>
              <a:t>Плательщики налога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(ст.207 НК РФ) –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1280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изические лица, как имеющие (резиденты), так и не имеющие постоянного места жительства (нерезиденты) в Российской Федераци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Объектом налогообложения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(ст.209 НК РФ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1280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ется доход, полученный налогоплательщиками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от источников в Российской Федерации и (или) за её пределами – для резидентов Российской Федераци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от источников в Российской Федерации – для лиц, не являющихся резидентами Российской Федера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76280"/>
            <a:ext cx="8491320" cy="38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ая база и особенности её о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7900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ая база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(ст. 210 НК РФ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86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яется как сумма доходов налогоплательщика, полученных им как в денежной, так и в натуральной формах, а также в виде материальной выгод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м период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70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ется календарный г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8:53:32Z</dcterms:created>
  <dc:creator>1</dc:creator>
  <dc:description/>
  <dc:language>en-US</dc:language>
  <cp:lastModifiedBy>qwert</cp:lastModifiedBy>
  <dcterms:modified xsi:type="dcterms:W3CDTF">2015-09-11T11:09:39Z</dcterms:modified>
  <cp:revision>29</cp:revision>
  <dc:subject/>
  <dc:title>Налоги в экономической системе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