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A56-E37E-4577-B783-81987390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83D-2E96-4144-B55A-6C4F06BC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03F-41CE-4D11-8D71-70C9B23C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577-EFB9-4D2A-92F1-C32C8676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B0D64-5AA1-4395-9859-15C51F7C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3063A-3CF0-4EA1-9F19-3B3B081A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1BB19-FBEB-4685-9427-97A917B7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E1B45-4F18-467C-ABBB-40720843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2D6CB-7418-4BD6-BF52-56AB79AF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122F1-15DD-4A43-8C60-D141CB0A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9D7B8-24A6-4C1C-A407-C9EA3C7B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F9E-EE39-48BA-8771-DF0D039E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4FB75-E559-494A-B2FB-A94FD7DD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6513B-3F5E-4B49-96A5-62CED056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7B13B-276C-482F-A09F-B21998F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794B-184A-4D2B-9C4D-9C5DBF70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CE1C4-9D94-4FD3-BAAC-82584FCD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C37-53B6-463B-A1D8-846B5180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9BC-712E-4029-BAA4-A87FC81D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C4B-5EA7-4E3F-9634-9BB7DB40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55C-7281-4DAD-8791-A9A14B4F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7EE-E37B-4587-956A-E03C8C28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40E-D6F4-4DB3-96EC-6CD6709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BCB-28C7-4AA7-9A37-60DAE0F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F539-2E1A-4CBC-BB06-DF5256BB9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4C9E-EFC5-4463-83BC-B798CAC7B9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imes New Roman"/>
              </a:rPr>
              <a:t>Понятие и классификация налогов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ся совокупность налогов, сборов, пошлин и других платежей, взимаемых в установленном порядке государственными органами с плательщиков — юридических и физических лиц на территории страны образует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овую систему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Её устанавливает Налоговый Кодекс РФ № 146-ФЗ от 31.07.98 г. (часть 1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32000" y="291960"/>
            <a:ext cx="6696000" cy="138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овая система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оссийской Федер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5">
            <a:hlinkClick r:id="rId1" action="ppaction://hlinksldjump"/>
          </p:cNvPr>
          <p:cNvSpPr/>
          <p:nvPr/>
        </p:nvSpPr>
        <p:spPr>
          <a:xfrm>
            <a:off x="0" y="5589720"/>
            <a:ext cx="2195640" cy="126828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6">
            <a:hlinkClick r:id="rId2" action="ppaction://hlinksldjump"/>
          </p:cNvPr>
          <p:cNvSpPr/>
          <p:nvPr/>
        </p:nvSpPr>
        <p:spPr>
          <a:xfrm>
            <a:off x="6948360" y="5589720"/>
            <a:ext cx="2160720" cy="1125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 России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трехуровневая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налоговая систе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332000" y="260280"/>
            <a:ext cx="6696000" cy="13842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овая система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оссийской Федерац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116000" y="2708280"/>
            <a:ext cx="698508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.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едеральны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187280" y="3860640"/>
            <a:ext cx="698508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гиональны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187280" y="5013360"/>
            <a:ext cx="698508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II.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естны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500720" y="3284640"/>
            <a:ext cx="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4500720" y="443700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0" y="5734080"/>
            <a:ext cx="1979640" cy="112392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6948360" y="5661000"/>
            <a:ext cx="2160720" cy="105408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75"/>
                            </p:stCondLst>
                            <p:childTnLst>
                              <p:par>
                                <p:cTn id="3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424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логи уплачиваемые в государственный бюдже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добавленную стоимость (НДС)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Акцизный налог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прибыль предприятий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 добычу полезных ископаемых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Водный налог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Государственная пошлина и т.д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0" y="5950080"/>
            <a:ext cx="1692360" cy="90792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7093080" y="5805360"/>
            <a:ext cx="2016000" cy="90972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619280" y="260280"/>
            <a:ext cx="6408720" cy="7603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Федеральный уров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619280" y="260280"/>
            <a:ext cx="6121440" cy="7603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Региональный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0" y="5805360"/>
            <a:ext cx="1835280" cy="105264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7164360" y="5734080"/>
            <a:ext cx="1944720" cy="9810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алоги уплачиваемые в бюджет Субъектов Федерации: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 на имущество организаций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 на игорный бизнес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ранспортный налог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25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619280" y="581040"/>
            <a:ext cx="6121440" cy="7603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естный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042920" y="1700280"/>
            <a:ext cx="76438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алоги уплачиваемые в местные бюджеты (области, районы)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емельный налог 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0" y="5805360"/>
            <a:ext cx="1835280" cy="105264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стройте графики прогрессивного, пропорционального и регрессивного налогообложения, если по оси абсцисс (ОХ) отложить уровень дохода, а по оси ординат (ОУ) – ставку налогооб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4">
            <a:hlinkClick r:id="rId1" action="ppaction://hlinksldjump"/>
          </p:cNvPr>
          <p:cNvSpPr/>
          <p:nvPr/>
        </p:nvSpPr>
        <p:spPr>
          <a:xfrm>
            <a:off x="2124000" y="620640"/>
            <a:ext cx="511200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35">
            <a:hlinkClick r:id="rId2" action="ppaction://hlinksldjump"/>
          </p:cNvPr>
          <p:cNvSpPr/>
          <p:nvPr/>
        </p:nvSpPr>
        <p:spPr>
          <a:xfrm>
            <a:off x="1476360" y="1773360"/>
            <a:ext cx="655308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налог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9">
            <a:hlinkClick r:id="rId3" action="ppaction://hlinksldjump"/>
          </p:cNvPr>
          <p:cNvSpPr/>
          <p:nvPr/>
        </p:nvSpPr>
        <p:spPr>
          <a:xfrm>
            <a:off x="395280" y="5300640"/>
            <a:ext cx="842472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труктура налоговой системы  Р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1"/>
          <p:cNvSpPr/>
          <p:nvPr/>
        </p:nvSpPr>
        <p:spPr>
          <a:xfrm>
            <a:off x="324000" y="292428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2">
            <a:hlinkClick r:id="rId4" action="ppaction://hlinksldjump"/>
          </p:cNvPr>
          <p:cNvSpPr/>
          <p:nvPr/>
        </p:nvSpPr>
        <p:spPr>
          <a:xfrm>
            <a:off x="539640" y="2852640"/>
            <a:ext cx="828036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ринципы налогооб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3">
            <a:hlinkClick r:id="rId5" action="ppaction://hlinksldjump"/>
          </p:cNvPr>
          <p:cNvSpPr/>
          <p:nvPr/>
        </p:nvSpPr>
        <p:spPr>
          <a:xfrm>
            <a:off x="468360" y="4005360"/>
            <a:ext cx="835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ривая Лаффе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MONEY1"/>
          <p:cNvPicPr/>
          <p:nvPr/>
        </p:nvPicPr>
        <p:blipFill>
          <a:blip r:embed="rId1"/>
          <a:stretch/>
        </p:blipFill>
        <p:spPr>
          <a:xfrm>
            <a:off x="468360" y="1125360"/>
            <a:ext cx="2735280" cy="2457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5"/>
          <p:cNvSpPr/>
          <p:nvPr/>
        </p:nvSpPr>
        <p:spPr>
          <a:xfrm>
            <a:off x="3276720" y="907920"/>
            <a:ext cx="55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лог - это обязательный сбор, взимаемый государством с хозяйствующих субъектов (фирм, организаций) и граждан в порядке и на условиях, установленных законодательными акт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22">
            <a:hlinkClick r:id="rId2" action="ppaction://hlinksldjump"/>
          </p:cNvPr>
          <p:cNvSpPr/>
          <p:nvPr/>
        </p:nvSpPr>
        <p:spPr>
          <a:xfrm>
            <a:off x="6443640" y="5013360"/>
            <a:ext cx="2700360" cy="1844640"/>
          </a:xfrm>
          <a:prstGeom prst="irregularSeal2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Bazooka"/>
              </a:rPr>
              <a:t>ДАЛЬШ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23">
            <a:hlinkClick r:id="rId3" action="ppaction://hlinksldjump"/>
          </p:cNvPr>
          <p:cNvSpPr/>
          <p:nvPr/>
        </p:nvSpPr>
        <p:spPr>
          <a:xfrm>
            <a:off x="0" y="5013360"/>
            <a:ext cx="2700360" cy="1844640"/>
          </a:xfrm>
          <a:prstGeom prst="irregularSeal2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Bazook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08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8">
            <a:hlinkClick r:id="rId1" action="ppaction://hlinksldjump"/>
          </p:cNvPr>
          <p:cNvSpPr/>
          <p:nvPr/>
        </p:nvSpPr>
        <p:spPr>
          <a:xfrm>
            <a:off x="2627280" y="620640"/>
            <a:ext cx="3600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44"/>
          <p:cNvSpPr/>
          <p:nvPr/>
        </p:nvSpPr>
        <p:spPr>
          <a:xfrm>
            <a:off x="1835280" y="2205000"/>
            <a:ext cx="511308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45"/>
          <p:cNvSpPr/>
          <p:nvPr/>
        </p:nvSpPr>
        <p:spPr>
          <a:xfrm>
            <a:off x="6877080" y="2205000"/>
            <a:ext cx="71280" cy="1295280"/>
          </a:xfrm>
          <a:prstGeom prst="downArrow">
            <a:avLst>
              <a:gd name="adj1" fmla="val 50000"/>
              <a:gd name="adj2" fmla="val 4542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46"/>
          <p:cNvSpPr/>
          <p:nvPr/>
        </p:nvSpPr>
        <p:spPr>
          <a:xfrm>
            <a:off x="1763640" y="2205000"/>
            <a:ext cx="71640" cy="1295280"/>
          </a:xfrm>
          <a:prstGeom prst="downArrow">
            <a:avLst>
              <a:gd name="adj1" fmla="val 50000"/>
              <a:gd name="adj2" fmla="val 4520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48">
            <a:hlinkClick r:id="rId2" action="ppaction://hlinksldjump"/>
          </p:cNvPr>
          <p:cNvSpPr/>
          <p:nvPr/>
        </p:nvSpPr>
        <p:spPr>
          <a:xfrm>
            <a:off x="3132000" y="3500280"/>
            <a:ext cx="2519640" cy="1368720"/>
          </a:xfrm>
          <a:prstGeom prst="rect">
            <a:avLst/>
          </a:prstGeom>
          <a:solidFill>
            <a:srgbClr val="0000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субъекта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9">
            <a:hlinkClick r:id="rId3" action="ppaction://hlinksldjump"/>
          </p:cNvPr>
          <p:cNvSpPr/>
          <p:nvPr/>
        </p:nvSpPr>
        <p:spPr>
          <a:xfrm>
            <a:off x="5796000" y="3500280"/>
            <a:ext cx="2519280" cy="1368720"/>
          </a:xfrm>
          <a:prstGeom prst="rect">
            <a:avLst/>
          </a:prstGeom>
          <a:solidFill>
            <a:srgbClr val="0000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По характеру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овых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ставок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52"/>
          <p:cNvSpPr/>
          <p:nvPr/>
        </p:nvSpPr>
        <p:spPr>
          <a:xfrm>
            <a:off x="4284720" y="1700280"/>
            <a:ext cx="71280" cy="1800000"/>
          </a:xfrm>
          <a:prstGeom prst="downArrow">
            <a:avLst>
              <a:gd name="adj1" fmla="val 50000"/>
              <a:gd name="adj2" fmla="val 6313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3">
            <a:hlinkClick r:id="rId4" action="ppaction://hlinksldjump"/>
          </p:cNvPr>
          <p:cNvSpPr/>
          <p:nvPr/>
        </p:nvSpPr>
        <p:spPr>
          <a:xfrm>
            <a:off x="468360" y="3500280"/>
            <a:ext cx="2519280" cy="1368720"/>
          </a:xfrm>
          <a:prstGeom prst="rect">
            <a:avLst/>
          </a:prstGeom>
          <a:solidFill>
            <a:srgbClr val="0000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 способ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зим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55">
            <a:hlinkClick r:id="rId5" action="ppaction://hlinksldjump"/>
          </p:cNvPr>
          <p:cNvSpPr/>
          <p:nvPr/>
        </p:nvSpPr>
        <p:spPr>
          <a:xfrm>
            <a:off x="250920" y="5229360"/>
            <a:ext cx="1800000" cy="1295280"/>
          </a:xfrm>
          <a:prstGeom prst="irregularSeal2">
            <a:avLst/>
          </a:prstGeom>
          <a:solidFill>
            <a:srgbClr val="cc99ff">
              <a:alpha val="31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5"/>
          <p:cNvSpPr/>
          <p:nvPr/>
        </p:nvSpPr>
        <p:spPr>
          <a:xfrm flipH="1">
            <a:off x="2340000" y="907920"/>
            <a:ext cx="2232000" cy="765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572000" y="907920"/>
            <a:ext cx="2376360" cy="765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003640" y="1700280"/>
            <a:ext cx="3167280" cy="6476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освенны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900000" y="1700280"/>
            <a:ext cx="3167280" cy="6476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ямы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268360" y="2349360"/>
            <a:ext cx="71640" cy="576360"/>
          </a:xfrm>
          <a:prstGeom prst="downArrow">
            <a:avLst>
              <a:gd name="adj1" fmla="val 50000"/>
              <a:gd name="adj2" fmla="val 2011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6659640" y="2349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755640" y="2952720"/>
            <a:ext cx="3672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 уплате прям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логов платит тот, чь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ействия или доход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благаются налог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148360" y="2998800"/>
            <a:ext cx="324000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 косвенн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логообложен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лательщик налога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лицо, реаль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вергшее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логообложению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ные лиц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7" descr="COINS3"/>
          <p:cNvPicPr/>
          <p:nvPr/>
        </p:nvPicPr>
        <p:blipFill>
          <a:blip r:embed="rId1"/>
          <a:stretch/>
        </p:blipFill>
        <p:spPr>
          <a:xfrm>
            <a:off x="2627280" y="4508640"/>
            <a:ext cx="2736720" cy="2065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9"/>
          <p:cNvSpPr/>
          <p:nvPr/>
        </p:nvSpPr>
        <p:spPr>
          <a:xfrm>
            <a:off x="2195640" y="333360"/>
            <a:ext cx="4968720" cy="57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о способу взим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20">
            <a:hlinkClick r:id="rId2" action="ppaction://hlinksldjump"/>
          </p:cNvPr>
          <p:cNvSpPr/>
          <p:nvPr/>
        </p:nvSpPr>
        <p:spPr>
          <a:xfrm>
            <a:off x="0" y="5084640"/>
            <a:ext cx="2050920" cy="1440000"/>
          </a:xfrm>
          <a:prstGeom prst="irregularSeal2">
            <a:avLst/>
          </a:prstGeom>
          <a:solidFill>
            <a:srgbClr val="cc99ff">
              <a:alpha val="84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21">
            <a:hlinkClick r:id="rId3" action="ppaction://hlinksldjump"/>
          </p:cNvPr>
          <p:cNvSpPr/>
          <p:nvPr/>
        </p:nvSpPr>
        <p:spPr>
          <a:xfrm>
            <a:off x="7488360" y="5373720"/>
            <a:ext cx="1655640" cy="148428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00"/>
                            </p:stCondLst>
                            <p:childTnLst>
                              <p:par>
                                <p:cTn id="1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9"/>
          <p:cNvSpPr/>
          <p:nvPr/>
        </p:nvSpPr>
        <p:spPr>
          <a:xfrm>
            <a:off x="4284720" y="1197000"/>
            <a:ext cx="2303280" cy="141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900000" y="148428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826920" y="2565360"/>
            <a:ext cx="295128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Физические лица (отдельные граждане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: подоходный налог, налог на имущ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5219640" y="2492280"/>
            <a:ext cx="2879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Юридические лица (фирмы, организации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: налог на прибыл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3" descr="COINS"/>
          <p:cNvPicPr/>
          <p:nvPr/>
        </p:nvPicPr>
        <p:blipFill>
          <a:blip r:embed="rId1"/>
          <a:stretch/>
        </p:blipFill>
        <p:spPr>
          <a:xfrm>
            <a:off x="3780000" y="4797360"/>
            <a:ext cx="233028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Line 15"/>
          <p:cNvSpPr/>
          <p:nvPr/>
        </p:nvSpPr>
        <p:spPr>
          <a:xfrm flipH="1">
            <a:off x="2195280" y="1197000"/>
            <a:ext cx="208908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68360" y="404640"/>
            <a:ext cx="4176720" cy="792360"/>
          </a:xfrm>
          <a:prstGeom prst="rect">
            <a:avLst/>
          </a:prstGeom>
          <a:solidFill>
            <a:srgbClr val="0101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о субъекта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7">
            <a:hlinkClick r:id="rId2" action="ppaction://hlinksldjump"/>
          </p:cNvPr>
          <p:cNvSpPr/>
          <p:nvPr/>
        </p:nvSpPr>
        <p:spPr>
          <a:xfrm>
            <a:off x="0" y="5589720"/>
            <a:ext cx="1873080" cy="1268280"/>
          </a:xfrm>
          <a:prstGeom prst="irregularSeal1">
            <a:avLst/>
          </a:prstGeom>
          <a:solidFill>
            <a:srgbClr val="cc99ff">
              <a:alpha val="48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8">
            <a:hlinkClick r:id="rId3" action="ppaction://hlinksldjump"/>
          </p:cNvPr>
          <p:cNvSpPr/>
          <p:nvPr/>
        </p:nvSpPr>
        <p:spPr>
          <a:xfrm>
            <a:off x="7093080" y="5373720"/>
            <a:ext cx="2050920" cy="1484280"/>
          </a:xfrm>
          <a:prstGeom prst="irregularSeal2">
            <a:avLst/>
          </a:prstGeom>
          <a:solidFill>
            <a:srgbClr val="cc99ff">
              <a:alpha val="59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5"/>
          <p:cNvSpPr/>
          <p:nvPr/>
        </p:nvSpPr>
        <p:spPr>
          <a:xfrm>
            <a:off x="4427640" y="1052640"/>
            <a:ext cx="215640" cy="1584360"/>
          </a:xfrm>
          <a:prstGeom prst="downArrow">
            <a:avLst>
              <a:gd name="adj1" fmla="val 50000"/>
              <a:gd name="adj2" fmla="val 183681"/>
            </a:avLst>
          </a:prstGeom>
          <a:solidFill>
            <a:srgbClr val="33cc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908000" y="1413000"/>
            <a:ext cx="5256360" cy="0"/>
          </a:xfrm>
          <a:prstGeom prst="line">
            <a:avLst/>
          </a:prstGeom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1835280" y="1413000"/>
            <a:ext cx="144360" cy="1224000"/>
          </a:xfrm>
          <a:prstGeom prst="downArrow">
            <a:avLst>
              <a:gd name="adj1" fmla="val 50000"/>
              <a:gd name="adj2" fmla="val 2119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7093080" y="1413000"/>
            <a:ext cx="144360" cy="1224000"/>
          </a:xfrm>
          <a:prstGeom prst="downArrow">
            <a:avLst>
              <a:gd name="adj1" fmla="val 50000"/>
              <a:gd name="adj2" fmla="val 2119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95280" y="2565360"/>
            <a:ext cx="30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огрессивн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это налог, ставка котор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озрастает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по мере роста налогооблагаемой б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348000" y="2565360"/>
            <a:ext cx="287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опорциональный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налог, ставка  котор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изменяетс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по мере роста налогооблагаемой б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6227640" y="2565360"/>
            <a:ext cx="25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грессивн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это налог, ставка котор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нижаетс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по мере роста налогооблагаемой б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547640" y="333360"/>
            <a:ext cx="6120000" cy="7192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 характеру налоговых став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16">
            <a:hlinkClick r:id="rId1" action="ppaction://hlinksldjump"/>
          </p:cNvPr>
          <p:cNvSpPr/>
          <p:nvPr/>
        </p:nvSpPr>
        <p:spPr>
          <a:xfrm>
            <a:off x="0" y="5516640"/>
            <a:ext cx="2124000" cy="134136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7">
            <a:hlinkClick r:id="rId2" action="ppaction://hlinksldjump"/>
          </p:cNvPr>
          <p:cNvSpPr/>
          <p:nvPr/>
        </p:nvSpPr>
        <p:spPr>
          <a:xfrm>
            <a:off x="6732720" y="5589720"/>
            <a:ext cx="2303280" cy="1268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5640" y="1484280"/>
            <a:ext cx="727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еобщность. Охват налогами всех экономических субъе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внонапряженность. Одинаковые для всех требования к величине налог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абильность. Неизменность налоговых ставок и видов налогов во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язательность. Неизбежность выплаты нало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циальная справедлив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128000" cy="9846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инципы налогообло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5">
            <a:hlinkClick r:id="rId1" action="ppaction://hlinksldjump"/>
          </p:cNvPr>
          <p:cNvSpPr/>
          <p:nvPr/>
        </p:nvSpPr>
        <p:spPr>
          <a:xfrm>
            <a:off x="0" y="5589720"/>
            <a:ext cx="2195640" cy="1268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6">
            <a:hlinkClick r:id="rId2" action="ppaction://hlinksldjump"/>
          </p:cNvPr>
          <p:cNvSpPr/>
          <p:nvPr/>
        </p:nvSpPr>
        <p:spPr>
          <a:xfrm>
            <a:off x="6877080" y="5516640"/>
            <a:ext cx="2232000" cy="119844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5256360" cy="11509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ривая Лаффе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Group 46"/>
          <p:cNvGrpSpPr/>
          <p:nvPr/>
        </p:nvGrpSpPr>
        <p:grpSpPr>
          <a:xfrm>
            <a:off x="971640" y="1989000"/>
            <a:ext cx="6840000" cy="3816000"/>
            <a:chOff x="971640" y="1989000"/>
            <a:chExt cx="6840000" cy="3816000"/>
          </a:xfrm>
        </p:grpSpPr>
        <p:sp>
          <p:nvSpPr>
            <p:cNvPr id="141" name="Text Box 47"/>
            <p:cNvSpPr/>
            <p:nvPr/>
          </p:nvSpPr>
          <p:spPr>
            <a:xfrm>
              <a:off x="1683720" y="2505240"/>
              <a:ext cx="6188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Text Box 48"/>
            <p:cNvSpPr/>
            <p:nvPr/>
          </p:nvSpPr>
          <p:spPr>
            <a:xfrm>
              <a:off x="4879800" y="5194080"/>
              <a:ext cx="781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1752120" y="5041440"/>
              <a:ext cx="586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Group 50"/>
            <p:cNvGrpSpPr/>
            <p:nvPr/>
          </p:nvGrpSpPr>
          <p:grpSpPr>
            <a:xfrm>
              <a:off x="2144160" y="2293200"/>
              <a:ext cx="4300560" cy="2901600"/>
              <a:chOff x="2144160" y="2293200"/>
              <a:chExt cx="4300560" cy="2901600"/>
            </a:xfrm>
          </p:grpSpPr>
          <p:sp>
            <p:nvSpPr>
              <p:cNvPr id="145" name="Line 51"/>
              <p:cNvSpPr/>
              <p:nvPr/>
            </p:nvSpPr>
            <p:spPr>
              <a:xfrm>
                <a:off x="2144160" y="5194800"/>
                <a:ext cx="430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144160" y="2293200"/>
                <a:ext cx="0" cy="29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53"/>
              <p:cNvSpPr/>
              <p:nvPr/>
            </p:nvSpPr>
            <p:spPr>
              <a:xfrm>
                <a:off x="2144160" y="2624040"/>
                <a:ext cx="3127680" cy="257040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54"/>
            <p:cNvSpPr/>
            <p:nvPr/>
          </p:nvSpPr>
          <p:spPr>
            <a:xfrm>
              <a:off x="971640" y="1989000"/>
              <a:ext cx="97524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алоговые поступления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55"/>
            <p:cNvSpPr/>
            <p:nvPr/>
          </p:nvSpPr>
          <p:spPr>
            <a:xfrm>
              <a:off x="5857200" y="5347440"/>
              <a:ext cx="1954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Ставка налога, %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 flipH="1">
              <a:off x="3602520" y="2698560"/>
              <a:ext cx="19440" cy="2495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57"/>
            <p:cNvSpPr/>
            <p:nvPr/>
          </p:nvSpPr>
          <p:spPr>
            <a:xfrm>
              <a:off x="3045600" y="5260320"/>
              <a:ext cx="12376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8"/>
            <p:cNvSpPr/>
            <p:nvPr/>
          </p:nvSpPr>
          <p:spPr>
            <a:xfrm flipH="1">
              <a:off x="2117160" y="2650320"/>
              <a:ext cx="14853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AutoShape 60">
            <a:hlinkClick r:id="rId1" action="ppaction://hlinksldjump"/>
          </p:cNvPr>
          <p:cNvSpPr/>
          <p:nvPr/>
        </p:nvSpPr>
        <p:spPr>
          <a:xfrm>
            <a:off x="0" y="5589720"/>
            <a:ext cx="2124000" cy="126828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61">
            <a:hlinkClick r:id="rId2" action="ppaction://hlinksldjump"/>
          </p:cNvPr>
          <p:cNvSpPr/>
          <p:nvPr/>
        </p:nvSpPr>
        <p:spPr>
          <a:xfrm>
            <a:off x="6804000" y="5589720"/>
            <a:ext cx="2305080" cy="1125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7:55:40Z</dcterms:created>
  <dc:creator>user10</dc:creator>
  <dc:description/>
  <dc:language>en-US</dc:language>
  <cp:lastModifiedBy>qwert</cp:lastModifiedBy>
  <dcterms:modified xsi:type="dcterms:W3CDTF">2015-10-04T07:04:37Z</dcterms:modified>
  <cp:revision>30</cp:revision>
  <dc:subject/>
  <dc:title>Слайд 1</dc:title>
</cp:coreProperties>
</file>