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2AD-86CA-43B8-91AE-ABB420C1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1F4-1ABC-4F56-8693-8F45C87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CE5-2A31-490A-83ED-6611FDBB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298-BE0A-4F0B-A555-BC69E235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A884-36AE-4235-9E8E-ADDABA50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DA5B-4D28-484C-B2E2-9A5D2AE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6D1-AED7-41BC-BDC9-AF9EC58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3BBE-8A9D-435A-B93F-7C8DB95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FFA1-84CC-486F-8992-EA3E3A0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83A-D4DA-4973-829B-BAD93F69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258-7340-49B4-BF40-C141947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667-DE85-4CAB-9509-2F45CEE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D029-F584-4938-B3BE-EA1262E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A579-8025-4478-9A7F-F6F2980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7E03-EC90-4F50-A4BC-B46FD56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BCBA-1761-451C-93A8-0C687A20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8CE8-44CF-404A-B90B-3367586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CBF-60E3-4F9B-A8BD-582BA77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A7-9F68-4A1B-B247-6CADB1F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15E-CAD3-4A97-A507-0F394DC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F58-90B8-49EE-A03E-056FE555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F36-74EE-4084-A1F2-AE06209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3E2-31C0-4F6F-A88B-5224DC4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5AC-4BE9-4985-AA36-87AC9BA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324-469F-492A-A79D-57059B0908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6425-2002-4345-A220-BDCEA044E6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020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учитываемое на балансе в качестве объектов основных средств, не зависимо от того находятся эти объекты на территории Российской Федерации или за ее предел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российских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числе имущество, переданное во временное владение, в пользование, распоряжение, доверительное управление, внесенное в совместную деятельность или полученное по концессионному соглашению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осуществляющих деятельность в ФР через постоянные представитель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имое и недвижимое имущество, относящееся к объектам осно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о,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иностранных организаций, не имеющих постоянного представительства в Росси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движимое имущество, принадлежащее на праве собственности, находящееся на территории РФ или полученное по полученное по концессионному соглашен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объектами налогооблож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ельные учас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ые объекты природополь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ами самостоя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осуществляющих деятельность на территории РФ – среднегодовая стоимость иму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ганизаций не осуществляющих деятельность на территории РФ – инвентаризационная стоим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реднегодовая стоимость имуществ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логооблагаемая ба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таточная стоимость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количество месяцев в отчетн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аметрический индек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124000" y="1773360"/>
                <a:ext cx="482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логовая база определяется от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подлежащего налогообложению по местонахождению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 каждого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каждого объекта недвижимого имущества, находящегося вне местонахождения организации или обособленного подразделения, имеющего отдельный балан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ношении имущества, облагаемого по разным налоговым ставк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 – календар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(может не устанавливаться в соответствии с Законом субъек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й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го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ять месяце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5 процента - в отношении объектов жилищного фонда и инженерной инфраструктуры жилищно-коммунального комплекса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0,1 процента - в отношении объектов социально-культурной сферы, используемых для нужд культуры и искусства, образования, физической культуры и спорта, здравоохранения и социального обеспечения, содержание которых финансируется за счет средств бюджетов субъектов РФ или местных бюдж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2 процента – для друг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гиональные налог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мущество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 на игорный бизн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й н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объектов транспортной инфра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меньшить базу по налогу на сумму законченных капитальных вложений в строительство, реконструкцию или модернизацию отдельных объ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 учреждения уголовно-исполнительной систе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е общественные организации инвалидов, если среди их членов инвалиды и их законные представители составляют не менее 8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принадлежащие общероссийским общественным организациям инвалидов, если среднесписочная численность инвалидов составляет не менее 50%, а их доля в фонде оплаты труда - не менее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уплаты налога освобождают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основным видом деятельности которых является производство фармацевтической продукции, занимающиеся производством ветеринарных иммунобиологических пре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знаваемые управляющими компаниями или получившие статус участников проекта в соответствии с Федеральным законом «Об инновационном центре «Сколко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ы, признаваемые памятниками истории и культуры федерального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дерные установки, используемые для научных целей, пункты хранения ядерных материалов и радиоактивных веществ, а также хранилища радиоактивных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колы, суда с ядерными энергетическими установками и суда атомно-технологического 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нодорожные пути общего пользования, федеральные автомобильные дороги общего пользования, магистральные трубопроводы, линии энергопередачи, а также сооружения, являющие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ьготы на виды имуще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мические объ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специализированных протезно-ортопедических предприя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коллегий адвокатов, адвокатских бюро и юридических консульт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 государственных научных цен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ущество, учитываемого на балансе организации резидентов особой экономической зоны, расположенного на территории данной особой экономической зоны, в течение пяти лет с момента постановки на учет указанного имущ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а, зарегистрированных в Российском международном реестре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аются от уплаты налога в Приморском кра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йские рыбохозяйственные организации в отношении промыслового фл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- в отношении автомобильных дорог и дорожно-мостовых сооружений общего пользования, а также сооружений, являющихся неотъемлемой технологической частью указанных объе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ьскохозяйственные организ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ищные кооперативы, жилищно-строительные кооперативы, товарищества собственников жилья, объединения товариществ собственников жилья, действующие в соответствии с жилищным законодательством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 - в отношении имущества, полученного в виде безвозмездной помощи (содейств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объектов налогообложения в пределах субъекта Российской Федерации по местонахождению организации, отделения организации с балансом, а также по местонахождению объекта недвижимого имущества, собственником которого является организация, находящегося вне местонахождения организации или её отделения с балан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статочной стоимости имущества, признаваемого объектом налогообложения, по правилам бухгалтерского учета в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ханизм расчета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ение налоговой базы: расчет среднегодовой стоимости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т авансовых платежей по налогу по окончании отчетных периодов и расчет налога по итогам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нение порядка уплаты суммы налога в бюджет по месту нахождения организации, обособленного подразделения с балансом или объекта недвижимого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муществ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(средняя стоимость иму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19280" y="1773360"/>
                <a:ext cx="468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 по итогам налогового период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умма авансового платеж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059280" y="1628640"/>
                <a:ext cx="35287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И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авансовых платежей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м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авгу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ноя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 позднее 15 апреля года, следующего за истекшим налоговым пери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Ф от 20.02.2008 N 27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б утверждении форм налоговой декларации и налогового расчета по авансовому платежу по налогу на имущество организаций и порядков их заполнени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асчеты по авансовым платежа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календарных дней с даты окончания отчетн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30 марта года, следующего за истекш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 на игорный бизнес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9 НК РФ «Налог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а Приморского края от 06.11.2003 N 75-КЗ «О налоге на игорный бизне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яющие предпринимательскую деятельность в сфере игорного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ст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ой автом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тотализа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сса букмекерской конт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гистрация объекта в налоговом орган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чем за два дня до даты его установ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 - заявление налогоплательщ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дается свидетельство о регистрации объекта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 глава НК РФ «Налог на имущество организац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онального закона о налог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алогооблагаем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объектов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771640" y="1773360"/>
                <a:ext cx="38880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о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лендарный месяц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логовая ставк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73360"/>
          <a:ext cx="8229600" cy="4319640"/>
        </p:xfrm>
        <a:graphic>
          <a:graphicData uri="http://schemas.openxmlformats.org/drawingml/2006/table">
            <a:tbl>
              <a:tblPr/>
              <a:tblGrid>
                <a:gridCol w="3322800"/>
                <a:gridCol w="2376360"/>
                <a:gridCol w="2530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ъект налогообло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риморском кра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комендовано НК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ст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ин игровой авт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0-7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а к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00-12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ИБ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налога на игорный бизнес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налогу на имущ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84360" y="1989000"/>
                <a:ext cx="648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И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ключение объекта в налоговую баз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до 15 числа, выбыл после 15 числа  –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упил после 15 числа, выбыл до 15 числа  – не включ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роки уплаты налог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месту регистрации в налоговом органе объектов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логовый орган по месту регистрации объектов налогообло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и, отнесенные к категории крупнейших - в налоговый орган по месту учета в качестве крупнейших налогоплательщ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зднее 20-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анспортный налог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а 28 «Транспортный налог»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Приморского края № 24-КЗ от 28 ноября 2002 г. «О транспортном налог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на которых в соответствии с законодательством Российской Федерации зарегистрированы транспортные средства, признаваемые объектом налогообло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конодательные органы субъектов РФ вправ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ставку налога (не более 2,2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ифференцированные ставки в зависимости от категории налогоплательщиков, по видам иму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ть сроки уплаты нал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устанавливать отчетные период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ть дополнительные льготы по нало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налогоплательщик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организаторами XXII Олимпийских зимних игр и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являющиеся маркетинговыми партнерами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моб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олл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б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самоходные машины и механизмы на пневматическом и гусеничном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тол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л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ъект налогооблож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х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усные 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ег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с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торные ло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дроци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е (буксируемые су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водные и воздушные транспорт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ельные и моторные лодки с двигателем мощностью не свыше 5 лошадиных с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и легковые, специально оборудованные для использования инвалидами, а также автомобили легковые с мощностью двигателя до 100 лошадиных сил (до 73,55 кВт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словые морские и речные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ссажирские и грузовые морские, речные и воздушные суда, находящиеся в собственности организаций и индивидуальных предпринимателей, основныи видом деятельности которых является осуществление пассажирских и грузовых перевоз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ые машины для перевозки птицы, машины для перевозки и внесения минеральных удобрений, ветеринарной помощи, технического обслуживания, зарегистрированные на сельскохозяйственных товаропроизводителей и используемые при сельскохозяйственных работах для производства сельскохозяйствен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ые средства, принадлежащие на праве оперативного управления федеральным органам исполнительной власти, где законодательно предусмотрена военная и (или) приравненная к ней служ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являются объектом налогооб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ые средства, находящиеся в розыске, при условии подтверждения факта их угона (кражи) документом, выдаваемым уполномоченным орга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 санитарной авиации и медицинской служ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 зарегистрированные в Российском международном реестре 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транспортных средств, имеющих двигат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ость двигателя транспортного средства в лошадиных сил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здушных транспортных средств, для которых определяется тяга реактивного двиг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спортная статическая тяга реактивного двигателя воздушного транспортного средства на взлетном режиме в земных условиях в килограммах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водных несамоходных (буксируемых)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овая вместимость в регистровых тон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б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тношении других водных и воздушных транспортных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ица транспортного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лог на имущество организаци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налог введ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ом Приморского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28.11.2003 N 82-К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 налоге на имущество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пери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четный период только для юридических л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кварт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I кварта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ублях с каждой лошадиной с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 легков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втомобилей груз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бус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отоциклов и моторолл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х самоходных транспортных средств, машин и  механизмов на пневматическом и гусеничном х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егоходов, мотоса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еров, моторных лодок и других водных транспортных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хт и других парусно-моторных су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оцик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олетов, вертолетов и иных воздушных судов, имеющих двигател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й с каждой регистровой тонны валовой вместим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амоходных (буксируемых) судов, для которых определяется валовая вместим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каждого килограмма силы тяги д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летов, имеющих реактивные двиг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рублях с единицы транспортного средства д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х водных и воздушных транспортных средств, не имеющих двига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быть увеличены (уменьшены) законами субъектов РФ не более чем в десять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пускается установление дифференцированных налоговых став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категориям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количества лет, прошедших с года выпуска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учетом экологического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морском крае дифференцированы в отношении автомобилей легковых, грузовых и автобу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3-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ше 3-х лет до 10 лет включит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ыше 10-ти л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легковым автомобилям с мощностью двигателя до 100 л.с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 РФ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,5 руб. на л.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морье применяются следующие став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до 3-х ле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х до 10-ти л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озрасте свыше 10-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руб. на л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участников Великой Отечественной войны, инвалидов I и II группы в отношении одного легкового автомобиля мощностью не свыше 150 лошадиных сил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Героев Советского Союза, Героев Социалистического Труда, Героев Российской Федерации, граждан, награжденных орденом Славы трех степеней,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категории граждан, подвергшихся воздействию радиации вследствие Чернобыльской катастрофы в отношении одного автотранспортного средства или одного мотоцикла (мотороллер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ые льг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сельскохозяйственных товаропроизводителей в отношении грузовых автомоб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мых при сельскохозяйственных работах для производства сельскохозяйственной продукции и перевозки сельскохозяйственных груз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й вес доходов которых от реализации сельскохозяйственной продукции в общей сумме их доходов в текущем налоговом периоде составляет 70 и более процен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 исчисляют сумму транспортного налога (авансовых платежей) самостоя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органы исчисляют сумму налога, подлежащую уплате физическими лицами на основании сведений, которые представляются органами, осуществляющими государственную регистрацию транспортных сред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плательщик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оссии через постоянные предст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не имеющие постоянного представительства в Росс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рядок исчисления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транспортного за налогов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по транспортному налог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2700360" y="1700280"/>
                <a:ext cx="4608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р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умма налога, подлежащая уплате в бюджет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тогам налогового периода, определяется как разница между суммой налога, исчисленной по приведенной формуле и суммами авансовых платежей по налогу, исчисленных в течение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умма авансового платеж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Н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умма авансового платежа по транспортному налогу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облагаемая база за 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3348000" y="1700280"/>
                <a:ext cx="3024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ТрН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эффициент для расчета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эффициент для расчета налога (авансовых платеж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число полных месяцев, в течение которых данное транспортное средство было зарегистрировано на организ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исло календарных месяцев в налоговом (отчетном)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916360" y="2060640"/>
                <a:ext cx="3024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личество месяцев эксплуат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яц регистрации транспортного средства, месяц снятия транспортного средства с регистрации принимается за полный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лучае регистрации и снятия с регистрации транспортного средства в течение одного календарного месяца указанный месяц принимается как один пол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плата транспортного на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нсовые платежи - не позднее последнего числа месяца, следующего за истекшим отчетн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лата налога по окончании налогового периода -  не позднее 1 марта следующего г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межуточная отчетность по транспортному налог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23.03.2006 N 48 «Об утверждении формы налогового расчета по авансовым платежам по транспортному налогу и Рекомендаций по ее заполнению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отчетн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логовая деклар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ена Приказом Минфина России от 13.04.2006 N 65н «Об утверждении формы налоговой декларации по транспортному налогу и Порядка ее заполн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1 феврал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плата налога физическими лиц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ое уведомление о подлежащей уплате сумме транспортного налога вручается физическим лицам не позднее 3 окт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уплачивают транспортный налог не позднее 3 ноября год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вобождены от уплаты нало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диного сельскохозяйствен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упрощенную систему налогооб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ельщики ЕНВ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применяющие систему налогообложения при выполнении соглашений о разделе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признаются плательщиками налог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2014 года в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I Паралимпийских зимних игр 2014 года в городе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0:53:08Z</dcterms:created>
  <dc:creator>Administrator</dc:creator>
  <dc:description/>
  <dc:language>en-US</dc:language>
  <cp:lastModifiedBy>qwert</cp:lastModifiedBy>
  <dcterms:modified xsi:type="dcterms:W3CDTF">2015-09-11T10:57:42Z</dcterms:modified>
  <cp:revision>31</cp:revision>
  <dc:subject/>
  <dc:title>Региональные налоги</dc:title>
</cp:coreProperties>
</file>