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2F3-B6A0-4289-B4AD-96D056BC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578-BE86-4934-BA3B-94C98E4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AD9-17EB-4C92-A2B3-03044A44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267-28BA-425E-B020-4B1318FA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623B-FB94-4BF6-B0FD-CF16D1FC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616A-B7C5-41EC-A76E-538EB47B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639A-5E77-46CD-8BAA-6D6BB002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FEBD-760A-482C-8AD2-FF87FBD6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9EF1-74FA-4DFA-B7B7-1D858AD5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9E56-D284-4EEC-ADC6-8EFE50F2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7261-5893-46D9-B19D-335EAD0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F76-F0D8-40B6-917B-11627F10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6F44-0D6C-4668-8B44-48280FA1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51AA-BA6B-4458-B3E3-61C64EFF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F878-2F19-493B-A346-C33594EF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6578-6BBF-4CEE-AF86-C6DB499B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ADB8-A41D-4A0C-9DA7-CECCCD57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443-7F9C-416F-AA09-2B990F3F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A02-2CCF-4BD4-B3F5-E7922C4C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F8D-DC80-4898-AC9F-0528272D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A19-A2E1-4356-8988-0745D241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13F-E061-4C56-9482-D64BC4A9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304-8B23-48A2-8465-943C8460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2BF-BF0F-40BC-A28A-237A18C9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BD66-9A29-4080-89DB-3C0E72B17A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748D-5699-4AAB-8981-E578DE8D47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020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учитываемое на балансе в качестве объектов основных средств, не зависимо от того находятся эти объекты на территории Российской Федерации или за ее предел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м числе имущество, переданное во временное владение, в пользование, распоряжение, доверительное управление, внесенное в совместную деятельность или полученное по концессионному соглашению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осуществляющих деятельность в ФР через постоянные представительст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относящееся к объектам осно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о,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не имеющих постоянного представительства в Росси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движимое имущество, принадлежащее на праве собственности, находящееся на территории РФ или полученное по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объектами налогообложени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ельные учас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ые объекты природополь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налогоплательщиками самостоя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осуществляющих деятельность на территории РФ – среднегодовая стоимость иму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не осуществляющих деятельность на территории РФ – инвентаризационная стоим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реднегодовая стоимость имуществ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логооблагаемая б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таточная стоимость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оличество месяцев в отчетном пери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аметрический инде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124000" y="1773360"/>
                <a:ext cx="482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логовая база определяется отдельн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подлежащего налогообложению по местонахождению орган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каждого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каждого объекта недвижимого имущества, находящегося вне местонахождения организации или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, облагаемого по разным налоговым ставк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 – календарный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(может не устанавливаться в соответствии с Законом субъек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й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го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вять месяце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5 процента - в отношении объектов жилищного фонда и инженерной инфраструктуры жилищно-коммунального комплекса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1 процента - в отношении объектов социально-культурной сферы, используемых для нужд культуры и искусства, образования, физической культуры и спорта, здравоохранения и социального обеспечения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2 процента – для другого иму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мущество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горный бизн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й н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объектов транспортной инфраструкту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 уменьшить базу по налогу на сумму законченных капитальных вложений в строительство, реконструкцию или модернизацию отдельных объе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 учреждения уголовно-исполнительной систем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лигиозны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оссийские общественные организации инвалидов, если среди их членов инвалиды и их законные представители составляют не менее 8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, принадлежащие общероссийским общественным организациям инвалидов, если среднесписочная численность инвалидов составляет не менее 50%, а их доля в фонде оплаты труда - не менее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основным видом деятельности которых является производство фармацевтической продукции, занимающиеся производством ветеринарных иммунобиологических препар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знаваемые управляющими компаниями или получившие статус участников проекта в соответствии с Федеральным законом «Об инновационном центре «Сколко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ы, признаваемые памятниками истории и культуры федерального зна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дерные установки, используемые для научных целей, пункты хранения ядерных материалов и радиоактивных веществ, а также хранилища радиоактивных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околы, суда с ядерными энергетическими установками и суда атомно-технологического обслу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нодорожные пути общего пользования, федеральные автомобильные дороги общего пользования, магистральные трубопроводы, линии энергопередачи, а также сооружения, являющие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смические объе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специализированных протезно-ортопедических предприя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коллегий адвокатов, адвокатских бюро и юридических консульт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государственных научных цен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, учитываемого на балансе организации резидентов особой экономической зоны, расположенного на территории данной особой экономической зоны, в течение пяти лет с момента постановки на учет указанного иму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а, зарегистрированных в Российском международном реестре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аются от уплаты налога в Приморском кра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ие рыбохозяйственные организации в отношении промыслового фл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 - в отношении автомобильных дорог и дорожно-мостовых сооружений общего пользования, а также сооружений, являющих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ьскохозяйственные организ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ищные кооперативы, жилищно-строительные кооперативы, товарищества собственников жилья, объединения товариществ собственников жилья, действующие в соответствии с жилищным законодательством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организации - в отношении имущества, полученного в виде безвозмездной помощи (содейств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объектов налогообложения в пределах субъекта Российской Федерации по местонахождению организации, отделения организации с балансом, а также по местонахождению объекта недвижимого имущества, собственником которого является организация, находящегося вне местонахождения организации или её отделения с баланс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остаточной стоимости имущества, признаваемого объектом налогообложения, по правилам бухгалтерского учета в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исление налоговой базы: расчет среднегодовой стоимости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ет авансовых платежей по налогу по окончании отчетных периодов и расчет налога по итогам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ение порядка уплаты суммы налога в бюджет по месту нахождения организации, обособленного подразделения с балансом или объекта недвижимого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муществ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(средняя стоимость иму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19280" y="1773360"/>
                <a:ext cx="4681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 по итогам налогового период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сумма авансового платеж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3059280" y="1628640"/>
                <a:ext cx="35287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И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авансовых платежей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м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авгу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ноя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15 апреля года, следующего за истекшим налоговым перио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Ф от 20.02.2008 N 27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б утверждении форм налоговой декларации и налогового расчета по авансовому платежу по налогу на имущество организаций и порядков их заполнения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расчеты по авансовым платежа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календарных дней с даты окончания отчетн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декларации по итогам налогового пери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марта года, следующего за истекшим налоговым период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9 НК РФ «Налог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а Приморского края от 06.11.2003 N 75-КЗ «О налоге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яющие предпринимательскую деятельность в сфере игорного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ст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автом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тотализат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букмекерской конт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гистрация объекта в налоговом орган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чем за два дня до даты его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 - заявление налогоплательщ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дается свидетельство о регистрации объекта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 глава НК РФ «Налог на имущество организац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онального закона о налог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налогооблагаем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объектов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771640" y="1773360"/>
                <a:ext cx="388800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лендарный месяц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логовая ставк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773360"/>
          <a:ext cx="8229600" cy="4319640"/>
        </p:xfrm>
        <a:graphic>
          <a:graphicData uri="http://schemas.openxmlformats.org/drawingml/2006/table">
            <a:tbl>
              <a:tblPr/>
              <a:tblGrid>
                <a:gridCol w="3322800"/>
                <a:gridCol w="2376360"/>
                <a:gridCol w="2530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ъект налогооблож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Приморском кра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комендовано НК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ст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авт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0-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а ка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горный бизнес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684360" y="1989000"/>
                <a:ext cx="648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ключение объекта в налоговую баз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до 15 числа, выбыл после 15 числа  –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после 15 числа, выбыл до 15 числа  – не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роки уплаты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регистрации в налоговом органе объектов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логовый орган по месту регистрации объектов налогооб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и, отнесенные к категории крупнейших - в налоговый орган по месту учета в качестве крупнейших налогоплательщ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анспортный налог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8 «Транспортный налог»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 Приморского края № 24-КЗ от 28 ноября 2002 г. «О транспортном налог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на которых в соответствии с законодательством Российской Федерации зарегистрированы транспортные средства, признаваемые объектом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конодательные органы субъектов РФ вправ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ставку налога (не более 2,2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ифференцированные ставки в зависимости от категории налогоплательщиков, по видам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ть сроки уплаты нал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устанавливать отчетные период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ополнительные льгот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налогоплательщик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организаторами XXII Олимпийских зимних игр и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маркетинговыми партнерами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моби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олл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б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самоходные машины и механизмы на пневматическом и гусеничном х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т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л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х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усные 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ег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с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ные ло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др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е (буксируемые су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водные и воздушные транспортные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ельные и моторные лодки с двигателем мощностью не свыше 5 лошадиных с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и легковые, специально оборудованные для использования инвалидами, а также автомобили легковые с мощностью двигателя до 100 лошадиных сил (до 73,55 кВт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мысловые морские и речные с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ссажирские и грузовые морские, речные и воздушные суда, находящиеся в собственности организаций и индивидуальных предпринимателей, основныи видом деятельности которых является осуществление пассажирских и грузовых перевоз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ьные машины для перевозки птицы, машины для перевозки и внесения минеральных удобрений, ветеринарной помощи, технического обслуживания, зарегистрированные на сельскохозяйственных товаропроизводителей и используемые при сельскохозяйственных работах для производства сельскохозяйственн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ые средства, принадлежащие на праве оперативного управления федеральным органам исполнительной власти, где законодательно предусмотрена военная и (или) приравненная к ней служ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е средства, находящиеся в розыске, при условии подтверждения факта их угона (кражи) документом, выдаваемым уполномоченным орга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леты и вертолеты санитарной авиации и медицинской служ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а, зарегистрированные в Российском международном реестре су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транспортных средств, имеющих двига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щность двигателя транспортного средства в лошадиных сил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здушных транспортных средств, для которых определяется тяга реактивного двига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спортная статическая тяга реактивного двигателя воздушного транспортного средства на взлетном режиме в земных условиях в килограммах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дных несамоходных (буксируемых)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овая вместимость в регистровых тон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других водных и воздушных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ица транспортного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налог введ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ом Приморского к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28.11.2003 N 82-К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 налоге на имущество организаци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дарный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только для юридических л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I кварта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ублях с каждой лошадиной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ей легков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автомобилей груз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бус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отоциклов и моторолл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х самоходных транспортных средств, машин и  механизмов на пневматическом и гусеничном х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егоходов, мотоса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ров, моторных лодок и других водных транспортных сред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хт и других парусно-моторных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оцик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летов, вертолетов и иных воздушных судов, имеющих двигатели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й с каждой регистровой тонны валовой вместим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х (буксируемых) судов, для которых определяется валовая вместим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го килограмма силы тяги д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молетов, имеющих реактивные двигат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единицы транспортного средства дл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х водных и воздушных транспортных средств, не имеющих двига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т быть увеличены (уменьшены) законами субъектов РФ не более чем в десять 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пускается установление дифференцированных налоговых став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категориям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количества лет, прошедших с года выпуска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экологического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дифференцированы в отношении автомобилей легковых, грузовых и автобу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3-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ше 3-х лет до 10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ыше 10-ти л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легковым автомобилям с мощностью двигателя до 100 л.с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К РФ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5 руб. на л.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морье применяются следующие став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до 3-х ле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-х до 10-ти л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10-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участников Великой Отечественной войны, инвалидов I и II группы в отношении одного легкового автомобиля мощностью не свыше 150 лошадиных сил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Героев Советского Союза, Героев Социалистического Труда, Героев Российской Федерации, граждан, награжденных орденом Славы трех степеней,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категории граждан, подвергшихся воздействию радиации вследствие Чернобыльской катастрофы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сельскохозяйственных товаропроизводителей в отношении грузовых автомоби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мых при сельскохозяйственных работах для производства сельскохозяйственной продукции и перевозки сельскохозяйственных груз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ый вес доходов которых от реализации сельскохозяйственной продукции в общей сумме их доходов в текущем налоговом периоде составляет 70 и более процен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счисляют сумму транспортного налога (авансовых платежей) самостоя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органы исчисляют сумму налога, подлежащую уплате физическими лицами на основании сведений, которые представляются органами, осуществляющими государственную регистрацию транспортных сред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и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осуществляющие деятельность в России через постоянные представи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не имеющие постоянного представительства в Росс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транспортног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транспортному налог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2700360" y="1700280"/>
                <a:ext cx="4608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р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, подлежащая уплате в бюджет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итогам налогового периода, 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авансового платежа по транспортному налогу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3348000" y="1700280"/>
                <a:ext cx="3024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ТрН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эффициент для расчета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эффициент для расчета налога (авансовых платеж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ф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число полных месяцев, в течение которых данное транспортное средство было зарегистрировано на организ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число календарных месяцев в налоговом (отчетном)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916360" y="2060640"/>
                <a:ext cx="3024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личество месяцев эксплуат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яц регистрации транспортного средства, месяц снятия транспортного средства с регистрации принимается за полный 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лучае регистрации и снятия с регистрации транспортного средства в течение одного календарного месяца указанный месяц принимается как один полный меся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транспортного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ансовые платежи - не позднее последнего числа месяца, следующего за истекшим отчетн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лата налога по окончании налогового периода -  не позднее 1 марта следующего г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межуточная отчетность по транспортному налог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23.03.2006 N 48 «Об утверждении формы налогового расчета по авансовым платежам по транспортному налогу и Рекомендаций по ее заполнению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последнего числа месяца, следующего за истекшим отчетн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13.04.2006 N 65н «Об утверждении формы налоговой декларации по транспортному налогу и Порядка ее заполн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1 феврал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плата налога физическими лиц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ое уведомление о подлежащей уплате сумме транспортного налога вручается физическим лицам не позднее 3 окт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ие лица, уплачивают транспортный налог не позднее 3 но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ены от уплаты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диного сельскохозяйственного н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упрощенную систему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НВ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систему налогообложения при выполнении соглашений о разделе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плательщиками налог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XII Олимпийских зимних игр 2014 года в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кетинговые партнеры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0:53:08Z</dcterms:created>
  <dc:creator>Administrator</dc:creator>
  <dc:description/>
  <dc:language>en-US</dc:language>
  <cp:lastModifiedBy>qwert</cp:lastModifiedBy>
  <dcterms:modified xsi:type="dcterms:W3CDTF">2015-09-11T10:57:42Z</dcterms:modified>
  <cp:revision>31</cp:revision>
  <dc:subject/>
  <dc:title>Региональные налоги</dc:title>
</cp:coreProperties>
</file>