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3BD8-45E5-4BFF-BBFC-91BD88978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2E9D-8B89-4540-AC79-BEC268B52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9055-C301-4DCF-8ACF-6A7CF8592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052A-2C78-461E-A63C-58FD83769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D9516-C176-4807-B468-733CA7FCD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7C83F-8D94-4E82-8272-C6A951F02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714AF-86FD-410A-AA50-1885D1458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377C7-E47C-4256-AA0B-7F7BDA3DE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A1662-C4A0-4222-8D2C-344D0EFC5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5CCB9-2BA6-429C-85AA-2AEC9447C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AD5C0-9BC7-4125-B6AB-AD78473D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8217-9695-4C9F-9F7B-084AE3836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BE47B-561E-4D18-8697-6183613B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F3659-4DE1-48A1-97B7-04C73C91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F1B3F-33F9-482A-AC13-E9029DE5C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E59A8-14BC-41A8-8BCF-C69CC0AE8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332FB-AC79-4E21-817F-B221A7594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8740-CA84-4388-9E25-19CF09448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4F58-B232-464B-B6C6-17A84E367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80C4-69E1-47F8-95FC-C5C6E0E97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68BA-4128-48ED-86C7-5B1174177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036F-16EE-466F-90AE-9E2D0013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048D-76B7-4424-A6D4-DEF0EBE7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6204-D788-423C-B2F6-87AB53BC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96767-B4BF-4BCF-96BD-F8B560ECA42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FE720-D2C5-4DE8-832C-C7FB52BE294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Региональные налоги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500200" y="4429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Объект налогообложе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для российских организац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вижимое и недвижимое имущество, учитываемое на балансе в качестве объектов основных средств, не зависимо от того находятся эти объекты на территории Российской Федерации или за ее пределам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Объект налогообложе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для российских организац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том числе имущество, переданное во временное владение, в пользование, распоряжение, доверительное управление, внесенное в совместную деятельность или полученное по концессионному соглашению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Объект налогообложе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для иностранных организаций, осуществляющих деятельность в ФР через постоянные представительств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вижимое и недвижимое имущество, относящееся к объектам основных средст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мущество, полученное по концессионному соглашению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Объект налогообложе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для иностранных организаций, не имеющих постоянного представительства в России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движимое имущество, принадлежащее на праве собственности, находящееся на территории РФ или полученное по полученное по концессионному соглашению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Не признаются объектами налогообложения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емельные участ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ые объекты природопользова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ая база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пределяется налогоплательщиками самостоятельн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ля организаций осуществляющих деятельность на территории РФ – среднегодовая стоимость имуще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ля организаций не осуществляющих деятельность на территории РФ – инвентаризационная стоимост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Среднегодовая стоимость имущества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Б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налогооблагаемая баз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ОС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остаточная стоимость основных средст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количество месяцев в отчетном период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араметрический индек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4"/>
              <p:cNvSpPr txBox="1"/>
              <p:nvPr/>
            </p:nvSpPr>
            <p:spPr>
              <a:xfrm>
                <a:off x="2124000" y="1773360"/>
                <a:ext cx="482436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НБ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ОС</m:t>
                            </m:r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Налоговая база определяется отдельно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964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отношении имущества подлежащего налогообложению по местонахождению организаци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отношении имущества каждого обособленного подразделения, имеющего отдельный балан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отношении каждого объекта недвижимого имущества, находящегося вне местонахождения организации или обособленного подразделения, имеющего отдельный балан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отношении имущества, облагаемого по разным налоговым ставка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ый период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оговый период – календарный го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четный период (может не устанавливаться в соответствии с Законом субъект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рвый кварта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лугод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вять месяцев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ые ставк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0,5 процента - в отношении объектов жилищного фонда и инженерной инфраструктуры жилищно-коммунального комплекса, содержание которых финансируется за счет средств бюджетов субъектов РФ или местных бюджет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0,1 процента - в отношении объектов социально-культурной сферы, используемых для нужд культуры и искусства, образования, физической культуры и спорта, здравоохранения и социального обеспечения, содержание которых финансируется за счет средств бюджетов субъектов РФ или местных бюджет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,2 процента – для другого имущест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Региональные налоги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ог на имущество организац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ог на игорный бизне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анспортный нало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ые льгот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Для объектов транспортной инфраструктур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аво уменьшить базу по налогу на сумму законченных капитальных вложений в строительство, реконструкцию или модернизацию отдельных объект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От уплаты налога освобождаютс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рганизации и учреждения уголовно-исполнительной системы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лигиозные организ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щероссийские общественные организации инвалидов, если среди их членов инвалиды и их законные представители составляют не менее 80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рганизации, принадлежащие общероссийским общественным организациям инвалидов, если среднесписочная численность инвалидов составляет не менее 50%, а их доля в фонде оплаты труда - не менее 25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От уплаты налога освобождают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ганизации, основным видом деятельности которых является производство фармацевтической продукции, занимающиеся производством ветеринарных иммунобиологических препарат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ганизации, признаваемые управляющими компаниями или получившие статус участников проекта в соответствии с Федеральным законом «Об инновационном центре «Сколково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Льготы на виды имуществ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ъекты, признаваемые памятниками истории и культуры федерального знач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дерные установки, используемые для научных целей, пункты хранения ядерных материалов и радиоактивных веществ, а также хранилища радиоактивных отход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едоколы, суда с ядерными энергетическими установками и суда атомно-технологического обслужив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елезнодорожные пути общего пользования, федеральные автомобильные дороги общего пользования, магистральные трубопроводы, линии энергопередачи, а также сооружения, являющиеся неотъемлемой технологической частью указанных объект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Льготы на виды имуществ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смические объек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мущество специализированных протезно-ортопедических предприят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мущество коллегий адвокатов, адвокатских бюро и юридических консультац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мущество государственных научных центр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мущество, учитываемого на балансе организации резидентов особой экономической зоны, расположенного на территории данной особой экономической зоны, в течение пяти лет с момента постановки на учет указанного имуществ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уда, зарегистрированных в Российском международном реестре суд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Освобождаются от уплаты налога в Приморском крае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ссийские рыбохозяйственные организации в отношении промыслового флот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рганизации - в отношении автомобильных дорог и дорожно-мостовых сооружений общего пользования, а также сооружений, являющихся неотъемлемой технологической частью указанных объект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ельскохозяйственные организаци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илищные кооперативы, жилищно-строительные кооперативы, товарищества собственников жилья, объединения товариществ собственников жилья, действующие в соответствии с жилищным законодательством Российской Федерац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коммерческие организации - в отношении имущества, полученного в виде безвозмездной помощи (содействия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Механизм расчета налога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деление объектов налогообложения в пределах субъекта Российской Федерации по местонахождению организации, отделения организации с балансом, а также по местонахождению объекта недвижимого имущества, собственником которого является организация, находящегося вне местонахождения организации или её отделения с балансом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ределение остаточной стоимости имущества, признаваемого объектом налогообложения, по правилам бухгалтерского учета в Российской Федерац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Механизм расчета налога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числение налоговой базы: расчет среднегодовой стоимости имуще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счет авансовых платежей по налогу по окончании отчетных периодов и расчет налога по итогам налогового перио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полнение порядка уплаты суммы налога в бюджет по месту нахождения организации, обособленного подразделения с балансом или объекта недвижимого имуще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орядок исчисления налога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И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сумма налога на имущество за налоговый пери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Б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- налогооблагаемая база (средняя стоимость имуществ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с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налоговая ставка по налогу на имущес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4"/>
              <p:cNvSpPr txBox="1"/>
              <p:nvPr/>
            </p:nvSpPr>
            <p:spPr>
              <a:xfrm>
                <a:off x="1619280" y="1773360"/>
                <a:ext cx="468144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НИ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НБ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нс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Сумма налога по итогам налогового периода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пределяется как разница между суммой налога, исчисленной по приведенной формуле и суммами авансовых платежей по налогу, исчисленных в течение налогового период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00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Налог на имущество организаций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умма авансового платежа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НИ</a:t>
            </a:r>
            <a:r>
              <a:rPr b="0" i="1" lang="ru-RU" sz="3200" spc="-1" strike="noStrike" baseline="-25000">
                <a:solidFill>
                  <a:srgbClr val="ffffff"/>
                </a:solidFill>
                <a:latin typeface="Tahoma"/>
              </a:rPr>
              <a:t>А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– сумма авансового платеж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НБ</a:t>
            </a:r>
            <a:r>
              <a:rPr b="0" i="1" lang="ru-RU" sz="3200" spc="-1" strike="noStrike" baseline="-25000">
                <a:solidFill>
                  <a:srgbClr val="ffffff"/>
                </a:solidFill>
                <a:latin typeface="Tahoma"/>
              </a:rPr>
              <a:t>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- налогооблагаемая база за отчетный перио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нс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налоговая став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4"/>
              <p:cNvSpPr txBox="1"/>
              <p:nvPr/>
            </p:nvSpPr>
            <p:spPr>
              <a:xfrm>
                <a:off x="3059280" y="1628640"/>
                <a:ext cx="3528720" cy="136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НИ</m:t>
                        </m:r>
                      </m:e>
                      <m:sub>
                        <m:r>
                          <m:t xml:space="preserve">А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НБ</m:t>
                        </m:r>
                      </m:e>
                      <m:sub>
                        <m:r>
                          <m:t xml:space="preserve">о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нс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Уплата авансовых платежей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не позднее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0 м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0 авгус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0 ноябр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Уплата налог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не позднее 15 апреля года, следующего за истекшим налоговым периодом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ая декларац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тверждена Приказом Минфина РФ от 20.02.2008 N 27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Об утверждении форм налоговой декларации и налогового расчета по авансовому платежу по налогу на имущество организаций и порядков их заполнения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ая декларац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оговые расчеты по авансовым платежам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 позднее 30 календарных дней с даты окончания отчетного перио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оговые декларации по итогам налогового перио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 позднее 30 марта года, следующего за истекшим налоговым периодом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64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 на игорный бизнес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 на игорный бизнес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лава 29 НК РФ «Налог на игорный бизнес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кона Приморского края от 06.11.2003 N 75-КЗ «О налоге на игорный бизнес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плательщики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ганиз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дивидуальные предпринимател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уществляющие предпринимательскую деятельность в сфере игорного бизне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Объект налогообложения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гровой сто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гровой автома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сса тотализато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сса букмекерской контор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Регистрация объекта в налоговом органе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 месту установк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 позднее чем за два дня до даты его установк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нование  - заявление налогоплательщи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дается свидетельство о регистрации объекта налогообложе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Налог на имущество организаций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0  глава НК РФ «Налог на имущество организаций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гионального закона о налог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ая баз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НБ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– налогооблагаемая баз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i="1" lang="ru-RU" sz="3200" spc="-1" strike="noStrike" baseline="-25000">
                <a:solidFill>
                  <a:srgbClr val="ffffff"/>
                </a:solidFill>
                <a:latin typeface="Tahoma"/>
              </a:rPr>
              <a:t>н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количество объектов налогооблож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4"/>
              <p:cNvSpPr txBox="1"/>
              <p:nvPr/>
            </p:nvSpPr>
            <p:spPr>
              <a:xfrm>
                <a:off x="2771640" y="1773360"/>
                <a:ext cx="3888000" cy="110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НБ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но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ый период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календарный месяц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Налоговая ставка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57200" y="1773360"/>
          <a:ext cx="8229600" cy="4319640"/>
        </p:xfrm>
        <a:graphic>
          <a:graphicData uri="http://schemas.openxmlformats.org/drawingml/2006/table">
            <a:tbl>
              <a:tblPr/>
              <a:tblGrid>
                <a:gridCol w="3322800"/>
                <a:gridCol w="2376360"/>
                <a:gridCol w="253044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бъект налогооблож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 Приморском кра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комендовано НК Р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7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дин игровой стол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5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000-125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7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дин игровой автома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00-7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дна касс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5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000-125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орядок исчисления налога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ИБ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сумма налога на игорный бизнес за налоговый пери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Б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- налогооблагаемая ба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с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налоговая ставка по налогу на имущес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4"/>
              <p:cNvSpPr txBox="1"/>
              <p:nvPr/>
            </p:nvSpPr>
            <p:spPr>
              <a:xfrm>
                <a:off x="684360" y="1989000"/>
                <a:ext cx="648000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НИ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НБ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нс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Включение объекта в налоговую базу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ступил до 15 числа, выбыл после 15 числа  – включает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ступил после 15 числа, выбыл до 15 числа  – не включает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роки уплаты налога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 позднее 20-го числа месяца, следующего за истекшим налоговым период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 месту регистрации в налоговом органе объектов налогообложе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ая декларация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налоговый орган по месту регистрации объектов налогооблож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логоплательщики, отнесенные к категории крупнейших - в налоговый орган по месту учета в качестве крупнейших налогоплательщиков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 позднее 20-го числа месяца, следующего за истекшим налоговым период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Транспортный налог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лава 28 «Транспортный налог» НК РФ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кон Приморского края № 24-КЗ от 28 ноября 2002 г. «О транспортном налоге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плательщик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ца, на которых в соответствии с законодательством Российской Федерации зарегистрированы транспортные средства, признаваемые объектом налогообложе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аконодательные органы субъектов РФ вправе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танавливать ставку налога (не более 2,2%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танавливать дифференцированные ставки в зависимости от категории налогоплательщиков, по видам имуще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пределять сроки уплаты налог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 устанавливать отчетные периоды по налог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танавливать дополнительные льготы по налог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Не признаются налогоплательщикам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ца, являющиеся организаторами XXII Олимпийских зимних игр и XI Паралимпийских зимних игр 2014 года в городе Соч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ца, являющиеся маркетинговыми партнерами Международного олимпийского комите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Объект налогообложения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втомобил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тоцикл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тороллер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втобус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ругие самоходные машины и механизмы на пневматическом и гусеничном ход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амоле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ртоле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плохо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Объект налогообложения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ях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арусные су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те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негохо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тосан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торные лод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идроцикл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самоходные (буксируемые суд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ругие водные и воздушные транспортные сред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Не являются объектом налогообложени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сельные и моторные лодки с двигателем мощностью не свыше 5 лошадиных си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втомобили легковые, специально оборудованные для использования инвалидами, а также автомобили легковые с мощностью двигателя до 100 лошадиных сил (до 73,55 кВт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мысловые морские и речные су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ассажирские и грузовые морские, речные и воздушные суда, находящиеся в собственности организаций и индивидуальных предпринимателей, основныи видом деятельности которых является осуществление пассажирских и грузовых перевозо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Не являются объектом налогообложени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пециальные машины для перевозки птицы, машины для перевозки и внесения минеральных удобрений, ветеринарной помощи, технического обслуживания, зарегистрированные на сельскохозяйственных товаропроизводителей и используемые при сельскохозяйственных работах для производства сельскохозяйственной продукц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ранспортные средства, принадлежащие на праве оперативного управления федеральным органам исполнительной власти, где законодательно предусмотрена военная и (или) приравненная к ней служб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Не являются объектом налогообложени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анспортные средства, находящиеся в розыске, при условии подтверждения факта их угона (кражи) документом, выдаваемым уполномоченным орган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амолеты и вертолеты санитарной авиации и медицинской служб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уда, зарегистрированные в Российском международном реестре суд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ая баз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отношении транспортных средств, имеющих двигател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щность двигателя транспортного средства в лошадиных силах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ая баз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отношении воздушных транспортных средств, для которых определяется тяга реактивного двигател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аспортная статическая тяга реактивного двигателя воздушного транспортного средства на взлетном режиме в земных условиях в килограммах сил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ая баз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отношении водных несамоходных (буксируемых) транспортных средств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ловая вместимость в регистровых тонна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ая баз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отношении других водных и воздушных транспортных средств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диница транспортного сред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Налог на имущество организаций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Приморском крае налог введе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коном Приморского кр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 28.11.2003 N 82-К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О налоге на имущество организаций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ый период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оговый перио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лендарный г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четный период только для юридических ли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I кварта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II кварта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III квартал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ые ставк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рублях с каждой лошадиной сил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втомобилей легковых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автомобилей грузовы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втобусов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мотоциклов и мотороллер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ругих самоходных транспортных средств, машин и  механизмов на пневматическом и гусеничном ход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негоходов, мотосан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теров, моторных лодок и других водных транспортных средст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хт и других парусно-моторных суд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идроцикл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амолетов, вертолетов и иных воздушных судов, имеющих двигатели.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ые ставк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В рублях с каждой с каждой регистровой тонны валовой вместимост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самоходных (буксируемых) судов, для которых определяется валовая вместимост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ые ставк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В рублях с каждого килограмма силы тяги дл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самолетов, имеющих реактивные двигател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В рублях с единицы транспортного средства дл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ругих водных и воздушных транспортных средств, не имеющих двигателе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ые ставк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огут быть увеличены (уменьшены) законами субъектов РФ не более чем в десять ра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пускается установление дифференцированных налоговых ставо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 категориям транспортных средст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учетом количества лет, прошедших с года выпуска транспортных средст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учетом экологического класс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ые ставк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Приморском крае дифференцированы в отношении автомобилей легковых, грузовых и автобусов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о 3- лет включительн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ше 3-х лет до 10 лет включительн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выше 10-ти ле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ые ставк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 легковым автомобилям с мощностью двигателя до 100 л.с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К РФ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,5 руб. на л.с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Приморье применяются следующие ставк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возрасте до 3-х лет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5 руб. на л.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возрасте свыш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-х до 10-ти лет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7 руб. на л.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возрасте свыше 10-т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5 руб. на л.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ые льгот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Для участников Великой Отечественной войны, инвалидов I и II группы в отношении одного легкового автомобиля мощностью не свыше 150 лошадиных сил или одного мотоцикла (мотороллера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Для Героев Советского Союза, Героев Социалистического Труда, Героев Российской Федерации, граждан, награжденных орденом Славы трех степеней, в отношении одного автотранспортного средства или одного мотоцикла (мотороллера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Для категории граждан, подвергшихся воздействию радиации вследствие Чернобыльской катастрофы в отношении одного автотранспортного средства или одного мотоцикла (мотороллера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ые льгот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ля сельскохозяйственных товаропроизводителей в отношении грузовых автомобил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пользуемых при сельскохозяйственных работах для производства сельскохозяйственной продукции и перевозки сельскохозяйственных груз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дельный вес доходов которых от реализации сельскохозяйственной продукции в общей сумме их доходов в текущем налоговом периоде составляет 70 и более проценто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орядок исчисления налог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рганизации исчисляют сумму транспортного налога (авансовых платежей) самостоятельн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логовые органы исчисляют сумму налога, подлежащую уплате физическими лицами на основании сведений, которые представляются органами, осуществляющими государственную регистрацию транспортных средств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плательщики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оссийские организ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остранные организации, осуществляющие деятельность в России через постоянные представитель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остранные организации, не имеющие постоянного представительства в Росси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орядок исчисления налог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ТрН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сумма транспортного за налоговый пери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Б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- налогооблагаемая ба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с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налоговая ставка по транспортному налогу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4"/>
              <p:cNvSpPr txBox="1"/>
              <p:nvPr/>
            </p:nvSpPr>
            <p:spPr>
              <a:xfrm>
                <a:off x="2700360" y="1700280"/>
                <a:ext cx="460836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ТрН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НБ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нс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Сумма налога, подлежащая уплате в бюджет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 итогам налогового периода, определяется как разница между суммой налога, исчисленной по приведенной формуле и суммами авансовых платежей по налогу, исчисленных в течение налогового период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умма авансового платежа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ТрН</a:t>
            </a:r>
            <a:r>
              <a:rPr b="0" i="1" lang="ru-RU" sz="2800" spc="-1" strike="noStrike" baseline="-25000">
                <a:solidFill>
                  <a:srgbClr val="ffffff"/>
                </a:solidFill>
                <a:latin typeface="Tahoma"/>
              </a:rPr>
              <a:t>А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сумма авансового платежа по транспортному налогу за отчетный пери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Б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- налогооблагаемая база за отчетный пери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с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налоговая ставк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4"/>
              <p:cNvSpPr txBox="1"/>
              <p:nvPr/>
            </p:nvSpPr>
            <p:spPr>
              <a:xfrm>
                <a:off x="3348000" y="1700280"/>
                <a:ext cx="302436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ТрН</m:t>
                        </m:r>
                      </m:e>
                      <m:sub>
                        <m:r>
                          <m:t xml:space="preserve">А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НБ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нс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Коэффициент для расчета налог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k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– коэффициент для расчета налога (авансовых платеж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м</a:t>
            </a:r>
            <a:r>
              <a:rPr b="0" i="1" lang="ru-RU" sz="2400" spc="-1" strike="noStrike" baseline="-25000">
                <a:solidFill>
                  <a:srgbClr val="ffffff"/>
                </a:solidFill>
                <a:latin typeface="Tahoma"/>
              </a:rPr>
              <a:t>ф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число полных месяцев, в течение которых данное транспортное средство было зарегистрировано на организаци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м</a:t>
            </a:r>
            <a:r>
              <a:rPr b="0" i="1" lang="ru-RU" sz="2400" spc="-1" strike="noStrike" baseline="-25000">
                <a:solidFill>
                  <a:srgbClr val="ffffff"/>
                </a:solidFill>
                <a:latin typeface="Tahoma"/>
              </a:rPr>
              <a:t>к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- число календарных месяцев в налоговом (отчетном) период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4"/>
              <p:cNvSpPr txBox="1"/>
              <p:nvPr/>
            </p:nvSpPr>
            <p:spPr>
              <a:xfrm>
                <a:off x="2916360" y="2060640"/>
                <a:ext cx="3024000" cy="15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м</m:t>
                            </m:r>
                          </m:e>
                          <m:sub>
                            <m:r>
                              <m:t xml:space="preserve">ф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м</m:t>
                            </m:r>
                          </m:e>
                          <m:sub>
                            <m:r>
                              <m:t xml:space="preserve">к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Количество месяцев эксплуатаци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сяц регистрации транспортного средства, месяц снятия транспортного средства с регистрации принимается за полный меся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случае регистрации и снятия с регистрации транспортного средства в течение одного календарного месяца указанный месяц принимается как один полный месяц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Уплата транспортного налог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вансовые платежи - не позднее последнего числа месяца, следующего за истекшим отчетным период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плата налога по окончании налогового периода -  не позднее 1 марта следующего год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ромежуточная отчетность по транспортному налогу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тверждена Приказом Минфина России от 23.03.2006 N 48 «Об утверждении формы налогового расчета по авансовым платежам по транспортному налогу и Рекомендаций по ее заполнению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дставляется не позднее последнего числа месяца, следующего за истекшим отчетным периодо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ая декларац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тверждена Приказом Минфина России от 13.04.2006 N 65н «Об утверждении формы налоговой декларации по транспортному налогу и Порядка ее заполнения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дставляется не позднее 1 февраля года, следующего за истекшим налоговым периодо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Уплата налога физическими лицам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оговое уведомление о подлежащей уплате сумме транспортного налога вручается физическим лицам не позднее 3 октября года, следующего за истекшим налоговым периодо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изические лица, уплачивают транспортный налог не позднее 3 ноября года, следующего за истекшим налоговым периодо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пасибо за внимание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Освобождены от уплаты налог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лательщики единого сельскохозяйственного налог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ганизации, применяющие упрощенную систему налогооблож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лательщики ЕНВД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ганизации, применяющие систему налогообложения при выполнении соглашений о разделе продук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Не признаются плательщиками налога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ганизаторы XXII Олимпийских зимних игр 2014 года в Соч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ганизаторы XI Паралимпийских зимних игр 2014 года в городе Соч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ркетинговые партнеры Международного олимпийского комите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00:53:08Z</dcterms:created>
  <dc:creator>Administrator</dc:creator>
  <dc:description/>
  <dc:language>en-US</dc:language>
  <cp:lastModifiedBy>qwert</cp:lastModifiedBy>
  <dcterms:modified xsi:type="dcterms:W3CDTF">2015-09-11T10:57:42Z</dcterms:modified>
  <cp:revision>31</cp:revision>
  <dc:subject/>
  <dc:title>Региональные налоги</dc:title>
</cp:coreProperties>
</file>