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0EE5-D08A-4EDC-BD00-BA5BEE99E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91FC-37D6-45EA-B3DE-C96967E9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EDEA-D47F-4FAA-8EF9-848AC700E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D016-5C6A-4252-BE43-6D16ADCB2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E3F1-C6BC-4E60-B4B8-611A4985D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F9B6-58CE-42FA-8D81-B510760B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8559-9F22-40D8-A9F6-C69B81EE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34B0-4FFB-41AB-990E-CDE829E7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741A-E129-415D-8E80-AD945559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B307-0635-4471-8E08-6D09F064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3889-AAB4-4894-BAAA-9B10A6DF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E98D-4890-4B9A-BA1D-5C5CE5C2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D3ED-DCDD-4D38-A6FD-7B29B4E8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D670-D000-41D1-9ED7-ABF47873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366E-94AB-4C96-ABF5-E935BB62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2767-693E-4AF8-A404-B2A579282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4D16-2361-4E93-B929-58F9E23DF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E0FD-E31C-4000-84AA-11946EAA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E229-06D7-4719-A219-A1BEC81C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A664-E291-419C-99D8-22B089CA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D292-4A6C-49BF-A11D-073D2AE3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A204-5E77-4A22-B397-E5798408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4AEA-C8C6-45DA-ABF7-369FB1B1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1E1F-FD26-4893-8532-1E1AD5FC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2266-78F7-4824-825E-C2121C585B2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B339-1342-44CD-B12E-79618308520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Региональные налоги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00200" y="4429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бъект налогооблож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ля российских организац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вижимое и недвижимое имущество, учитываемое на балансе в качестве объектов основных средств, не зависимо от того находятся эти объекты на территории Российской Федерации или за ее пределам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бъект налогооблож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ля российских организац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том числе имущество, переданное во временное владение, в пользование, распоряжение, доверительное управление, внесенное в совместную деятельность или полученное по концессионному соглашению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бъект налогооблож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ля иностранных организаций, осуществляющих деятельность в ФР через постоянные представительств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вижимое и недвижимое имущество, относящееся к объектам основных средст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ущество, полученное по концессионному соглашению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бъект налогооблож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ля иностранных организаций, не имеющих постоянного представительства в Росси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движимое имущество, принадлежащее на праве собственности, находящееся на территории РФ или полученное по полученное по концессионному соглашению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е признаются объектами налогообложения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емельные участ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ые объекты природопользова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база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яется налогоплательщиками самостоятель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организаций осуществляющих деятельность на территории РФ – среднегодовая стоимость имуще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организаций не осуществляющих деятельность на территории РФ – инвентаризационная стоимос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реднегодовая стоимость имущества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Б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налогооблагаемая баз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С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остаточная стоимость основных средст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количество месяцев в отчетном период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раметрический индек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2124000" y="1773360"/>
                <a:ext cx="482436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Б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ОС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алоговая база определяется отдельно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64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тношении имущества подлежащего налогообложению по местонахождению организац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тношении имущества каждого обособленного подразделения, имеющего отдельный балан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тношении каждого объекта недвижимого имущества, находящегося вне местонахождения организации или обособленного подразделения, имеющего отдельный балан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тношении имущества, облагаемого по разным налоговым ставка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й перио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вый период – календарный г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четный период (может не устанавливаться в соответствии с Законом субъект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вый кварта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угод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вять месяцев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став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0,5 процента - в отношении объектов жилищного фонда и инженерной инфраструктуры жилищно-коммунального комплекса, содержание которых финансируется за счет средств бюджетов субъектов РФ или местных бюдже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0,1 процента - в отношении объектов социально-культурной сферы, используемых для нужд культуры и искусства, образования, физической культуры и спорта, здравоохранения и социального обеспечения, содержание которых финансируется за счет средств бюджетов субъектов РФ или местных бюдже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,2 процента – для другого имуще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егиональные налоги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 на имущество организац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 на игорный бизне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анспортный нало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льгот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ля объектов транспортной инфраструктур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о уменьшить базу по налогу на сумму законченных капитальных вложений в строительство, реконструкцию или модернизацию отдельных объек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т уплаты налога освобождаютс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ганизации и учреждения уголовно-исполнительной системы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лигиозные организ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щероссийские общественные организации инвалидов, если среди их членов инвалиды и их законные представители составляют не менее 8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ганизации, принадлежащие общероссийским общественным организациям инвалидов, если среднесписочная численность инвалидов составляет не менее 50%, а их доля в фонде оплаты труда - не менее 25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т уплаты налога освобождают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и, основным видом деятельности которых является производство фармацевтической продукции, занимающиеся производством ветеринарных иммунобиологических препара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и, признаваемые управляющими компаниями или получившие статус участников проекта в соответствии с Федеральным законом «Об инновационном центре «Сколково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Льготы на виды имуществ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ъекты, признаваемые памятниками истории и культуры федерального знач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дерные установки, используемые для научных целей, пункты хранения ядерных материалов и радиоактивных веществ, а также хранилища радиоактивных отход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доколы, суда с ядерными энергетическими установками и суда атомно-технологического обслужи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елезнодорожные пути общего пользования, федеральные автомобильные дороги общего пользования, магистральные трубопроводы, линии энергопередачи, а также сооружения, являющиеся неотъемлемой технологической частью указанных объек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Льготы на виды имуществ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смические объек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ущество специализированных протезно-ортопедических предприят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ущество коллегий адвокатов, адвокатских бюро и юридических консультац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ущество государственных научных цент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ущество, учитываемого на балансе организации резидентов особой экономической зоны, расположенного на территории данной особой экономической зоны, в течение пяти лет с момента постановки на учет указанного имуществ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уда, зарегистрированных в Российском международном реестре суд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свобождаются от уплаты налога в Приморском крае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ссийские рыбохозяйственные организации в отношении промыслового флот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рганизации - в отношении автомобильных дорог и дорожно-мостовых сооружений общего пользования, а также сооружений, являющихся неотъемлемой технологической частью указанных объек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ельскохозяйственные организац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илищные кооперативы, жилищно-строительные кооперативы, товарищества собственников жилья, объединения товариществ собственников жилья, действующие в соответствии с жилищным законодательством Российской Федер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коммерческие организации - в отношении имущества, полученного в виде безвозмездной помощи (содействи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Механизм расчета налога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деление объектов налогообложения в пределах субъекта Российской Федерации по местонахождению организации, отделения организации с балансом, а также по местонахождению объекта недвижимого имущества, собственником которого является организация, находящегося вне местонахождения организации или её отделения с балансо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ределение остаточной стоимости имущества, признаваемого объектом налогообложения, по правилам бухгалтерского учета в Российской Федер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Механизм расчета налога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числение налоговой базы: расчет среднегодовой стоимости имущ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чет авансовых платежей по налогу по окончании отчетных периодов и расчет налога по итогам налогового пери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полнение порядка уплаты суммы налога в бюджет по месту нахождения организации, обособленного подразделения с балансом или объекта недвижимого имущ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орядок исчисления налога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И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сумма налога на имущество за налоговый пери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Б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налогооблагаемая база (средняя стоимость имуществ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с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налоговая ставка по налогу на имуще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1619280" y="1773360"/>
                <a:ext cx="46814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И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НБ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н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умма налога по итогам налогового периода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яется как разница между суммой налога, исчисленной по приведенной формуле и суммами авансовых платежей по налогу, исчисленных в течение налогового период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0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Налог на имущество организаций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умма авансового платежа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И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Tahoma"/>
              </a:rPr>
              <a:t>А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сумма авансового платеж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Б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налогооблагаемая база за отчетный пери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налоговая став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3059280" y="1628640"/>
                <a:ext cx="3528720" cy="13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НИ</m:t>
                        </m:r>
                      </m:e>
                      <m:sub>
                        <m:r>
                          <m:t xml:space="preserve">А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НБ</m:t>
                        </m:r>
                      </m:e>
                      <m:sub>
                        <m:r>
                          <m:t xml:space="preserve">о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н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Уплата авансовых платежей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е поздне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0 м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0 авгус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0 ноябр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Уплата налог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е позднее 15 апреля года, следующего за истекшим налоговым периодо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декларац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тверждена Приказом Минфина РФ от 20.02.2008 N 27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Об утверждении форм налоговой декларации и налогового расчета по авансовому платежу по налогу на имущество организаций и порядков их заполнения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декларац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вые расчеты по авансовым платежам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позднее 30 календарных дней с даты окончания отчетного пери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вые декларации по итогам налогового пери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позднее 30 марта года, следующего за истекшим налоговым периодо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 на игорный бизнес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 на игорный бизнес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ава 29 НК РФ «Налог на игорный бизнес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она Приморского края от 06.11.2003 N 75-КЗ «О налоге на игорный бизнес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плательщики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дивидуальные предпринимате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уществляющие предпринимательскую деятельность в сфере игорного бизне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бъект налогообложения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гровой сто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гровой автома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сса тотализато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сса букмекерской конто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егистрация объекта в налоговом орган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месту установк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позднее чем за два дня до даты его установк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ание  - заявление налогоплательщ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дается свидетельство о регистрации объекта налогооблож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Налог на имущество организаций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0  глава НК РФ «Налог на имущество организаций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гионального закона о налог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баз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Б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налогооблагаемая баз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Tahoma"/>
              </a:rPr>
              <a:t>н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количество объектов налогообло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2771640" y="1773360"/>
                <a:ext cx="3888000" cy="11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Б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но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й период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календарный месяц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Налоговая ставка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773360"/>
          <a:ext cx="8229600" cy="4319640"/>
        </p:xfrm>
        <a:graphic>
          <a:graphicData uri="http://schemas.openxmlformats.org/drawingml/2006/table">
            <a:tbl>
              <a:tblPr/>
              <a:tblGrid>
                <a:gridCol w="3322800"/>
                <a:gridCol w="2376360"/>
                <a:gridCol w="25304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ъект налогооблож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 Приморском кра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комендовано НК Р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дин игровой стол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5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000-125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дин игровой авто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00-7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дна касс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5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000-125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орядок исчисления налога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ИБ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сумма налога на игорный бизнес за налоговый пери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Б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налогооблагаемая б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с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налоговая ставка по налогу на имуще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684360" y="1989000"/>
                <a:ext cx="64800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И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НБ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н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ключение объекта в налоговую базу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тупил до 15 числа, выбыл после 15 числа  – включае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тупил после 15 числа, выбыл до 15 числа  – не включае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роки уплаты налога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позднее 20-го числа месяца, следующего за истекшим налоговым период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месту регистрации в налоговом органе объектов налогооблож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декларация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налоговый орган по месту регистрации объектов налогооблож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огоплательщики, отнесенные к категории крупнейших - в налоговый орган по месту учета в качестве крупнейших налогоплательщик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позднее 20-го числа месяца, следующего за истекшим налоговым период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Транспортный налог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ава 28 «Транспортный налог» НК Р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он Приморского края № 24-КЗ от 28 ноября 2002 г. «О транспортном налоге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плательщи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а, на которых в соответствии с законодательством Российской Федерации зарегистрированы транспортные средства, признаваемые объектом налогооблож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аконодательные органы субъектов РФ вправе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танавливать ставку налога (не более 2,2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танавливать дифференцированные ставки в зависимости от категории налогоплательщиков, по видам имущ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ределять сроки уплаты налог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устанавливать отчетные периоды по налог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танавливать дополнительные льготы по налог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е признаются налогоплательщикам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а, являющиеся организаторами XXII Олимпийских зимних игр и XI Паралимпийских зимних игр 2014 года в городе Соч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а, являющиеся маркетинговыми партнерами Международного олимпийского комите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бъект налогообложения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втомоби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тоцик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торолле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втобус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ругие самоходные машины и механизмы на пневматическом и гусеничном ход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моле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ртоле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плох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бъект налогообложения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ях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русные су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те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негох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тоса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торные лод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идроцик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самоходные (буксируемые суд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ругие водные и воздушные транспортные сред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е являются объектом налогообложен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сельные и моторные лодки с двигателем мощностью не свыше 5 лошадиных си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втомобили легковые, специально оборудованные для использования инвалидами, а также автомобили легковые с мощностью двигателя до 100 лошадиных сил (до 73,55 кВт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мысловые морские и речные су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ссажирские и грузовые морские, речные и воздушные суда, находящиеся в собственности организаций и индивидуальных предпринимателей, основныи видом деятельности которых является осуществление пассажирских и грузовых перевоз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е являются объектом налогообложен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ециальные машины для перевозки птицы, машины для перевозки и внесения минеральных удобрений, ветеринарной помощи, технического обслуживания, зарегистрированные на сельскохозяйственных товаропроизводителей и используемые при сельскохозяйственных работах для производства сельскохозяйственной продук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анспортные средства, принадлежащие на праве оперативного управления федеральным органам исполнительной власти, где законодательно предусмотрена военная и (или) приравненная к ней служб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е являются объектом налогообложен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анспортные средства, находящиеся в розыске, при условии подтверждения факта их угона (кражи) документом, выдаваемым уполномоченным орган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амолеты и вертолеты санитарной авиации и медицинской служб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уда, зарегистрированные в Российском международном реестре суд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баз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отношении транспортных средств, имеющих двигател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щность двигателя транспортного средства в лошадиных силах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баз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отношении воздушных транспортных средств, для которых определяется тяга реактивного двигател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спортная статическая тяга реактивного двигателя воздушного транспортного средства на взлетном режиме в земных условиях в килограммах си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баз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отношении водных несамоходных (буксируемых) транспортных средст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ловая вместимость в регистровых тонн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баз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отношении других водных и воздушных транспортных средст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диница транспортного сред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Налог на имущество организаций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риморском крае налог введе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оном Приморского кр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 28.11.2003 N 82-К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О налоге на имущество организаций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й перио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вый пери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лендарный г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четный период только для юридических ли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I кварта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II кварта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III кварта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став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рублях с каждой лошадиной си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втомобилей легковых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автомобилей грузов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втобусов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мотоциклов и моторолле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ругих самоходных транспортных средств, машин и  механизмов на пневматическом и гусеничном ход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негоходов, мотосан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теров, моторных лодок и других водных транспортных средст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хт и других парусно-моторных суд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идроцикл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амолетов, вертолетов и иных воздушных судов, имеющих двигатели.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став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 рублях с каждой с каждой регистровой тонны валовой вместимост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самоходных (буксируемых) судов, для которых определяется валовая вместимос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став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 рублях с каждого килограмма силы тяги дл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амолетов, имеющих реактивные двигател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 рублях с единицы транспортного средства дл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ругих водных и воздушных транспортных средств, не имеющих двигателе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став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гут быть увеличены (уменьшены) законами субъектов РФ не более чем в десять ра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пускается установление дифференцированных налоговых став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категориям транспортных средст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учетом количества лет, прошедших с года выпуска транспортных средст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учетом экологического клас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став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риморском крае дифференцированы в отношении автомобилей легковых, грузовых и автобус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 3- лет включитель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ше 3-х лет до 10 лет включитель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выше 10-ти ле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став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легковым автомобилям с мощностью двигателя до 100 л.с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К РФ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,5 руб. на л.с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Приморье применяются следующие ставк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возрасте до 3-х ле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5 руб. на л.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возрасте свыш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-х до 10-ти лет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7 руб. на л.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возрасте свыше 10-т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 руб. на л.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льгот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Для участников Великой Отечественной войны, инвалидов I и II группы в отношении одного легкового автомобиля мощностью не свыше 150 лошадиных сил или одного мотоцикла (мотороллера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Для Героев Советского Союза, Героев Социалистического Труда, Героев Российской Федерации, граждан, награжденных орденом Славы трех степеней, в отношении одного автотранспортного средства или одного мотоцикла (мотороллера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Для категории граждан, подвергшихся воздействию радиации вследствие Чернобыльской катастрофы в отношении одного автотранспортного средства или одного мотоцикла (мотороллера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льгот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сельскохозяйственных товаропроизводителей в отношении грузовых автомобил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пользуемых при сельскохозяйственных работах для производства сельскохозяйственной продукции и перевозки сельскохозяйственных груз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дельный вес доходов которых от реализации сельскохозяйственной продукции в общей сумме их доходов в текущем налоговом периоде составляет 70 и более процент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орядок исчисления налог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ганизации исчисляют сумму транспортного налога (авансовых платежей) самостоятельн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оговые органы исчисляют сумму налога, подлежащую уплате физическими лицами на основании сведений, которые представляются органами, осуществляющими государственную регистрацию транспортных средст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плательщики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ссийские организ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остранные организации, осуществляющие деятельность в России через постоянные представитель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остранные организации, не имеющие постоянного представительства в Росс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орядок исчисления налог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ТрН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сумма транспортного за налоговый пери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Б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налогооблагаемая б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с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налоговая ставка по транспортному налог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4"/>
              <p:cNvSpPr txBox="1"/>
              <p:nvPr/>
            </p:nvSpPr>
            <p:spPr>
              <a:xfrm>
                <a:off x="2700360" y="1700280"/>
                <a:ext cx="46083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ТрН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НБ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н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умма налога, подлежащая уплате в бюджет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итогам налогового периода, определяется как разница между суммой налога, исчисленной по приведенной формуле и суммами авансовых платежей по налогу, исчисленных в течение налогового период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умма авансового платежа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ТрН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Tahoma"/>
              </a:rPr>
              <a:t>А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сумма авансового платежа по транспортному налогу за отчетный пери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Б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налогооблагаемая база за отчетный пери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с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налоговая ставк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4"/>
              <p:cNvSpPr txBox="1"/>
              <p:nvPr/>
            </p:nvSpPr>
            <p:spPr>
              <a:xfrm>
                <a:off x="3348000" y="1700280"/>
                <a:ext cx="30243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ТрН</m:t>
                        </m:r>
                      </m:e>
                      <m:sub>
                        <m:r>
                          <m:t xml:space="preserve">А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НБ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н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оэффициент для расчета налог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k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коэффициент для расчета налога (авансовых платеж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м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Tahoma"/>
              </a:rPr>
              <a:t>ф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число полных месяцев, в течение которых данное транспортное средство было зарегистрировано на организаци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м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Tahoma"/>
              </a:rPr>
              <a:t>к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число календарных месяцев в налоговом (отчетном) период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4"/>
              <p:cNvSpPr txBox="1"/>
              <p:nvPr/>
            </p:nvSpPr>
            <p:spPr>
              <a:xfrm>
                <a:off x="2916360" y="2060640"/>
                <a:ext cx="302400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м</m:t>
                            </m:r>
                          </m:e>
                          <m:sub>
                            <m:r>
                              <m:t xml:space="preserve">ф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м</m:t>
                            </m:r>
                          </m:e>
                          <m:sub>
                            <m:r>
                              <m:t xml:space="preserve">к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оличество месяцев эксплуатац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сяц регистрации транспортного средства, месяц снятия транспортного средства с регистрации принимается за полный меся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случае регистрации и снятия с регистрации транспортного средства в течение одного календарного месяца указанный месяц принимается как один полный месяц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Уплата транспортного налог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ансовые платежи - не позднее последнего числа месяца, следующего за истекшим отчетным период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плата налога по окончании налогового периода -  не позднее 1 марта следующего год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ромежуточная отчетность по транспортному налогу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тверждена Приказом Минфина России от 23.03.2006 N 48 «Об утверждении формы налогового расчета по авансовым платежам по транспортному налогу и Рекомендаций по ее заполнению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ставляется не позднее последнего числа месяца, следующего за истекшим отчетным периодо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декларац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тверждена Приказом Минфина России от 13.04.2006 N 65н «Об утверждении формы налоговой декларации по транспортному налогу и Порядка ее заполнения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ставляется не позднее 1 февраля года, следующего за истекшим налоговым периодо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Уплата налога физическими лицам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вое уведомление о подлежащей уплате сумме транспортного налога вручается физическим лицам не позднее 3 октября года, следующего за истекшим налоговым периодо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изические лица, уплачивают транспортный налог не позднее 3 ноября года, следующего за истекшим налоговым периодо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свобождены от уплаты налог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лательщики единого сельскохозяйственного налог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и, применяющие упрощенную систему налогообло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лательщики ЕНВД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и, применяющие систему налогообложения при выполнении соглашений о разделе продук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е признаются плательщиками налога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торы XXII Олимпийских зимних игр 2014 года в Соч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торы XI Паралимпийских зимних игр 2014 года в городе Соч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ркетинговые партнеры Международного олимпийского комите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00:53:08Z</dcterms:created>
  <dc:creator>Administrator</dc:creator>
  <dc:description/>
  <dc:language>en-US</dc:language>
  <cp:lastModifiedBy>qwert</cp:lastModifiedBy>
  <dcterms:modified xsi:type="dcterms:W3CDTF">2015-09-11T10:57:42Z</dcterms:modified>
  <cp:revision>31</cp:revision>
  <dc:subject/>
  <dc:title>Региональные налоги</dc:title>
</cp:coreProperties>
</file>