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ABC-2D87-4051-91F1-F27B2844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B17-74B8-4255-BE17-133EA3AB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DA3-DEDC-4EA2-AC87-B273AAC0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F5C-6EC6-416A-A15D-1EA7C7A7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54E6-8BB8-4F6C-8B25-22425340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948E-C3D1-48A4-9515-BDBBB37F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276F-DCA4-48A5-A077-34CABD4B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FB5E-F649-4880-AAFD-579BA923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0E39-7785-420A-A0AE-955F6289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F375-3636-4E20-9AF1-FC1FC302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01F4-2494-4DBB-A850-03D38D1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F16-B09C-4A10-8660-B9D3F186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8C6A-A13C-46FD-B12C-8B9A9D32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CBFD-A631-48A7-86D6-4B3EB358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5339-FACE-4D88-9C3E-4AA85773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C837-CCA3-448E-80C2-3E67318D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E35-ED21-4F5A-8FAA-E87635A2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428-3A22-47F5-8188-DA7349A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2B0-AD1D-4188-944E-C28FC8D5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15C-0896-4F6D-9153-859499F7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A0E-CF34-4B5A-9EEA-D0E8E354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D9B-1B1B-4E82-ADA9-C104E309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0B8-5CA3-47F9-AB6E-D875929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239-7A60-4565-9489-5573450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D10-082E-4808-B151-D22C957056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9F21-2BAC-464E-A5B1-B7DD16910E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Презентация к уроку 8 класса </a:t>
            </a:r>
            <a:r>
              <a:rPr b="1" lang="ru-RU" sz="3200" spc="-1" strike="noStrike">
                <a:solidFill>
                  <a:srgbClr val="190033"/>
                </a:solidFill>
                <a:latin typeface="Arial"/>
              </a:rPr>
              <a:t>Раздел программы </a:t>
            </a: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«Волейбол»</a:t>
            </a:r>
            <a:br>
              <a:rPr sz="3900"/>
            </a:br>
            <a:r>
              <a:rPr b="1" i="1" lang="ru-RU" sz="3900" spc="-1" strike="noStrike">
                <a:solidFill>
                  <a:srgbClr val="190033"/>
                </a:solidFill>
                <a:latin typeface="Arial"/>
              </a:rPr>
              <a:t>Составил Андреев Ю.В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Объект 3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ьная переда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Объект 3" descr=""/>
          <p:cNvPicPr/>
          <p:nvPr/>
        </p:nvPicPr>
        <p:blipFill>
          <a:blip r:embed="rId1"/>
          <a:stretch/>
        </p:blipFill>
        <p:spPr>
          <a:xfrm>
            <a:off x="1251000" y="1719360"/>
            <a:ext cx="6642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шибка при передаче мя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 и передача мяча снизу двумя рук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Объект 3" descr=""/>
          <p:cNvPicPr/>
          <p:nvPr/>
        </p:nvPicPr>
        <p:blipFill>
          <a:blip r:embed="rId1"/>
          <a:stretch/>
        </p:blipFill>
        <p:spPr>
          <a:xfrm>
            <a:off x="990720" y="1719360"/>
            <a:ext cx="70102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ьная постановка рук при приеме и передаче мя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Объект 3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ходные положения перед приемом и передачей мяча двумя руками сниз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Объект 11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745160" y="2438280"/>
            <a:ext cx="4190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Объект 9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976920" cy="4452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Объект 3" descr=""/>
          <p:cNvPicPr/>
          <p:nvPr/>
        </p:nvPicPr>
        <p:blipFill>
          <a:blip r:embed="rId1"/>
          <a:stretch/>
        </p:blipFill>
        <p:spPr>
          <a:xfrm>
            <a:off x="4384800" y="2590920"/>
            <a:ext cx="47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83" name="Объект 5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Объект 3" descr=""/>
          <p:cNvPicPr/>
          <p:nvPr/>
        </p:nvPicPr>
        <p:blipFill>
          <a:blip r:embed="rId1"/>
          <a:stretch/>
        </p:blipFill>
        <p:spPr>
          <a:xfrm>
            <a:off x="609480" y="1650960"/>
            <a:ext cx="5803920" cy="414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403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Объект 3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3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Объект 7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933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ма урока «Прием и передача мяча сверху и снизу двумя рукам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74380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9608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190033"/>
                </a:solidFill>
                <a:latin typeface="Arial"/>
              </a:rPr>
              <a:t>Совершенствование техники передачи мяча двумя руками сверху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Объект 7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29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дача мяча сверху над соб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Объект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митация верхней передачи на мест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Объект 3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334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560" y="228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дача мяча сверху над соб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Объект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ьная передача мя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Объект 5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86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дача мяча в пара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Объект 5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ршенствование техники. Работа в парах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Объект 5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19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13:10:19Z</dcterms:created>
  <dc:creator>Оля</dc:creator>
  <dc:description/>
  <dc:language>en-US</dc:language>
  <cp:lastModifiedBy>us</cp:lastModifiedBy>
  <dcterms:modified xsi:type="dcterms:W3CDTF">2015-10-11T19:56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