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AFC5-86E6-48B2-AD8B-BAAEE79D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EAC-B1F8-4920-85C3-5D7DC3DC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6A78-ADC7-4E94-91A0-61B6D107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F59-0A8F-42DC-A009-8BB17567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7C70-BF7A-46CD-AC18-599F4C0E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E9FC-EE65-42D2-8A5A-9C587992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DF2B-2675-41B1-8F9C-4D9760AE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2F5D-456A-463B-AFDD-D550555A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D4E0-C703-40FE-9FB0-0FA06BCB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33A5-6C5C-4E44-8D6C-CD2F5FF2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A430-F8DC-46BD-BA61-6F06900F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FC0B-2147-4136-8759-613B22A3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8098-E8AD-4FE7-A5A0-E3B493DC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53ED-EA45-4C61-BD12-469848FD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2F0D-0F90-407D-BD66-991C4A7B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62F5-D1B2-41D4-AD9B-3631467D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DBF2-7EE6-4BD2-9B3D-46F2C48A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6BA-05F4-4FB4-A3AB-D50093B7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78BF-2FB5-46C2-8D4E-9053A22F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19C-3DEF-4EE5-AC34-056A58A7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EA70-823C-4D02-81E8-EAE2CED3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AF6B-552D-4603-A281-48647CAC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F75-3983-47E3-985A-4153B015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F87-6764-4BAC-AECB-306F8C04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1A75-DEEC-4842-825B-C5468114863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30D5-81DD-4D44-B082-DB863B860A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20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Arial"/>
              </a:rPr>
              <a:t>Презентация к уроку 8 класса </a:t>
            </a:r>
            <a:r>
              <a:rPr b="1" lang="ru-RU" sz="3200" spc="-1" strike="noStrike">
                <a:solidFill>
                  <a:srgbClr val="190033"/>
                </a:solidFill>
                <a:latin typeface="Arial"/>
              </a:rPr>
              <a:t>Раздел программы </a:t>
            </a:r>
            <a:r>
              <a:rPr b="1" lang="ru-RU" sz="3900" spc="-1" strike="noStrike">
                <a:solidFill>
                  <a:srgbClr val="ff0000"/>
                </a:solidFill>
                <a:latin typeface="Arial"/>
              </a:rPr>
              <a:t>«Волейбол»</a:t>
            </a:r>
            <a:br>
              <a:rPr sz="3900"/>
            </a:br>
            <a:r>
              <a:rPr b="1" i="1" lang="ru-RU" sz="3900" spc="-1" strike="noStrike">
                <a:solidFill>
                  <a:srgbClr val="190033"/>
                </a:solidFill>
                <a:latin typeface="Arial"/>
              </a:rPr>
              <a:t>Составил Андреев Ю.В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Объект 3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авильная передач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Объект 3" descr=""/>
          <p:cNvPicPr/>
          <p:nvPr/>
        </p:nvPicPr>
        <p:blipFill>
          <a:blip r:embed="rId1"/>
          <a:stretch/>
        </p:blipFill>
        <p:spPr>
          <a:xfrm>
            <a:off x="1251000" y="1719360"/>
            <a:ext cx="66420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шибка при передаче мяч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Объект 3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333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ем и передача мяча снизу двумя рука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2" name="Объект 3" descr=""/>
          <p:cNvPicPr/>
          <p:nvPr/>
        </p:nvPicPr>
        <p:blipFill>
          <a:blip r:embed="rId1"/>
          <a:stretch/>
        </p:blipFill>
        <p:spPr>
          <a:xfrm>
            <a:off x="990720" y="1719360"/>
            <a:ext cx="701028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авильная постановка рук при приеме и передаче мяч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Объект 3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7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ходные положения перед приемом и передачей мяча двумя руками снизу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6" name="Объект 11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4745160" y="2438280"/>
            <a:ext cx="4190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9" name="Объект 9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976920" cy="4452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4191120" y="2057400"/>
            <a:ext cx="3962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2" name="Объект 3" descr=""/>
          <p:cNvPicPr/>
          <p:nvPr/>
        </p:nvPicPr>
        <p:blipFill>
          <a:blip r:embed="rId1"/>
          <a:stretch/>
        </p:blipFill>
        <p:spPr>
          <a:xfrm>
            <a:off x="4384800" y="2590920"/>
            <a:ext cx="4724280" cy="3809880"/>
          </a:xfrm>
          <a:prstGeom prst="rect">
            <a:avLst/>
          </a:prstGeom>
          <a:ln w="0">
            <a:noFill/>
          </a:ln>
        </p:spPr>
      </p:pic>
      <p:pic>
        <p:nvPicPr>
          <p:cNvPr id="183" name="Объект 5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Объект 3" descr=""/>
          <p:cNvPicPr/>
          <p:nvPr/>
        </p:nvPicPr>
        <p:blipFill>
          <a:blip r:embed="rId1"/>
          <a:stretch/>
        </p:blipFill>
        <p:spPr>
          <a:xfrm>
            <a:off x="609480" y="1650960"/>
            <a:ext cx="5803920" cy="4140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4038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Объект 3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73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Объект 7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69339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ма урока «Прием и передача мяча сверху и снизу двумя руками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Объект 3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574380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22400"/>
            <a:ext cx="7696080" cy="21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190033"/>
                </a:solidFill>
                <a:latin typeface="Arial"/>
              </a:rPr>
              <a:t>Совершенствование техники передачи мяча двумя руками сверху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4" name="Объект 7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6294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ередача мяча сверху над собо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Объект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9339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митация верхней передачи на мест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Объект 3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334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560" y="2289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ередача мяча сверху над собо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0" name="Объект 3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781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авильная передача мяч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2" name="Объект 5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867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ередача мяча в пара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Объект 5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вершенствование техники. Работа в парах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Объект 5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019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8T13:10:19Z</dcterms:created>
  <dc:creator>Оля</dc:creator>
  <dc:description/>
  <dc:language>en-US</dc:language>
  <cp:lastModifiedBy>us</cp:lastModifiedBy>
  <dcterms:modified xsi:type="dcterms:W3CDTF">2015-10-11T19:56:4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