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2FE-8A3D-49AC-AB23-567DD1E4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B03-E252-493B-8023-2946C8A2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82B-4E8C-4F97-BB26-4F3050DD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025-5713-4478-9A18-C81E1A89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52EA-6C2C-4F6F-BC7B-8D9E4D01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399A-2EE7-48D6-8AF9-B2C74F67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32FE-0D26-4A41-8B42-1942C77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8DCA-6747-472D-98BD-4A52C3E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E66F-CB49-4238-B320-AA113841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5B33-EE68-45B8-962F-2ACB31F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207C-5A82-4D52-A3A4-D114AB1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B08-1684-472E-AEF1-A1B8B22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598A-E836-4F15-A234-BE0F296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8D2E-2AA4-4216-85A8-CD610B4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71DF-7F19-45BE-9CFF-FBD49713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3FA7-8086-4B7F-8374-ECCB52FF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E472-3FDD-42D6-BB27-8B0489DE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4F70-335E-4905-8B42-94EF6C9D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8D4A-4B90-4799-BBA3-2274E46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7A26-4CBA-486E-B5E6-74A1A69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4913-02FC-4627-A46C-245E281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E889-4099-4ED3-8DF0-4BBBAAFA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7E9-E51D-4A1A-A1C3-B68F3D99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0659-AC7E-4D1B-9F29-3435AFC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BC35-9AA0-45B9-BB52-DC576A9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0DDC-5E1C-4C27-8535-3B3BD2A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3627-B9EB-422C-82FD-DCDC9AD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6F1A-FEEE-4586-B3C0-E88004B7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2747-F6A3-4B20-B281-3342815A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CEB1-93D2-4784-8244-F67C753B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877A-CE91-4EE0-9F3D-5E19C248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014E-ABD5-45F9-A0AA-EAC32F12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8BB3-2361-4945-8E59-5AF83C8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1C9-9CDA-46C3-826F-D8E733D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C467-5F58-4833-B73B-574F72D4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C84A-92F4-4C73-9380-69F5B4D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29BF-D278-4577-99DF-837DABAB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D589-BB15-4DB6-8A68-BBB2776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EC66-DD6E-43C1-BEDD-688A975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08AA-79A7-44D4-BBB9-4C12DFD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F367-B9BE-4E21-A101-41B1028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6978-A5CA-4549-9699-4410842E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C285-6785-4F89-9D25-BB15984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EBD3-A837-44A3-9D0D-D12D0935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E7D-26C7-4FF3-86CF-E58F8E5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F7BC-AE0D-4238-80FA-6E52633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9979-E4B8-4B2B-8B0E-B128F65C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7A8D-72BB-4698-A11B-822BA44E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B6E2-98A4-432E-AFAF-4D91D8C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9836-5B8A-4B74-B0F0-2BBC8BE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1E031-EDA0-4135-AB9A-C481075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6B68-7C15-4610-B485-475BBB8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F2CCA-FFD0-4569-962B-B283A89C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3980-705A-4DBD-9B74-FD6AA58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3A20-555A-45AA-A8CA-44C7777D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44F-30C1-4659-BFBD-17C99FA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90176-5126-46EA-B200-2D9824F2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7E99-FE14-4575-BAC9-8BFD8E89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9A26-98D0-4BC8-B3F1-83B481C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A0F4-74BC-44A2-8BA8-9E39CB32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16E78-B35B-4570-B60D-B4882852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9099-D5CC-4E0D-ACC3-7A1BCEC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28CD7-90B2-4ABB-8B9B-40A4DFEA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A87CE-90E6-4314-8FCE-B04D7AA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4B334-07F9-423F-B94B-1B53159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5F1E-75E7-4DDC-A643-1F3C815E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158-58FD-4FEB-9F84-69341CF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686E-6E40-44C4-A178-0BE55DEF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2E53-CFDB-4134-8172-3F043396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3C71-99C7-4AEA-A67E-406B03D8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9CC-E8BE-4EC4-8FA0-68B5223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8CC-A4CE-4C4F-A704-037CDBF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6C48-2711-4D70-8E77-2C92EE505E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5995-FFB7-4B2A-9CEE-F5B78908947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8EEE-0FEA-442E-AA98-EC6A3777A3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5" name="Овал 8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36" name="Овал 8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38" name="Овал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67D-BE26-40EB-A98B-CED1DD9C1A8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96A-C56A-40E7-AA20-2BDCBEB14C5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оугольник 6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6" name="Блок-схема: процесс 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Блок-схема: процесс 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2459-408B-4449-9C70-F10A8363011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34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Зиннур Мансур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59920" y="1973160"/>
            <a:ext cx="72961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71" name="Picture 4" descr="C:\Documents and Settings\Admin\Мои документы\Мои рисунки\mansurov.gif"/>
          <p:cNvPicPr/>
          <p:nvPr/>
        </p:nvPicPr>
        <p:blipFill>
          <a:blip r:embed="rId1"/>
          <a:stretch/>
        </p:blipFill>
        <p:spPr>
          <a:xfrm>
            <a:off x="228600" y="22860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Шигъ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рия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10666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</a:t>
            </a: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З. Мансуров иҗатында балачак,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яш</a:t>
            </a:r>
            <a:r>
              <a:rPr b="0" lang="ru-RU" sz="30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лек темаларының куелышы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.1. “И балачак...” шигырендә тел-сурәтләү чаралары аша балачак темасының чагылышы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.2. “Чынлап качышлы уйнау”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</a:t>
            </a: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шигырендә          балачак, яшьлек дусларын искә алу, юксыну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.3. “Иделгә карап хәтер яңарту” шигырендә яшьлекнең кабатланмаслыгын чагыштыру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</a:t>
            </a: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алымнары аша тасвирлау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Шиг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ъ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рия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2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 З. Мансуров шигъриятендә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яшьләргә үгет-нәсыйхәт бирү темас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1. “Ут-малай ат тышаулый”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шигырендә яшьләргә киңәш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2. “Яшьлек кайтавазы” шигырендә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яшь буынга үзбәя, үзанализ ясау мәсьәләләре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 </a:t>
            </a:r>
            <a:r>
              <a:rPr b="0" lang="tt-RU" sz="24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. “Атлардан оялу” шигырендә ата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аналарның борчылу сәбәпләренең чагылыш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Сораула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880" y="1143000"/>
            <a:ext cx="8477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Бүгенге 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буынның әхлаг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әрбиясе турында сезнең фикерегез  нинд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ләр арасында күзәтелгән әхлак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сызлык, алкоголизм, наркомания, җинаят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челек өйдәге тәрбиянең сай булуындамы, әллә җәмгыят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нең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искәре йогынтысы нәтиҗәсем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 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буынга нинди киңәшләр бирер идегез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Татар халык мәка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ь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лә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Намусыңны 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ән сак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Кеше холкын күзәт, үзеңнекен төзә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Әйбер - ныклыгы белән, кеше әхлагы белән сынал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tt-RU" sz="3600" spc="-1" strike="noStrike">
                <a:solidFill>
                  <a:srgbClr val="f7d47d"/>
                </a:solidFill>
                <a:latin typeface="Arial"/>
              </a:rPr>
              <a:t>Кулланылган әдәбият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1. Хисамов Н. Күңел тирәнлеге// Шәһри Казан.  2003. №4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2. Урманче Ф., Мәхмүтов Х. Камиллек өлгесе/ Ватаным Татарстан. – 2004. - №4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3. Батулла Р. Җәрәхәтле йөрәк җылырак// Татарстан яш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ләре. – 2003. – 2003. - №6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4. Гаташ Р. Сәфәрләргә чыксаң белерсең...// Казан утлары.  - 2000. - №4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5. Мансуров З. М. Яшәү үзәне: шигырләр һәм поэмалар. – Казан, Тат. Кит. Нәшр., 1998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7d47d"/>
                </a:solidFill>
                <a:latin typeface="Arial"/>
              </a:rPr>
              <a:t>Зиннур Мансуров – СССР Язучылар </a:t>
            </a:r>
            <a:r>
              <a:rPr b="0" lang="tt-RU" sz="3200" spc="-1" strike="noStrike">
                <a:solidFill>
                  <a:srgbClr val="f7d47d"/>
                </a:solidFill>
                <a:latin typeface="Corbel"/>
              </a:rPr>
              <a:t>члены, Татарстан Республикасының сәнгат</a:t>
            </a:r>
            <a:r>
              <a:rPr b="0" lang="ru-RU" sz="3200" spc="-1" strike="noStrike">
                <a:solidFill>
                  <a:srgbClr val="f7d47d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f7d47d"/>
                </a:solidFill>
                <a:latin typeface="Corbel"/>
              </a:rPr>
              <a:t> эшлеклесе, атналык “Мәдәни җомга” газетасын оештыручы, Г. Тукай исемендәге премия лауреат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1066680"/>
            <a:ext cx="67057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pic>
        <p:nvPicPr>
          <p:cNvPr id="375" name="Picture 2" descr="C:\Documents and Settings\Admin\Мои документы\Мои рисунки\304168F6-1E96-4A5F-A236-98321A0F7657_w527_s.jpg"/>
          <p:cNvPicPr/>
          <p:nvPr/>
        </p:nvPicPr>
        <p:blipFill>
          <a:blip r:embed="rId1"/>
          <a:stretch/>
        </p:blipFill>
        <p:spPr>
          <a:xfrm>
            <a:off x="228600" y="228600"/>
            <a:ext cx="7467480" cy="624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З. Мансуров реда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ц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ияд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2" descr="C:\Documents and Settings\Admin\Мои документы\Мои рисунки\9321E423-23F9-475E-9BBA-F8C457FDB9C3_w270_s.jpg"/>
          <p:cNvPicPr/>
          <p:nvPr/>
        </p:nvPicPr>
        <p:blipFill>
          <a:blip r:embed="rId1"/>
          <a:stretch/>
        </p:blipFill>
        <p:spPr>
          <a:xfrm>
            <a:off x="228600" y="228600"/>
            <a:ext cx="7467480" cy="609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өп басма китапла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240" y="456840"/>
            <a:ext cx="7421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 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Кул бирәм”, “Йөз суы”, “Алып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батырга шелтә”, “Күңел сәфәре” – шигыр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ләр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Ваем”, “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Җ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әрәхәтле й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рәк җылырак”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Көнгә шөкер кылуы” – шигыр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ләр,  поэма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лар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Күңелдә фидаи яшәсә”, “Юлын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 бел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гән арымас” –тормыш, әдәбият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сәнгат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 турында уйланулар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Тысячелистник”, “Души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ц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ы белы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запах”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 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 стих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590560" y="1598760"/>
            <a:ext cx="5059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3" name="Picture 5" descr="SDC17807"/>
          <p:cNvPicPr/>
          <p:nvPr/>
        </p:nvPicPr>
        <p:blipFill>
          <a:blip r:embed="rId2"/>
          <a:stretch/>
        </p:blipFill>
        <p:spPr>
          <a:xfrm>
            <a:off x="228600" y="228600"/>
            <a:ext cx="746748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" y="6095880"/>
            <a:ext cx="738648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Зиннур Мансуров гаиләсе белә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6" name="Picture 5" descr="DSC00955"/>
          <p:cNvPicPr/>
          <p:nvPr/>
        </p:nvPicPr>
        <p:blipFill>
          <a:blip r:embed="rId2"/>
          <a:stretch/>
        </p:blipFill>
        <p:spPr>
          <a:xfrm>
            <a:off x="228600" y="45720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Зиннур Мансуров иҗатынд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яш</a:t>
            </a:r>
            <a:r>
              <a:rPr b="0" lang="ru-RU" sz="3600" spc="-1" strike="noStrike">
                <a:solidFill>
                  <a:srgbClr val="f7d47d"/>
                </a:solidFill>
                <a:latin typeface="Corbel"/>
              </a:rPr>
              <a:t>ь</a:t>
            </a: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лек темасының бирелеше һәм яш</a:t>
            </a:r>
            <a:r>
              <a:rPr b="0" lang="ru-RU" sz="3600" spc="-1" strike="noStrike">
                <a:solidFill>
                  <a:srgbClr val="f7d47d"/>
                </a:solidFill>
                <a:latin typeface="Corbel"/>
              </a:rPr>
              <a:t>ь</a:t>
            </a: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 буынга үгет-нәсыйхә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144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2f1311"/>
                </a:solidFill>
                <a:latin typeface="Corbel"/>
              </a:rPr>
              <a:t>   </a:t>
            </a:r>
            <a:r>
              <a:rPr b="1" lang="tt-RU" sz="3200" spc="-1" strike="noStrike">
                <a:solidFill>
                  <a:srgbClr val="f7d47d"/>
                </a:solidFill>
                <a:latin typeface="Corbel"/>
              </a:rPr>
              <a:t> </a:t>
            </a:r>
            <a:r>
              <a:rPr b="1" lang="tt-RU" sz="3200" spc="-1" strike="noStrike">
                <a:solidFill>
                  <a:srgbClr val="f7d47d"/>
                </a:solidFill>
                <a:latin typeface="Corbel"/>
              </a:rPr>
              <a:t>Максат: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З. Мансуров шиг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ъ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риятен   тикшереп, аларда яш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буынны тәрбияләү мәс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әләләрен ачыкла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1" lang="tt-RU" sz="3200" spc="-1" strike="noStrike">
                <a:solidFill>
                  <a:srgbClr val="f7d47d"/>
                </a:solidFill>
                <a:latin typeface="Corbel"/>
              </a:rPr>
              <a:t>Методлар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шагыйр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иҗатын барла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тәрбия мәс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әләләрен чагылдырган  шигыр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ләренә бәяләмә бирү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шагыйр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хакында әдәби мәкаләләр барлау, аларны өйрәнү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З. Мансуров белән элемтәгә керү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шан</dc:creator>
  <dc:description/>
  <dc:language>en-US</dc:language>
  <cp:lastModifiedBy>Рушан</cp:lastModifiedBy>
  <dcterms:modified xsi:type="dcterms:W3CDTF">2015-10-11T17:02:2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