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07E0-8F6D-432B-9E72-95B57D67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B442-7225-4281-90A0-C6E85FDE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C40-D410-4F57-BA6D-0CCB0254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B527-0B6B-47B2-A101-702D39B1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B92A-0691-4A06-89B1-F4ADAA79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A82F-881A-498A-ABC1-CDD12DF6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B3EE-6B45-4A37-AF4B-EB05E366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4364-6451-4580-B688-9F6FF5E0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74D9-E79D-45FE-A68C-1A277B6F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96ED-6C12-442F-8F6D-0DC3DA86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1686-52E1-4BED-91B9-2802CA70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842C-D877-4B25-8AA1-EB8B33E3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7C05-7419-4332-B65E-ABC198E5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D6D7-A051-4D80-97E4-02F512E8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57F1-B49A-4646-9AD7-8EB816DC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E9AF-963F-496E-883B-F6FD2335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6948-1B2B-4919-9A83-9CDCFD13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64711-175D-4EC0-AAD0-D1F77C1B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D5DB1-6F68-496D-9F97-F7CB2019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AC573-C568-4B86-9232-F02F1F0D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83285-DD18-45E6-99D3-079BA041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374A6-A034-4B32-9603-A7234AB9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1C83-705A-4833-8AFE-82D2E3CA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38AD8-DFEB-4CBA-AFB8-9629DA77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3F9FC-46FE-4629-9876-6FEA8CC8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B6F41-2ED1-4417-A635-A1635443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0BAD8-30DF-4DFE-BE61-7B1DE25D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58C1D-9639-4C6A-8D52-1C787AA6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858F6-E0F4-4695-80D5-C0F2F390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6FA5B-3061-4A91-98BB-CD17CB0C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6E988-80E9-4D75-8E1E-952A8936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AC888-AFE0-4EB5-B365-3D53381B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F9FC4-1308-4FF6-98CF-031C15C8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B3B3-DAA5-4F78-82C4-97BF4503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AA178-16C2-4A97-8CCE-C5CEA52B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50ED2-F96E-4671-950A-54700BF2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BBE52-8A9A-4A73-AECE-77D77207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DF7A6-A044-4C98-A7DE-C830547A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AFD2B-7C71-4E35-A0A0-32D316ED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65647-A041-4D87-A0DA-94AFA0A2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E6D24-6845-4E73-ADB7-9468F093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2BBA0-7B63-4E13-A3A4-A5338EE5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96EC2-DC93-4FF6-B414-F2C0EDDF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4E0B4-C51D-4B7D-91E9-F3E0BC9A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B1B1-232E-4A43-8C28-8B370DBA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67387-1365-4E2A-92F2-EAA42906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E8E62-8199-4B8E-8E5C-1273150A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D1E87-FB22-47D1-B023-625CB17F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C3936-9B60-40B0-8A9A-C166A179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5494F-CABC-4DB4-8847-873F204D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31A39-077E-46A7-945F-66332515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82CAC-B956-462E-8894-10978B3A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FE602-2785-46FC-8CFB-1FB7C25F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68FC2-2F12-4125-9642-BB249614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FC85E-9447-4B2D-8E6A-CC5D9F43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467F-B286-4ADB-9DAE-96FCD428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E0DC0-9BAF-4E1E-9CCB-5DD4E4A8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8769C-B592-4BAB-9453-2B4BC9F8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041AD-22B5-4D3D-AC60-342A6A1B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42548-3D18-48DA-B6F8-B40CD6E9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16853-46FF-4CEA-A9F2-34E3F8E1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9B461-659E-4E22-8036-13C0F2E2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ED44F-9EEB-4339-A449-15EA47CB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F67B7-1A7F-4CBD-8FEA-718840F1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C96F4-1F4F-4B86-AC76-97690EA0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A0BF4-71AB-4244-84A3-303ABF97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E05F-E35E-4392-A4A7-F375B2A6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24C1A-E00E-4D10-9C57-1D10B5C0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E4965-F881-40BA-AC84-0C57EF62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08BB2-49AA-4B1E-84D7-540B635C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C131-6B43-446E-9406-8E8B137D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EF46-2C81-4C04-B133-44CA9C40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32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32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32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32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32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969B-BA14-4824-B50E-C143C48710A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9614-24FD-4DB4-B2DC-8C082043BE5E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32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32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32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32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32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2DC8-1FBD-41D3-ABDB-E027EF0D651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Прямоугольник 7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35" name="Овал 8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236" name="Овал 8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38" name="Овал 9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0BD9-11DD-4462-916C-82DA335A9CF6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рямоугольник 6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Прямоугольник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0652-853F-4A95-8088-672C49DAD3E6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Прямоугольник 6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24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26" name="Блок-схема: процесс 7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7" name="Блок-схема: процесс 8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BE54-1DC4-449C-801A-ACD0C3443901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634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Зиннур Мансур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259920" y="1973160"/>
            <a:ext cx="72961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71" name="Picture 4" descr="C:\Documents and Settings\Admin\Мои документы\Мои рисунки\mansurov.gif"/>
          <p:cNvPicPr/>
          <p:nvPr/>
        </p:nvPicPr>
        <p:blipFill>
          <a:blip r:embed="rId1"/>
          <a:stretch/>
        </p:blipFill>
        <p:spPr>
          <a:xfrm>
            <a:off x="228600" y="228600"/>
            <a:ext cx="7467480" cy="5867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8880" y="222120"/>
            <a:ext cx="747684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Шигъ</a:t>
            </a: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рият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28600" y="10666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tt-RU" sz="3000" spc="-1" strike="noStrike">
                <a:solidFill>
                  <a:srgbClr val="2f1311"/>
                </a:solidFill>
                <a:latin typeface="Corbel"/>
              </a:rPr>
              <a:t>1</a:t>
            </a:r>
            <a:r>
              <a:rPr b="0" lang="tt-RU" sz="3000" spc="-1" strike="noStrike">
                <a:solidFill>
                  <a:srgbClr val="2f1311"/>
                </a:solidFill>
                <a:latin typeface="Arial"/>
              </a:rPr>
              <a:t>.</a:t>
            </a:r>
            <a:r>
              <a:rPr b="0" lang="tt-RU" sz="3000" spc="-1" strike="noStrike">
                <a:solidFill>
                  <a:srgbClr val="2f1311"/>
                </a:solidFill>
                <a:latin typeface="Corbel"/>
              </a:rPr>
              <a:t> З. Мансуров иҗатында балачак,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tt-RU" sz="3000" spc="-1" strike="noStrike">
                <a:solidFill>
                  <a:srgbClr val="2f1311"/>
                </a:solidFill>
                <a:latin typeface="Corbel"/>
              </a:rPr>
              <a:t>яш</a:t>
            </a:r>
            <a:r>
              <a:rPr b="0" lang="ru-RU" sz="3000" spc="-1" strike="noStrike">
                <a:solidFill>
                  <a:srgbClr val="2f1311"/>
                </a:solidFill>
                <a:latin typeface="Corbel"/>
              </a:rPr>
              <a:t>ь</a:t>
            </a:r>
            <a:r>
              <a:rPr b="0" lang="tt-RU" sz="3000" spc="-1" strike="noStrike">
                <a:solidFill>
                  <a:srgbClr val="2f1311"/>
                </a:solidFill>
                <a:latin typeface="Corbel"/>
              </a:rPr>
              <a:t>лек темаларының куелышы;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2f1311"/>
                </a:solidFill>
                <a:latin typeface="Corbel"/>
              </a:rPr>
              <a:t>    </a:t>
            </a:r>
            <a:r>
              <a:rPr b="0" lang="tt-RU" sz="3000" spc="-1" strike="noStrike">
                <a:solidFill>
                  <a:srgbClr val="2f1311"/>
                </a:solidFill>
                <a:latin typeface="Corbel"/>
              </a:rPr>
              <a:t>1.1. “И балачак...” шигырендә тел-сурәтләү чаралары аша балачак темасының чагылышы;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2f1311"/>
                </a:solidFill>
                <a:latin typeface="Corbel"/>
              </a:rPr>
              <a:t>    </a:t>
            </a:r>
            <a:r>
              <a:rPr b="0" lang="tt-RU" sz="3000" spc="-1" strike="noStrike">
                <a:solidFill>
                  <a:srgbClr val="2f1311"/>
                </a:solidFill>
                <a:latin typeface="Corbel"/>
              </a:rPr>
              <a:t>1.2. “Чынлап качышлы уйнау”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2f1311"/>
                </a:solidFill>
                <a:latin typeface="Corbel"/>
              </a:rPr>
              <a:t> </a:t>
            </a:r>
            <a:r>
              <a:rPr b="0" lang="tt-RU" sz="30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tt-RU" sz="3000" spc="-1" strike="noStrike">
                <a:solidFill>
                  <a:srgbClr val="2f1311"/>
                </a:solidFill>
                <a:latin typeface="Corbel"/>
              </a:rPr>
              <a:t>шигырендә          балачак, яшьлек дусларын искә алу, юксыну;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2f1311"/>
                </a:solidFill>
                <a:latin typeface="Corbel"/>
              </a:rPr>
              <a:t>    </a:t>
            </a:r>
            <a:r>
              <a:rPr b="0" lang="tt-RU" sz="3000" spc="-1" strike="noStrike">
                <a:solidFill>
                  <a:srgbClr val="2f1311"/>
                </a:solidFill>
                <a:latin typeface="Corbel"/>
              </a:rPr>
              <a:t>1.3. “Иделгә карап хәтер яңарту” шигырендә яшьлекнең кабатланмаслыгын чагыштыру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2f1311"/>
                </a:solidFill>
                <a:latin typeface="Corbel"/>
              </a:rPr>
              <a:t> </a:t>
            </a:r>
            <a:r>
              <a:rPr b="0" lang="tt-RU" sz="30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tt-RU" sz="3000" spc="-1" strike="noStrike">
                <a:solidFill>
                  <a:srgbClr val="2f1311"/>
                </a:solidFill>
                <a:latin typeface="Corbel"/>
              </a:rPr>
              <a:t>алымнары аша тасвирлау.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2f1311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             </a:t>
            </a: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Шиг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ъ</a:t>
            </a: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рият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282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2f1311"/>
                </a:solidFill>
                <a:latin typeface="Corbel"/>
              </a:rPr>
              <a:t>    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2. З. Мансуров шигъриятендә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яшьләргә үгет-нәсыйхәт бирү темасы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    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2.1. “Ут-малай ат тышаулый”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шигырендә яшьләргә киңәш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    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2.2. “Яшьлек кайтавазы” шигырендә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яшь буынга үзбәя, үзанализ ясау мәсьәләләре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    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2. </a:t>
            </a:r>
            <a:r>
              <a:rPr b="0" lang="tt-RU" sz="2400" spc="-1" strike="noStrike">
                <a:solidFill>
                  <a:srgbClr val="2f1311"/>
                </a:solidFill>
                <a:latin typeface="Arial"/>
              </a:rPr>
              <a:t>3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. “Атлардан оялу” шигырендә ата</a:t>
            </a: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-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аналарның борчылу сәбәпләренең чагылышы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              </a:t>
            </a: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Сораулар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0880" y="1143000"/>
            <a:ext cx="8477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Бүгенге яш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ь</a:t>
            </a: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 буынның әхлагы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тәрбиясе турында сезнең фикерегез  нинди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Яш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ь</a:t>
            </a: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ләр арасында күзәтелгән әхлак-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сызлык, алкоголизм, наркомания, җинаят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ь</a:t>
            </a: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челек өйдәге тәрбиянең сай булуындамы, әллә җәмгыят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ь</a:t>
            </a: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нең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тискәре йогынтысы нәтиҗәсем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-  Яш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ь</a:t>
            </a: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 буынга нинди киңәшләр бирер идегез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Татар халык мәкал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ь</a:t>
            </a: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ләр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- Намусыңны яш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ь</a:t>
            </a: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тән сакл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- Кеше холкын күзәт, үзеңнекен төзә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- Әйбер - ныклыгы белән, кеше әхлагы белән сынал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7d47d"/>
                </a:solidFill>
                <a:latin typeface="Arial"/>
              </a:rPr>
              <a:t>        </a:t>
            </a:r>
            <a:r>
              <a:rPr b="0" lang="tt-RU" sz="3600" spc="-1" strike="noStrike">
                <a:solidFill>
                  <a:srgbClr val="f7d47d"/>
                </a:solidFill>
                <a:latin typeface="Arial"/>
              </a:rPr>
              <a:t>Кулланылган әдәбият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610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1. Хисамов Н. Күңел тирәнлеге// Шәһри Казан.  2003. №4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2. Урманче Ф., Мәхмүтов Х. Камиллек өлгесе/ Ватаным Татарстан. – 2004. - №4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3. Батулла Р. Җәрәхәтле йөрәк җылырак// Татарстан яш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ь</a:t>
            </a: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ләре. – 2003. – 2003. - №6№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4. Гаташ Р. Сәфәрләргә чыксаң белерсең...// Казан утлары.  - 2000. - №4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5. Мансуров З. М. Яшәү үзәне: шигырләр һәм поэмалар. – Казан, Тат. Кит. Нәшр., 1998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7d47d"/>
                </a:solidFill>
                <a:latin typeface="Arial"/>
              </a:rPr>
              <a:t>Зиннур Мансуров – СССР Язучылар </a:t>
            </a:r>
            <a:r>
              <a:rPr b="0" lang="tt-RU" sz="3200" spc="-1" strike="noStrike">
                <a:solidFill>
                  <a:srgbClr val="f7d47d"/>
                </a:solidFill>
                <a:latin typeface="Corbel"/>
              </a:rPr>
              <a:t>члены, Татарстан Республикасының сәнгат</a:t>
            </a:r>
            <a:r>
              <a:rPr b="0" lang="ru-RU" sz="3200" spc="-1" strike="noStrike">
                <a:solidFill>
                  <a:srgbClr val="f7d47d"/>
                </a:solidFill>
                <a:latin typeface="Corbel"/>
              </a:rPr>
              <a:t>ь</a:t>
            </a:r>
            <a:r>
              <a:rPr b="0" lang="tt-RU" sz="3200" spc="-1" strike="noStrike">
                <a:solidFill>
                  <a:srgbClr val="f7d47d"/>
                </a:solidFill>
                <a:latin typeface="Corbel"/>
              </a:rPr>
              <a:t> эшлеклесе, атналык “Мәдәни җомга” газетасын оештыручы, Г. Тукай исемендәге премия лауреаты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1066680"/>
            <a:ext cx="670572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Corbel"/>
            </a:endParaRPr>
          </a:p>
        </p:txBody>
      </p:sp>
      <p:pic>
        <p:nvPicPr>
          <p:cNvPr id="375" name="Picture 2" descr="C:\Documents and Settings\Admin\Мои документы\Мои рисунки\304168F6-1E96-4A5F-A236-98321A0F7657_w527_s.jpg"/>
          <p:cNvPicPr/>
          <p:nvPr/>
        </p:nvPicPr>
        <p:blipFill>
          <a:blip r:embed="rId1"/>
          <a:stretch/>
        </p:blipFill>
        <p:spPr>
          <a:xfrm>
            <a:off x="228600" y="228600"/>
            <a:ext cx="7467480" cy="6248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Corbe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6248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                     </a:t>
            </a: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З. Мансуров редак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ц</a:t>
            </a: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иядә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8" name="Picture 2" descr="C:\Documents and Settings\Admin\Мои документы\Мои рисунки\9321E423-23F9-475E-9BBA-F8C457FDB9C3_w270_s.jpg"/>
          <p:cNvPicPr/>
          <p:nvPr/>
        </p:nvPicPr>
        <p:blipFill>
          <a:blip r:embed="rId1"/>
          <a:stretch/>
        </p:blipFill>
        <p:spPr>
          <a:xfrm>
            <a:off x="228600" y="228600"/>
            <a:ext cx="7467480" cy="6095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477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Т</a:t>
            </a: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өп басма китапла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240" y="456840"/>
            <a:ext cx="7421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 </a:t>
            </a: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- </a:t>
            </a: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“Кул бирәм”, “Йөз суы”, “Алып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батырга шелтә”, “Күңел сәфәре” – шигыр</a:t>
            </a:r>
            <a:r>
              <a:rPr b="0" lang="ru-RU" sz="2800" spc="-1" strike="noStrike">
                <a:solidFill>
                  <a:srgbClr val="2f1311"/>
                </a:solidFill>
                <a:latin typeface="Corbel"/>
              </a:rPr>
              <a:t>ь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ләр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- </a:t>
            </a: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“Ваем”, “</a:t>
            </a: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Җ</a:t>
            </a: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әрәхәтле й</a:t>
            </a: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ө</a:t>
            </a: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рәк җылырак”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“</a:t>
            </a: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Көнгә шөкер кылуы” – шигыр</a:t>
            </a:r>
            <a:r>
              <a:rPr b="0" lang="ru-RU" sz="2800" spc="-1" strike="noStrike">
                <a:solidFill>
                  <a:srgbClr val="2f1311"/>
                </a:solidFill>
                <a:latin typeface="Corbel"/>
              </a:rPr>
              <a:t>ь</a:t>
            </a: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ләр,  поэма</a:t>
            </a: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лар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- </a:t>
            </a: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“Күңелдә фидаи яшәсә”, “Юлын</a:t>
            </a: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 бел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гән арымас” –тормыш, әдәбият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сәнгат</a:t>
            </a:r>
            <a:r>
              <a:rPr b="0" lang="ru-RU" sz="2800" spc="-1" strike="noStrike">
                <a:solidFill>
                  <a:srgbClr val="2f1311"/>
                </a:solidFill>
                <a:latin typeface="Corbel"/>
              </a:rPr>
              <a:t>ь</a:t>
            </a: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 турында уйланулар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- </a:t>
            </a: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“Тысячелистник”, “Души</a:t>
            </a:r>
            <a:r>
              <a:rPr b="0" lang="ru-RU" sz="2800" spc="-1" strike="noStrike">
                <a:solidFill>
                  <a:srgbClr val="2f1311"/>
                </a:solidFill>
                <a:latin typeface="Corbel"/>
              </a:rPr>
              <a:t>ц</a:t>
            </a: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ы белый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запах”</a:t>
            </a: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 - </a:t>
            </a:r>
            <a:r>
              <a:rPr b="0" lang="tt-RU" sz="2800" spc="-1" strike="noStrike">
                <a:solidFill>
                  <a:srgbClr val="2f1311"/>
                </a:solidFill>
                <a:latin typeface="Corbel"/>
              </a:rPr>
              <a:t> стих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Corbe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2590560" y="1598760"/>
            <a:ext cx="50590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83" name="Picture 5" descr="SDC17807"/>
          <p:cNvPicPr/>
          <p:nvPr/>
        </p:nvPicPr>
        <p:blipFill>
          <a:blip r:embed="rId2"/>
          <a:stretch/>
        </p:blipFill>
        <p:spPr>
          <a:xfrm>
            <a:off x="228600" y="228600"/>
            <a:ext cx="7467480" cy="6324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Corbe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28600" y="6095880"/>
            <a:ext cx="7386480" cy="1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-41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Зиннур Мансуров гаиләсе белән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86" name="Picture 5" descr="DSC00955"/>
          <p:cNvPicPr/>
          <p:nvPr/>
        </p:nvPicPr>
        <p:blipFill>
          <a:blip r:embed="rId2"/>
          <a:stretch/>
        </p:blipFill>
        <p:spPr>
          <a:xfrm>
            <a:off x="228600" y="457200"/>
            <a:ext cx="7467480" cy="556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Corbe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2f1311"/>
                </a:solidFill>
                <a:latin typeface="Corbel"/>
              </a:rPr>
              <a:t>    </a:t>
            </a:r>
            <a:r>
              <a:rPr b="0" lang="tt-RU" sz="3600" spc="-1" strike="noStrike">
                <a:solidFill>
                  <a:srgbClr val="f7d47d"/>
                </a:solidFill>
                <a:latin typeface="Corbel"/>
              </a:rPr>
              <a:t>Зиннур Мансуров иҗатында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7d47d"/>
                </a:solidFill>
                <a:latin typeface="Corbel"/>
              </a:rPr>
              <a:t>яш</a:t>
            </a:r>
            <a:r>
              <a:rPr b="0" lang="ru-RU" sz="3600" spc="-1" strike="noStrike">
                <a:solidFill>
                  <a:srgbClr val="f7d47d"/>
                </a:solidFill>
                <a:latin typeface="Corbel"/>
              </a:rPr>
              <a:t>ь</a:t>
            </a:r>
            <a:r>
              <a:rPr b="0" lang="tt-RU" sz="3600" spc="-1" strike="noStrike">
                <a:solidFill>
                  <a:srgbClr val="f7d47d"/>
                </a:solidFill>
                <a:latin typeface="Corbel"/>
              </a:rPr>
              <a:t>лек темасының бирелеше һәм яш</a:t>
            </a:r>
            <a:r>
              <a:rPr b="0" lang="ru-RU" sz="3600" spc="-1" strike="noStrike">
                <a:solidFill>
                  <a:srgbClr val="f7d47d"/>
                </a:solidFill>
                <a:latin typeface="Corbel"/>
              </a:rPr>
              <a:t>ь</a:t>
            </a:r>
            <a:r>
              <a:rPr b="0" lang="tt-RU" sz="3600" spc="-1" strike="noStrike">
                <a:solidFill>
                  <a:srgbClr val="f7d47d"/>
                </a:solidFill>
                <a:latin typeface="Corbel"/>
              </a:rPr>
              <a:t> буынга үгет-нәсыйхә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Corbe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14400"/>
            <a:ext cx="82296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2f1311"/>
                </a:solidFill>
                <a:latin typeface="Corbel"/>
              </a:rPr>
              <a:t>   </a:t>
            </a:r>
            <a:r>
              <a:rPr b="1" lang="tt-RU" sz="3200" spc="-1" strike="noStrike">
                <a:solidFill>
                  <a:srgbClr val="f7d47d"/>
                </a:solidFill>
                <a:latin typeface="Corbel"/>
              </a:rPr>
              <a:t> </a:t>
            </a:r>
            <a:r>
              <a:rPr b="1" lang="tt-RU" sz="3200" spc="-1" strike="noStrike">
                <a:solidFill>
                  <a:srgbClr val="f7d47d"/>
                </a:solidFill>
                <a:latin typeface="Corbel"/>
              </a:rPr>
              <a:t>Максат: 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 З. Мансуров шиг</a:t>
            </a:r>
            <a:r>
              <a:rPr b="0" lang="ru-RU" sz="3200" spc="-1" strike="noStrike">
                <a:solidFill>
                  <a:srgbClr val="2f1311"/>
                </a:solidFill>
                <a:latin typeface="Corbel"/>
              </a:rPr>
              <a:t>ъ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риятен   тикшереп, аларда яш</a:t>
            </a:r>
            <a:r>
              <a:rPr b="0" lang="ru-RU" sz="3200" spc="-1" strike="noStrike">
                <a:solidFill>
                  <a:srgbClr val="2f1311"/>
                </a:solidFill>
                <a:latin typeface="Corbel"/>
              </a:rPr>
              <a:t>ь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 буынны тәрбияләү мәс</a:t>
            </a:r>
            <a:r>
              <a:rPr b="0" lang="ru-RU" sz="3200" spc="-1" strike="noStrike">
                <a:solidFill>
                  <a:srgbClr val="2f1311"/>
                </a:solidFill>
                <a:latin typeface="Corbel"/>
              </a:rPr>
              <a:t>ь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әләләрен ачыклау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2f1311"/>
                </a:solidFill>
                <a:latin typeface="Corbel"/>
              </a:rPr>
              <a:t>    </a:t>
            </a:r>
            <a:r>
              <a:rPr b="1" lang="tt-RU" sz="3200" spc="-1" strike="noStrike">
                <a:solidFill>
                  <a:srgbClr val="f7d47d"/>
                </a:solidFill>
                <a:latin typeface="Corbel"/>
              </a:rPr>
              <a:t>Методлар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- шагыйр</a:t>
            </a:r>
            <a:r>
              <a:rPr b="0" lang="ru-RU" sz="3200" spc="-1" strike="noStrike">
                <a:solidFill>
                  <a:srgbClr val="2f1311"/>
                </a:solidFill>
                <a:latin typeface="Corbel"/>
              </a:rPr>
              <a:t>ь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 иҗатын барлау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- тәрбия мәс</a:t>
            </a:r>
            <a:r>
              <a:rPr b="0" lang="ru-RU" sz="3200" spc="-1" strike="noStrike">
                <a:solidFill>
                  <a:srgbClr val="2f1311"/>
                </a:solidFill>
                <a:latin typeface="Corbel"/>
              </a:rPr>
              <a:t>ь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әләләрен чагылдырган  шигыр</a:t>
            </a:r>
            <a:r>
              <a:rPr b="0" lang="ru-RU" sz="3200" spc="-1" strike="noStrike">
                <a:solidFill>
                  <a:srgbClr val="2f1311"/>
                </a:solidFill>
                <a:latin typeface="Corbel"/>
              </a:rPr>
              <a:t>ь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ләренә бәяләмә бирү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- шагыйр</a:t>
            </a:r>
            <a:r>
              <a:rPr b="0" lang="ru-RU" sz="3200" spc="-1" strike="noStrike">
                <a:solidFill>
                  <a:srgbClr val="2f1311"/>
                </a:solidFill>
                <a:latin typeface="Corbel"/>
              </a:rPr>
              <a:t>ь</a:t>
            </a: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 хакында әдәби мәкаләләр барлау, аларны өйрәнү</a:t>
            </a:r>
            <a:r>
              <a:rPr b="0" lang="ru-RU" sz="3200" spc="-1" strike="noStrike">
                <a:solidFill>
                  <a:srgbClr val="2f1311"/>
                </a:solidFill>
                <a:latin typeface="Corbel"/>
              </a:rPr>
              <a:t>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Corbel"/>
              </a:rPr>
              <a:t>- З. Мансуров белән элемтәгә керү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ушан</dc:creator>
  <dc:description/>
  <dc:language>en-US</dc:language>
  <cp:lastModifiedBy>Рушан</cp:lastModifiedBy>
  <dcterms:modified xsi:type="dcterms:W3CDTF">2015-10-11T17:02:27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