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7BA-AF5B-4C89-8A8F-F64BAC31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C84-CD05-4FBB-85A2-B9D19471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2A6-103D-4EED-AA75-15253262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686-2B05-4F85-B2CF-53C8C6A6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469-8651-451D-9027-6A5DD8B7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EE6A-C466-426B-B940-E9E1F09E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D01F-75C2-4F83-834C-4AAAAB52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E357-32C1-464F-A1B3-479ECA6D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6540-5B61-478B-BCE7-4FC4ACD1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5E2D-0C08-4B71-A42D-E989F446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2B3C-9E61-4F62-BC2F-6CC7884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F19-4AAF-4B01-AA18-A206F0D9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1E11-C1E9-4D53-B0A4-F48EA585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EC0F-332C-44D7-8C03-2DCF006A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E91D-2B29-47D2-BFBA-21806963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A847-8EAB-4653-AE7A-CBFC0507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6889-70D6-4B09-97B6-7FBE80AC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1E4-25BC-4741-B70D-9DD416CA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947-8852-4B2C-9315-0BB6E5D4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1CB-DFFE-48A5-99FC-581E90F2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E05-1777-4DD8-9305-0147D1A6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680-439F-4864-84BB-68176AC5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18A-7BDE-4317-8981-44652325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CE0-B88F-4154-AD32-DAC4FB04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8225-4861-48DE-BB49-38D4E461E7C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662C-0B76-449E-B2EB-E2ACB81928E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500720"/>
            <a:ext cx="742932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езентацию подготовила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оспитатель Корнил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льга Михайл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857160" y="1071720"/>
            <a:ext cx="757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000"/>
                </a:solidFill>
                <a:latin typeface="Times New Roman"/>
              </a:rPr>
              <a:t>Тема: «Дидактические игры для дошкольник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Тип: практико-ориентирова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раткосроч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облема: интерес детей и родителей к    дидактическим настольным игр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одолжительность проекта –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недели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Участники проекта -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и     младшей  группы, воспитатели группы, родители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5" descr=""/>
          <p:cNvPicPr/>
          <p:nvPr/>
        </p:nvPicPr>
        <p:blipFill>
          <a:blip r:embed="rId1"/>
          <a:stretch/>
        </p:blipFill>
        <p:spPr>
          <a:xfrm>
            <a:off x="341280" y="615960"/>
            <a:ext cx="8474040" cy="1846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55640" y="2707920"/>
            <a:ext cx="7848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-Научить детей играть в дидактические настольные игры, соблюдая правила и ход игры, развивая у них интерес и активное учас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-Познакомить родителей со структурой дидактической игры, её обучающими задачами, способами подачи дет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00040" y="1999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В начале и в конце проекта воспитателями было проведено диагностическое наблю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«Использование дидактических настольных игр  детьми в самостоятельной деятельности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5089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17440" y="1612800"/>
            <a:ext cx="2223000" cy="88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978749"/>
            </a:solidFill>
            <a:miter/>
          </a:ln>
        </p:spPr>
        <p:txBody>
          <a:bodyPr anchor="ctr">
            <a:normAutofit/>
          </a:bodyPr>
          <a:p>
            <a:pPr marL="547560" indent="-41112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5"/>
          <p:cNvSpPr/>
          <p:nvPr/>
        </p:nvSpPr>
        <p:spPr>
          <a:xfrm>
            <a:off x="6500880" y="3286080"/>
            <a:ext cx="2071800" cy="1214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Стрелка вверх 6"/>
          <p:cNvSpPr/>
          <p:nvPr/>
        </p:nvSpPr>
        <p:spPr>
          <a:xfrm>
            <a:off x="4357800" y="2786040"/>
            <a:ext cx="484200" cy="76356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786120" y="3643200"/>
            <a:ext cx="1714680" cy="91440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бл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8"/>
          <p:cNvSpPr/>
          <p:nvPr/>
        </p:nvSpPr>
        <p:spPr>
          <a:xfrm>
            <a:off x="857160" y="2428920"/>
            <a:ext cx="192888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9"/>
          <p:cNvSpPr/>
          <p:nvPr/>
        </p:nvSpPr>
        <p:spPr>
          <a:xfrm>
            <a:off x="1071720" y="5072040"/>
            <a:ext cx="2428560" cy="121464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дожественно-эстетическое развит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Стрелка вверх 10"/>
          <p:cNvSpPr/>
          <p:nvPr/>
        </p:nvSpPr>
        <p:spPr>
          <a:xfrm rot="18441000">
            <a:off x="3066120" y="3184560"/>
            <a:ext cx="484200" cy="765360"/>
          </a:xfrm>
          <a:prstGeom prst="upArrow">
            <a:avLst>
              <a:gd name="adj1" fmla="val 50000"/>
              <a:gd name="adj2" fmla="val 5012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трелка вверх 11"/>
          <p:cNvSpPr/>
          <p:nvPr/>
        </p:nvSpPr>
        <p:spPr>
          <a:xfrm rot="5400000">
            <a:off x="5750280" y="3783960"/>
            <a:ext cx="484200" cy="765000"/>
          </a:xfrm>
          <a:prstGeom prst="upArrow">
            <a:avLst>
              <a:gd name="adj1" fmla="val 50000"/>
              <a:gd name="adj2" fmla="val 5010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12"/>
          <p:cNvSpPr/>
          <p:nvPr/>
        </p:nvSpPr>
        <p:spPr>
          <a:xfrm>
            <a:off x="4929120" y="5286240"/>
            <a:ext cx="2571840" cy="1357560"/>
          </a:xfrm>
          <a:prstGeom prst="ellipse">
            <a:avLst/>
          </a:prstGeom>
          <a:solidFill>
            <a:srgbClr val="0033cc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трелка вверх 13"/>
          <p:cNvSpPr/>
          <p:nvPr/>
        </p:nvSpPr>
        <p:spPr>
          <a:xfrm rot="13683600">
            <a:off x="3346920" y="4482000"/>
            <a:ext cx="484200" cy="765000"/>
          </a:xfrm>
          <a:prstGeom prst="upArrow">
            <a:avLst>
              <a:gd name="adj1" fmla="val 50000"/>
              <a:gd name="adj2" fmla="val 5010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трелка вверх 14"/>
          <p:cNvSpPr/>
          <p:nvPr/>
        </p:nvSpPr>
        <p:spPr>
          <a:xfrm rot="8627400">
            <a:off x="5036400" y="4570200"/>
            <a:ext cx="484200" cy="76356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Активное использование в совместной деятельности настольных дидактических 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Введение дидактических игр и решение обучающих задач при помощи разных форм реализации игрового дейст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Проблемные ситуации для закрепления правил иг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Поощрение ( за самостоятельную организацию игры, привлечение детей в игру, соблюдение правил, умение проследить за выполнением правил товарищам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вивать творческие и познавательные способ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ечевые умения и мелкую моторику ру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богащать словарный запас дошкольни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Формировать предпосылки к поисковой деятельности, интеллектуальной инициатив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пособствовать индивидуальному выражению детей в процессе продуктивной  деятель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5200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рганизация с помощью родителей выставки домашних развивающих игр « Домашние игры ребёнк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ыставка групповых настольно-дидактических игр с учётом возрастных, обучающих задач и оформ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рганизация фотовыставки для родителей « Играя – учимся, играя – познаём», где можно увидеть, в какие настольно-дидактические игры играют дети в групп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онсультация « Дидактическая игра, как средство умственного развития ребёнк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одительское собрание «Какие игрушки нужны детям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3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-Дети в конце проекта стали чаще использовать настольно-дидактические игры с большим интересом и успехом играть в н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-Проявляют познавательные способности; интерес и желание к творческой деятель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-Демонстрируют предпосылки поисковой деятельности, интеллектуальной инициативы; возможные способы решения проблемы с помощью взрослого, а затем и самостоятельно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- Готовы к индивидуальному самовыражению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-Совершенствуют мелкую моторику ру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- Родители были заинтересованы темой и получили новую полезную информацию, успешно опробованную на своих дет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- Родители  стали активно использовать развивающие игры дома с деть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8:19:18Z</dcterms:created>
  <dc:creator>Admin</dc:creator>
  <dc:description/>
  <dc:language>en-US</dc:language>
  <cp:lastModifiedBy>MAX</cp:lastModifiedBy>
  <dcterms:modified xsi:type="dcterms:W3CDTF">2015-10-11T15:53:54Z</dcterms:modified>
  <cp:revision>41</cp:revision>
  <dc:subject/>
  <dc:title>Презентация PowerPoint</dc:title>
</cp:coreProperties>
</file>