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5A2-38E1-4C28-990D-02778117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CB5-1CC7-43A0-9EA3-9FBA5EA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7A8-6B55-4497-AAC1-27FE537F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3C0-2EA7-453C-A21B-74B2CB51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5BB0-6B17-4995-B59F-1D37E21B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EC7A-9EB0-4236-BBDF-8B607DAF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867B-D68D-484B-828E-51B9F4CC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55E-40B7-460A-95A7-9721ACE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D54-2ECA-4C41-972E-64099C4C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A646-9740-4BE5-8F20-449CC23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4C85-DE32-4FB2-A0DA-9E9E0FF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52-E153-4CEC-B593-142C236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109-7802-4B9A-8039-DE0CA5A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7668-4FB1-4CCC-BE25-1AA622C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F7B-9929-489E-9A2E-1077C4A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6D44-A854-4071-8507-979CD8D9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970B-ED75-4408-B90C-9540B65B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37D-E2CB-4734-A82A-C60ED62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575-BF1C-4D82-A404-7A098686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C22-76DC-4AA9-B902-A36ADDAB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E54-2780-41BB-85B5-50983D8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C87-0C9E-4656-A4FF-7DD857E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B19-FBBC-4EB0-BB23-D62219D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1A7-B760-49AA-ACA5-CA1F35B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D5F-459F-4F69-AD07-86402052ECB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4C2-4EA8-4633-94D1-6EE97C8D3A7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500720"/>
            <a:ext cx="742932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езентацию подготовил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оспитатель Корни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льга Михайл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857160" y="107172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Times New Roman"/>
              </a:rPr>
              <a:t>Тема: «Дидактические игры для дошкольни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Тип: практико-ориентирова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раткосроч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облема: интерес детей и родителей к    дидактическим настольным игр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одолжительность проекта –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недели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Участники проекта 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    младшей  группы, воспитатели группы, родители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5" descr=""/>
          <p:cNvPicPr/>
          <p:nvPr/>
        </p:nvPicPr>
        <p:blipFill>
          <a:blip r:embed="rId1"/>
          <a:stretch/>
        </p:blipFill>
        <p:spPr>
          <a:xfrm>
            <a:off x="341280" y="615960"/>
            <a:ext cx="8474040" cy="1846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848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-Научить детей играть в дидактические настольные игры, соблюдая правила и ход игры, развивая у них интерес и активное учас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-Познакомить родителей со структурой дидактической игры, её обучающими задачами, способами подачи дет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00040" y="1999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начале и в конце проекта воспитателями было проведено диагностическое наблю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«Использование дидактических настольных игр  детьми в самостоятельной деятельности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089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17440" y="1612800"/>
            <a:ext cx="2223000" cy="88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txBody>
          <a:bodyPr anchor="ctr">
            <a:normAutofit/>
          </a:bodyPr>
          <a:p>
            <a:pPr marL="547560" indent="-41112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6500880" y="3286080"/>
            <a:ext cx="2071800" cy="1214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трелка вверх 6"/>
          <p:cNvSpPr/>
          <p:nvPr/>
        </p:nvSpPr>
        <p:spPr>
          <a:xfrm>
            <a:off x="4357800" y="2786040"/>
            <a:ext cx="484200" cy="7635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786120" y="3643200"/>
            <a:ext cx="1714680" cy="91440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бл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8"/>
          <p:cNvSpPr/>
          <p:nvPr/>
        </p:nvSpPr>
        <p:spPr>
          <a:xfrm>
            <a:off x="857160" y="2428920"/>
            <a:ext cx="19288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9"/>
          <p:cNvSpPr/>
          <p:nvPr/>
        </p:nvSpPr>
        <p:spPr>
          <a:xfrm>
            <a:off x="1071720" y="5072040"/>
            <a:ext cx="2428560" cy="121464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ественно-эстетическое 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трелка вверх 10"/>
          <p:cNvSpPr/>
          <p:nvPr/>
        </p:nvSpPr>
        <p:spPr>
          <a:xfrm rot="18441000">
            <a:off x="3066120" y="3184560"/>
            <a:ext cx="484200" cy="765360"/>
          </a:xfrm>
          <a:prstGeom prst="upArrow">
            <a:avLst>
              <a:gd name="adj1" fmla="val 50000"/>
              <a:gd name="adj2" fmla="val 5012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трелка вверх 11"/>
          <p:cNvSpPr/>
          <p:nvPr/>
        </p:nvSpPr>
        <p:spPr>
          <a:xfrm rot="5400000">
            <a:off x="5750280" y="3783960"/>
            <a:ext cx="484200" cy="765000"/>
          </a:xfrm>
          <a:prstGeom prst="upArrow">
            <a:avLst>
              <a:gd name="adj1" fmla="val 50000"/>
              <a:gd name="adj2" fmla="val 5010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12"/>
          <p:cNvSpPr/>
          <p:nvPr/>
        </p:nvSpPr>
        <p:spPr>
          <a:xfrm>
            <a:off x="4929120" y="5286240"/>
            <a:ext cx="2571840" cy="13575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трелка вверх 13"/>
          <p:cNvSpPr/>
          <p:nvPr/>
        </p:nvSpPr>
        <p:spPr>
          <a:xfrm rot="13683600">
            <a:off x="3346920" y="4482000"/>
            <a:ext cx="484200" cy="765000"/>
          </a:xfrm>
          <a:prstGeom prst="upArrow">
            <a:avLst>
              <a:gd name="adj1" fmla="val 50000"/>
              <a:gd name="adj2" fmla="val 5010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трелка вверх 14"/>
          <p:cNvSpPr/>
          <p:nvPr/>
        </p:nvSpPr>
        <p:spPr>
          <a:xfrm rot="8627400">
            <a:off x="5036400" y="4570200"/>
            <a:ext cx="484200" cy="7635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ктивное использование в совместной деятельности настольных дидактических 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Введение дидактических игр и решение обучающих задач при помощи разных форм реализации игрового 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роблемные ситуации для закрепления правил иг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оощрение ( за самостоятельную организацию игры, привлечение детей в игру, соблюдение правил, умение проследить за выполнением правил товарищам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ть творческие и познавательные способ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ечевые умения и мелкую моторику ру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богащать словарный запас дошколь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Формировать предпосылки к поисковой деятельности, интеллектуальной инициатив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пособствовать индивидуальному выражению детей в процессе продуктивной  деятель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200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ганизация с помощью родителей выставки домашних развивающих игр « Домашние игры ребён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ыставка групповых настольно-дидактических игр с учётом возрастных, обучающих задач и оформ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ганизация фотовыставки для родителей « Играя – учимся, играя – познаём», где можно увидеть, в какие настольно-дидактические игры играют дети в групп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онсультация « Дидактическая игра, как средство умственного развития ребён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одительское собрание «Какие игрушки нужны детя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Дети в конце проекта стали чаще использовать настольно-дидактические игры с большим интересом и успехом играть в н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Проявляют познавательные способности; интерес и желание к творческой деятель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Демонстрируют предпосылки поисковой деятельности, интеллектуальной инициативы; возможные способы решения проблемы с помощью взрослого, а затем и самостоятельно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 Готовы к индивидуальному самовыражению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Совершенствуют мелкую моторику ру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 Родители были заинтересованы темой и получили новую полезную информацию, успешно опробованную на своих дет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 Родители  стали активно использовать развивающие игры дома с деть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8:19:18Z</dcterms:created>
  <dc:creator>Admin</dc:creator>
  <dc:description/>
  <dc:language>en-US</dc:language>
  <cp:lastModifiedBy>MAX</cp:lastModifiedBy>
  <dcterms:modified xsi:type="dcterms:W3CDTF">2015-10-11T15:53:54Z</dcterms:modified>
  <cp:revision>41</cp:revision>
  <dc:subject/>
  <dc:title>Презентация PowerPoint</dc:title>
</cp:coreProperties>
</file>