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C7E-DC24-4C61-B3BF-DFE8FA87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B37-87CD-4542-A6DC-CE60CE8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850-FD27-4B9E-8DDB-09235F03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603-C2FD-4467-AD74-DD8330F7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8FFC-3A0A-4C7E-ADD4-897338EC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0BC6-20EA-47AE-97FE-6EAA688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1F3D-18E5-4696-AF4E-FE294863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B5C-A8F6-465E-844F-996DA02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0ECC-1362-4375-9000-0292BF2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11F-3887-4E1F-BCA1-674EBA9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787-3D81-4347-BBB9-6866756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CD9-D64A-4B9D-8BC7-9F535E24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7D9-FB57-49B4-90C3-D8E8072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093-3FDF-48A6-AFE6-1ED1374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EF08-B379-402F-8424-1EF51B6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C26F-40F6-40B1-8D3E-90F7543E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5CC4-AF9E-4A6D-B72B-A28F7365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522-5A9C-47D1-802A-F0C54F37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22D-1817-4930-A7D4-8EFB0DA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406-03B6-4E2F-99B6-F047703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7A7-BC23-40D8-B082-E6834C5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601-4467-40EC-AAF6-1CE61E2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15E-8E29-4D64-ABB6-EC777E0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2C0-21CF-44F5-8A71-21A1EE2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D49-A1A7-4845-9B48-88AC15EF4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F38-244E-4CDD-BC62-28B752DE7F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ГБПОУ ВО «Бутурлиновский педагогический техникум»</a:t>
            </a:r>
            <a:br>
              <a:rPr sz="2000"/>
            </a:br>
            <a:r>
              <a:rPr b="1" lang="ru-RU" sz="5800" spc="-1" strike="noStrike">
                <a:solidFill>
                  <a:srgbClr val="999900"/>
                </a:solidFill>
                <a:latin typeface="Garamond"/>
              </a:rPr>
              <a:t>Современный урок</a:t>
            </a:r>
            <a:br>
              <a:rPr sz="5800"/>
            </a:br>
            <a:br>
              <a:rPr sz="5800"/>
            </a:br>
            <a:br>
              <a:rPr sz="5800"/>
            </a:b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Кузнецова Вера Павловна</a:t>
            </a:r>
            <a:br>
              <a:rPr sz="5800"/>
            </a:br>
            <a:br>
              <a:rPr sz="58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радиционная дидактическая структура основана на логике препода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ка домашнего за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епл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временная  дидактическая структура основана на логике позн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изаци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1.мотивационная, 2.содержательна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трукту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Логико-психологическая структура урока (сценарий, режиссура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вязка (интрига, проблем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язка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ненты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ны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ческ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бъективны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ровоззренческ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льтурологический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а и логика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я в практике (а не от теории к практик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е в частном (а не от частного к общем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ое в части (а не от частей к целом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задачи к проблеме, от проблемы к знанию (а не знание без пробле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одержание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ы отбора и переработки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манитар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классициз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онал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ологиз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фференциа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сонификация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Организационные форм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кадемическ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лекции, семинары, коллоквиумы, практикумы, консультации,  зачеты, собеседов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угов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путешествие, конкурс, диспут, турнир, игра, соревнование, аукцион и т.п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ыследеятельност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выстраивание методологической программы деятельности, организационно-деятельностная игра, проектирование, мыследеятельностная рефлекс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актив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социальное проектирование, коммуникативные формы, исследование, дистанционные уроки, Интернет-уроки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ный подход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овательск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990720" y="4419720"/>
            <a:ext cx="19047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9072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6248520" y="4419720"/>
            <a:ext cx="182880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400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895480" y="5029200"/>
            <a:ext cx="33530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124080" y="4343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особ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вающе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чностно-ориентирован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лексив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следеятельностное обу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ктивные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муникативные технолог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КТД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и дифференци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и индивидуал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значит – современный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иды образ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ди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нов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оково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време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вечающий на вызовы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тодики, технологии, подходы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ика виртуальной субъектив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субъ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ор (самоопредел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экспе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иция лидера (принятие на себя ответственност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ерхнормативная активност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редства обучения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фровые образовательные ресурсы (учебные пособия, дидактические материалы, инструменты учебной деятельности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ые технические средства обучения (ПК, проектор, веб-камера и т.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ые средства обучения (электронный микроскоп, ЛЕГО и др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ые динамические пособия, модели, макеты, таблицы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езультаты обуч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ая картина ми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бъективность (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верхнормативная активность, проактивность, стремление брать на себя ответственность за исход дела, способность к отче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ое абстрактное мыш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ние полной структур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оциальной взросл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тивационная готовность к учебно-профессиональной и к общественно-значимой деятельност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дачи урок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уч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ем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мению эффективно действовать в нестандартной ситуации на основе целостной картины м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спитыв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то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сшие ценности, смыслы, мотивы взросления, учебно-трудовой деятельности, социальной активности, «самопроцессы», субъе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звивающ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ч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еятельность, мышление, рефлекс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Формирование целостной картины мира как цель обуч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диционное представление о целостной картине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4"/>
          <p:cNvSpPr/>
          <p:nvPr/>
        </p:nvSpPr>
        <p:spPr>
          <a:xfrm>
            <a:off x="914400" y="2514600"/>
            <a:ext cx="7467480" cy="3733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952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495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862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483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0958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2666880" y="4267080"/>
            <a:ext cx="1295640" cy="152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5105520" y="45720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3581280" y="4800600"/>
            <a:ext cx="1143000" cy="1522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5410080" y="4190760"/>
            <a:ext cx="990720" cy="1522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1905120" y="43434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3581280" y="4495320"/>
            <a:ext cx="6098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2438280" y="4267080"/>
            <a:ext cx="25146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6248520" y="42670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Формирование целостной картины мира как цель обуч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ое представление о целостной картине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914400" y="2514600"/>
            <a:ext cx="7467480" cy="3733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90920" y="4495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8862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648320" y="4724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958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2666880" y="4267080"/>
            <a:ext cx="1295640" cy="152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5105520" y="45720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581280" y="4800600"/>
            <a:ext cx="1143000" cy="152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5410080" y="4190760"/>
            <a:ext cx="990720" cy="152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1905120" y="4343400"/>
            <a:ext cx="1066680" cy="2286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3581280" y="4495320"/>
            <a:ext cx="609840" cy="228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438280" y="4267080"/>
            <a:ext cx="251460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248520" y="42670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895480" y="2819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Философ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9"/>
          <p:cNvSpPr/>
          <p:nvPr/>
        </p:nvSpPr>
        <p:spPr>
          <a:xfrm flipV="1">
            <a:off x="2286000" y="3200400"/>
            <a:ext cx="160020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0"/>
          <p:cNvSpPr/>
          <p:nvPr/>
        </p:nvSpPr>
        <p:spPr>
          <a:xfrm flipV="1">
            <a:off x="3276720" y="3200400"/>
            <a:ext cx="76176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1"/>
          <p:cNvSpPr/>
          <p:nvPr/>
        </p:nvSpPr>
        <p:spPr>
          <a:xfrm flipV="1">
            <a:off x="4572000" y="32000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2"/>
          <p:cNvSpPr/>
          <p:nvPr/>
        </p:nvSpPr>
        <p:spPr>
          <a:xfrm flipH="1" flipV="1">
            <a:off x="5486400" y="3200040"/>
            <a:ext cx="457200" cy="1600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5715000" y="32004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Развивающий аспект урок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витие деятель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тегическая деятельность (мотив, цель, план, средства, организация, действия, результат, анализ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следование (факт, проблема, гипотеза, проверка-сбор новых фактов, выв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ирование (замысел, реализация, рефлекс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ценирование (выстраивание вариантов сценария разворачивания событ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делирование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струирова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Развивающий аспект урок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витие мышл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орет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бобщение, систематизация, определение понятий, классификация, доказательство и т.п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ыки переработки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анализ, синтез, интерпретация, экстраполяция, оценка, аргументация, умение сворачивать информацию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умения отличать факты от мнений, определять соответствие заявления фактам, достоверность источника, видеть  двусмысленность утверждения, невысказанные позиции, предвзятость, логические несоответствия и т.п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вор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перенос, видение новой функции, видение проблемы в стандартной ситуации, видение структуры объекта, альтернативное решение, комбинирование известных способов деятельности с новым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чества мыш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гибкость, антиконфоризм, диалектичность, способность к широкому переносу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 в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е фор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Что отличает современный урок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от традиционного?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есто в образовательном процесс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утратил роль главной организационной формы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го конкурен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льн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ое образ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лева</dc:creator>
  <dc:description/>
  <dc:language>en-US</dc:language>
  <cp:lastModifiedBy>PC</cp:lastModifiedBy>
  <dcterms:modified xsi:type="dcterms:W3CDTF">2015-10-10T18:01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