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FB3-BC3D-4D46-B22E-AC0EB3EE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BBA-22EA-4CF4-9630-73E76E12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D5F-D9DC-4E16-8E6D-FC0ECBCB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439-73F4-4764-B34B-62D2DDBC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6CD8-D4C5-4331-AD06-4E8A52CF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D1B-4090-43D8-8A86-421C57F7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75A-3A55-4ADC-BA5C-8716DAB1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6C95-D8D6-41D6-861F-740B2CE7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98D5-9608-4C82-A57E-F5234B6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9E4-D5CD-413A-ADCE-65E2049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700-9A01-4CC2-894A-FFCD8EE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221-FF83-421D-9799-E53BF01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339C-5910-4610-9B59-C99D488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F6E9-22F8-45BA-BA14-DA74C24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B47F-E86C-43C8-906C-17B2BBB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858-15F6-4349-B411-BA73F789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12FE-748A-4D55-8613-769BC07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1DE-A6BF-4B65-AD72-9FC0642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94F-CA83-4ED4-8C5D-5AF589B0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E81-C88D-4B07-85EC-44B08E56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943-32D9-4C6D-863F-C4F4580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60A-8366-429B-9BAC-BA835D7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FB1-CA16-40FB-9458-5F693B9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A23-A5E0-4FAF-954B-7CBB895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7A20-9EAC-4961-B413-25F70301D7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EA2-66F9-431E-90FD-B373237B06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ГБПОУ ВО «Бутурлиновский педагогический техникум»</a:t>
            </a:r>
            <a:br>
              <a:rPr sz="2000"/>
            </a:br>
            <a:r>
              <a:rPr b="1" lang="ru-RU" sz="5800" spc="-1" strike="noStrike">
                <a:solidFill>
                  <a:srgbClr val="999900"/>
                </a:solidFill>
                <a:latin typeface="Garamond"/>
              </a:rPr>
              <a:t>Современный урок</a:t>
            </a:r>
            <a:br>
              <a:rPr sz="5800"/>
            </a:br>
            <a:br>
              <a:rPr sz="5800"/>
            </a:br>
            <a:br>
              <a:rPr sz="5800"/>
            </a:b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Кузнецова Вера Павловна</a:t>
            </a:r>
            <a:br>
              <a:rPr sz="5800"/>
            </a:br>
            <a:br>
              <a:rPr sz="58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радиционная дидактическая структура основана на логике препода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ка домашнего за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епл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временная  дидактическая структура основана на логике позн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изаци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1.мотивационная, 2.содержательна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Логико-психологическая структура урока (сценарий, режиссура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вязка (интрига, проблем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язка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ненты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ны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ческ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бъективны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ровоззренческ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льтурологический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а и логика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я в практике (а не от теории к практик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е в частном (а не от частного к общем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ое в части (а не от частей к целом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задачи к проблеме, от проблемы к знанию (а не знание без пробле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ы отбора и переработки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манитар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классициз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онал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олог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фференциа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сонификация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Организационные форм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кадемическ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лекции, семинары, коллоквиумы, практикумы, консультации,  зачеты, собеседов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угов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путешествие, конкурс, диспут, турнир, игра, соревнование, аукцион и т.п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ыследеятельност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выстраивание методологической программы деятельности, организационно-деятельностная игра, проектирование, мыследеятельностная рефлекс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актив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социальное проектирование, коммуникативные формы, исследование, дистанционные уроки, Интернет-уроки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ный подход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овательск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990720" y="4419720"/>
            <a:ext cx="19047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9072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6248520" y="4419720"/>
            <a:ext cx="182880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400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895480" y="5029200"/>
            <a:ext cx="33530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124080" y="4343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особ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вающе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чностно-ориентирован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лексив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следеятельност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ктивные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муникативные технолог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КТД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и дифференци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и индивидуал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значит – современный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иды образ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ди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нов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оково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време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вечающий на вызовы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ика виртуальной субъектив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субъ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ор (самоопредел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экспе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лидера (принятие на себя ответственност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ерхнормативная активност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редства обучения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фровые образовательные ресурсы (учебные пособия, дидактические материалы, инструменты учебной деятельности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ые технические средства обучения (ПК, проектор, веб-камера и т.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ые средства обучения (электронный микроскоп, ЛЕГО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ые динамические пособия, модели, макеты, таблицы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езультаты обуч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ая картина ми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бъективность (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верхнормативная активность, проактивность, стремление брать на себя ответственность за исход дела, способность к отче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ое абстрактное мыш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ние полной структур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оциальной взросл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тивационная готовность к учебно-профессиональной и к общественно-значимой деятельност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дачи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уч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ем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мению эффективно действовать в нестандартной ситуации на основе целостной картины м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спитыв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то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сшие ценности, смыслы, мотивы взросления, учебно-трудовой деятельности, социальной активности, «самопроцессы», субъе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звив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еятельность, мышление, рефлекс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Формирование целостной картины мира как цель обуч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диционное представление о целостной картине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4"/>
          <p:cNvSpPr/>
          <p:nvPr/>
        </p:nvSpPr>
        <p:spPr>
          <a:xfrm>
            <a:off x="914400" y="2514600"/>
            <a:ext cx="7467480" cy="3733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952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495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862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483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0958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2666880" y="4267080"/>
            <a:ext cx="1295640" cy="152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5105520" y="45720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3581280" y="4800600"/>
            <a:ext cx="1143000" cy="1522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5410080" y="4190760"/>
            <a:ext cx="990720" cy="1522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1905120" y="43434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3581280" y="4495320"/>
            <a:ext cx="6098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2438280" y="4267080"/>
            <a:ext cx="25146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6248520" y="42670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Формирование целостной картины мира как цель обуч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ое представление о целостной картине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914400" y="2514600"/>
            <a:ext cx="7467480" cy="3733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90920" y="4495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8862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6483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958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2666880" y="4267080"/>
            <a:ext cx="1295640" cy="152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5105520" y="45720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581280" y="4800600"/>
            <a:ext cx="1143000" cy="152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5410080" y="4190760"/>
            <a:ext cx="990720" cy="152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1905120" y="43434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3581280" y="4495320"/>
            <a:ext cx="609840" cy="228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438280" y="4267080"/>
            <a:ext cx="251460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248520" y="42670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895480" y="2819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Философ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9"/>
          <p:cNvSpPr/>
          <p:nvPr/>
        </p:nvSpPr>
        <p:spPr>
          <a:xfrm flipV="1">
            <a:off x="2286000" y="3200400"/>
            <a:ext cx="160020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0"/>
          <p:cNvSpPr/>
          <p:nvPr/>
        </p:nvSpPr>
        <p:spPr>
          <a:xfrm flipV="1">
            <a:off x="3276720" y="3200400"/>
            <a:ext cx="76176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1"/>
          <p:cNvSpPr/>
          <p:nvPr/>
        </p:nvSpPr>
        <p:spPr>
          <a:xfrm flipV="1">
            <a:off x="4572000" y="32000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2"/>
          <p:cNvSpPr/>
          <p:nvPr/>
        </p:nvSpPr>
        <p:spPr>
          <a:xfrm flipH="1" flipV="1">
            <a:off x="5486400" y="3200040"/>
            <a:ext cx="457200" cy="1600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5715000" y="32004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Развивающий аспект урок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витие деятель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тегическая деятельность (мотив, цель, план, средства, организация, действия, результат, анализ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следование (факт, проблема, гипотеза, проверка-сбор новых фактов, выв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ирование (замысел, реализация, рефлекс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ценирование (выстраивание вариантов сценария разворачивания событ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делирование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струирова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Развивающий аспект урок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витие мышл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орет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бобщение, систематизация, определение понятий, классификация, доказательство и т.п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ыки переработки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анализ, синтез, интерпретация, экстраполяция, оценка, аргументация, умение сворачивать информацию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умения отличать факты от мнений, определять соответствие заявления фактам, достоверность источника, видеть  двусмысленность утверждения, невысказанные позиции, предвзятость, логические несоответствия и т.п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вор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перенос, видение новой функции, видение проблемы в стандартной ситуации, видение структуры объекта, альтернативное решение, комбинирование известных способов деятельности с новым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чества мыш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гибкость, антиконфоризм, диалектичность, способность к широкому переносу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 в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е фор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сто в образовательном процесс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утратил роль главной организационной формы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го конкурен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льн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лева</dc:creator>
  <dc:description/>
  <dc:language>en-US</dc:language>
  <cp:lastModifiedBy>PC</cp:lastModifiedBy>
  <dcterms:modified xsi:type="dcterms:W3CDTF">2015-10-10T18:01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