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0.wmf" ContentType="image/x-wmf"/>
  <Override PartName="/ppt/media/image1.jpeg" ContentType="image/jpeg"/>
  <Override PartName="/ppt/media/image23.gif" ContentType="image/gif"/>
  <Override PartName="/ppt/media/image3.png" ContentType="image/png"/>
  <Override PartName="/ppt/media/image40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31.png" ContentType="image/png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43.gif" ContentType="image/gif"/>
  <Override PartName="/ppt/media/image32.gif" ContentType="image/gif"/>
  <Override PartName="/ppt/media/image44.gif" ContentType="image/gif"/>
  <Override PartName="/ppt/media/image33.gif" ContentType="image/gif"/>
  <Override PartName="/ppt/media/image45.gif" ContentType="image/gif"/>
  <Override PartName="/ppt/media/image34.gif" ContentType="image/gif"/>
  <Override PartName="/ppt/media/image46.gif" ContentType="image/gif"/>
  <Override PartName="/ppt/media/image11.gif" ContentType="image/gif"/>
  <Override PartName="/ppt/media/image9.wmf" ContentType="image/x-wmf"/>
  <Override PartName="/ppt/media/image12.gif" ContentType="image/gif"/>
  <Override PartName="/ppt/media/image7.gif" ContentType="image/gif"/>
  <Override PartName="/ppt/media/image37.gif" ContentType="image/gif"/>
  <Override PartName="/ppt/media/image36.gif" ContentType="image/gif"/>
  <Override PartName="/ppt/media/image6.gif" ContentType="image/gif"/>
  <Override PartName="/ppt/media/image29.gif" ContentType="image/gif"/>
  <Override PartName="/ppt/media/image5.gif" ContentType="image/gif"/>
  <Override PartName="/ppt/media/image35.gif" ContentType="image/gif"/>
  <Override PartName="/ppt/media/image13.gif" ContentType="image/gif"/>
  <Override PartName="/ppt/media/image8.gif" ContentType="image/gif"/>
  <Override PartName="/ppt/media/image38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AFB-DD75-439E-AFD9-595D7389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506-FCF2-4F7B-B3A8-37A40EFE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C2C-378C-4901-94D2-0107EA6D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48F-37EB-4303-BDC7-04481922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502C-5F65-485D-9CE4-0D1CFFF6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20C8-A647-4903-A7C1-993D7E6E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021-22B9-4F67-8823-25FC4C3E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749A-9F5C-4C9F-829E-91D5C308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FEB0-5A5A-438F-9C59-A183085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697A-EADD-4428-A0CC-975E6D15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B293-E37A-4E7B-9176-C4E74E7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2BA-E162-453E-B1C6-75A9E6A8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7287-3B58-4B53-B3E5-BD74319E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D558-06A1-4FFC-A088-0F29608A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C9FE-D13B-4975-B7E2-DDFD01BC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076-7AC3-4458-88D1-75102AFF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4A39-8921-44CA-8496-2ED3F8ED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158E-8FB7-48FC-9160-68E26C4D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0AC2-EDE8-4EE5-B337-A830BD62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351F-9BD0-4579-B51A-AF722213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B2FC-6EF9-40B5-8D5B-61BB34F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CD7D-8C73-4677-9AAE-4A52F7CC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49F-8499-4992-9BFC-F05DF64F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41C0-5162-4723-9FF0-00343B17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BF0F-42DD-4521-9D9A-8B016107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CD7A-A6D3-4D6C-B57D-6679D914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AF6E-296F-429C-9A26-8C7EBC6A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A8D4-B1D6-4081-9FC7-9F94B5C4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0EAB-2930-4F19-9B73-4DDE994F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0899-CABA-4A8E-88EC-985E7D8D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C8B4D-12C3-42A0-9E3B-AABA4806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DC6C1-F65E-4238-A391-3171B20B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09A91-2428-464E-867D-EB2B5663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8A6-BB9F-4678-AAEA-E23D343B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D8423-CC6C-4F3D-98A0-C10CE17A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C643E-5A45-4B3D-BFC5-4A6FC020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AA19B-7ACE-427E-AFB2-41661CA7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95698-8507-4AB7-B07C-228C750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47687-3DCE-4FE2-BBDF-FB444389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7C55D-1032-4A0B-9D98-42719CA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2D079-5E8A-40E2-810B-053E762D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39C97-56A8-4EAD-BB19-24276FB7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CB2BD-9AF6-4DBB-8B9F-5197EDF8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D17BF-6658-4CCF-8CC8-7A60A250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475-52D1-4052-8EFA-A67DF29E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29A0-6396-41D9-8F56-CF2D6398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56D8-3103-4CEA-BD3D-04FE3AA7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BBB3-B0A9-458B-A04D-7943535B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FFFA-096C-4B67-907F-121C331A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4827-C732-4E3C-A219-7D708A2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220F-2B17-48E6-B00E-F2CBA149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76528-8F78-4867-931B-DE0F441D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B0BA-A5DB-4FBB-AE49-ADF53CBA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4CC29-3528-4AF5-B55C-394163A0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78DA0-F7BE-4897-B41C-7022A7E3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E5C-02E5-4EF7-9EBD-AB3B895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BA952-249B-4652-BBEF-D2A5217E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BD330-3C7E-4661-A084-E5B82FDE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AF1F4-BAB4-415E-A3F7-BB3448EB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4BB4-BD8A-43DC-A44B-30BDAAFD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55D1B-E76E-447C-8BF3-0659A440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23987-0F08-442B-8829-62704DE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305F2-48CE-4F7A-A08C-7D90E36F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2456-E1C6-4F19-8428-60D78C3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C5147-C060-462E-A408-34AA4EFA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8B9DE-D3F1-4747-8B2F-116166A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958-8E80-4D75-9C1A-E2580CB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7ED04-1CD8-4F8D-BA81-5E0C8F4A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4F8C-CFD4-4EA5-90C2-9EDBF447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9D9B4-2F98-4897-8894-449751D6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A7F2-7C61-483F-BD37-1F3CDE9D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F517-EB81-47A4-9FAB-4F0C8170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EE97-5A9F-41F6-B0C2-A1DD967A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FE3E-94E8-4944-984D-196FD0D9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66BE-9B1D-4027-8B51-099C14E2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EAB9-9DB0-4A8B-BC10-014E943B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FB2A-8343-4ECE-8E5C-03D4C4F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721-77C1-4086-BF55-BB483B4A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94D2-3C0E-4117-B0B6-FDC4085A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893F-21D6-4982-9ED0-0B4D0C9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DD6BD-BB26-4A5B-BC9E-0AC3172F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2359-EC3C-40AB-9A5A-23BBE336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5EA53-F8C0-456E-9E80-CA6EB529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D834F-E846-4024-8404-9576B386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8E64D-E426-4528-B118-6B595335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4533E-DC3E-4EFE-837A-B8DD12BB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447F7-E079-4393-959A-53F2AC66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A91DF-F72A-4319-977A-7C3812DC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419-878E-454F-A716-5221FA0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A3383-A82B-4FB3-9A5C-7EF2E1C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CE297-A673-4FDE-B4FB-F18BFD8E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27872-A43F-485A-BB8B-8F5C0925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22FE8-7641-4ADB-A11D-DF1C79C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866A-F70D-46BC-9567-9C17D3AB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541D8-0F1C-4C05-ACED-4E031DC5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F7EC-28B4-49C9-B019-0E8C6D1E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DFC2-3462-4F69-9F70-EFC1DE487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C5E1-5B7D-407E-BDFE-7774E8297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1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D6DD-DC74-4244-9EA0-EFBC2840B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7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7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5604-7AB5-4744-A84B-AD9F70A99E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23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FBC7-1E03-4517-9B94-275ABDB831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27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17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60A2-0F30-4F2D-A9A5-B04230BB1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330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F02D-C31E-4A80-9243-CC547CFD3C6E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337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381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388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2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2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86D6-2B3F-4042-B494-B4A3C6AC92F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slideLayout" Target="../slideLayouts/slideLayout5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image" Target="../media/image27.jpe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7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slide6.xml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7.xml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7.gif"/><Relationship Id="rId9" Type="http://schemas.openxmlformats.org/officeDocument/2006/relationships/image" Target="../media/image38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7.gif"/><Relationship Id="rId13" Type="http://schemas.openxmlformats.org/officeDocument/2006/relationships/image" Target="../media/image19.gif"/><Relationship Id="rId1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7.gif"/><Relationship Id="rId9" Type="http://schemas.openxmlformats.org/officeDocument/2006/relationships/image" Target="../media/image38.gif"/><Relationship Id="rId10" Type="http://schemas.openxmlformats.org/officeDocument/2006/relationships/slide" Target="slide8.xml"/><Relationship Id="rId1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11.gif"/><Relationship Id="rId8" Type="http://schemas.openxmlformats.org/officeDocument/2006/relationships/slide" Target="slide11.xml"/><Relationship Id="rId9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11.gif"/><Relationship Id="rId8" Type="http://schemas.openxmlformats.org/officeDocument/2006/relationships/slide" Target="slide10.xml"/><Relationship Id="rId9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" Target="slide12.xml"/><Relationship Id="rId5" Type="http://schemas.openxmlformats.org/officeDocument/2006/relationships/image" Target="../media/image24.gif"/><Relationship Id="rId6" Type="http://schemas.openxmlformats.org/officeDocument/2006/relationships/image" Target="../media/image40.gif"/><Relationship Id="rId7" Type="http://schemas.openxmlformats.org/officeDocument/2006/relationships/image" Target="../media/image41.gif"/><Relationship Id="rId8" Type="http://schemas.openxmlformats.org/officeDocument/2006/relationships/image" Target="../media/image42.gif"/><Relationship Id="rId9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" Target="slide11.xml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12.gif"/><Relationship Id="rId8" Type="http://schemas.openxmlformats.org/officeDocument/2006/relationships/image" Target="../media/image43.gif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20.xml"/><Relationship Id="rId3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12.xml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46.gif"/><Relationship Id="rId7" Type="http://schemas.openxmlformats.org/officeDocument/2006/relationships/image" Target="../media/image46.gif"/><Relationship Id="rId8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45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5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5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0.gif"/><Relationship Id="rId3" Type="http://schemas.openxmlformats.org/officeDocument/2006/relationships/slide" Target="slide25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5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 rot="20412000">
            <a:off x="1619280" y="2707920"/>
            <a:ext cx="2827440" cy="37274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5148360" y="2781360"/>
            <a:ext cx="3456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ес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ест-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20397600">
            <a:off x="2363760" y="5733720"/>
            <a:ext cx="2448000" cy="57132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 rot="20443800">
            <a:off x="2771640" y="5950080"/>
            <a:ext cx="17845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ставля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 rot="20570400">
            <a:off x="2987280" y="5805360"/>
            <a:ext cx="1079640" cy="1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МБДОУ ДСКВ №34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42" name="i-main-pic" descr="Картинка 130 из 238"/>
          <p:cNvPicPr/>
          <p:nvPr/>
        </p:nvPicPr>
        <p:blipFill>
          <a:blip r:embed="rId4"/>
          <a:srcRect l="0" t="0" r="11935" b="41969"/>
          <a:stretch/>
        </p:blipFill>
        <p:spPr>
          <a:xfrm>
            <a:off x="0" y="0"/>
            <a:ext cx="1547640" cy="12556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Герои мультфильмов и правила дорожного движения!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 spd="med" advTm="5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7. Где разрешается кататься на велосипеде, санках или лыжах??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55640" y="191628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По дороге предназначенной д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шех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По правой стороне проезжей ч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В специально отведённых мест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массового отдыха, где 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асности выезда на проезжую ч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7380360" y="1125360"/>
            <a:ext cx="1346040" cy="309564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rId2" action="ppaction://hlinksldjump"/>
          </p:cNvPr>
          <p:cNvSpPr/>
          <p:nvPr/>
        </p:nvSpPr>
        <p:spPr>
          <a:xfrm>
            <a:off x="539640" y="3213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">
            <a:hlinkClick r:id="rId3" action="ppaction://hlinksldjump"/>
          </p:cNvPr>
          <p:cNvSpPr/>
          <p:nvPr/>
        </p:nvSpPr>
        <p:spPr>
          <a:xfrm>
            <a:off x="539640" y="4292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">
            <a:hlinkClick r:id="rId4" action="ppaction://hlinksldjump"/>
          </p:cNvPr>
          <p:cNvSpPr/>
          <p:nvPr/>
        </p:nvSpPr>
        <p:spPr>
          <a:xfrm>
            <a:off x="611280" y="1989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0" y="5643720"/>
            <a:ext cx="9144000" cy="1214280"/>
            <a:chOff x="0" y="5643720"/>
            <a:chExt cx="9144000" cy="1214280"/>
          </a:xfrm>
        </p:grpSpPr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6"/>
            <a:stretch/>
          </p:blipFill>
          <p:spPr>
            <a:xfrm>
              <a:off x="147636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7"/>
            <a:stretch/>
          </p:blipFill>
          <p:spPr>
            <a:xfrm>
              <a:off x="298764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8"/>
            <a:stretch/>
          </p:blipFill>
          <p:spPr>
            <a:xfrm>
              <a:off x="450072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9"/>
            <a:stretch/>
          </p:blipFill>
          <p:spPr>
            <a:xfrm>
              <a:off x="601200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0"/>
            <a:stretch/>
          </p:blipFill>
          <p:spPr>
            <a:xfrm>
              <a:off x="7451640" y="5643720"/>
              <a:ext cx="1692360" cy="1214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>
            <a:hlinkClick r:id="rId1" action="ppaction://hlinksldjump"/>
          </p:cNvPr>
          <p:cNvSpPr/>
          <p:nvPr/>
        </p:nvSpPr>
        <p:spPr>
          <a:xfrm>
            <a:off x="3492360" y="37893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19640" y="2565360"/>
            <a:ext cx="1726920" cy="576360"/>
          </a:xfrm>
          <a:custGeom>
            <a:avLst/>
            <a:gdLst>
              <a:gd name="textAreaLeft" fmla="*/ 37080 w 1726920"/>
              <a:gd name="textAreaRight" fmla="*/ 1689840 w 17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3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8. Разрешается ли переходить дорогу по проезжей части, если в этом месте есть пешеходный переход??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376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Разрешается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Не разреш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846000" y="3429000"/>
            <a:ext cx="2249280" cy="2615400"/>
            <a:chOff x="846000" y="3429000"/>
            <a:chExt cx="2249280" cy="2615400"/>
          </a:xfrm>
        </p:grpSpPr>
        <p:pic>
          <p:nvPicPr>
            <p:cNvPr id="541" name="" descr=""/>
            <p:cNvPicPr/>
            <p:nvPr/>
          </p:nvPicPr>
          <p:blipFill>
            <a:blip r:embed="rId2"/>
            <a:stretch/>
          </p:blipFill>
          <p:spPr>
            <a:xfrm>
              <a:off x="1982160" y="3909240"/>
              <a:ext cx="6357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3"/>
            <a:stretch/>
          </p:blipFill>
          <p:spPr>
            <a:xfrm flipH="1">
              <a:off x="1240560" y="3429000"/>
              <a:ext cx="18547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4"/>
            <a:stretch/>
          </p:blipFill>
          <p:spPr>
            <a:xfrm rot="20529600">
              <a:off x="1106640" y="4448880"/>
              <a:ext cx="89172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 rot="20007600">
              <a:off x="971640" y="4870080"/>
              <a:ext cx="6357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6"/>
            <a:stretch/>
          </p:blipFill>
          <p:spPr>
            <a:xfrm rot="948600">
              <a:off x="1106280" y="5109840"/>
              <a:ext cx="75492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1042920" y="522936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">
            <a:hlinkClick r:id="rId2" action="ppaction://hlinksldjump"/>
          </p:cNvPr>
          <p:cNvSpPr/>
          <p:nvPr/>
        </p:nvSpPr>
        <p:spPr>
          <a:xfrm>
            <a:off x="971640" y="191628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">
            <a:hlinkClick r:id="rId3" action="ppaction://hlinksldjump"/>
          </p:cNvPr>
          <p:cNvSpPr/>
          <p:nvPr/>
        </p:nvSpPr>
        <p:spPr>
          <a:xfrm>
            <a:off x="1042920" y="335772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9. В каком случае разрешается переходить дорогу в произвольном месте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916360" y="184464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Всегд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это безопас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Если в зоне видимости н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крёстка, или пешеход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а, и дорога хорош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сматривается в обе сторо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В произвольном мест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ить дорогу нельз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378080" cy="233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5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1" dur="5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4" dur="5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5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2411280" cy="5805360"/>
          </a:xfrm>
          <a:prstGeom prst="rect">
            <a:avLst/>
          </a:prstGeom>
          <a:solidFill>
            <a:srgbClr val="bbe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0"/>
            <a:ext cx="2411280" cy="5805360"/>
          </a:xfrm>
          <a:prstGeom prst="rect">
            <a:avLst/>
          </a:prstGeom>
          <a:solidFill>
            <a:srgbClr val="bbe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64360" cy="68072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1003320" cy="2305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 flipH="1">
            <a:off x="5580000" y="4076640"/>
            <a:ext cx="1379520" cy="1656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5"/>
          <a:stretch/>
        </p:blipFill>
        <p:spPr>
          <a:xfrm>
            <a:off x="250920" y="4653000"/>
            <a:ext cx="1181160" cy="20098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 rot="228600">
            <a:off x="1402920" y="5571720"/>
            <a:ext cx="5762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помощникам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rot="21397800">
            <a:off x="1692000" y="4220640"/>
            <a:ext cx="1495440" cy="1781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79280" y="189000"/>
            <a:ext cx="4321440" cy="15112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716360" cy="159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Теперь Винни-Пух, Бель, Белоснежка, Жасмин, Человек Паук и Симба знают правила дорожного движени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610160" y="2781360"/>
            <a:ext cx="45338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бята, будьте осторожн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лицах города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4" name=""/>
          <p:cNvSpPr/>
          <p:nvPr/>
        </p:nvSpPr>
        <p:spPr>
          <a:xfrm>
            <a:off x="395280" y="3429000"/>
            <a:ext cx="1476360" cy="981000"/>
          </a:xfrm>
          <a:custGeom>
            <a:avLst/>
            <a:gdLst>
              <a:gd name="textAreaLeft" fmla="*/ 63360 w 1476360"/>
              <a:gd name="textAreaRight" fmla="*/ 1413000 w 1476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3" h="21600">
                <a:moveTo>
                  <a:pt x="16252" y="3837"/>
                </a:moveTo>
                <a:lnTo>
                  <a:pt x="18828" y="6448"/>
                </a:lnTo>
                <a:lnTo>
                  <a:pt x="18828" y="4707"/>
                </a:lnTo>
                <a:lnTo>
                  <a:pt x="20603" y="4707"/>
                </a:lnTo>
                <a:lnTo>
                  <a:pt x="20603" y="8224"/>
                </a:lnTo>
                <a:lnTo>
                  <a:pt x="23214" y="10800"/>
                </a:lnTo>
                <a:lnTo>
                  <a:pt x="21561" y="10800"/>
                </a:lnTo>
                <a:lnTo>
                  <a:pt x="21561" y="17989"/>
                </a:lnTo>
                <a:lnTo>
                  <a:pt x="10942" y="17989"/>
                </a:lnTo>
                <a:lnTo>
                  <a:pt x="10942" y="10800"/>
                </a:lnTo>
                <a:lnTo>
                  <a:pt x="9289" y="10800"/>
                </a:lnTo>
                <a:close/>
              </a:path>
              <a:path fill="darkenLess" w="32503" h="21600">
                <a:moveTo>
                  <a:pt x="18828" y="6448"/>
                </a:moveTo>
                <a:lnTo>
                  <a:pt x="18828" y="4707"/>
                </a:lnTo>
                <a:lnTo>
                  <a:pt x="20603" y="4707"/>
                </a:lnTo>
                <a:lnTo>
                  <a:pt x="20603" y="8224"/>
                </a:lnTo>
                <a:close/>
              </a:path>
              <a:path fill="darkenLess" w="32503" h="21600">
                <a:moveTo>
                  <a:pt x="15329" y="14299"/>
                </a:moveTo>
                <a:lnTo>
                  <a:pt x="17174" y="14299"/>
                </a:lnTo>
                <a:lnTo>
                  <a:pt x="17174" y="17989"/>
                </a:lnTo>
                <a:lnTo>
                  <a:pt x="21561" y="17989"/>
                </a:lnTo>
                <a:lnTo>
                  <a:pt x="21561" y="10800"/>
                </a:lnTo>
                <a:lnTo>
                  <a:pt x="10942" y="10800"/>
                </a:lnTo>
                <a:lnTo>
                  <a:pt x="10942" y="17989"/>
                </a:lnTo>
                <a:lnTo>
                  <a:pt x="15329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 flipH="1">
            <a:off x="7308360" y="4508640"/>
            <a:ext cx="1258920" cy="1511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68360" y="2781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жмите на кнопк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627280" y="3357720"/>
            <a:ext cx="4680000" cy="2663640"/>
          </a:xfrm>
          <a:custGeom>
            <a:avLst/>
            <a:gdLst>
              <a:gd name="textAreaLeft" fmla="*/ 172440 w 4680000"/>
              <a:gd name="textAreaRight" fmla="*/ 4507560 w 4680000"/>
              <a:gd name="textAreaTop" fmla="*/ 172440 h 2663640"/>
              <a:gd name="textAreaBottom" fmla="*/ 2491200 h 2663640"/>
            </a:gdLst>
            <a:ahLst/>
            <a:rect l="textAreaLeft" t="textAreaTop" r="textAreaRight" b="textAreaBottom"/>
            <a:pathLst>
              <a:path w="37949" h="21600">
                <a:moveTo>
                  <a:pt x="0" y="0"/>
                </a:moveTo>
                <a:lnTo>
                  <a:pt x="37949" y="0"/>
                </a:lnTo>
                <a:lnTo>
                  <a:pt x="37949" y="21600"/>
                </a:lnTo>
                <a:lnTo>
                  <a:pt x="0" y="21600"/>
                </a:lnTo>
                <a:close/>
              </a:path>
              <a:path fill="lightenLess" w="37949" h="21600">
                <a:moveTo>
                  <a:pt x="0" y="0"/>
                </a:moveTo>
                <a:lnTo>
                  <a:pt x="37949" y="0"/>
                </a:lnTo>
                <a:lnTo>
                  <a:pt x="36549" y="1400"/>
                </a:lnTo>
                <a:lnTo>
                  <a:pt x="1400" y="1400"/>
                </a:lnTo>
                <a:close/>
              </a:path>
              <a:path fill="darken" w="37949" h="21600">
                <a:moveTo>
                  <a:pt x="37949" y="0"/>
                </a:moveTo>
                <a:lnTo>
                  <a:pt x="37949" y="21600"/>
                </a:lnTo>
                <a:lnTo>
                  <a:pt x="36549" y="20200"/>
                </a:lnTo>
                <a:lnTo>
                  <a:pt x="36549" y="1400"/>
                </a:lnTo>
                <a:close/>
              </a:path>
              <a:path fill="darkenLess" w="37949" h="21600">
                <a:moveTo>
                  <a:pt x="37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49" y="20200"/>
                </a:lnTo>
                <a:close/>
              </a:path>
              <a:path fill="lighten" w="37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49" h="21600">
                <a:moveTo>
                  <a:pt x="18974" y="3837"/>
                </a:moveTo>
                <a:lnTo>
                  <a:pt x="21551" y="6448"/>
                </a:lnTo>
                <a:lnTo>
                  <a:pt x="21551" y="4707"/>
                </a:lnTo>
                <a:lnTo>
                  <a:pt x="23326" y="4707"/>
                </a:lnTo>
                <a:lnTo>
                  <a:pt x="23326" y="8224"/>
                </a:lnTo>
                <a:lnTo>
                  <a:pt x="25937" y="10800"/>
                </a:lnTo>
                <a:lnTo>
                  <a:pt x="24284" y="10800"/>
                </a:lnTo>
                <a:lnTo>
                  <a:pt x="24284" y="17989"/>
                </a:lnTo>
                <a:lnTo>
                  <a:pt x="13665" y="17989"/>
                </a:lnTo>
                <a:lnTo>
                  <a:pt x="13665" y="10800"/>
                </a:lnTo>
                <a:lnTo>
                  <a:pt x="12011" y="10800"/>
                </a:lnTo>
                <a:close/>
              </a:path>
              <a:path fill="darkenLess" w="37949" h="21600">
                <a:moveTo>
                  <a:pt x="21551" y="6448"/>
                </a:moveTo>
                <a:lnTo>
                  <a:pt x="21551" y="4707"/>
                </a:lnTo>
                <a:lnTo>
                  <a:pt x="23326" y="4707"/>
                </a:lnTo>
                <a:lnTo>
                  <a:pt x="23326" y="8224"/>
                </a:lnTo>
                <a:close/>
              </a:path>
              <a:path fill="darkenLess" w="37949" h="21600">
                <a:moveTo>
                  <a:pt x="18052" y="14299"/>
                </a:moveTo>
                <a:lnTo>
                  <a:pt x="19897" y="14299"/>
                </a:lnTo>
                <a:lnTo>
                  <a:pt x="19897" y="17989"/>
                </a:lnTo>
                <a:lnTo>
                  <a:pt x="24284" y="17989"/>
                </a:lnTo>
                <a:lnTo>
                  <a:pt x="24284" y="10800"/>
                </a:lnTo>
                <a:lnTo>
                  <a:pt x="13665" y="10800"/>
                </a:lnTo>
                <a:lnTo>
                  <a:pt x="13665" y="17989"/>
                </a:lnTo>
                <a:lnTo>
                  <a:pt x="18052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780000" y="2708280"/>
            <a:ext cx="264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1439640" cy="10843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684360" y="836640"/>
            <a:ext cx="51544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 умница! Здорово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C 2.5E-006 -0.00046 0.00139 -0.03055 0.0033 -0.03773 C 0.00503 -0.04421 0.01059 -0.04977 0.01337 -0.05555 C 0.01719 -0.07199 0.01163 -0.05301 0.01997 -0.06667 C 0.02639 -0.07731 0.0158 -0.07106 0.02674 -0.07546 C 0.02969 -0.07824 0.03212 -0.08194 0.03507 -0.08449 C 0.04323 -0.09167 0.05156 -0.09005 0.06007 -0.0956 C 0.06927 -0.10162 0.06424 -0.0993 0.075 -0.10231 C 0.09201 -0.11319 0.11302 -0.1213 0.1316 -0.12454 C 0.15833 -0.1375 0.13212 -0.12639 0.175 -0.13565 C 0.18368 -0.1375 0.19132 -0.14583 0.2 -0.14676 C 0.2316 -0.15 0.26337 -0.14977 0.29497 -0.15116 C 0.31719 -0.15417 0.33819 -0.16157 0.36007 -0.16667 C 0.37431 -0.175 0.38976 -0.18333 0.40503 -0.18657 C 0.43108 -0.20092 0.45122 -0.20023 0.4816 -0.2044 C 0.49323 -0.2088 0.50503 -0.21111 0.51667 -0.21551 C 0.57066 -0.21366 0.63872 -0.21042 0.68993 -0.21551 C 0.69219 -0.21574 0.69045 -0.22199 0.69167 -0.22454 C 0.69323 -0.22801 0.69601 -0.23032 0.69826 -0.23333 C 0.69948 -0.23796 0.70278 -0.2419 0.7033 -0.24676 C 0.70469 -0.25833 0.70295 -0.2706 0.70503 -0.28217 C 0.70521 -0.28333 0.71337 -0.28542 0.71667 -0.28657 C 0.72622 -0.28981 0.73351 -0.2956 0.7434 -0.29768 C 0.7434 -0.29768 0.75174 -0.30509 0.75174 -0.30671 C 0.75174 -0.31551 0.74497 -0.32847 0.73993 -0.33333 C 0.73542 -0.3375 0.73056 -0.33889 0.72674 -0.34444 E">
                                      <p:cBhvr>
                                        <p:cTn id="595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шибочка вышла, Подумай ещ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43280" y="3573360"/>
            <a:ext cx="5113440" cy="2376720"/>
          </a:xfrm>
          <a:custGeom>
            <a:avLst/>
            <a:gdLst>
              <a:gd name="textAreaLeft" fmla="*/ 153720 w 5113440"/>
              <a:gd name="textAreaRight" fmla="*/ 4959720 w 5113440"/>
              <a:gd name="textAreaTop" fmla="*/ 153720 h 2376720"/>
              <a:gd name="textAreaBottom" fmla="*/ 2223000 h 2376720"/>
            </a:gdLst>
            <a:ahLst/>
            <a:rect l="textAreaLeft" t="textAreaTop" r="textAreaRight" b="textAreaBottom"/>
            <a:pathLst>
              <a:path w="46468" h="21600">
                <a:moveTo>
                  <a:pt x="0" y="0"/>
                </a:moveTo>
                <a:lnTo>
                  <a:pt x="46468" y="0"/>
                </a:lnTo>
                <a:lnTo>
                  <a:pt x="46468" y="21600"/>
                </a:lnTo>
                <a:lnTo>
                  <a:pt x="0" y="21600"/>
                </a:lnTo>
                <a:close/>
              </a:path>
              <a:path fill="lightenLess" w="46468" h="21600">
                <a:moveTo>
                  <a:pt x="0" y="0"/>
                </a:moveTo>
                <a:lnTo>
                  <a:pt x="46468" y="0"/>
                </a:lnTo>
                <a:lnTo>
                  <a:pt x="45068" y="1400"/>
                </a:lnTo>
                <a:lnTo>
                  <a:pt x="1400" y="1400"/>
                </a:lnTo>
                <a:close/>
              </a:path>
              <a:path fill="darken" w="46468" h="21600">
                <a:moveTo>
                  <a:pt x="46468" y="0"/>
                </a:moveTo>
                <a:lnTo>
                  <a:pt x="46468" y="21600"/>
                </a:lnTo>
                <a:lnTo>
                  <a:pt x="45068" y="20200"/>
                </a:lnTo>
                <a:lnTo>
                  <a:pt x="45068" y="1400"/>
                </a:lnTo>
                <a:close/>
              </a:path>
              <a:path fill="darkenLess" w="46468" h="21600">
                <a:moveTo>
                  <a:pt x="46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68" y="20200"/>
                </a:lnTo>
                <a:close/>
              </a:path>
              <a:path fill="lighten" w="46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68" h="21600">
                <a:moveTo>
                  <a:pt x="23234" y="3837"/>
                </a:moveTo>
                <a:lnTo>
                  <a:pt x="25810" y="6448"/>
                </a:lnTo>
                <a:lnTo>
                  <a:pt x="25810" y="4707"/>
                </a:lnTo>
                <a:lnTo>
                  <a:pt x="27586" y="4707"/>
                </a:lnTo>
                <a:lnTo>
                  <a:pt x="27586" y="8224"/>
                </a:lnTo>
                <a:lnTo>
                  <a:pt x="30197" y="10800"/>
                </a:lnTo>
                <a:lnTo>
                  <a:pt x="28543" y="10800"/>
                </a:lnTo>
                <a:lnTo>
                  <a:pt x="28543" y="17989"/>
                </a:lnTo>
                <a:lnTo>
                  <a:pt x="17925" y="17989"/>
                </a:lnTo>
                <a:lnTo>
                  <a:pt x="17925" y="10800"/>
                </a:lnTo>
                <a:lnTo>
                  <a:pt x="16271" y="10800"/>
                </a:lnTo>
                <a:close/>
              </a:path>
              <a:path fill="darkenLess" w="46468" h="21600">
                <a:moveTo>
                  <a:pt x="25810" y="6448"/>
                </a:moveTo>
                <a:lnTo>
                  <a:pt x="25810" y="4707"/>
                </a:lnTo>
                <a:lnTo>
                  <a:pt x="27586" y="4707"/>
                </a:lnTo>
                <a:lnTo>
                  <a:pt x="27586" y="8224"/>
                </a:lnTo>
                <a:close/>
              </a:path>
              <a:path fill="darkenLess" w="46468" h="21600">
                <a:moveTo>
                  <a:pt x="22311" y="14299"/>
                </a:moveTo>
                <a:lnTo>
                  <a:pt x="24157" y="14299"/>
                </a:lnTo>
                <a:lnTo>
                  <a:pt x="24157" y="17989"/>
                </a:lnTo>
                <a:lnTo>
                  <a:pt x="28543" y="17989"/>
                </a:lnTo>
                <a:lnTo>
                  <a:pt x="28543" y="10800"/>
                </a:lnTo>
                <a:lnTo>
                  <a:pt x="17925" y="10800"/>
                </a:lnTo>
                <a:lnTo>
                  <a:pt x="17925" y="17989"/>
                </a:lnTo>
                <a:lnTo>
                  <a:pt x="22311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356000" y="2997360"/>
            <a:ext cx="2648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136044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067280" y="2144880"/>
            <a:ext cx="2665440" cy="22222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684360" y="333360"/>
            <a:ext cx="3382920" cy="2592360"/>
          </a:xfrm>
          <a:prstGeom prst="cloudCallout">
            <a:avLst>
              <a:gd name="adj1" fmla="val 58634"/>
              <a:gd name="adj2" fmla="val 4840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03280" y="692280"/>
            <a:ext cx="19432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ундеркин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8" name="">
            <a:hlinkClick r:id="rId2" action="ppaction://hlinksldjump"/>
          </p:cNvPr>
          <p:cNvSpPr/>
          <p:nvPr/>
        </p:nvSpPr>
        <p:spPr>
          <a:xfrm>
            <a:off x="3419640" y="4653000"/>
            <a:ext cx="3635280" cy="1989000"/>
          </a:xfrm>
          <a:custGeom>
            <a:avLst/>
            <a:gdLst>
              <a:gd name="textAreaLeft" fmla="*/ 128880 w 3635280"/>
              <a:gd name="textAreaRight" fmla="*/ 3506400 w 3635280"/>
              <a:gd name="textAreaTop" fmla="*/ 128880 h 1989000"/>
              <a:gd name="textAreaBottom" fmla="*/ 1860120 h 1989000"/>
            </a:gdLst>
            <a:ahLst/>
            <a:rect l="textAreaLeft" t="textAreaTop" r="textAreaRight" b="textAreaBottom"/>
            <a:pathLst>
              <a:path w="39475" h="21600">
                <a:moveTo>
                  <a:pt x="0" y="0"/>
                </a:moveTo>
                <a:lnTo>
                  <a:pt x="39475" y="0"/>
                </a:lnTo>
                <a:lnTo>
                  <a:pt x="39475" y="21600"/>
                </a:lnTo>
                <a:lnTo>
                  <a:pt x="0" y="21600"/>
                </a:lnTo>
                <a:close/>
              </a:path>
              <a:path fill="lightenLess" w="39475" h="21600">
                <a:moveTo>
                  <a:pt x="0" y="0"/>
                </a:moveTo>
                <a:lnTo>
                  <a:pt x="39475" y="0"/>
                </a:lnTo>
                <a:lnTo>
                  <a:pt x="38075" y="1400"/>
                </a:lnTo>
                <a:lnTo>
                  <a:pt x="1400" y="1400"/>
                </a:lnTo>
                <a:close/>
              </a:path>
              <a:path fill="darken" w="39475" h="21600">
                <a:moveTo>
                  <a:pt x="39475" y="0"/>
                </a:moveTo>
                <a:lnTo>
                  <a:pt x="39475" y="21600"/>
                </a:lnTo>
                <a:lnTo>
                  <a:pt x="38075" y="20200"/>
                </a:lnTo>
                <a:lnTo>
                  <a:pt x="38075" y="1400"/>
                </a:lnTo>
                <a:close/>
              </a:path>
              <a:path fill="darkenLess" w="39475" h="21600">
                <a:moveTo>
                  <a:pt x="3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5" y="20200"/>
                </a:lnTo>
                <a:close/>
              </a:path>
              <a:path fill="lighten" w="3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5" h="21600">
                <a:moveTo>
                  <a:pt x="19737" y="3837"/>
                </a:moveTo>
                <a:lnTo>
                  <a:pt x="22314" y="6448"/>
                </a:lnTo>
                <a:lnTo>
                  <a:pt x="22314" y="4707"/>
                </a:lnTo>
                <a:lnTo>
                  <a:pt x="24089" y="4707"/>
                </a:lnTo>
                <a:lnTo>
                  <a:pt x="24089" y="8224"/>
                </a:lnTo>
                <a:lnTo>
                  <a:pt x="26700" y="10800"/>
                </a:lnTo>
                <a:lnTo>
                  <a:pt x="25047" y="10800"/>
                </a:lnTo>
                <a:lnTo>
                  <a:pt x="25047" y="17989"/>
                </a:lnTo>
                <a:lnTo>
                  <a:pt x="14428" y="17989"/>
                </a:lnTo>
                <a:lnTo>
                  <a:pt x="14428" y="10800"/>
                </a:lnTo>
                <a:lnTo>
                  <a:pt x="12774" y="10800"/>
                </a:lnTo>
                <a:close/>
              </a:path>
              <a:path fill="darkenLess" w="39475" h="21600">
                <a:moveTo>
                  <a:pt x="22314" y="6448"/>
                </a:moveTo>
                <a:lnTo>
                  <a:pt x="22314" y="4707"/>
                </a:lnTo>
                <a:lnTo>
                  <a:pt x="24089" y="4707"/>
                </a:lnTo>
                <a:lnTo>
                  <a:pt x="24089" y="8224"/>
                </a:lnTo>
                <a:close/>
              </a:path>
              <a:path fill="darkenLess" w="39475" h="21600">
                <a:moveTo>
                  <a:pt x="18815" y="14299"/>
                </a:moveTo>
                <a:lnTo>
                  <a:pt x="20660" y="14299"/>
                </a:lnTo>
                <a:lnTo>
                  <a:pt x="20660" y="17989"/>
                </a:lnTo>
                <a:lnTo>
                  <a:pt x="25047" y="17989"/>
                </a:lnTo>
                <a:lnTo>
                  <a:pt x="25047" y="10800"/>
                </a:lnTo>
                <a:lnTo>
                  <a:pt x="14428" y="10800"/>
                </a:lnTo>
                <a:lnTo>
                  <a:pt x="14428" y="17989"/>
                </a:lnTo>
                <a:lnTo>
                  <a:pt x="18815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284720" y="429264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"/>
          <p:cNvSpPr txBox="1"/>
          <p:nvPr/>
        </p:nvSpPr>
        <p:spPr>
          <a:xfrm rot="21015000">
            <a:off x="1186920" y="170028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988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988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3079800" cy="2606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2020680" cy="525600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1026360" y="1161360"/>
            <a:ext cx="3847680" cy="3238560"/>
            <a:chOff x="1026360" y="1161360"/>
            <a:chExt cx="3847680" cy="3238560"/>
          </a:xfrm>
        </p:grpSpPr>
        <p:sp>
          <p:nvSpPr>
            <p:cNvPr id="584" name=""/>
            <p:cNvSpPr/>
            <p:nvPr/>
          </p:nvSpPr>
          <p:spPr>
            <a:xfrm rot="719400">
              <a:off x="1258560" y="1484280"/>
              <a:ext cx="3382920" cy="2592360"/>
            </a:xfrm>
            <a:prstGeom prst="cloudCallout">
              <a:avLst>
                <a:gd name="adj1" fmla="val 75995"/>
                <a:gd name="adj2" fmla="val 44671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 rot="21138000">
              <a:off x="1907640" y="1699920"/>
              <a:ext cx="2089440" cy="18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862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Упс!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862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Ошибочка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862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вышла!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0" y="4869000"/>
            <a:ext cx="3635280" cy="1989000"/>
          </a:xfrm>
          <a:custGeom>
            <a:avLst/>
            <a:gdLst>
              <a:gd name="textAreaLeft" fmla="*/ 128880 w 3635280"/>
              <a:gd name="textAreaRight" fmla="*/ 3506400 w 3635280"/>
              <a:gd name="textAreaTop" fmla="*/ 128880 h 1989000"/>
              <a:gd name="textAreaBottom" fmla="*/ 1860120 h 1989000"/>
            </a:gdLst>
            <a:ahLst/>
            <a:rect l="textAreaLeft" t="textAreaTop" r="textAreaRight" b="textAreaBottom"/>
            <a:pathLst>
              <a:path w="39475" h="21600">
                <a:moveTo>
                  <a:pt x="0" y="0"/>
                </a:moveTo>
                <a:lnTo>
                  <a:pt x="39475" y="0"/>
                </a:lnTo>
                <a:lnTo>
                  <a:pt x="39475" y="21600"/>
                </a:lnTo>
                <a:lnTo>
                  <a:pt x="0" y="21600"/>
                </a:lnTo>
                <a:close/>
              </a:path>
              <a:path fill="lightenLess" w="39475" h="21600">
                <a:moveTo>
                  <a:pt x="0" y="0"/>
                </a:moveTo>
                <a:lnTo>
                  <a:pt x="39475" y="0"/>
                </a:lnTo>
                <a:lnTo>
                  <a:pt x="38075" y="1400"/>
                </a:lnTo>
                <a:lnTo>
                  <a:pt x="1400" y="1400"/>
                </a:lnTo>
                <a:close/>
              </a:path>
              <a:path fill="darken" w="39475" h="21600">
                <a:moveTo>
                  <a:pt x="39475" y="0"/>
                </a:moveTo>
                <a:lnTo>
                  <a:pt x="39475" y="21600"/>
                </a:lnTo>
                <a:lnTo>
                  <a:pt x="38075" y="20200"/>
                </a:lnTo>
                <a:lnTo>
                  <a:pt x="38075" y="1400"/>
                </a:lnTo>
                <a:close/>
              </a:path>
              <a:path fill="darkenLess" w="39475" h="21600">
                <a:moveTo>
                  <a:pt x="3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5" y="20200"/>
                </a:lnTo>
                <a:close/>
              </a:path>
              <a:path fill="lighten" w="3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5" h="21600">
                <a:moveTo>
                  <a:pt x="19737" y="3837"/>
                </a:moveTo>
                <a:lnTo>
                  <a:pt x="22314" y="6448"/>
                </a:lnTo>
                <a:lnTo>
                  <a:pt x="22314" y="4707"/>
                </a:lnTo>
                <a:lnTo>
                  <a:pt x="24089" y="4707"/>
                </a:lnTo>
                <a:lnTo>
                  <a:pt x="24089" y="8224"/>
                </a:lnTo>
                <a:lnTo>
                  <a:pt x="26700" y="10800"/>
                </a:lnTo>
                <a:lnTo>
                  <a:pt x="25047" y="10800"/>
                </a:lnTo>
                <a:lnTo>
                  <a:pt x="25047" y="17989"/>
                </a:lnTo>
                <a:lnTo>
                  <a:pt x="14428" y="17989"/>
                </a:lnTo>
                <a:lnTo>
                  <a:pt x="14428" y="10800"/>
                </a:lnTo>
                <a:lnTo>
                  <a:pt x="12774" y="10800"/>
                </a:lnTo>
                <a:close/>
              </a:path>
              <a:path fill="darkenLess" w="39475" h="21600">
                <a:moveTo>
                  <a:pt x="22314" y="6448"/>
                </a:moveTo>
                <a:lnTo>
                  <a:pt x="22314" y="4707"/>
                </a:lnTo>
                <a:lnTo>
                  <a:pt x="24089" y="4707"/>
                </a:lnTo>
                <a:lnTo>
                  <a:pt x="24089" y="8224"/>
                </a:lnTo>
                <a:close/>
              </a:path>
              <a:path fill="darkenLess" w="39475" h="21600">
                <a:moveTo>
                  <a:pt x="18815" y="14299"/>
                </a:moveTo>
                <a:lnTo>
                  <a:pt x="20660" y="14299"/>
                </a:lnTo>
                <a:lnTo>
                  <a:pt x="20660" y="17989"/>
                </a:lnTo>
                <a:lnTo>
                  <a:pt x="25047" y="17989"/>
                </a:lnTo>
                <a:lnTo>
                  <a:pt x="25047" y="10800"/>
                </a:lnTo>
                <a:lnTo>
                  <a:pt x="14428" y="10800"/>
                </a:lnTo>
                <a:lnTo>
                  <a:pt x="14428" y="17989"/>
                </a:lnTo>
                <a:lnTo>
                  <a:pt x="18815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26920" y="436572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 txBox="1"/>
          <p:nvPr/>
        </p:nvSpPr>
        <p:spPr>
          <a:xfrm>
            <a:off x="3276720" y="1413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раво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 верный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0" name="">
            <a:hlinkClick r:id="rId2" action="ppaction://hlinksldjump"/>
          </p:cNvPr>
          <p:cNvSpPr/>
          <p:nvPr/>
        </p:nvSpPr>
        <p:spPr>
          <a:xfrm>
            <a:off x="3635280" y="4437000"/>
            <a:ext cx="3635640" cy="1989360"/>
          </a:xfrm>
          <a:custGeom>
            <a:avLst/>
            <a:gdLst>
              <a:gd name="textAreaLeft" fmla="*/ 128880 w 3635640"/>
              <a:gd name="textAreaRight" fmla="*/ 3506760 w 3635640"/>
              <a:gd name="textAreaTop" fmla="*/ 128880 h 1989360"/>
              <a:gd name="textAreaBottom" fmla="*/ 1860480 h 198936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9736" y="3837"/>
                </a:moveTo>
                <a:lnTo>
                  <a:pt x="22312" y="6448"/>
                </a:ln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lnTo>
                  <a:pt x="26699" y="10800"/>
                </a:lnTo>
                <a:lnTo>
                  <a:pt x="25045" y="10800"/>
                </a:lnTo>
                <a:lnTo>
                  <a:pt x="25045" y="17989"/>
                </a:lnTo>
                <a:lnTo>
                  <a:pt x="14427" y="17989"/>
                </a:lnTo>
                <a:lnTo>
                  <a:pt x="14427" y="10800"/>
                </a:lnTo>
                <a:lnTo>
                  <a:pt x="12773" y="10800"/>
                </a:lnTo>
                <a:close/>
              </a:path>
              <a:path fill="darkenLess" w="39472" h="21600">
                <a:moveTo>
                  <a:pt x="22312" y="6448"/>
                </a:move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close/>
              </a:path>
              <a:path fill="darkenLess" w="39472" h="21600">
                <a:moveTo>
                  <a:pt x="18813" y="14299"/>
                </a:moveTo>
                <a:lnTo>
                  <a:pt x="20658" y="14299"/>
                </a:lnTo>
                <a:lnTo>
                  <a:pt x="20658" y="17989"/>
                </a:lnTo>
                <a:lnTo>
                  <a:pt x="25045" y="17989"/>
                </a:lnTo>
                <a:lnTo>
                  <a:pt x="25045" y="10800"/>
                </a:lnTo>
                <a:lnTo>
                  <a:pt x="14427" y="10800"/>
                </a:lnTo>
                <a:lnTo>
                  <a:pt x="14427" y="17989"/>
                </a:lnTo>
                <a:lnTo>
                  <a:pt x="18813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00720" y="4005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692360" y="2924280"/>
            <a:ext cx="1985400" cy="2917440"/>
            <a:chOff x="1692360" y="2924280"/>
            <a:chExt cx="1985400" cy="2917440"/>
          </a:xfrm>
        </p:grpSpPr>
        <p:pic>
          <p:nvPicPr>
            <p:cNvPr id="593" name="" descr=""/>
            <p:cNvPicPr/>
            <p:nvPr/>
          </p:nvPicPr>
          <p:blipFill>
            <a:blip r:embed="rId3"/>
            <a:stretch/>
          </p:blipFill>
          <p:spPr>
            <a:xfrm>
              <a:off x="2916000" y="2924280"/>
              <a:ext cx="7617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4"/>
            <a:stretch/>
          </p:blipFill>
          <p:spPr>
            <a:xfrm rot="798600">
              <a:off x="2556720" y="3789360"/>
              <a:ext cx="9046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5"/>
            <a:stretch/>
          </p:blipFill>
          <p:spPr>
            <a:xfrm>
              <a:off x="1692360" y="4508280"/>
              <a:ext cx="761760" cy="13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>
            <a:hlinkClick r:id="rId1" action="ppaction://hlinksldjump"/>
          </p:cNvPr>
          <p:cNvSpPr/>
          <p:nvPr/>
        </p:nvSpPr>
        <p:spPr>
          <a:xfrm>
            <a:off x="3635280" y="4292640"/>
            <a:ext cx="3635640" cy="1989000"/>
          </a:xfrm>
          <a:custGeom>
            <a:avLst/>
            <a:gdLst>
              <a:gd name="textAreaLeft" fmla="*/ 128880 w 3635640"/>
              <a:gd name="textAreaRight" fmla="*/ 3506760 w 3635640"/>
              <a:gd name="textAreaTop" fmla="*/ 128880 h 1989000"/>
              <a:gd name="textAreaBottom" fmla="*/ 1860120 h 1989000"/>
            </a:gdLst>
            <a:ahLst/>
            <a:rect l="textAreaLeft" t="textAreaTop" r="textAreaRight" b="textAreaBottom"/>
            <a:pathLst>
              <a:path w="39479" h="21600">
                <a:moveTo>
                  <a:pt x="0" y="0"/>
                </a:moveTo>
                <a:lnTo>
                  <a:pt x="39479" y="0"/>
                </a:lnTo>
                <a:lnTo>
                  <a:pt x="39479" y="21600"/>
                </a:lnTo>
                <a:lnTo>
                  <a:pt x="0" y="21600"/>
                </a:lnTo>
                <a:close/>
              </a:path>
              <a:path fill="lightenLess" w="39479" h="21600">
                <a:moveTo>
                  <a:pt x="0" y="0"/>
                </a:moveTo>
                <a:lnTo>
                  <a:pt x="39479" y="0"/>
                </a:lnTo>
                <a:lnTo>
                  <a:pt x="38079" y="1400"/>
                </a:lnTo>
                <a:lnTo>
                  <a:pt x="1400" y="1400"/>
                </a:lnTo>
                <a:close/>
              </a:path>
              <a:path fill="darken" w="39479" h="21600">
                <a:moveTo>
                  <a:pt x="39479" y="0"/>
                </a:moveTo>
                <a:lnTo>
                  <a:pt x="39479" y="21600"/>
                </a:lnTo>
                <a:lnTo>
                  <a:pt x="38079" y="20200"/>
                </a:lnTo>
                <a:lnTo>
                  <a:pt x="38079" y="1400"/>
                </a:lnTo>
                <a:close/>
              </a:path>
              <a:path fill="darkenLess" w="39479" h="21600">
                <a:moveTo>
                  <a:pt x="39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9" y="20200"/>
                </a:lnTo>
                <a:close/>
              </a:path>
              <a:path fill="lighten" w="39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9" h="21600">
                <a:moveTo>
                  <a:pt x="19739" y="3837"/>
                </a:moveTo>
                <a:lnTo>
                  <a:pt x="22316" y="6448"/>
                </a:lnTo>
                <a:lnTo>
                  <a:pt x="22316" y="4707"/>
                </a:lnTo>
                <a:lnTo>
                  <a:pt x="24091" y="4707"/>
                </a:lnTo>
                <a:lnTo>
                  <a:pt x="24091" y="8224"/>
                </a:lnTo>
                <a:lnTo>
                  <a:pt x="26702" y="10800"/>
                </a:lnTo>
                <a:lnTo>
                  <a:pt x="25049" y="10800"/>
                </a:lnTo>
                <a:lnTo>
                  <a:pt x="25049" y="17989"/>
                </a:lnTo>
                <a:lnTo>
                  <a:pt x="14430" y="17989"/>
                </a:lnTo>
                <a:lnTo>
                  <a:pt x="14430" y="10800"/>
                </a:lnTo>
                <a:lnTo>
                  <a:pt x="12776" y="10800"/>
                </a:lnTo>
                <a:close/>
              </a:path>
              <a:path fill="darkenLess" w="39479" h="21600">
                <a:moveTo>
                  <a:pt x="22316" y="6448"/>
                </a:moveTo>
                <a:lnTo>
                  <a:pt x="22316" y="4707"/>
                </a:lnTo>
                <a:lnTo>
                  <a:pt x="24091" y="4707"/>
                </a:lnTo>
                <a:lnTo>
                  <a:pt x="24091" y="8224"/>
                </a:lnTo>
                <a:close/>
              </a:path>
              <a:path fill="darkenLess" w="39479" h="21600">
                <a:moveTo>
                  <a:pt x="18817" y="14299"/>
                </a:moveTo>
                <a:lnTo>
                  <a:pt x="20662" y="14299"/>
                </a:lnTo>
                <a:lnTo>
                  <a:pt x="20662" y="17989"/>
                </a:lnTo>
                <a:lnTo>
                  <a:pt x="25049" y="17989"/>
                </a:lnTo>
                <a:lnTo>
                  <a:pt x="25049" y="10800"/>
                </a:lnTo>
                <a:lnTo>
                  <a:pt x="14430" y="10800"/>
                </a:lnTo>
                <a:lnTo>
                  <a:pt x="14430" y="17989"/>
                </a:lnTo>
                <a:lnTo>
                  <a:pt x="1881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00720" y="3789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731880" y="1989000"/>
            <a:ext cx="2100240" cy="25196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 rot="20686200">
            <a:off x="2771640" y="1052280"/>
            <a:ext cx="3095640" cy="1655640"/>
          </a:xfrm>
          <a:prstGeom prst="wedgeRoundRectCallout">
            <a:avLst>
              <a:gd name="adj1" fmla="val -78944"/>
              <a:gd name="adj2" fmla="val 23629"/>
              <a:gd name="adj3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 rot="20511600">
            <a:off x="3156120" y="1274400"/>
            <a:ext cx="237636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86000"/>
                </a:gradFill>
                <a:latin typeface="Impact"/>
              </a:rPr>
              <a:t>Ответ верны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8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86000"/>
                </a:gradFill>
                <a:latin typeface="Impact"/>
              </a:rPr>
              <a:t>Так держ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86000"/>
              </a:gradFill>
              <a:latin typeface="Impact"/>
              <a:ea typeface="Impact"/>
            </a:endParaRPr>
          </a:p>
        </p:txBody>
      </p:sp>
    </p:spTree>
  </p:cSld>
  <p:transition spd="med">
    <p:strips dir="ld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Внимание!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Мультяшки в городе!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1531800" cy="1838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2411280" y="3500280"/>
            <a:ext cx="1057320" cy="14954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 flipH="1">
            <a:off x="6516720" y="414972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7093080" y="1557360"/>
            <a:ext cx="1492200" cy="17906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2987640" y="1844640"/>
            <a:ext cx="39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и веселые и забавные,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 совсем не знают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ил дорожного движения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755640" y="0"/>
            <a:ext cx="1236600" cy="14130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6"/>
          <a:stretch/>
        </p:blipFill>
        <p:spPr>
          <a:xfrm flipH="1">
            <a:off x="7907040" y="0"/>
            <a:ext cx="1236600" cy="1413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7"/>
          <a:stretch/>
        </p:blipFill>
        <p:spPr>
          <a:xfrm>
            <a:off x="3708360" y="3933720"/>
            <a:ext cx="2449440" cy="24368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8"/>
          <a:stretch/>
        </p:blipFill>
        <p:spPr>
          <a:xfrm>
            <a:off x="4932360" y="2997360"/>
            <a:ext cx="638280" cy="1466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9"/>
          <a:stretch/>
        </p:blipFill>
        <p:spPr>
          <a:xfrm>
            <a:off x="1042920" y="4653000"/>
            <a:ext cx="1432080" cy="17193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16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160"/>
                            </p:stCondLst>
                            <p:childTnLst>
                              <p:par>
                                <p:cTn id="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>
            <a:hlinkClick r:id="rId1" action="ppaction://hlinksldjump"/>
          </p:cNvPr>
          <p:cNvSpPr/>
          <p:nvPr/>
        </p:nvSpPr>
        <p:spPr>
          <a:xfrm>
            <a:off x="3635280" y="4221000"/>
            <a:ext cx="3635640" cy="1989360"/>
          </a:xfrm>
          <a:custGeom>
            <a:avLst/>
            <a:gdLst>
              <a:gd name="textAreaLeft" fmla="*/ 128880 w 3635640"/>
              <a:gd name="textAreaRight" fmla="*/ 3506760 w 3635640"/>
              <a:gd name="textAreaTop" fmla="*/ 128880 h 1989360"/>
              <a:gd name="textAreaBottom" fmla="*/ 1860480 h 198936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9736" y="3837"/>
                </a:moveTo>
                <a:lnTo>
                  <a:pt x="22312" y="6448"/>
                </a:ln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lnTo>
                  <a:pt x="26699" y="10800"/>
                </a:lnTo>
                <a:lnTo>
                  <a:pt x="25045" y="10800"/>
                </a:lnTo>
                <a:lnTo>
                  <a:pt x="25045" y="17989"/>
                </a:lnTo>
                <a:lnTo>
                  <a:pt x="14427" y="17989"/>
                </a:lnTo>
                <a:lnTo>
                  <a:pt x="14427" y="10800"/>
                </a:lnTo>
                <a:lnTo>
                  <a:pt x="12773" y="10800"/>
                </a:lnTo>
                <a:close/>
              </a:path>
              <a:path fill="darkenLess" w="39472" h="21600">
                <a:moveTo>
                  <a:pt x="22312" y="6448"/>
                </a:move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close/>
              </a:path>
              <a:path fill="darkenLess" w="39472" h="21600">
                <a:moveTo>
                  <a:pt x="18813" y="14299"/>
                </a:moveTo>
                <a:lnTo>
                  <a:pt x="20658" y="14299"/>
                </a:lnTo>
                <a:lnTo>
                  <a:pt x="20658" y="17989"/>
                </a:lnTo>
                <a:lnTo>
                  <a:pt x="25045" y="17989"/>
                </a:lnTo>
                <a:lnTo>
                  <a:pt x="25045" y="10800"/>
                </a:lnTo>
                <a:lnTo>
                  <a:pt x="14427" y="10800"/>
                </a:lnTo>
                <a:lnTo>
                  <a:pt x="14427" y="17989"/>
                </a:lnTo>
                <a:lnTo>
                  <a:pt x="18813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00720" y="3573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731880" y="1989000"/>
            <a:ext cx="2100240" cy="251964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 rot="20686200">
            <a:off x="2771640" y="1052280"/>
            <a:ext cx="3095640" cy="1655640"/>
          </a:xfrm>
          <a:prstGeom prst="wedgeRoundRectCallout">
            <a:avLst>
              <a:gd name="adj1" fmla="val -78944"/>
              <a:gd name="adj2" fmla="val 23629"/>
              <a:gd name="adj3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 rot="20511600">
            <a:off x="3156120" y="1274400"/>
            <a:ext cx="237636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86000"/>
                </a:gradFill>
                <a:latin typeface="Impact"/>
              </a:rPr>
              <a:t>Ответ неверны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8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486000"/>
                </a:gradFill>
                <a:latin typeface="Impact"/>
              </a:rPr>
              <a:t>Подумай ещ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486000"/>
              </a:gradFill>
              <a:latin typeface="Impact"/>
              <a:ea typeface="Impact"/>
            </a:endParaRPr>
          </a:p>
        </p:txBody>
      </p:sp>
    </p:spTree>
  </p:cSld>
  <p:transition spd="med">
    <p:strips dir="ld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5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 flipV="1">
            <a:off x="250920" y="3356640"/>
            <a:ext cx="7848360" cy="3166920"/>
          </a:xfrm>
          <a:prstGeom prst="cloudCallout">
            <a:avLst>
              <a:gd name="adj1" fmla="val 33412"/>
              <a:gd name="adj2" fmla="val 4658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71640" y="4581360"/>
            <a:ext cx="67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 Sans MS"/>
              </a:rPr>
              <a:t>Будьте внимательны  при переходе ули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2736720" cy="2546280"/>
          </a:xfrm>
          <a:prstGeom prst="rect">
            <a:avLst/>
          </a:prstGeom>
          <a:ln w="0">
            <a:noFill/>
          </a:ln>
        </p:spPr>
      </p:pic>
      <p:grpSp>
        <p:nvGrpSpPr>
          <p:cNvPr id="609" name=""/>
          <p:cNvGrpSpPr/>
          <p:nvPr/>
        </p:nvGrpSpPr>
        <p:grpSpPr>
          <a:xfrm>
            <a:off x="900000" y="764640"/>
            <a:ext cx="3673440" cy="2305080"/>
            <a:chOff x="900000" y="764640"/>
            <a:chExt cx="3673440" cy="2305080"/>
          </a:xfrm>
        </p:grpSpPr>
        <p:sp>
          <p:nvSpPr>
            <p:cNvPr id="610" name="">
              <a:hlinkClick r:id="" action="ppaction://hlinkshowjump?jump=firstslide"/>
            </p:cNvPr>
            <p:cNvSpPr/>
            <p:nvPr/>
          </p:nvSpPr>
          <p:spPr>
            <a:xfrm flipH="1" flipV="1">
              <a:off x="899640" y="764280"/>
              <a:ext cx="3673440" cy="2305080"/>
            </a:xfrm>
            <a:prstGeom prst="cloudCallout">
              <a:avLst>
                <a:gd name="adj1" fmla="val -61930"/>
                <a:gd name="adj2" fmla="val 74444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1549080" y="1557000"/>
              <a:ext cx="2209680" cy="98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Игра закончена!</a:t>
              </a:r>
              <a:endPara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Берегите себя!</a:t>
              </a:r>
              <a:endPara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spd="med">
    <p:strips dir="ld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916360" y="436572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419640" y="3789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0" y="6153120"/>
            <a:ext cx="5305320" cy="704880"/>
            <a:chOff x="0" y="6153120"/>
            <a:chExt cx="5305320" cy="704880"/>
          </a:xfrm>
        </p:grpSpPr>
        <p:pic>
          <p:nvPicPr>
            <p:cNvPr id="615" name="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13683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3"/>
            <a:stretch/>
          </p:blipFill>
          <p:spPr>
            <a:xfrm>
              <a:off x="1332000" y="6153120"/>
              <a:ext cx="14396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4"/>
            <a:stretch/>
          </p:blipFill>
          <p:spPr>
            <a:xfrm>
              <a:off x="2771640" y="6156360"/>
              <a:ext cx="12956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5"/>
            <a:stretch/>
          </p:blipFill>
          <p:spPr>
            <a:xfrm>
              <a:off x="4067280" y="6153120"/>
              <a:ext cx="123804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"/>
          <p:cNvGrpSpPr/>
          <p:nvPr/>
        </p:nvGrpSpPr>
        <p:grpSpPr>
          <a:xfrm>
            <a:off x="3838680" y="6153120"/>
            <a:ext cx="5305320" cy="704880"/>
            <a:chOff x="3838680" y="6153120"/>
            <a:chExt cx="5305320" cy="704880"/>
          </a:xfrm>
        </p:grpSpPr>
        <p:pic>
          <p:nvPicPr>
            <p:cNvPr id="620" name="" descr=""/>
            <p:cNvPicPr/>
            <p:nvPr/>
          </p:nvPicPr>
          <p:blipFill>
            <a:blip r:embed="rId6"/>
            <a:stretch/>
          </p:blipFill>
          <p:spPr>
            <a:xfrm>
              <a:off x="3838680" y="6165720"/>
              <a:ext cx="13683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7"/>
            <a:stretch/>
          </p:blipFill>
          <p:spPr>
            <a:xfrm>
              <a:off x="5170680" y="6153120"/>
              <a:ext cx="14396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8"/>
            <a:stretch/>
          </p:blipFill>
          <p:spPr>
            <a:xfrm>
              <a:off x="6610320" y="6156360"/>
              <a:ext cx="12956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9"/>
            <a:stretch/>
          </p:blipFill>
          <p:spPr>
            <a:xfrm>
              <a:off x="7905960" y="6153120"/>
              <a:ext cx="123804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4" name="" descr=""/>
          <p:cNvPicPr/>
          <p:nvPr/>
        </p:nvPicPr>
        <p:blipFill>
          <a:blip r:embed="rId10"/>
          <a:stretch/>
        </p:blipFill>
        <p:spPr>
          <a:xfrm>
            <a:off x="3348000" y="2421000"/>
            <a:ext cx="1306440" cy="11350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1"/>
          <a:stretch/>
        </p:blipFill>
        <p:spPr>
          <a:xfrm flipH="1">
            <a:off x="4643280" y="2421000"/>
            <a:ext cx="1306800" cy="11350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500720" y="476280"/>
            <a:ext cx="2879640" cy="1728720"/>
          </a:xfrm>
          <a:prstGeom prst="cloudCallout">
            <a:avLst>
              <a:gd name="adj1" fmla="val -56449"/>
              <a:gd name="adj2" fmla="val 91231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003640" y="765000"/>
            <a:ext cx="2105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рн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2"/>
          <a:stretch/>
        </p:blipFill>
        <p:spPr>
          <a:xfrm flipH="1">
            <a:off x="5724360" y="198900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3"/>
          <a:stretch/>
        </p:blipFill>
        <p:spPr>
          <a:xfrm>
            <a:off x="3059280" y="1628640"/>
            <a:ext cx="1000080" cy="1209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1754280" cy="16318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 flipV="1">
            <a:off x="2484360" y="3141000"/>
            <a:ext cx="2951280" cy="1655640"/>
          </a:xfrm>
          <a:prstGeom prst="cloudCallout">
            <a:avLst>
              <a:gd name="adj1" fmla="val 84476"/>
              <a:gd name="adj2" fmla="val 6984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86920" y="371628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Подумай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0" y="6153120"/>
            <a:ext cx="5305320" cy="704880"/>
            <a:chOff x="0" y="6153120"/>
            <a:chExt cx="5305320" cy="704880"/>
          </a:xfrm>
        </p:grpSpPr>
        <p:pic>
          <p:nvPicPr>
            <p:cNvPr id="634" name="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13683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3"/>
            <a:stretch/>
          </p:blipFill>
          <p:spPr>
            <a:xfrm>
              <a:off x="1332000" y="6153120"/>
              <a:ext cx="14396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4"/>
            <a:stretch/>
          </p:blipFill>
          <p:spPr>
            <a:xfrm>
              <a:off x="2771640" y="6156360"/>
              <a:ext cx="12956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5"/>
            <a:stretch/>
          </p:blipFill>
          <p:spPr>
            <a:xfrm>
              <a:off x="4067280" y="6153120"/>
              <a:ext cx="123804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"/>
          <p:cNvGrpSpPr/>
          <p:nvPr/>
        </p:nvGrpSpPr>
        <p:grpSpPr>
          <a:xfrm>
            <a:off x="5292720" y="6153120"/>
            <a:ext cx="5305320" cy="704880"/>
            <a:chOff x="5292720" y="6153120"/>
            <a:chExt cx="5305320" cy="704880"/>
          </a:xfrm>
        </p:grpSpPr>
        <p:pic>
          <p:nvPicPr>
            <p:cNvPr id="639" name="" descr=""/>
            <p:cNvPicPr/>
            <p:nvPr/>
          </p:nvPicPr>
          <p:blipFill>
            <a:blip r:embed="rId6"/>
            <a:stretch/>
          </p:blipFill>
          <p:spPr>
            <a:xfrm>
              <a:off x="5292720" y="6165720"/>
              <a:ext cx="13683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7"/>
            <a:stretch/>
          </p:blipFill>
          <p:spPr>
            <a:xfrm>
              <a:off x="6624720" y="6153120"/>
              <a:ext cx="14396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8"/>
            <a:stretch/>
          </p:blipFill>
          <p:spPr>
            <a:xfrm>
              <a:off x="8064360" y="6156360"/>
              <a:ext cx="12956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9"/>
            <a:stretch/>
          </p:blipFill>
          <p:spPr>
            <a:xfrm>
              <a:off x="9360000" y="6153120"/>
              <a:ext cx="123804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">
            <a:hlinkClick r:id="rId10" action="ppaction://hlinksldjump"/>
          </p:cNvPr>
          <p:cNvSpPr/>
          <p:nvPr/>
        </p:nvSpPr>
        <p:spPr>
          <a:xfrm>
            <a:off x="684360" y="112536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042920" y="62064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000"/>
                            </p:stCondLst>
                            <p:childTnLst>
                              <p:par>
                                <p:cTn id="8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 flipV="1">
            <a:off x="3203640" y="2781000"/>
            <a:ext cx="4176720" cy="1224000"/>
          </a:xfrm>
          <a:prstGeom prst="cloudCallout">
            <a:avLst>
              <a:gd name="adj1" fmla="val -78851"/>
              <a:gd name="adj2" fmla="val 41564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995640" y="2852640"/>
            <a:ext cx="2548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ершенно вер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7" name="">
            <a:hlinkClick r:id="rId1" action="ppaction://hlinksldjump"/>
          </p:cNvPr>
          <p:cNvSpPr/>
          <p:nvPr/>
        </p:nvSpPr>
        <p:spPr>
          <a:xfrm>
            <a:off x="3059280" y="513072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492360" y="4581360"/>
            <a:ext cx="205740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77804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 flipV="1">
            <a:off x="3203640" y="2781000"/>
            <a:ext cx="4176720" cy="1224000"/>
          </a:xfrm>
          <a:prstGeom prst="cloudCallout">
            <a:avLst>
              <a:gd name="adj1" fmla="val -78851"/>
              <a:gd name="adj2" fmla="val 41564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 rot="432600">
            <a:off x="3780000" y="3141360"/>
            <a:ext cx="280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ШИБОЧКА ВЫШЛ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">
            <a:hlinkClick r:id="rId1" action="ppaction://hlinksldjump"/>
          </p:cNvPr>
          <p:cNvSpPr/>
          <p:nvPr/>
        </p:nvSpPr>
        <p:spPr>
          <a:xfrm>
            <a:off x="3276720" y="513072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635280" y="4581360"/>
            <a:ext cx="205740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17780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0" y="5643720"/>
            <a:ext cx="9144000" cy="1214280"/>
            <a:chOff x="0" y="5643720"/>
            <a:chExt cx="9144000" cy="121428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147636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298764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4"/>
            <a:stretch/>
          </p:blipFill>
          <p:spPr>
            <a:xfrm>
              <a:off x="450072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5"/>
            <a:stretch/>
          </p:blipFill>
          <p:spPr>
            <a:xfrm>
              <a:off x="601200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6"/>
            <a:stretch/>
          </p:blipFill>
          <p:spPr>
            <a:xfrm>
              <a:off x="7451640" y="5643720"/>
              <a:ext cx="1692360" cy="12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"/>
          <p:cNvGrpSpPr/>
          <p:nvPr/>
        </p:nvGrpSpPr>
        <p:grpSpPr>
          <a:xfrm>
            <a:off x="1907640" y="1268280"/>
            <a:ext cx="4442400" cy="4248360"/>
            <a:chOff x="1907640" y="1268280"/>
            <a:chExt cx="4442400" cy="4248360"/>
          </a:xfrm>
        </p:grpSpPr>
        <p:pic>
          <p:nvPicPr>
            <p:cNvPr id="663" name="" descr=""/>
            <p:cNvPicPr/>
            <p:nvPr/>
          </p:nvPicPr>
          <p:blipFill>
            <a:blip r:embed="rId7"/>
            <a:stretch/>
          </p:blipFill>
          <p:spPr>
            <a:xfrm>
              <a:off x="5003640" y="2421000"/>
              <a:ext cx="13464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 flipH="1">
              <a:off x="1907280" y="1268280"/>
              <a:ext cx="3527640" cy="1297080"/>
            </a:xfrm>
            <a:prstGeom prst="wedgeRectCallout">
              <a:avLst>
                <a:gd name="adj1" fmla="val -53064"/>
                <a:gd name="adj2" fmla="val 75944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1979640" y="1484280"/>
              <a:ext cx="3313080" cy="90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66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ТЛИЧНО!</a:t>
              </a:r>
              <a:endPara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66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Ты настоящий супергерой!</a:t>
              </a:r>
              <a:endPara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66" name="">
            <a:hlinkClick r:id="rId8" action="ppaction://hlinksldjump"/>
          </p:cNvPr>
          <p:cNvSpPr/>
          <p:nvPr/>
        </p:nvSpPr>
        <p:spPr>
          <a:xfrm>
            <a:off x="179280" y="3860640"/>
            <a:ext cx="3024360" cy="1727280"/>
          </a:xfrm>
          <a:custGeom>
            <a:avLst/>
            <a:gdLst>
              <a:gd name="textAreaLeft" fmla="*/ 111960 w 3024360"/>
              <a:gd name="textAreaRight" fmla="*/ 2912400 w 302436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7" h="21600">
                <a:moveTo>
                  <a:pt x="0" y="0"/>
                </a:moveTo>
                <a:lnTo>
                  <a:pt x="37817" y="0"/>
                </a:lnTo>
                <a:lnTo>
                  <a:pt x="37817" y="21600"/>
                </a:lnTo>
                <a:lnTo>
                  <a:pt x="0" y="21600"/>
                </a:lnTo>
                <a:close/>
              </a:path>
              <a:path fill="lightenLess" w="37817" h="21600">
                <a:moveTo>
                  <a:pt x="0" y="0"/>
                </a:moveTo>
                <a:lnTo>
                  <a:pt x="37817" y="0"/>
                </a:lnTo>
                <a:lnTo>
                  <a:pt x="36417" y="1400"/>
                </a:lnTo>
                <a:lnTo>
                  <a:pt x="1400" y="1400"/>
                </a:lnTo>
                <a:close/>
              </a:path>
              <a:path fill="darken" w="37817" h="21600">
                <a:moveTo>
                  <a:pt x="37817" y="0"/>
                </a:moveTo>
                <a:lnTo>
                  <a:pt x="37817" y="21600"/>
                </a:lnTo>
                <a:lnTo>
                  <a:pt x="36417" y="20200"/>
                </a:lnTo>
                <a:lnTo>
                  <a:pt x="36417" y="1400"/>
                </a:lnTo>
                <a:close/>
              </a:path>
              <a:path fill="darkenLess" w="37817" h="21600">
                <a:moveTo>
                  <a:pt x="37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7" y="20200"/>
                </a:lnTo>
                <a:close/>
              </a:path>
              <a:path fill="lighten" w="37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7" h="21600">
                <a:moveTo>
                  <a:pt x="18908" y="3837"/>
                </a:moveTo>
                <a:lnTo>
                  <a:pt x="21485" y="6448"/>
                </a:ln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lnTo>
                  <a:pt x="25871" y="10800"/>
                </a:lnTo>
                <a:lnTo>
                  <a:pt x="24218" y="10800"/>
                </a:lnTo>
                <a:lnTo>
                  <a:pt x="24218" y="17989"/>
                </a:lnTo>
                <a:lnTo>
                  <a:pt x="13599" y="17989"/>
                </a:lnTo>
                <a:lnTo>
                  <a:pt x="13599" y="10800"/>
                </a:lnTo>
                <a:lnTo>
                  <a:pt x="11945" y="10800"/>
                </a:lnTo>
                <a:close/>
              </a:path>
              <a:path fill="darkenLess" w="37817" h="21600">
                <a:moveTo>
                  <a:pt x="21485" y="6448"/>
                </a:move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close/>
              </a:path>
              <a:path fill="darkenLess" w="37817" h="21600">
                <a:moveTo>
                  <a:pt x="17986" y="14299"/>
                </a:moveTo>
                <a:lnTo>
                  <a:pt x="19831" y="14299"/>
                </a:lnTo>
                <a:lnTo>
                  <a:pt x="19831" y="17989"/>
                </a:lnTo>
                <a:lnTo>
                  <a:pt x="24218" y="17989"/>
                </a:lnTo>
                <a:lnTo>
                  <a:pt x="24218" y="10800"/>
                </a:lnTo>
                <a:lnTo>
                  <a:pt x="13599" y="10800"/>
                </a:lnTo>
                <a:lnTo>
                  <a:pt x="13599" y="17989"/>
                </a:lnTo>
                <a:lnTo>
                  <a:pt x="17986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39640" y="342900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0" y="5643720"/>
            <a:ext cx="9144000" cy="1214280"/>
            <a:chOff x="0" y="5643720"/>
            <a:chExt cx="9144000" cy="1214280"/>
          </a:xfrm>
        </p:grpSpPr>
        <p:pic>
          <p:nvPicPr>
            <p:cNvPr id="669" name="" descr=""/>
            <p:cNvPicPr/>
            <p:nvPr/>
          </p:nvPicPr>
          <p:blipFill>
            <a:blip r:embed="rId1"/>
            <a:stretch/>
          </p:blipFill>
          <p:spPr>
            <a:xfrm>
              <a:off x="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2"/>
            <a:stretch/>
          </p:blipFill>
          <p:spPr>
            <a:xfrm>
              <a:off x="147636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3"/>
            <a:stretch/>
          </p:blipFill>
          <p:spPr>
            <a:xfrm>
              <a:off x="298764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4"/>
            <a:stretch/>
          </p:blipFill>
          <p:spPr>
            <a:xfrm>
              <a:off x="450072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5"/>
            <a:stretch/>
          </p:blipFill>
          <p:spPr>
            <a:xfrm>
              <a:off x="6012000" y="5643720"/>
              <a:ext cx="15238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6"/>
            <a:stretch/>
          </p:blipFill>
          <p:spPr>
            <a:xfrm>
              <a:off x="7451640" y="5643720"/>
              <a:ext cx="1692360" cy="121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5" name="" descr=""/>
          <p:cNvPicPr/>
          <p:nvPr/>
        </p:nvPicPr>
        <p:blipFill>
          <a:blip r:embed="rId7"/>
          <a:stretch/>
        </p:blipFill>
        <p:spPr>
          <a:xfrm>
            <a:off x="5003640" y="2421000"/>
            <a:ext cx="1346400" cy="309564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flipH="1">
            <a:off x="1907280" y="1268280"/>
            <a:ext cx="3527640" cy="1297080"/>
          </a:xfrm>
          <a:prstGeom prst="wedgeRectCallout">
            <a:avLst>
              <a:gd name="adj1" fmla="val -53064"/>
              <a:gd name="adj2" fmla="val 75944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979640" y="1484280"/>
            <a:ext cx="33130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пергерои не сдаются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ытайся еще раз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8" name="">
            <a:hlinkClick r:id="rId8" action="ppaction://hlinksldjump"/>
          </p:cNvPr>
          <p:cNvSpPr/>
          <p:nvPr/>
        </p:nvSpPr>
        <p:spPr>
          <a:xfrm>
            <a:off x="250920" y="393372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71640" y="342900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6877080" y="3068640"/>
            <a:ext cx="1985400" cy="2917440"/>
            <a:chOff x="6877080" y="3068640"/>
            <a:chExt cx="1985400" cy="2917440"/>
          </a:xfrm>
        </p:grpSpPr>
        <p:pic>
          <p:nvPicPr>
            <p:cNvPr id="681" name="" descr=""/>
            <p:cNvPicPr/>
            <p:nvPr/>
          </p:nvPicPr>
          <p:blipFill>
            <a:blip r:embed="rId1"/>
            <a:stretch/>
          </p:blipFill>
          <p:spPr>
            <a:xfrm>
              <a:off x="8100720" y="3068640"/>
              <a:ext cx="7617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2"/>
            <a:stretch/>
          </p:blipFill>
          <p:spPr>
            <a:xfrm rot="798600">
              <a:off x="7741440" y="3933720"/>
              <a:ext cx="9046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3"/>
            <a:stretch/>
          </p:blipFill>
          <p:spPr>
            <a:xfrm>
              <a:off x="6877080" y="4652640"/>
              <a:ext cx="761760" cy="13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4" name="">
            <a:hlinkClick r:id="rId4" action="ppaction://hlinksldjump"/>
          </p:cNvPr>
          <p:cNvSpPr/>
          <p:nvPr/>
        </p:nvSpPr>
        <p:spPr>
          <a:xfrm>
            <a:off x="3708360" y="4653000"/>
            <a:ext cx="3024360" cy="1727280"/>
          </a:xfrm>
          <a:custGeom>
            <a:avLst/>
            <a:gdLst>
              <a:gd name="textAreaLeft" fmla="*/ 111960 w 3024360"/>
              <a:gd name="textAreaRight" fmla="*/ 2912400 w 302436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7" h="21600">
                <a:moveTo>
                  <a:pt x="0" y="0"/>
                </a:moveTo>
                <a:lnTo>
                  <a:pt x="37817" y="0"/>
                </a:lnTo>
                <a:lnTo>
                  <a:pt x="37817" y="21600"/>
                </a:lnTo>
                <a:lnTo>
                  <a:pt x="0" y="21600"/>
                </a:lnTo>
                <a:close/>
              </a:path>
              <a:path fill="lightenLess" w="37817" h="21600">
                <a:moveTo>
                  <a:pt x="0" y="0"/>
                </a:moveTo>
                <a:lnTo>
                  <a:pt x="37817" y="0"/>
                </a:lnTo>
                <a:lnTo>
                  <a:pt x="36417" y="1400"/>
                </a:lnTo>
                <a:lnTo>
                  <a:pt x="1400" y="1400"/>
                </a:lnTo>
                <a:close/>
              </a:path>
              <a:path fill="darken" w="37817" h="21600">
                <a:moveTo>
                  <a:pt x="37817" y="0"/>
                </a:moveTo>
                <a:lnTo>
                  <a:pt x="37817" y="21600"/>
                </a:lnTo>
                <a:lnTo>
                  <a:pt x="36417" y="20200"/>
                </a:lnTo>
                <a:lnTo>
                  <a:pt x="36417" y="1400"/>
                </a:lnTo>
                <a:close/>
              </a:path>
              <a:path fill="darkenLess" w="37817" h="21600">
                <a:moveTo>
                  <a:pt x="37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7" y="20200"/>
                </a:lnTo>
                <a:close/>
              </a:path>
              <a:path fill="lighten" w="37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7" h="21600">
                <a:moveTo>
                  <a:pt x="18908" y="3837"/>
                </a:moveTo>
                <a:lnTo>
                  <a:pt x="21485" y="6448"/>
                </a:ln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lnTo>
                  <a:pt x="25871" y="10800"/>
                </a:lnTo>
                <a:lnTo>
                  <a:pt x="24218" y="10800"/>
                </a:lnTo>
                <a:lnTo>
                  <a:pt x="24218" y="17989"/>
                </a:lnTo>
                <a:lnTo>
                  <a:pt x="13599" y="17989"/>
                </a:lnTo>
                <a:lnTo>
                  <a:pt x="13599" y="10800"/>
                </a:lnTo>
                <a:lnTo>
                  <a:pt x="11945" y="10800"/>
                </a:lnTo>
                <a:close/>
              </a:path>
              <a:path fill="darkenLess" w="37817" h="21600">
                <a:moveTo>
                  <a:pt x="21485" y="6448"/>
                </a:move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close/>
              </a:path>
              <a:path fill="darkenLess" w="37817" h="21600">
                <a:moveTo>
                  <a:pt x="17986" y="14299"/>
                </a:moveTo>
                <a:lnTo>
                  <a:pt x="19831" y="14299"/>
                </a:lnTo>
                <a:lnTo>
                  <a:pt x="19831" y="17989"/>
                </a:lnTo>
                <a:lnTo>
                  <a:pt x="24218" y="17989"/>
                </a:lnTo>
                <a:lnTo>
                  <a:pt x="24218" y="10800"/>
                </a:lnTo>
                <a:lnTo>
                  <a:pt x="13599" y="10800"/>
                </a:lnTo>
                <a:lnTo>
                  <a:pt x="13599" y="17989"/>
                </a:lnTo>
                <a:lnTo>
                  <a:pt x="17986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140360" y="414972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5"/>
          <a:stretch/>
        </p:blipFill>
        <p:spPr>
          <a:xfrm>
            <a:off x="7126200" y="2492280"/>
            <a:ext cx="1494000" cy="179244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6"/>
          <a:stretch/>
        </p:blipFill>
        <p:spPr>
          <a:xfrm flipH="1">
            <a:off x="684360" y="3213000"/>
            <a:ext cx="1861920" cy="2233800"/>
          </a:xfrm>
          <a:prstGeom prst="rect">
            <a:avLst/>
          </a:prstGeom>
          <a:ln w="0">
            <a:noFill/>
          </a:ln>
        </p:spPr>
      </p:pic>
      <p:grpSp>
        <p:nvGrpSpPr>
          <p:cNvPr id="688" name=""/>
          <p:cNvGrpSpPr/>
          <p:nvPr/>
        </p:nvGrpSpPr>
        <p:grpSpPr>
          <a:xfrm>
            <a:off x="1979640" y="981000"/>
            <a:ext cx="2879640" cy="1295640"/>
            <a:chOff x="1979640" y="981000"/>
            <a:chExt cx="2879640" cy="1295640"/>
          </a:xfrm>
        </p:grpSpPr>
        <p:sp>
          <p:nvSpPr>
            <p:cNvPr id="689" name=""/>
            <p:cNvSpPr/>
            <p:nvPr/>
          </p:nvSpPr>
          <p:spPr>
            <a:xfrm>
              <a:off x="1979640" y="981000"/>
              <a:ext cx="2879640" cy="1295640"/>
            </a:xfrm>
            <a:prstGeom prst="wedgeEllipseCallout">
              <a:avLst>
                <a:gd name="adj1" fmla="val -56449"/>
                <a:gd name="adj2" fmla="val 156250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2411280" y="1557360"/>
              <a:ext cx="2000520" cy="668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твет достойный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Браво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91" name="" descr=""/>
          <p:cNvPicPr/>
          <p:nvPr/>
        </p:nvPicPr>
        <p:blipFill>
          <a:blip r:embed="rId7"/>
          <a:stretch/>
        </p:blipFill>
        <p:spPr>
          <a:xfrm>
            <a:off x="1116000" y="476280"/>
            <a:ext cx="857160" cy="781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8"/>
          <a:stretch/>
        </p:blipFill>
        <p:spPr>
          <a:xfrm flipH="1">
            <a:off x="5363640" y="765000"/>
            <a:ext cx="760680" cy="662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8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692360" y="2924280"/>
            <a:ext cx="1985400" cy="2917440"/>
            <a:chOff x="1692360" y="2924280"/>
            <a:chExt cx="1985400" cy="2917440"/>
          </a:xfrm>
        </p:grpSpPr>
        <p:pic>
          <p:nvPicPr>
            <p:cNvPr id="694" name="" descr=""/>
            <p:cNvPicPr/>
            <p:nvPr/>
          </p:nvPicPr>
          <p:blipFill>
            <a:blip r:embed="rId1"/>
            <a:stretch/>
          </p:blipFill>
          <p:spPr>
            <a:xfrm>
              <a:off x="2916000" y="2924280"/>
              <a:ext cx="7617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2"/>
            <a:stretch/>
          </p:blipFill>
          <p:spPr>
            <a:xfrm rot="798600">
              <a:off x="2556720" y="3789360"/>
              <a:ext cx="9046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3"/>
            <a:stretch/>
          </p:blipFill>
          <p:spPr>
            <a:xfrm>
              <a:off x="1692360" y="4508280"/>
              <a:ext cx="761760" cy="13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">
            <a:hlinkClick r:id="rId4" action="ppaction://hlinksldjump"/>
          </p:cNvPr>
          <p:cNvSpPr/>
          <p:nvPr/>
        </p:nvSpPr>
        <p:spPr>
          <a:xfrm>
            <a:off x="3780000" y="472428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067280" y="407664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195640" y="1125360"/>
            <a:ext cx="4952880" cy="21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 неправильный ответ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пробуй еще раз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5"/>
          <a:stretch/>
        </p:blipFill>
        <p:spPr>
          <a:xfrm>
            <a:off x="1116000" y="476280"/>
            <a:ext cx="857160" cy="781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6"/>
          <a:stretch/>
        </p:blipFill>
        <p:spPr>
          <a:xfrm flipH="1">
            <a:off x="5363640" y="765000"/>
            <a:ext cx="760680" cy="6620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7"/>
          <a:stretch/>
        </p:blipFill>
        <p:spPr>
          <a:xfrm>
            <a:off x="1187280" y="3141720"/>
            <a:ext cx="1492560" cy="17906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8"/>
          <a:stretch/>
        </p:blipFill>
        <p:spPr>
          <a:xfrm>
            <a:off x="4284720" y="3213000"/>
            <a:ext cx="857160" cy="781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05228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Научите сказочных героев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ориентироваться на улицах города, и проверьте,  как вы знаете правила дорожного движения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630108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ветьте на 9 вопросов сказочных геро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этого, наведите курсор на цветной прямоугольник                    с правильным ответом и щелкните левой кнопкой «мыш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того, чтобы вернуться к вопрос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ведите курсор на «домик» и щелкните левой кнопкой «мыш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627280" y="5805360"/>
            <a:ext cx="4176720" cy="10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Arial"/>
              </a:rPr>
              <a:t>Желаем удачи!</a:t>
            </a:r>
            <a:endParaRPr b="1" lang="en-US" sz="18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68360" y="5767560"/>
            <a:ext cx="1908000" cy="10904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7380360" y="5013360"/>
            <a:ext cx="1368360" cy="71928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1082" h="21600">
                <a:moveTo>
                  <a:pt x="0" y="0"/>
                </a:moveTo>
                <a:lnTo>
                  <a:pt x="41082" y="0"/>
                </a:lnTo>
                <a:lnTo>
                  <a:pt x="41082" y="21600"/>
                </a:lnTo>
                <a:lnTo>
                  <a:pt x="0" y="21600"/>
                </a:lnTo>
                <a:close/>
              </a:path>
              <a:path fill="lightenLess" w="41082" h="21600">
                <a:moveTo>
                  <a:pt x="0" y="0"/>
                </a:moveTo>
                <a:lnTo>
                  <a:pt x="41082" y="0"/>
                </a:lnTo>
                <a:lnTo>
                  <a:pt x="39682" y="1400"/>
                </a:lnTo>
                <a:lnTo>
                  <a:pt x="1400" y="1400"/>
                </a:lnTo>
                <a:close/>
              </a:path>
              <a:path fill="darken" w="41082" h="21600">
                <a:moveTo>
                  <a:pt x="41082" y="0"/>
                </a:moveTo>
                <a:lnTo>
                  <a:pt x="41082" y="21600"/>
                </a:lnTo>
                <a:lnTo>
                  <a:pt x="39682" y="20200"/>
                </a:lnTo>
                <a:lnTo>
                  <a:pt x="39682" y="1400"/>
                </a:lnTo>
                <a:close/>
              </a:path>
              <a:path fill="darkenLess" w="41082" h="21600">
                <a:moveTo>
                  <a:pt x="4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2" y="20200"/>
                </a:lnTo>
                <a:close/>
              </a:path>
              <a:path fill="lighten" w="4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2" h="21600">
                <a:moveTo>
                  <a:pt x="20541" y="3837"/>
                </a:moveTo>
                <a:lnTo>
                  <a:pt x="23117" y="6448"/>
                </a:lnTo>
                <a:lnTo>
                  <a:pt x="23117" y="4707"/>
                </a:lnTo>
                <a:lnTo>
                  <a:pt x="24893" y="4707"/>
                </a:lnTo>
                <a:lnTo>
                  <a:pt x="24893" y="8224"/>
                </a:lnTo>
                <a:lnTo>
                  <a:pt x="27504" y="10800"/>
                </a:lnTo>
                <a:lnTo>
                  <a:pt x="25850" y="10800"/>
                </a:lnTo>
                <a:lnTo>
                  <a:pt x="25850" y="17989"/>
                </a:lnTo>
                <a:lnTo>
                  <a:pt x="15232" y="17989"/>
                </a:lnTo>
                <a:lnTo>
                  <a:pt x="15232" y="10800"/>
                </a:lnTo>
                <a:lnTo>
                  <a:pt x="13578" y="10800"/>
                </a:lnTo>
                <a:close/>
              </a:path>
              <a:path fill="darkenLess" w="41082" h="21600">
                <a:moveTo>
                  <a:pt x="23117" y="6448"/>
                </a:moveTo>
                <a:lnTo>
                  <a:pt x="23117" y="4707"/>
                </a:lnTo>
                <a:lnTo>
                  <a:pt x="24893" y="4707"/>
                </a:lnTo>
                <a:lnTo>
                  <a:pt x="24893" y="8224"/>
                </a:lnTo>
                <a:close/>
              </a:path>
              <a:path fill="darkenLess" w="41082" h="21600">
                <a:moveTo>
                  <a:pt x="19618" y="14299"/>
                </a:moveTo>
                <a:lnTo>
                  <a:pt x="21464" y="14299"/>
                </a:lnTo>
                <a:lnTo>
                  <a:pt x="21464" y="17989"/>
                </a:lnTo>
                <a:lnTo>
                  <a:pt x="25850" y="17989"/>
                </a:lnTo>
                <a:lnTo>
                  <a:pt x="25850" y="10800"/>
                </a:lnTo>
                <a:lnTo>
                  <a:pt x="15232" y="10800"/>
                </a:lnTo>
                <a:lnTo>
                  <a:pt x="15232" y="17989"/>
                </a:lnTo>
                <a:lnTo>
                  <a:pt x="19618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>
            <a:hlinkClick r:id="rId2" action="ppaction://hlinksldjump"/>
          </p:cNvPr>
          <p:cNvSpPr/>
          <p:nvPr/>
        </p:nvSpPr>
        <p:spPr>
          <a:xfrm>
            <a:off x="3708360" y="357336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7524720" y="4797360"/>
            <a:ext cx="12272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8000"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1378080" cy="233352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rId2" action="ppaction://hlinksldjump"/>
          </p:cNvPr>
          <p:cNvSpPr/>
          <p:nvPr/>
        </p:nvSpPr>
        <p:spPr>
          <a:xfrm>
            <a:off x="3708360" y="4724280"/>
            <a:ext cx="3024360" cy="1727280"/>
          </a:xfrm>
          <a:custGeom>
            <a:avLst/>
            <a:gdLst>
              <a:gd name="textAreaLeft" fmla="*/ 111960 w 3024360"/>
              <a:gd name="textAreaRight" fmla="*/ 2912400 w 302436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7" h="21600">
                <a:moveTo>
                  <a:pt x="0" y="0"/>
                </a:moveTo>
                <a:lnTo>
                  <a:pt x="37817" y="0"/>
                </a:lnTo>
                <a:lnTo>
                  <a:pt x="37817" y="21600"/>
                </a:lnTo>
                <a:lnTo>
                  <a:pt x="0" y="21600"/>
                </a:lnTo>
                <a:close/>
              </a:path>
              <a:path fill="lightenLess" w="37817" h="21600">
                <a:moveTo>
                  <a:pt x="0" y="0"/>
                </a:moveTo>
                <a:lnTo>
                  <a:pt x="37817" y="0"/>
                </a:lnTo>
                <a:lnTo>
                  <a:pt x="36417" y="1400"/>
                </a:lnTo>
                <a:lnTo>
                  <a:pt x="1400" y="1400"/>
                </a:lnTo>
                <a:close/>
              </a:path>
              <a:path fill="darken" w="37817" h="21600">
                <a:moveTo>
                  <a:pt x="37817" y="0"/>
                </a:moveTo>
                <a:lnTo>
                  <a:pt x="37817" y="21600"/>
                </a:lnTo>
                <a:lnTo>
                  <a:pt x="36417" y="20200"/>
                </a:lnTo>
                <a:lnTo>
                  <a:pt x="36417" y="1400"/>
                </a:lnTo>
                <a:close/>
              </a:path>
              <a:path fill="darkenLess" w="37817" h="21600">
                <a:moveTo>
                  <a:pt x="37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7" y="20200"/>
                </a:lnTo>
                <a:close/>
              </a:path>
              <a:path fill="lighten" w="37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7" h="21600">
                <a:moveTo>
                  <a:pt x="18908" y="3837"/>
                </a:moveTo>
                <a:lnTo>
                  <a:pt x="21485" y="6448"/>
                </a:ln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lnTo>
                  <a:pt x="25871" y="10800"/>
                </a:lnTo>
                <a:lnTo>
                  <a:pt x="24218" y="10800"/>
                </a:lnTo>
                <a:lnTo>
                  <a:pt x="24218" y="17989"/>
                </a:lnTo>
                <a:lnTo>
                  <a:pt x="13599" y="17989"/>
                </a:lnTo>
                <a:lnTo>
                  <a:pt x="13599" y="10800"/>
                </a:lnTo>
                <a:lnTo>
                  <a:pt x="11945" y="10800"/>
                </a:lnTo>
                <a:close/>
              </a:path>
              <a:path fill="darkenLess" w="37817" h="21600">
                <a:moveTo>
                  <a:pt x="21485" y="6448"/>
                </a:moveTo>
                <a:lnTo>
                  <a:pt x="21485" y="4707"/>
                </a:lnTo>
                <a:lnTo>
                  <a:pt x="23260" y="4707"/>
                </a:lnTo>
                <a:lnTo>
                  <a:pt x="23260" y="8224"/>
                </a:lnTo>
                <a:close/>
              </a:path>
              <a:path fill="darkenLess" w="37817" h="21600">
                <a:moveTo>
                  <a:pt x="17986" y="14299"/>
                </a:moveTo>
                <a:lnTo>
                  <a:pt x="19831" y="14299"/>
                </a:lnTo>
                <a:lnTo>
                  <a:pt x="19831" y="17989"/>
                </a:lnTo>
                <a:lnTo>
                  <a:pt x="24218" y="17989"/>
                </a:lnTo>
                <a:lnTo>
                  <a:pt x="24218" y="10800"/>
                </a:lnTo>
                <a:lnTo>
                  <a:pt x="13599" y="10800"/>
                </a:lnTo>
                <a:lnTo>
                  <a:pt x="13599" y="17989"/>
                </a:lnTo>
                <a:lnTo>
                  <a:pt x="17986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067280" y="4221000"/>
            <a:ext cx="205740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971640" y="1341360"/>
            <a:ext cx="488628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й второй шанс! </a:t>
            </a:r>
            <a:endParaRPr b="0" lang="en-US" sz="1800" spc="1" strike="noStrike">
              <a:ln w="0">
                <a:noFill/>
              </a:ln>
              <a:solidFill>
                <a:srgbClr val="ff00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т ответ неверный</a:t>
            </a:r>
            <a:endParaRPr b="0" lang="en-US" sz="1800" spc="1" strike="noStrike">
              <a:ln w="0">
                <a:noFill/>
              </a:ln>
              <a:solidFill>
                <a:srgbClr val="ff00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1187280" y="4762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5"/>
          <a:stretch/>
        </p:blipFill>
        <p:spPr>
          <a:xfrm>
            <a:off x="2340000" y="620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"/>
          <a:stretch/>
        </p:blipFill>
        <p:spPr>
          <a:xfrm>
            <a:off x="3059280" y="981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7"/>
          <a:stretch/>
        </p:blipFill>
        <p:spPr>
          <a:xfrm>
            <a:off x="1547640" y="256536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9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 flipH="1">
            <a:off x="1476360" y="1413000"/>
            <a:ext cx="1378080" cy="23335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3780000" y="4724280"/>
            <a:ext cx="3024000" cy="1727280"/>
          </a:xfrm>
          <a:custGeom>
            <a:avLst/>
            <a:gdLst>
              <a:gd name="textAreaLeft" fmla="*/ 111960 w 3024000"/>
              <a:gd name="textAreaRight" fmla="*/ 2912040 w 3024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37812" h="21600">
                <a:moveTo>
                  <a:pt x="0" y="0"/>
                </a:moveTo>
                <a:lnTo>
                  <a:pt x="37812" y="0"/>
                </a:lnTo>
                <a:lnTo>
                  <a:pt x="37812" y="21600"/>
                </a:lnTo>
                <a:lnTo>
                  <a:pt x="0" y="21600"/>
                </a:lnTo>
                <a:close/>
              </a:path>
              <a:path fill="lightenLess" w="37812" h="21600">
                <a:moveTo>
                  <a:pt x="0" y="0"/>
                </a:moveTo>
                <a:lnTo>
                  <a:pt x="37812" y="0"/>
                </a:lnTo>
                <a:lnTo>
                  <a:pt x="36412" y="1400"/>
                </a:lnTo>
                <a:lnTo>
                  <a:pt x="1400" y="1400"/>
                </a:lnTo>
                <a:close/>
              </a:path>
              <a:path fill="darken" w="37812" h="21600">
                <a:moveTo>
                  <a:pt x="37812" y="0"/>
                </a:moveTo>
                <a:lnTo>
                  <a:pt x="37812" y="21600"/>
                </a:lnTo>
                <a:lnTo>
                  <a:pt x="36412" y="20200"/>
                </a:lnTo>
                <a:lnTo>
                  <a:pt x="36412" y="1400"/>
                </a:lnTo>
                <a:close/>
              </a:path>
              <a:path fill="darkenLess" w="37812" h="21600">
                <a:moveTo>
                  <a:pt x="3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2" y="20200"/>
                </a:lnTo>
                <a:close/>
              </a:path>
              <a:path fill="lighten" w="3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2" h="21600">
                <a:moveTo>
                  <a:pt x="18906" y="3837"/>
                </a:moveTo>
                <a:lnTo>
                  <a:pt x="21482" y="6448"/>
                </a:ln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lnTo>
                  <a:pt x="25869" y="10800"/>
                </a:lnTo>
                <a:lnTo>
                  <a:pt x="24215" y="10800"/>
                </a:lnTo>
                <a:lnTo>
                  <a:pt x="24215" y="17989"/>
                </a:lnTo>
                <a:lnTo>
                  <a:pt x="13597" y="17989"/>
                </a:lnTo>
                <a:lnTo>
                  <a:pt x="13597" y="10800"/>
                </a:lnTo>
                <a:lnTo>
                  <a:pt x="11943" y="10800"/>
                </a:lnTo>
                <a:close/>
              </a:path>
              <a:path fill="darkenLess" w="37812" h="21600">
                <a:moveTo>
                  <a:pt x="21482" y="6448"/>
                </a:moveTo>
                <a:lnTo>
                  <a:pt x="21482" y="4707"/>
                </a:lnTo>
                <a:lnTo>
                  <a:pt x="23258" y="4707"/>
                </a:lnTo>
                <a:lnTo>
                  <a:pt x="23258" y="8224"/>
                </a:lnTo>
                <a:close/>
              </a:path>
              <a:path fill="darkenLess" w="37812" h="21600">
                <a:moveTo>
                  <a:pt x="17984" y="14299"/>
                </a:moveTo>
                <a:lnTo>
                  <a:pt x="19829" y="14299"/>
                </a:lnTo>
                <a:lnTo>
                  <a:pt x="19829" y="17989"/>
                </a:lnTo>
                <a:lnTo>
                  <a:pt x="24215" y="17989"/>
                </a:lnTo>
                <a:lnTo>
                  <a:pt x="24215" y="10800"/>
                </a:lnTo>
                <a:lnTo>
                  <a:pt x="13597" y="10800"/>
                </a:lnTo>
                <a:lnTo>
                  <a:pt x="13597" y="17989"/>
                </a:lnTo>
                <a:lnTo>
                  <a:pt x="17984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211640" y="4221000"/>
            <a:ext cx="205740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2771640" y="1628640"/>
            <a:ext cx="4029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красный ответ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1187280" y="4762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5"/>
          <a:stretch/>
        </p:blipFill>
        <p:spPr>
          <a:xfrm>
            <a:off x="0" y="4762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6"/>
          <a:stretch/>
        </p:blipFill>
        <p:spPr>
          <a:xfrm>
            <a:off x="3059280" y="9810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 txBox="1"/>
          <p:nvPr/>
        </p:nvSpPr>
        <p:spPr>
          <a:xfrm>
            <a:off x="3276720" y="1413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жаль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 неверный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35280" y="4437000"/>
            <a:ext cx="3635640" cy="1989360"/>
          </a:xfrm>
          <a:custGeom>
            <a:avLst/>
            <a:gdLst>
              <a:gd name="textAreaLeft" fmla="*/ 128880 w 3635640"/>
              <a:gd name="textAreaRight" fmla="*/ 3506760 w 3635640"/>
              <a:gd name="textAreaTop" fmla="*/ 128880 h 1989360"/>
              <a:gd name="textAreaBottom" fmla="*/ 1860480 h 198936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9736" y="3837"/>
                </a:moveTo>
                <a:lnTo>
                  <a:pt x="22312" y="6448"/>
                </a:ln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lnTo>
                  <a:pt x="26699" y="10800"/>
                </a:lnTo>
                <a:lnTo>
                  <a:pt x="25045" y="10800"/>
                </a:lnTo>
                <a:lnTo>
                  <a:pt x="25045" y="17989"/>
                </a:lnTo>
                <a:lnTo>
                  <a:pt x="14427" y="17989"/>
                </a:lnTo>
                <a:lnTo>
                  <a:pt x="14427" y="10800"/>
                </a:lnTo>
                <a:lnTo>
                  <a:pt x="12773" y="10800"/>
                </a:lnTo>
                <a:close/>
              </a:path>
              <a:path fill="darkenLess" w="39472" h="21600">
                <a:moveTo>
                  <a:pt x="22312" y="6448"/>
                </a:moveTo>
                <a:lnTo>
                  <a:pt x="22312" y="4707"/>
                </a:lnTo>
                <a:lnTo>
                  <a:pt x="24088" y="4707"/>
                </a:lnTo>
                <a:lnTo>
                  <a:pt x="24088" y="8224"/>
                </a:lnTo>
                <a:close/>
              </a:path>
              <a:path fill="darkenLess" w="39472" h="21600">
                <a:moveTo>
                  <a:pt x="18813" y="14299"/>
                </a:moveTo>
                <a:lnTo>
                  <a:pt x="20658" y="14299"/>
                </a:lnTo>
                <a:lnTo>
                  <a:pt x="20658" y="17989"/>
                </a:lnTo>
                <a:lnTo>
                  <a:pt x="25045" y="17989"/>
                </a:lnTo>
                <a:lnTo>
                  <a:pt x="25045" y="10800"/>
                </a:lnTo>
                <a:lnTo>
                  <a:pt x="14427" y="10800"/>
                </a:lnTo>
                <a:lnTo>
                  <a:pt x="14427" y="17989"/>
                </a:lnTo>
                <a:lnTo>
                  <a:pt x="18813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00720" y="4005360"/>
            <a:ext cx="205740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92360" y="2924280"/>
            <a:ext cx="1985400" cy="2917440"/>
            <a:chOff x="1692360" y="2924280"/>
            <a:chExt cx="1985400" cy="2917440"/>
          </a:xfrm>
        </p:grpSpPr>
        <p:pic>
          <p:nvPicPr>
            <p:cNvPr id="727" name="" descr=""/>
            <p:cNvPicPr/>
            <p:nvPr/>
          </p:nvPicPr>
          <p:blipFill>
            <a:blip r:embed="rId2"/>
            <a:stretch/>
          </p:blipFill>
          <p:spPr>
            <a:xfrm>
              <a:off x="2916000" y="2924280"/>
              <a:ext cx="7617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3"/>
            <a:stretch/>
          </p:blipFill>
          <p:spPr>
            <a:xfrm rot="798600">
              <a:off x="2556720" y="3789360"/>
              <a:ext cx="90468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4"/>
            <a:stretch/>
          </p:blipFill>
          <p:spPr>
            <a:xfrm>
              <a:off x="1692360" y="4508280"/>
              <a:ext cx="761760" cy="13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. Какой первый цвет у светофора?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1414440" cy="2000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511280" cy="2870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050920" y="2421000"/>
            <a:ext cx="863640" cy="283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067280" y="2492280"/>
            <a:ext cx="1726920" cy="544680"/>
          </a:xfrm>
          <a:custGeom>
            <a:avLst/>
            <a:gdLst>
              <a:gd name="textAreaLeft" fmla="*/ 35280 w 1726920"/>
              <a:gd name="textAreaRight" fmla="*/ 1691640 w 1726920"/>
              <a:gd name="textAreaTop" fmla="*/ 35280 h 544680"/>
              <a:gd name="textAreaBottom" fmla="*/ 509400 h 544680"/>
            </a:gdLst>
            <a:ahLst/>
            <a:rect l="textAreaLeft" t="textAreaTop" r="textAreaRight" b="textAreaBottom"/>
            <a:pathLst>
              <a:path w="68452" h="21600">
                <a:moveTo>
                  <a:pt x="0" y="0"/>
                </a:moveTo>
                <a:lnTo>
                  <a:pt x="68452" y="0"/>
                </a:lnTo>
                <a:lnTo>
                  <a:pt x="68452" y="21600"/>
                </a:lnTo>
                <a:lnTo>
                  <a:pt x="0" y="21600"/>
                </a:lnTo>
                <a:close/>
              </a:path>
              <a:path fill="lightenLess" w="68452" h="21600">
                <a:moveTo>
                  <a:pt x="0" y="0"/>
                </a:moveTo>
                <a:lnTo>
                  <a:pt x="68452" y="0"/>
                </a:lnTo>
                <a:lnTo>
                  <a:pt x="67052" y="1400"/>
                </a:lnTo>
                <a:lnTo>
                  <a:pt x="1400" y="1400"/>
                </a:lnTo>
                <a:close/>
              </a:path>
              <a:path fill="darken" w="68452" h="21600">
                <a:moveTo>
                  <a:pt x="68452" y="0"/>
                </a:moveTo>
                <a:lnTo>
                  <a:pt x="68452" y="21600"/>
                </a:lnTo>
                <a:lnTo>
                  <a:pt x="67052" y="20200"/>
                </a:lnTo>
                <a:lnTo>
                  <a:pt x="67052" y="1400"/>
                </a:lnTo>
                <a:close/>
              </a:path>
              <a:path fill="darkenLess" w="68452" h="21600">
                <a:moveTo>
                  <a:pt x="684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2" y="20200"/>
                </a:lnTo>
                <a:close/>
              </a:path>
              <a:path fill="lighten" w="684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00360" y="1341360"/>
            <a:ext cx="1728720" cy="57492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64922" h="21600">
                <a:moveTo>
                  <a:pt x="0" y="0"/>
                </a:moveTo>
                <a:lnTo>
                  <a:pt x="64922" y="0"/>
                </a:lnTo>
                <a:lnTo>
                  <a:pt x="64922" y="21600"/>
                </a:lnTo>
                <a:lnTo>
                  <a:pt x="0" y="21600"/>
                </a:lnTo>
                <a:close/>
              </a:path>
              <a:path fill="lightenLess" w="64922" h="21600">
                <a:moveTo>
                  <a:pt x="0" y="0"/>
                </a:moveTo>
                <a:lnTo>
                  <a:pt x="64922" y="0"/>
                </a:lnTo>
                <a:lnTo>
                  <a:pt x="63522" y="1400"/>
                </a:lnTo>
                <a:lnTo>
                  <a:pt x="1400" y="1400"/>
                </a:lnTo>
                <a:close/>
              </a:path>
              <a:path fill="darken" w="64922" h="21600">
                <a:moveTo>
                  <a:pt x="64922" y="0"/>
                </a:moveTo>
                <a:lnTo>
                  <a:pt x="64922" y="21600"/>
                </a:lnTo>
                <a:lnTo>
                  <a:pt x="63522" y="20200"/>
                </a:lnTo>
                <a:lnTo>
                  <a:pt x="63522" y="1400"/>
                </a:lnTo>
                <a:close/>
              </a:path>
              <a:path fill="darkenLess" w="64922" h="21600">
                <a:moveTo>
                  <a:pt x="64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22" y="20200"/>
                </a:lnTo>
                <a:close/>
              </a:path>
              <a:path fill="lighten" w="64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84720" y="2492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красн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желт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378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зелен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76720" y="3789360"/>
            <a:ext cx="1728720" cy="57456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4962" h="21600">
                <a:moveTo>
                  <a:pt x="0" y="0"/>
                </a:moveTo>
                <a:lnTo>
                  <a:pt x="64962" y="0"/>
                </a:lnTo>
                <a:lnTo>
                  <a:pt x="64962" y="21600"/>
                </a:lnTo>
                <a:lnTo>
                  <a:pt x="0" y="21600"/>
                </a:lnTo>
                <a:close/>
              </a:path>
              <a:path fill="lightenLess" w="64962" h="21600">
                <a:moveTo>
                  <a:pt x="0" y="0"/>
                </a:moveTo>
                <a:lnTo>
                  <a:pt x="64962" y="0"/>
                </a:lnTo>
                <a:lnTo>
                  <a:pt x="63562" y="1400"/>
                </a:lnTo>
                <a:lnTo>
                  <a:pt x="1400" y="1400"/>
                </a:lnTo>
                <a:close/>
              </a:path>
              <a:path fill="darken" w="64962" h="21600">
                <a:moveTo>
                  <a:pt x="64962" y="0"/>
                </a:moveTo>
                <a:lnTo>
                  <a:pt x="64962" y="21600"/>
                </a:lnTo>
                <a:lnTo>
                  <a:pt x="63562" y="20200"/>
                </a:lnTo>
                <a:lnTo>
                  <a:pt x="63562" y="1400"/>
                </a:lnTo>
                <a:close/>
              </a:path>
              <a:path fill="darkenLess" w="64962" h="21600">
                <a:moveTo>
                  <a:pt x="64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62" y="20200"/>
                </a:lnTo>
                <a:close/>
              </a:path>
              <a:path fill="lighten" w="64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2. Вопрос о животных (от Винни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4320" y="3933720"/>
            <a:ext cx="1412640" cy="19987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ак называют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ые полосы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ешеходн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ереход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72360" y="40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. Лебед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43280" y="47973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443640" y="486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. Зеб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43280" y="5661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19280" y="2276640"/>
            <a:ext cx="2665440" cy="1726920"/>
          </a:xfrm>
          <a:prstGeom prst="cloudCallout">
            <a:avLst>
              <a:gd name="adj1" fmla="val -57800"/>
              <a:gd name="adj2" fmla="val 8850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Хорошо живет на свете Винни-Пух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72360" y="57340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3. Пан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400536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Что означает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жёлтый сигнал светофора,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включённый после красного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90560" y="1197000"/>
            <a:ext cx="6553080" cy="151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1761840" cy="28083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4319640" y="35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1. Начинать движение нельз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11640" y="5348160"/>
            <a:ext cx="403236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Скоро будет включён зелёный сигнал светофо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11640" y="4437000"/>
            <a:ext cx="46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2. Начинать движение можн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8360" y="350028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5445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95640" y="4437000"/>
            <a:ext cx="1726920" cy="576360"/>
          </a:xfrm>
          <a:custGeom>
            <a:avLst/>
            <a:gdLst>
              <a:gd name="textAreaLeft" fmla="*/ 37080 w 1726920"/>
              <a:gd name="textAreaRight" fmla="*/ 1689840 w 17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7236000" y="476280"/>
            <a:ext cx="839520" cy="2305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692360" y="1916280"/>
            <a:ext cx="3600360" cy="1152360"/>
          </a:xfrm>
          <a:prstGeom prst="wedgeEllipseCallout">
            <a:avLst>
              <a:gd name="adj1" fmla="val -52643"/>
              <a:gd name="adj2" fmla="val 92425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й, мне эт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е понять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4. Разрешено ли пассажиру разговаривать с водителем во время движения транспортного средства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039760" cy="2447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284720" y="508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. Не запрещено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если это не отвлекает водител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от управления транспортным средств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234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35640" y="2852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56000" y="4005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. Запрещен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19640" y="28526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 flipH="1">
            <a:off x="6516360" y="2276640"/>
            <a:ext cx="1560600" cy="18716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rId3" action="ppaction://hlinksldjump"/>
          </p:cNvPr>
          <p:cNvSpPr/>
          <p:nvPr/>
        </p:nvSpPr>
        <p:spPr>
          <a:xfrm>
            <a:off x="2484360" y="5300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>
            <a:hlinkClick r:id="rId4" action="ppaction://hlinksldjump"/>
          </p:cNvPr>
          <p:cNvSpPr/>
          <p:nvPr/>
        </p:nvSpPr>
        <p:spPr>
          <a:xfrm>
            <a:off x="2484360" y="4076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9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5. Как нужно вести себя в общественном транспорте??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 flipH="1">
            <a:off x="1547640" y="4365720"/>
            <a:ext cx="1495440" cy="178092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rId2" action="ppaction://hlinksldjump"/>
          </p:cNvPr>
          <p:cNvSpPr/>
          <p:nvPr/>
        </p:nvSpPr>
        <p:spPr>
          <a:xfrm>
            <a:off x="1116000" y="2852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>
            <a:hlinkClick r:id="rId3" action="ppaction://hlinksldjump"/>
          </p:cNvPr>
          <p:cNvSpPr/>
          <p:nvPr/>
        </p:nvSpPr>
        <p:spPr>
          <a:xfrm>
            <a:off x="1619280" y="35733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>
            <a:hlinkClick r:id="rId4" action="ppaction://hlinksldjump"/>
          </p:cNvPr>
          <p:cNvSpPr/>
          <p:nvPr/>
        </p:nvSpPr>
        <p:spPr>
          <a:xfrm>
            <a:off x="2484360" y="4292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>
            <a:hlinkClick r:id="rId5" action="ppaction://hlinksldjump"/>
          </p:cNvPr>
          <p:cNvSpPr/>
          <p:nvPr/>
        </p:nvSpPr>
        <p:spPr>
          <a:xfrm>
            <a:off x="3203640" y="50133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7308720" y="1628640"/>
            <a:ext cx="1584360" cy="1474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250920" y="3213000"/>
            <a:ext cx="1000080" cy="12096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9440" y="292428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. Прыгать, бегать по сало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48000" y="3573360"/>
            <a:ext cx="57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. Играть в подвижные игры с друг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84720" y="436572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3. Вести себя тихо, спокойн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03640" y="5018040"/>
            <a:ext cx="46292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4. Сорить в салоне, громк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разговарива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1692360" y="249228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6. Имеет ли право пешеход переходить дорогу, если в основном светофоре включён зелёный сигнал, а в пешеходном красный сигнал??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348000" y="2565000"/>
            <a:ext cx="3665520" cy="57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Не имеет пра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1719000" cy="1433520"/>
          </a:xfrm>
          <a:prstGeom prst="rect">
            <a:avLst/>
          </a:prstGeom>
          <a:ln w="0">
            <a:noFill/>
          </a:ln>
        </p:spPr>
      </p:pic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1619280" y="371628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19640" y="371628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. Имеет пра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 flipH="1">
            <a:off x="611280" y="4076640"/>
            <a:ext cx="84456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32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33:44Z</dcterms:created>
  <dc:creator>User</dc:creator>
  <dc:description/>
  <dc:language>en-US</dc:language>
  <cp:lastModifiedBy>Дюймовочка</cp:lastModifiedBy>
  <dcterms:modified xsi:type="dcterms:W3CDTF">2011-03-21T11:20:51Z</dcterms:modified>
  <cp:revision>4</cp:revision>
  <dc:subject/>
  <dc:title>Герои мультфильмов и правила дорожного движения!</dc:title>
</cp:coreProperties>
</file>