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DD50-7187-4A4E-80AB-0FDE25ABD4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A7EE-F0E5-478D-A337-8D5E992B6A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3418-C9B0-4663-9CE0-55C3B4E6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8596-3DE0-41FD-A6E2-80D87313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CEBC-74B3-4FF3-90EA-73739D10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D3DC-E9F8-434B-9339-F7067F28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946B6-F8BC-44BF-8A76-022C928C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FF2D9-9458-4335-8E61-7735BE7E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53D5F-B1B9-4D00-8B8A-30882203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2F99B-EF26-4D17-945D-F96B4AB8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231DF-36A5-477B-9DF2-2C9A4A29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ACCCC-1327-4C4C-AEDC-E0F1D898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54AF7-A4FF-480E-BBB7-0B87A4DE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FA74-DD53-425B-99CC-64B10E57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52E06-4B99-4378-AD0E-AACDF93D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A5077-DB23-414A-90F4-DE7692E2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5D099-3A0A-4B62-9FC7-8FE00EEC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74E35-44BA-40A7-95D5-AC031698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FD58D-D174-4064-A941-33623BD5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CE7E-FF7F-4B60-B5B1-8D9FEF61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9133-B2D2-40F5-8556-F753D454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BC3F-5D62-4A32-8A89-60123D5D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750A-ECDD-4A13-B369-1069DE88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70F8-7E42-43ED-83EC-B7279A00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401-ABDA-4A69-B484-23B63CA4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A571-A546-4E07-A944-82C7C407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cccc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33cccc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2130-F5D1-4585-B9F5-2C0A8B5F691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89A6-A95F-4416-9ACA-ABB0F81103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cccc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33cccc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E2A8-C5D2-45A4-93E6-0923E55CB81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F836-7667-4AA6-9A74-1286E81EADAE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file:///3.&#1060;&#1086;&#1088;&#1084;&#1080;&#1088;&#1086;&#1074;&#1072;&#1085;&#1080;&#1077;%20&#1087;&#1088;&#1086;&#1089;&#1090;&#1088;&#1072;&#1085;&#1089;&#1090;&#1074;&#1077;&#1085;&#1085;&#1086;&#1075;&#1086;%20&#1074;&#1086;&#1089;&#1087;&#1088;&#1080;&#1103;&#1090;&#1080;&#1103;,%20&#1079;&#1088;&#1080;&#1090;&#1077;&#1083;&#1100;&#1085;&#1086;-&#1087;&#1088;&#1086;&#1089;&#1090;&#1088;&#1072;&#1085;&#1089;&#1090;&#1074;&#1077;&#1085;&#1085;&#1086;&#1075;&#1086;%20&#1072;&#1085;&#1072;&#1083;&#1080;&#1079;&#1072;%20&#1080;%20&#1089;&#1080;&#1085;&#1090;&#1077;&#1079;&#1072;.ppt" TargetMode="External"/><Relationship Id="rId4" Type="http://schemas.openxmlformats.org/officeDocument/2006/relationships/hyperlink" Target="file:///6.&#1056;&#1072;&#1079;&#1074;&#1080;&#1090;&#1080;&#1077;%20&#1084;&#1077;&#1083;&#1082;&#1086;&#1081;%20&#1084;&#1086;&#1090;&#1086;&#1088;&#1080;&#1082;&#1080;.ppt" TargetMode="External"/><Relationship Id="rId5" Type="http://schemas.openxmlformats.org/officeDocument/2006/relationships/hyperlink" Target="file:///6.&#1056;&#1072;&#1079;&#1074;&#1080;&#1090;&#1080;&#1077;%20&#1084;&#1077;&#1083;&#1082;&#1086;&#1081;%20&#1084;&#1086;&#1090;&#1086;&#1088;&#1080;&#1082;&#1080;.ppt" TargetMode="External"/><Relationship Id="rId6" Type="http://schemas.openxmlformats.org/officeDocument/2006/relationships/hyperlink" Target="file:///9.&#1056;&#1072;&#1079;&#1074;&#1080;&#1090;&#1080;&#1077;%20&#1073;&#1091;&#1082;&#1074;&#1077;&#1085;&#1085;&#1086;&#1075;&#1086;%20&#1075;&#1085;&#1086;&#1079;&#1080;&#1089;&#1072;%20&#1080;%20&#1076;&#1080;&#1092;&#1092;&#1077;&#1088;&#1077;&#1085;&#1094;&#1080;&#1072;&#1094;&#1080;&#1103;%20&#1089;&#1084;&#1077;&#1096;&#1080;&#1074;&#1072;&#1077;&#1084;&#1099;&#1093;.ppt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B190-D5B9-4726-93ED-BB381B14253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3280" y="1268280"/>
            <a:ext cx="71294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Презентация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цифрового образовательного ресурса по предупреждению и коррекции оптической дисграфии у младших школьников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2771640" y="32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4284720" y="5445000"/>
            <a:ext cx="42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ahoma"/>
              </a:rPr>
              <a:t>Кордюкова Любовь Владимировн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ahoma"/>
              </a:rPr>
              <a:t>учитель-логопед МАОУ СОШ №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4284720" y="5030640"/>
            <a:ext cx="35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ahoma"/>
              </a:rPr>
              <a:t>Автор проект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e88"/>
                </a:solidFill>
                <a:latin typeface="Tahoma"/>
              </a:rPr>
              <a:t>Муниципальное автономное общеобразовательное учреждение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e88"/>
                </a:solidFill>
                <a:latin typeface="Tahoma"/>
              </a:rPr>
              <a:t>« Средняя общеобразовательная школа № 2»  г. Покач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3ED5-7A69-4F13-90CE-57DB34ECFC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1547640" y="1341360"/>
            <a:ext cx="633744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TextBox 14"/>
          <p:cNvSpPr/>
          <p:nvPr/>
        </p:nvSpPr>
        <p:spPr>
          <a:xfrm>
            <a:off x="1116000" y="1341360"/>
            <a:ext cx="7272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33cc"/>
                </a:solidFill>
                <a:latin typeface="Monotype Corsiva"/>
              </a:rPr>
              <a:t>СПАСИБО</a:t>
            </a:r>
            <a:r>
              <a:rPr b="0" lang="ru-RU" sz="96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33cc"/>
                </a:solidFill>
                <a:latin typeface="Monotype Corsiva"/>
              </a:rPr>
              <a:t>ЗА</a:t>
            </a:r>
            <a:r>
              <a:rPr b="0" lang="ru-RU" sz="9600" spc="-1" strike="noStrike">
                <a:solidFill>
                  <a:srgbClr val="0033cc"/>
                </a:solidFill>
                <a:latin typeface="Monotype Corsiva"/>
              </a:rPr>
              <a:t> </a:t>
            </a:r>
            <a:r>
              <a:rPr b="0" lang="ru-RU" sz="9600" spc="-1" strike="noStrike">
                <a:solidFill>
                  <a:srgbClr val="0033cc"/>
                </a:solidFill>
                <a:latin typeface="Monotype Corsiva"/>
              </a:rPr>
              <a:t>ВНИМАНИЕ</a:t>
            </a:r>
            <a:r>
              <a:rPr b="0" lang="ru-RU" sz="9600" spc="-1" strike="noStrike">
                <a:solidFill>
                  <a:srgbClr val="0033cc"/>
                </a:solidFill>
                <a:latin typeface="Monotype Corsiva"/>
              </a:rPr>
              <a:t>!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1F9C-6DB5-4651-8BE0-B6E98D64E35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81360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Franklin Gothic Medium"/>
              </a:rPr>
              <a:t>Методика использования материалов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Franklin Gothic Medium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799308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Franklin Gothic Medium"/>
              </a:rPr>
              <a:t>	</a:t>
            </a:r>
            <a:r>
              <a:rPr b="0" i="1" lang="ru-RU" sz="2800" spc="-1" strike="noStrike">
                <a:solidFill>
                  <a:srgbClr val="0033cc"/>
                </a:solidFill>
                <a:latin typeface="Franklin Gothic Medium"/>
              </a:rPr>
              <a:t>Данные материалы могут применяться в работе учителей – логопедов, учителей начальных классов, а также родителями при условии дополнительного  логопедического консультировани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Franklin Gothic Medium"/>
              </a:rPr>
              <a:t>	</a:t>
            </a:r>
            <a:r>
              <a:rPr b="0" i="1" lang="ru-RU" sz="2800" spc="-1" strike="noStrike">
                <a:solidFill>
                  <a:srgbClr val="0033cc"/>
                </a:solidFill>
                <a:latin typeface="Franklin Gothic Medium"/>
              </a:rPr>
              <a:t>Презентация может быть использована как для индивидуальной, так и для групповой работы с  младшими школьниками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Актуальность проекта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691920"/>
            <a:ext cx="8686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 настоящее время актуальность проблемы обуславливается многими факторами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 1 классе поступает много детей с общим недоразвитием речи, у большинства из них наблюдается нарушение зрительного восприятия, анализа и синтеза, а также моторных координаций, неточность представлений о форме и цвете, величине предмета, недоразвитие памяти, пространственного восприятия и представлений, трудности оптико – пространственного анализа, несформированность оптического образа буквы.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ечь детей    с интеллектуальной недостаточностью  характеризуется стойким  нарушением речи , где страдают все компоненты  как устной , так и письменной реч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D47A-ABF3-4795-A720-6E542CEF708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A3AA-6337-476B-BCF3-018EA8C9C27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Franklin Gothic Medium"/>
              </a:rPr>
              <a:t>Цель создания ЦОР: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640" y="1413000"/>
            <a:ext cx="748800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cc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едупреждение и коррекция специфических ошибок, связанных с нарушением оптико – пространственных дифференцировок, пространственно – временных представлений, через включение в систему работы знаний, заданий, игр и упражнений с использованием цифровых образовательных ресурс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F094-DC24-41A9-9EC7-63F5E3B0779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6" name="Группа 3"/>
          <p:cNvGrpSpPr/>
          <p:nvPr/>
        </p:nvGrpSpPr>
        <p:grpSpPr>
          <a:xfrm>
            <a:off x="3492360" y="1413000"/>
            <a:ext cx="2497320" cy="1498320"/>
            <a:chOff x="3492360" y="1413000"/>
            <a:chExt cx="2497320" cy="1498320"/>
          </a:xfrm>
        </p:grpSpPr>
        <p:sp>
          <p:nvSpPr>
            <p:cNvPr id="107" name="Прямоугольник 10"/>
            <p:cNvSpPr/>
            <p:nvPr/>
          </p:nvSpPr>
          <p:spPr>
            <a:xfrm>
              <a:off x="3492360" y="1413000"/>
              <a:ext cx="2497320" cy="1498320"/>
            </a:xfrm>
            <a:prstGeom prst="rect">
              <a:avLst/>
            </a:prstGeom>
            <a:gradFill rotWithShape="0">
              <a:gsLst>
                <a:gs pos="0">
                  <a:srgbClr val="fffc78"/>
                </a:gs>
                <a:gs pos="100000">
                  <a:srgbClr val="fffdd7"/>
                </a:gs>
              </a:gsLst>
              <a:lin ang="16200000"/>
            </a:gradFill>
            <a:ln w="9360">
              <a:solidFill>
                <a:srgbClr val="ffcb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Прямоугольник 11"/>
            <p:cNvSpPr/>
            <p:nvPr/>
          </p:nvSpPr>
          <p:spPr>
            <a:xfrm>
              <a:off x="3492360" y="1413000"/>
              <a:ext cx="2497320" cy="1498320"/>
            </a:xfrm>
            <a:prstGeom prst="rect">
              <a:avLst/>
            </a:prstGeom>
            <a:gradFill rotWithShape="0">
              <a:gsLst>
                <a:gs pos="0">
                  <a:srgbClr val="fffc78"/>
                </a:gs>
                <a:gs pos="100000">
                  <a:srgbClr val="fffdd7"/>
                </a:gs>
              </a:gsLst>
              <a:lin ang="16200000"/>
            </a:gradFill>
            <a:ln w="9360">
              <a:solidFill>
                <a:srgbClr val="ffcb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i="1" lang="ru-RU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витие способности концентрации и переключения зрительного внимания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09" name="Группа 4" descr=""/>
          <p:cNvPicPr/>
          <p:nvPr/>
        </p:nvPicPr>
        <p:blipFill>
          <a:blip r:embed="rId1"/>
          <a:stretch/>
        </p:blipFill>
        <p:spPr>
          <a:xfrm>
            <a:off x="3432240" y="3127320"/>
            <a:ext cx="2614680" cy="1596960"/>
          </a:xfrm>
          <a:prstGeom prst="rect">
            <a:avLst/>
          </a:prstGeom>
          <a:ln w="0">
            <a:noFill/>
          </a:ln>
        </p:spPr>
      </p:pic>
      <p:grpSp>
        <p:nvGrpSpPr>
          <p:cNvPr id="110" name="Группа 5"/>
          <p:cNvGrpSpPr/>
          <p:nvPr/>
        </p:nvGrpSpPr>
        <p:grpSpPr>
          <a:xfrm>
            <a:off x="3492360" y="4867200"/>
            <a:ext cx="2498760" cy="1498680"/>
            <a:chOff x="3492360" y="4867200"/>
            <a:chExt cx="2498760" cy="1498680"/>
          </a:xfrm>
        </p:grpSpPr>
        <p:sp>
          <p:nvSpPr>
            <p:cNvPr id="111" name="Прямоугольник 6"/>
            <p:cNvSpPr/>
            <p:nvPr/>
          </p:nvSpPr>
          <p:spPr>
            <a:xfrm>
              <a:off x="3492360" y="4867200"/>
              <a:ext cx="2498760" cy="1498680"/>
            </a:xfrm>
            <a:prstGeom prst="rect">
              <a:avLst/>
            </a:prstGeom>
            <a:solidFill>
              <a:srgbClr val="99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Прямоугольник 7"/>
            <p:cNvSpPr/>
            <p:nvPr/>
          </p:nvSpPr>
          <p:spPr>
            <a:xfrm>
              <a:off x="3492360" y="4867200"/>
              <a:ext cx="2498760" cy="1498680"/>
            </a:xfrm>
            <a:prstGeom prst="rect">
              <a:avLst/>
            </a:prstGeom>
            <a:gradFill rotWithShape="0">
              <a:gsLst>
                <a:gs pos="0">
                  <a:srgbClr val="fffc78"/>
                </a:gs>
                <a:gs pos="100000">
                  <a:srgbClr val="fffdd7"/>
                </a:gs>
              </a:gsLst>
              <a:lin ang="16200000"/>
            </a:gradFill>
            <a:ln w="9360">
              <a:solidFill>
                <a:srgbClr val="ffcb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i="1" lang="ru-RU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ормирование навыков звукового анализа и синтеза8.Формирование навыков звукового анализа и синтеза.ppt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13" name="Группа 12" descr=""/>
          <p:cNvPicPr/>
          <p:nvPr/>
        </p:nvPicPr>
        <p:blipFill>
          <a:blip r:embed="rId2"/>
          <a:stretch/>
        </p:blipFill>
        <p:spPr>
          <a:xfrm>
            <a:off x="590400" y="1359000"/>
            <a:ext cx="2743200" cy="1689120"/>
          </a:xfrm>
          <a:prstGeom prst="rect">
            <a:avLst/>
          </a:prstGeom>
          <a:ln w="0">
            <a:noFill/>
          </a:ln>
        </p:spPr>
      </p:pic>
      <p:grpSp>
        <p:nvGrpSpPr>
          <p:cNvPr id="114" name="Группа 13"/>
          <p:cNvGrpSpPr/>
          <p:nvPr/>
        </p:nvGrpSpPr>
        <p:grpSpPr>
          <a:xfrm>
            <a:off x="684360" y="3160800"/>
            <a:ext cx="2496960" cy="1498680"/>
            <a:chOff x="684360" y="3160800"/>
            <a:chExt cx="2496960" cy="1498680"/>
          </a:xfrm>
        </p:grpSpPr>
        <p:sp>
          <p:nvSpPr>
            <p:cNvPr id="115" name="Прямоугольник 17"/>
            <p:cNvSpPr/>
            <p:nvPr/>
          </p:nvSpPr>
          <p:spPr>
            <a:xfrm>
              <a:off x="684360" y="3160800"/>
              <a:ext cx="2496960" cy="149868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Прямоугольник 18"/>
            <p:cNvSpPr/>
            <p:nvPr/>
          </p:nvSpPr>
          <p:spPr>
            <a:xfrm>
              <a:off x="684360" y="3160800"/>
              <a:ext cx="2496960" cy="1498680"/>
            </a:xfrm>
            <a:prstGeom prst="rect">
              <a:avLst/>
            </a:prstGeom>
            <a:gradFill rotWithShape="0">
              <a:gsLst>
                <a:gs pos="0">
                  <a:srgbClr val="fffc78"/>
                </a:gs>
                <a:gs pos="100000">
                  <a:srgbClr val="fffdd7"/>
                </a:gs>
              </a:gsLst>
              <a:lin ang="16200000"/>
            </a:gradFill>
            <a:ln w="9360">
              <a:solidFill>
                <a:srgbClr val="ffcb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ормирование временных ориентировок и представлени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" name="Группа 14"/>
          <p:cNvGrpSpPr/>
          <p:nvPr/>
        </p:nvGrpSpPr>
        <p:grpSpPr>
          <a:xfrm>
            <a:off x="684360" y="4802040"/>
            <a:ext cx="2496960" cy="1527480"/>
            <a:chOff x="684360" y="4802040"/>
            <a:chExt cx="2496960" cy="1527480"/>
          </a:xfrm>
        </p:grpSpPr>
        <p:sp>
          <p:nvSpPr>
            <p:cNvPr id="118" name="Прямоугольник 15"/>
            <p:cNvSpPr/>
            <p:nvPr/>
          </p:nvSpPr>
          <p:spPr>
            <a:xfrm>
              <a:off x="841680" y="4829760"/>
              <a:ext cx="2339640" cy="14997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Прямоугольник 16"/>
            <p:cNvSpPr/>
            <p:nvPr/>
          </p:nvSpPr>
          <p:spPr>
            <a:xfrm>
              <a:off x="684360" y="4802040"/>
              <a:ext cx="2496960" cy="1499040"/>
            </a:xfrm>
            <a:prstGeom prst="rect">
              <a:avLst/>
            </a:prstGeom>
            <a:gradFill rotWithShape="0">
              <a:gsLst>
                <a:gs pos="0">
                  <a:srgbClr val="fffc78"/>
                </a:gs>
                <a:gs pos="100000">
                  <a:srgbClr val="fffdd7"/>
                </a:gs>
              </a:gsLst>
              <a:lin ang="16200000"/>
            </a:gradFill>
            <a:ln w="9360">
              <a:solidFill>
                <a:srgbClr val="ffcb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i="1" lang="ru-RU" sz="1700" spc="-1" strike="noStrike">
                  <a:solidFill>
                    <a:srgbClr val="33cccc"/>
                  </a:solidFill>
                  <a:latin typeface="Times New Roman"/>
                  <a:ea typeface="Times New Roman"/>
                </a:rPr>
                <a:t>Развитие слухового внимания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0" name="Группа 21"/>
          <p:cNvGrpSpPr/>
          <p:nvPr/>
        </p:nvGrpSpPr>
        <p:grpSpPr>
          <a:xfrm>
            <a:off x="6364440" y="1413000"/>
            <a:ext cx="2498400" cy="1498320"/>
            <a:chOff x="6364440" y="1413000"/>
            <a:chExt cx="2498400" cy="1498320"/>
          </a:xfrm>
        </p:grpSpPr>
        <p:sp>
          <p:nvSpPr>
            <p:cNvPr id="121" name="Прямоугольник 28"/>
            <p:cNvSpPr/>
            <p:nvPr/>
          </p:nvSpPr>
          <p:spPr>
            <a:xfrm>
              <a:off x="6364440" y="1413000"/>
              <a:ext cx="2498400" cy="149832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Прямоугольник 29"/>
            <p:cNvSpPr/>
            <p:nvPr/>
          </p:nvSpPr>
          <p:spPr>
            <a:xfrm>
              <a:off x="6364440" y="1413000"/>
              <a:ext cx="2498400" cy="1498320"/>
            </a:xfrm>
            <a:prstGeom prst="rect">
              <a:avLst/>
            </a:prstGeom>
            <a:gradFill rotWithShape="0">
              <a:gsLst>
                <a:gs pos="0">
                  <a:srgbClr val="fffc78"/>
                </a:gs>
                <a:gs pos="100000">
                  <a:srgbClr val="fffdd7"/>
                </a:gs>
              </a:gsLst>
              <a:lin ang="16200000"/>
            </a:gradFill>
            <a:ln w="9360">
              <a:solidFill>
                <a:srgbClr val="ffcb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ru-RU" sz="1400" spc="-1" strike="noStrike" u="sng">
                  <a:solidFill>
                    <a:srgbClr val="33cccc"/>
                  </a:solidFill>
                  <a:uFillTx/>
                  <a:latin typeface="Times New Roman"/>
                  <a:ea typeface="Times New Roman"/>
                  <a:hlinkClick r:id="rId3"/>
                </a:rPr>
                <a:t>Формирование пространственного восприятия, зрительно- пространственного анализа и синтеза, пространственных представлений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3" name="Группа 22"/>
          <p:cNvGrpSpPr/>
          <p:nvPr/>
        </p:nvGrpSpPr>
        <p:grpSpPr>
          <a:xfrm>
            <a:off x="6364440" y="3174840"/>
            <a:ext cx="2498400" cy="1498680"/>
            <a:chOff x="6364440" y="3174840"/>
            <a:chExt cx="2498400" cy="1498680"/>
          </a:xfrm>
        </p:grpSpPr>
        <p:sp>
          <p:nvSpPr>
            <p:cNvPr id="124" name="Прямоугольник 26"/>
            <p:cNvSpPr/>
            <p:nvPr/>
          </p:nvSpPr>
          <p:spPr>
            <a:xfrm>
              <a:off x="6364440" y="3174840"/>
              <a:ext cx="2498400" cy="1498680"/>
            </a:xfrm>
            <a:prstGeom prst="rect">
              <a:avLst/>
            </a:prstGeom>
            <a:solidFill>
              <a:srgbClr val="99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Прямоугольник 27"/>
            <p:cNvSpPr/>
            <p:nvPr/>
          </p:nvSpPr>
          <p:spPr>
            <a:xfrm>
              <a:off x="6364440" y="3174840"/>
              <a:ext cx="2498400" cy="1498680"/>
            </a:xfrm>
            <a:prstGeom prst="rect">
              <a:avLst/>
            </a:prstGeom>
            <a:gradFill rotWithShape="0">
              <a:gsLst>
                <a:gs pos="0">
                  <a:srgbClr val="fffc78"/>
                </a:gs>
                <a:gs pos="100000">
                  <a:srgbClr val="fffdd7"/>
                </a:gs>
              </a:gsLst>
              <a:lin ang="16200000"/>
            </a:gradFill>
            <a:ln w="9360">
              <a:solidFill>
                <a:srgbClr val="ffcb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ru-RU" sz="1700" spc="-1" strike="noStrike" u="sng">
                  <a:solidFill>
                    <a:srgbClr val="33cccc"/>
                  </a:solidFill>
                  <a:uFillTx/>
                  <a:latin typeface="Times New Roman"/>
                  <a:ea typeface="Times New Roman"/>
                  <a:hlinkClick r:id="rId4"/>
                </a:rPr>
                <a:t>Развитие тонко координированных движений </a:t>
              </a:r>
              <a:r>
                <a:rPr b="0" lang="ru-RU" sz="1700" spc="-1" strike="noStrike" u="sng">
                  <a:solidFill>
                    <a:srgbClr val="33cccc"/>
                  </a:solidFill>
                  <a:uFillTx/>
                  <a:latin typeface="Times New Roman"/>
                  <a:ea typeface="Times New Roman"/>
                  <a:hlinkClick r:id="rId5"/>
                </a:rPr>
                <a:t>рук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6" name="Группа 23"/>
          <p:cNvGrpSpPr/>
          <p:nvPr/>
        </p:nvGrpSpPr>
        <p:grpSpPr>
          <a:xfrm>
            <a:off x="6356520" y="4836960"/>
            <a:ext cx="2498400" cy="1500480"/>
            <a:chOff x="6356520" y="4836960"/>
            <a:chExt cx="2498400" cy="1500480"/>
          </a:xfrm>
        </p:grpSpPr>
        <p:sp>
          <p:nvSpPr>
            <p:cNvPr id="127" name="Прямоугольник 24"/>
            <p:cNvSpPr/>
            <p:nvPr/>
          </p:nvSpPr>
          <p:spPr>
            <a:xfrm>
              <a:off x="6356520" y="4836960"/>
              <a:ext cx="2498400" cy="15004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Прямоугольник 25"/>
            <p:cNvSpPr/>
            <p:nvPr/>
          </p:nvSpPr>
          <p:spPr>
            <a:xfrm>
              <a:off x="6356520" y="4836960"/>
              <a:ext cx="2498400" cy="1500480"/>
            </a:xfrm>
            <a:prstGeom prst="rect">
              <a:avLst/>
            </a:prstGeom>
            <a:gradFill rotWithShape="0">
              <a:gsLst>
                <a:gs pos="0">
                  <a:srgbClr val="fffc78"/>
                </a:gs>
                <a:gs pos="100000">
                  <a:srgbClr val="fffdd7"/>
                </a:gs>
              </a:gsLst>
              <a:lin ang="16200000"/>
            </a:gradFill>
            <a:ln w="9360">
              <a:solidFill>
                <a:srgbClr val="ffcb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ru-RU" sz="1700" spc="-1" strike="noStrike" u="sng">
                  <a:solidFill>
                    <a:srgbClr val="33cccc"/>
                  </a:solidFill>
                  <a:uFillTx/>
                  <a:latin typeface="Times New Roman"/>
                  <a:ea typeface="Times New Roman"/>
                  <a:hlinkClick r:id="rId6"/>
                </a:rPr>
                <a:t>Развитие буквенного гнозиса и дифференциация смешиваемых звуков и букв в слогах, словах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8692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Franklin Gothic Medium"/>
              </a:rPr>
              <a:t>Направления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6919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ероприяти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4600" indent="-264600">
              <a:lnSpc>
                <a:spcPct val="10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общение итогов фронтальной и индивидуальной работы с детьм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64600" indent="-264600">
              <a:lnSpc>
                <a:spcPct val="10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нализ эффективности работы системы работы с детьми по развитию мелкой моторики рук у детей с ОВЗ  и приобщения ребенка к декоративно - прикладному искусству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64600" indent="-264600">
              <a:lnSpc>
                <a:spcPct val="10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зработка методических рекомендаций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64600" indent="-264600">
              <a:lnSpc>
                <a:spcPct val="10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дготовка презентационного буклета, фотоальбомов, портфолио, отражающих содержание работы с детьм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64600" indent="-264600">
              <a:lnSpc>
                <a:spcPct val="10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истематизация конспектов занятий продуктивной деятельности по развитию мелкой моторик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64600" indent="-264600">
              <a:lnSpc>
                <a:spcPct val="10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писание опыта работы «Шкатулка полезных слов» как эффективное средство обогащения словарного запас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64600" indent="-264600">
              <a:lnSpc>
                <a:spcPct val="10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зработка и подборка материала для изготовления совместных работ детей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64600" indent="-264600">
              <a:lnSpc>
                <a:spcPct val="100000"/>
              </a:lnSpc>
              <a:spcBef>
                <a:spcPts val="499"/>
              </a:spcBef>
              <a:buClr>
                <a:srgbClr val="33cccc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86CA-62CC-455F-A839-583059F37A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7387-4C33-4221-A196-2EB7505F58F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4" name="Organization Chart 7"/>
          <p:cNvGrpSpPr/>
          <p:nvPr/>
        </p:nvGrpSpPr>
        <p:grpSpPr>
          <a:xfrm>
            <a:off x="324000" y="891360"/>
            <a:ext cx="8569440" cy="5848920"/>
            <a:chOff x="324000" y="891360"/>
            <a:chExt cx="8569440" cy="5848920"/>
          </a:xfrm>
        </p:grpSpPr>
        <p:cxnSp>
          <p:nvCxnSpPr>
            <p:cNvPr id="135" name="_s1028"/>
            <p:cNvCxnSpPr/>
            <p:nvPr/>
          </p:nvCxnSpPr>
          <p:spPr>
            <a:xfrm flipV="1" rot="16200000">
              <a:off x="5457960" y="2154600"/>
              <a:ext cx="1139040" cy="3199320"/>
            </a:xfrm>
            <a:prstGeom prst="bentConnector3">
              <a:avLst>
                <a:gd name="adj1" fmla="val 1274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1029"/>
            <p:cNvCxnSpPr/>
            <p:nvPr/>
          </p:nvCxnSpPr>
          <p:spPr>
            <a:xfrm flipV="1" rot="16200000">
              <a:off x="3961080" y="3725640"/>
              <a:ext cx="1048320" cy="114840"/>
            </a:xfrm>
            <a:prstGeom prst="bentConnector3">
              <a:avLst>
                <a:gd name="adj1" fmla="val 12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1030"/>
            <p:cNvCxnSpPr/>
            <p:nvPr/>
          </p:nvCxnSpPr>
          <p:spPr>
            <a:xfrm flipH="1" flipV="1" rot="5400000">
              <a:off x="2408040" y="2324520"/>
              <a:ext cx="1139040" cy="2859840"/>
            </a:xfrm>
            <a:prstGeom prst="bentConnector3">
              <a:avLst>
                <a:gd name="adj1" fmla="val 1274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8" name="_s1031"/>
            <p:cNvSpPr/>
            <p:nvPr/>
          </p:nvSpPr>
          <p:spPr>
            <a:xfrm>
              <a:off x="2628000" y="891360"/>
              <a:ext cx="3807720" cy="23587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33cc"/>
                  </a:solidFill>
                  <a:latin typeface="Tahoma"/>
                </a:rPr>
                <a:t>Предполагаемый образовательный результат</a:t>
              </a:r>
              <a:endParaRPr b="0" lang="en-US" sz="2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_s1032"/>
            <p:cNvSpPr/>
            <p:nvPr/>
          </p:nvSpPr>
          <p:spPr>
            <a:xfrm>
              <a:off x="324000" y="4299840"/>
              <a:ext cx="2808000" cy="24069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ahoma"/>
                </a:rPr>
                <a:t>Формирование стойкого интереса к занятиям за счет наглядности и доступности обучающего материала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_s1033"/>
            <p:cNvSpPr/>
            <p:nvPr/>
          </p:nvSpPr>
          <p:spPr>
            <a:xfrm>
              <a:off x="3348360" y="4266360"/>
              <a:ext cx="2595240" cy="2440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ahoma"/>
                </a:rPr>
                <a:t>Создание предпосылок к грамотному овладению письмом и чтением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_s1034"/>
            <p:cNvSpPr/>
            <p:nvPr/>
          </p:nvSpPr>
          <p:spPr>
            <a:xfrm>
              <a:off x="6156720" y="4299840"/>
              <a:ext cx="2736720" cy="2440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ahoma"/>
                </a:rPr>
                <a:t>Обеспечение информатизации педагогического процесса за счет применения информационно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ahoma"/>
                </a:rPr>
                <a:t>коммуникационных технологи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CD11-3E64-4A38-A635-DDA135D1E68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26920" y="0"/>
            <a:ext cx="8209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Franklin Gothic Medium"/>
              </a:rPr>
              <a:t>Перспективы на будуще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116000" y="1413000"/>
            <a:ext cx="7848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6760" indent="3556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Times New Roman"/>
              </a:rPr>
              <a:t>Совершенствовать представленный ЦОР на  основе новых инструментов  обучения и обучающих материал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6760" indent="3556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6760" indent="3556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Times New Roman"/>
              </a:rPr>
              <a:t>Создание ЦОР по предупреждению  и устранению акустической дисграф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6760" indent="3556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6760" indent="3556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Times New Roman"/>
              </a:rPr>
              <a:t>Формирование  банка данных по проблемам нарушения письма и чтения детей различных возрастных категор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h_7Xig9Bcpd5s3KCHSVNzTJef2lv8uQM4Z_"/>
          <p:cNvPicPr/>
          <p:nvPr/>
        </p:nvPicPr>
        <p:blipFill>
          <a:blip r:embed="rId1"/>
          <a:stretch/>
        </p:blipFill>
        <p:spPr>
          <a:xfrm>
            <a:off x="0" y="476280"/>
            <a:ext cx="1655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F064-FBC0-46DD-AFD7-A2A7CB14858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5960" y="14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8820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cccc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изунова Л.Р. Компьютерная технология коррекции общего недоразвития речи у детей старшего дошкольного возраста. Пермь, ПКИПКРО, 2007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cccc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огопедия. Под редакцией профессора Л.С. Волковой. М. «Просвещение», 1995 г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cccc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опухина. И.С. Логопедия. 550 занимательных упражнения для развития речи. М. «Аквариум» 1990 г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cccc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адовникова И.Н. Нарушения письменной речи и их преодоление у младших школьников: Учебное пособие – М.: Гуманит. изд. центр ВЛАДОС, 1997. 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cccc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иротюк А.Л. Нейропсихологическое и психофизиологическое сопровождение обучения. – М.: ТЦ Сфера, 2003. 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cccc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елошеева А.А., Голышева В.В. Психические расстройства у детей. Речевые нарушения у детей/ Серия “В семье больной ребёнок”. – Пермь: Здравствуй, 2009. – 270 с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cccc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азепина Т.Б. Развитие познавательных процессов ребёнка в играх, тренингах, тестах/ Серия “Мир нашего ребёнка”. – Ростов н/Д: Феникс, 2002. – 64 с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cccc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ихайлова Л.С. Как подготовить ребенка к школе. Пособие для родителей и воспитателей детских садов. Упражнения, задачи, игры, тесты. Часть I. – Волгогорад, издательство Гринина А.Е., 2001. – 64 с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cccc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азанова Е.В.Учусь не путать буквы.Альбом1,2 .Упражнения по профилактике и коррекции оптической дисграфии. – М.:Издательство «Гном и Д», 2008. – 32с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cccc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алаева Р.И. Логопедическая работа в коррекционных классах. – М.: Гуманит. изд. центр Владос, 2007. – 224с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cccc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арамонова Л.Г.Предупреждение и устранение дисграфии у детей. – СПб.: Лениздат «Союз», 2001.- 249с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24000" y="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ahoma"/>
              </a:rPr>
              <a:t>Интернет источник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76200" y="871200"/>
            <a:ext cx="784872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estival.1september.ru/articles/572274/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xreferat.ru/71/988-4-formirovanie-optiko-prostranstvennyh-predstavleniiy-u-mladshih-shkol-nikov-s-opticheskoiy-disgrafieiy.htm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c-neman.ru/page.php?c=arhiv http://www.poznayka.ru/2006/11/20/uchim_figury__najjdi_figuru.htm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logozavr.ru/668 /728/http://dob.1september.ru/2001/01/4.htm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449280"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Картинки с сайта яндекс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http://900igr.net/Detskie_prezentatsii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тература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2T20:32:35Z</dcterms:created>
  <dc:creator>Customer</dc:creator>
  <dc:description/>
  <dc:language>en-US</dc:language>
  <cp:lastModifiedBy>Олеся Владимировна</cp:lastModifiedBy>
  <dcterms:modified xsi:type="dcterms:W3CDTF">2015-03-25T13:30:34Z</dcterms:modified>
  <cp:revision>130</cp:revision>
  <dc:subject/>
  <dc:title>Слайд 1</dc:title>
</cp:coreProperties>
</file>