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4489-483C-48B2-B881-CFB9447781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4ABC-2D01-46D9-87CA-5A7763DBE54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CD47-B218-43E2-B05B-6BD42A4FB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C7A3-96E4-425A-905A-7FBCEC11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1977-6A75-486F-AA2E-C5E763AF9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36BC-9767-4874-866C-6217C93B7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F969B3-FDB9-44FF-A507-8FD834D8F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CA639-51B2-42BD-BCDF-F582EDBB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83330-CF4A-4657-999A-F103F32C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26E54-FEA5-4D4A-8ABC-1A158B75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D0F7F-13EE-4FE8-B6BD-23FABAF9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C904C9-43BC-4EF0-9BD5-B49EF248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51FD6-5D1C-4711-AB42-8187F291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E5B5-E627-4B56-8EB5-18381144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9C40CD-632D-43A5-9B58-DD4408CA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C7925D-A057-4EAD-8B2E-DDA9C845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D8010-E014-4F67-9EEC-5DA263CE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92ED5-4DCB-4D7B-8BCA-E65126869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F0162-2315-4DAD-B0D6-056162F78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EEE8-11BD-4FB5-80EC-26FBE92D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E541-2C04-4A33-A02B-A026E313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F370-21DA-4DE9-8ABB-9C89BBCE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A52E-406E-449E-80CF-A764775B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2E55-A63E-4B9B-9E59-EA5D3B5B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3A92-D232-471E-AD27-1426EB09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46FE-73EB-4130-80DD-D51CAECF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cccc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33cccc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33cc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36E3-2955-4E3E-B195-2A11F32528A2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DC2E-641F-4BFB-83D2-208E5B9FD9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cccc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33cccc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33cc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E64F-954A-4471-AB95-2C1AE627D57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5848-A90F-41FA-A327-7C6293B8C710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file:///3.&#1060;&#1086;&#1088;&#1084;&#1080;&#1088;&#1086;&#1074;&#1072;&#1085;&#1080;&#1077;%20&#1087;&#1088;&#1086;&#1089;&#1090;&#1088;&#1072;&#1085;&#1089;&#1090;&#1074;&#1077;&#1085;&#1085;&#1086;&#1075;&#1086;%20&#1074;&#1086;&#1089;&#1087;&#1088;&#1080;&#1103;&#1090;&#1080;&#1103;,%20&#1079;&#1088;&#1080;&#1090;&#1077;&#1083;&#1100;&#1085;&#1086;-&#1087;&#1088;&#1086;&#1089;&#1090;&#1088;&#1072;&#1085;&#1089;&#1090;&#1074;&#1077;&#1085;&#1085;&#1086;&#1075;&#1086;%20&#1072;&#1085;&#1072;&#1083;&#1080;&#1079;&#1072;%20&#1080;%20&#1089;&#1080;&#1085;&#1090;&#1077;&#1079;&#1072;.ppt" TargetMode="External"/><Relationship Id="rId4" Type="http://schemas.openxmlformats.org/officeDocument/2006/relationships/hyperlink" Target="file:///6.&#1056;&#1072;&#1079;&#1074;&#1080;&#1090;&#1080;&#1077;%20&#1084;&#1077;&#1083;&#1082;&#1086;&#1081;%20&#1084;&#1086;&#1090;&#1086;&#1088;&#1080;&#1082;&#1080;.ppt" TargetMode="External"/><Relationship Id="rId5" Type="http://schemas.openxmlformats.org/officeDocument/2006/relationships/hyperlink" Target="file:///6.&#1056;&#1072;&#1079;&#1074;&#1080;&#1090;&#1080;&#1077;%20&#1084;&#1077;&#1083;&#1082;&#1086;&#1081;%20&#1084;&#1086;&#1090;&#1086;&#1088;&#1080;&#1082;&#1080;.ppt" TargetMode="External"/><Relationship Id="rId6" Type="http://schemas.openxmlformats.org/officeDocument/2006/relationships/hyperlink" Target="file:///9.&#1056;&#1072;&#1079;&#1074;&#1080;&#1090;&#1080;&#1077;%20&#1073;&#1091;&#1082;&#1074;&#1077;&#1085;&#1085;&#1086;&#1075;&#1086;%20&#1075;&#1085;&#1086;&#1079;&#1080;&#1089;&#1072;%20&#1080;%20&#1076;&#1080;&#1092;&#1092;&#1077;&#1088;&#1077;&#1085;&#1094;&#1080;&#1072;&#1094;&#1080;&#1103;%20&#1089;&#1084;&#1077;&#1096;&#1080;&#1074;&#1072;&#1077;&#1084;&#1099;&#1093;.ppt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9D1E-1264-414E-B34E-5DA7C45F52D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03280" y="1268280"/>
            <a:ext cx="71294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Презентация</a:t>
            </a:r>
            <a:br>
              <a:rPr sz="3600"/>
            </a:b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цифрового образовательного ресурса по предупреждению и коррекции оптической дисграфии у младших школьников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2771640" y="321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4284720" y="5445000"/>
            <a:ext cx="42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Tahoma"/>
              </a:rPr>
              <a:t>Кордюкова Любовь Владимировна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Tahoma"/>
              </a:rPr>
              <a:t>учитель-логопед МАОУ СОШ №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4284720" y="5030640"/>
            <a:ext cx="35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Tahoma"/>
              </a:rPr>
              <a:t>Автор проект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2e88"/>
                </a:solidFill>
                <a:latin typeface="Tahoma"/>
              </a:rPr>
              <a:t>Муниципальное автономное общеобразовательное учреждение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2e88"/>
                </a:solidFill>
                <a:latin typeface="Tahoma"/>
              </a:rPr>
              <a:t>« Средняя общеобразовательная школа № 2»  г. Покач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0313-7E8F-40CA-95C5-0596F3EB042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WordArt 5"/>
          <p:cNvSpPr txBox="1"/>
          <p:nvPr/>
        </p:nvSpPr>
        <p:spPr>
          <a:xfrm>
            <a:off x="1547640" y="1341360"/>
            <a:ext cx="633744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TextBox 14"/>
          <p:cNvSpPr/>
          <p:nvPr/>
        </p:nvSpPr>
        <p:spPr>
          <a:xfrm>
            <a:off x="1116000" y="1341360"/>
            <a:ext cx="7272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33cc"/>
                </a:solidFill>
                <a:latin typeface="Monotype Corsiva"/>
              </a:rPr>
              <a:t>СПАСИБО</a:t>
            </a:r>
            <a:r>
              <a:rPr b="0" lang="ru-RU" sz="9600" spc="-1" strike="noStrike">
                <a:solidFill>
                  <a:srgbClr val="0033cc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33cc"/>
                </a:solidFill>
                <a:latin typeface="Monotype Corsiva"/>
              </a:rPr>
              <a:t>ЗА</a:t>
            </a:r>
            <a:r>
              <a:rPr b="0" lang="ru-RU" sz="9600" spc="-1" strike="noStrike">
                <a:solidFill>
                  <a:srgbClr val="0033cc"/>
                </a:solidFill>
                <a:latin typeface="Monotype Corsiva"/>
              </a:rPr>
              <a:t> </a:t>
            </a:r>
            <a:r>
              <a:rPr b="0" lang="ru-RU" sz="9600" spc="-1" strike="noStrike">
                <a:solidFill>
                  <a:srgbClr val="0033cc"/>
                </a:solidFill>
                <a:latin typeface="Monotype Corsiva"/>
              </a:rPr>
              <a:t>ВНИМАНИЕ</a:t>
            </a:r>
            <a:r>
              <a:rPr b="0" lang="ru-RU" sz="9600" spc="-1" strike="noStrike">
                <a:solidFill>
                  <a:srgbClr val="0033cc"/>
                </a:solidFill>
                <a:latin typeface="Monotype Corsiva"/>
              </a:rPr>
              <a:t>!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58B2-6337-4C25-A4AE-F8561A954C4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8136000" cy="2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Franklin Gothic Medium"/>
              </a:rPr>
              <a:t>Методика использования материалов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Franklin Gothic Medium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7993080" cy="45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Franklin Gothic Medium"/>
              </a:rPr>
              <a:t>	</a:t>
            </a:r>
            <a:r>
              <a:rPr b="0" i="1" lang="ru-RU" sz="2800" spc="-1" strike="noStrike">
                <a:solidFill>
                  <a:srgbClr val="0033cc"/>
                </a:solidFill>
                <a:latin typeface="Franklin Gothic Medium"/>
              </a:rPr>
              <a:t>Данные материалы могут применяться в работе учителей – логопедов, учителей начальных классов, а также родителями при условии дополнительного  логопедического консультирования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cc"/>
                </a:solidFill>
                <a:latin typeface="Franklin Gothic Medium"/>
              </a:rPr>
              <a:t>	</a:t>
            </a:r>
            <a:r>
              <a:rPr b="0" i="1" lang="ru-RU" sz="2800" spc="-1" strike="noStrike">
                <a:solidFill>
                  <a:srgbClr val="0033cc"/>
                </a:solidFill>
                <a:latin typeface="Franklin Gothic Medium"/>
              </a:rPr>
              <a:t>Презентация может быть использована как для индивидуальной, так и для групповой работы с  младшими школьниками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Актуальность проекта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691920"/>
            <a:ext cx="8686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В настоящее время актуальность проблемы обуславливается многими факторами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В 1 классе поступает много детей с общим недоразвитием речи, у большинства из них наблюдается нарушение зрительного восприятия, анализа и синтеза, а также моторных координаций, неточность представлений о форме и цвете, величине предмета, недоразвитие памяти, пространственного восприятия и представлений, трудности оптико – пространственного анализа, несформированность оптического образа буквы.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Речь детей    с интеллектуальной недостаточностью  характеризуется стойким  нарушением речи , где страдают все компоненты  как устной , так и письменной реч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AB15-9B3C-4C3B-B3D7-08319C91D7F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685A-127B-47AC-9BD4-3D02F027A25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Franklin Gothic Medium"/>
              </a:rPr>
              <a:t>Цель создания ЦОР:</a:t>
            </a:r>
            <a:r>
              <a:rPr b="1" i="1" lang="ru-RU" sz="2800" spc="-1" strike="noStrike">
                <a:solidFill>
                  <a:srgbClr val="ff0000"/>
                </a:solidFill>
                <a:latin typeface="Franklin Gothic Medium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71640" y="1413000"/>
            <a:ext cx="748800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33cc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едупреждение и коррекция специфических ошибок, связанных с нарушением оптико – пространственных дифференцировок, пространственно – временных представлений, через включение в систему работы знаний, заданий, игр и упражнений с использованием цифровых образовательных ресурсов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7D34-46C7-4C57-B21F-0EC842D55C6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6" name="Группа 3"/>
          <p:cNvGrpSpPr/>
          <p:nvPr/>
        </p:nvGrpSpPr>
        <p:grpSpPr>
          <a:xfrm>
            <a:off x="3492360" y="1413000"/>
            <a:ext cx="2497320" cy="1498320"/>
            <a:chOff x="3492360" y="1413000"/>
            <a:chExt cx="2497320" cy="1498320"/>
          </a:xfrm>
        </p:grpSpPr>
        <p:sp>
          <p:nvSpPr>
            <p:cNvPr id="107" name="Прямоугольник 10"/>
            <p:cNvSpPr/>
            <p:nvPr/>
          </p:nvSpPr>
          <p:spPr>
            <a:xfrm>
              <a:off x="3492360" y="1413000"/>
              <a:ext cx="2497320" cy="1498320"/>
            </a:xfrm>
            <a:prstGeom prst="rect">
              <a:avLst/>
            </a:prstGeom>
            <a:gradFill rotWithShape="0">
              <a:gsLst>
                <a:gs pos="0">
                  <a:srgbClr val="fffc78"/>
                </a:gs>
                <a:gs pos="100000">
                  <a:srgbClr val="fffdd7"/>
                </a:gs>
              </a:gsLst>
              <a:lin ang="16200000"/>
            </a:gradFill>
            <a:ln w="9360">
              <a:solidFill>
                <a:srgbClr val="ffcb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Прямоугольник 11"/>
            <p:cNvSpPr/>
            <p:nvPr/>
          </p:nvSpPr>
          <p:spPr>
            <a:xfrm>
              <a:off x="3492360" y="1413000"/>
              <a:ext cx="2497320" cy="1498320"/>
            </a:xfrm>
            <a:prstGeom prst="rect">
              <a:avLst/>
            </a:prstGeom>
            <a:gradFill rotWithShape="0">
              <a:gsLst>
                <a:gs pos="0">
                  <a:srgbClr val="fffc78"/>
                </a:gs>
                <a:gs pos="100000">
                  <a:srgbClr val="fffdd7"/>
                </a:gs>
              </a:gsLst>
              <a:lin ang="16200000"/>
            </a:gradFill>
            <a:ln w="9360">
              <a:solidFill>
                <a:srgbClr val="ffcb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4800" rIns="64800" tIns="64800" bIns="64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1" i="1" lang="ru-RU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витие способности концентрации и переключения зрительного внимания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09" name="Группа 4" descr=""/>
          <p:cNvPicPr/>
          <p:nvPr/>
        </p:nvPicPr>
        <p:blipFill>
          <a:blip r:embed="rId1"/>
          <a:stretch/>
        </p:blipFill>
        <p:spPr>
          <a:xfrm>
            <a:off x="3432240" y="3127320"/>
            <a:ext cx="2614680" cy="1596960"/>
          </a:xfrm>
          <a:prstGeom prst="rect">
            <a:avLst/>
          </a:prstGeom>
          <a:ln w="0">
            <a:noFill/>
          </a:ln>
        </p:spPr>
      </p:pic>
      <p:grpSp>
        <p:nvGrpSpPr>
          <p:cNvPr id="110" name="Группа 5"/>
          <p:cNvGrpSpPr/>
          <p:nvPr/>
        </p:nvGrpSpPr>
        <p:grpSpPr>
          <a:xfrm>
            <a:off x="3492360" y="4867200"/>
            <a:ext cx="2498760" cy="1498680"/>
            <a:chOff x="3492360" y="4867200"/>
            <a:chExt cx="2498760" cy="1498680"/>
          </a:xfrm>
        </p:grpSpPr>
        <p:sp>
          <p:nvSpPr>
            <p:cNvPr id="111" name="Прямоугольник 6"/>
            <p:cNvSpPr/>
            <p:nvPr/>
          </p:nvSpPr>
          <p:spPr>
            <a:xfrm>
              <a:off x="3492360" y="4867200"/>
              <a:ext cx="2498760" cy="1498680"/>
            </a:xfrm>
            <a:prstGeom prst="rect">
              <a:avLst/>
            </a:prstGeom>
            <a:solidFill>
              <a:srgbClr val="99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Прямоугольник 7"/>
            <p:cNvSpPr/>
            <p:nvPr/>
          </p:nvSpPr>
          <p:spPr>
            <a:xfrm>
              <a:off x="3492360" y="4867200"/>
              <a:ext cx="2498760" cy="1498680"/>
            </a:xfrm>
            <a:prstGeom prst="rect">
              <a:avLst/>
            </a:prstGeom>
            <a:gradFill rotWithShape="0">
              <a:gsLst>
                <a:gs pos="0">
                  <a:srgbClr val="fffc78"/>
                </a:gs>
                <a:gs pos="100000">
                  <a:srgbClr val="fffdd7"/>
                </a:gs>
              </a:gsLst>
              <a:lin ang="16200000"/>
            </a:gradFill>
            <a:ln w="9360">
              <a:solidFill>
                <a:srgbClr val="ffcb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4800" rIns="64800" tIns="64800" bIns="64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1" i="1" lang="ru-RU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ормирование навыков звукового анализа и синтеза8.Формирование навыков звукового анализа и синтеза.ppt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13" name="Группа 12" descr=""/>
          <p:cNvPicPr/>
          <p:nvPr/>
        </p:nvPicPr>
        <p:blipFill>
          <a:blip r:embed="rId2"/>
          <a:stretch/>
        </p:blipFill>
        <p:spPr>
          <a:xfrm>
            <a:off x="590400" y="1359000"/>
            <a:ext cx="2743200" cy="1689120"/>
          </a:xfrm>
          <a:prstGeom prst="rect">
            <a:avLst/>
          </a:prstGeom>
          <a:ln w="0">
            <a:noFill/>
          </a:ln>
        </p:spPr>
      </p:pic>
      <p:grpSp>
        <p:nvGrpSpPr>
          <p:cNvPr id="114" name="Группа 13"/>
          <p:cNvGrpSpPr/>
          <p:nvPr/>
        </p:nvGrpSpPr>
        <p:grpSpPr>
          <a:xfrm>
            <a:off x="684360" y="3160800"/>
            <a:ext cx="2496960" cy="1498680"/>
            <a:chOff x="684360" y="3160800"/>
            <a:chExt cx="2496960" cy="1498680"/>
          </a:xfrm>
        </p:grpSpPr>
        <p:sp>
          <p:nvSpPr>
            <p:cNvPr id="115" name="Прямоугольник 17"/>
            <p:cNvSpPr/>
            <p:nvPr/>
          </p:nvSpPr>
          <p:spPr>
            <a:xfrm>
              <a:off x="684360" y="3160800"/>
              <a:ext cx="2496960" cy="1498680"/>
            </a:xfrm>
            <a:prstGeom prst="rect">
              <a:avLst/>
            </a:prstGeom>
            <a:solidFill>
              <a:srgbClr val="d9d9d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Прямоугольник 18"/>
            <p:cNvSpPr/>
            <p:nvPr/>
          </p:nvSpPr>
          <p:spPr>
            <a:xfrm>
              <a:off x="684360" y="3160800"/>
              <a:ext cx="2496960" cy="1498680"/>
            </a:xfrm>
            <a:prstGeom prst="rect">
              <a:avLst/>
            </a:prstGeom>
            <a:gradFill rotWithShape="0">
              <a:gsLst>
                <a:gs pos="0">
                  <a:srgbClr val="fffc78"/>
                </a:gs>
                <a:gs pos="100000">
                  <a:srgbClr val="fffdd7"/>
                </a:gs>
              </a:gsLst>
              <a:lin ang="16200000"/>
            </a:gradFill>
            <a:ln w="9360">
              <a:solidFill>
                <a:srgbClr val="ffcb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ормирование временных ориентировок и представлений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7" name="Группа 14"/>
          <p:cNvGrpSpPr/>
          <p:nvPr/>
        </p:nvGrpSpPr>
        <p:grpSpPr>
          <a:xfrm>
            <a:off x="684360" y="4802040"/>
            <a:ext cx="2496960" cy="1527480"/>
            <a:chOff x="684360" y="4802040"/>
            <a:chExt cx="2496960" cy="1527480"/>
          </a:xfrm>
        </p:grpSpPr>
        <p:sp>
          <p:nvSpPr>
            <p:cNvPr id="118" name="Прямоугольник 15"/>
            <p:cNvSpPr/>
            <p:nvPr/>
          </p:nvSpPr>
          <p:spPr>
            <a:xfrm>
              <a:off x="841680" y="4829760"/>
              <a:ext cx="2339640" cy="149976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Прямоугольник 16"/>
            <p:cNvSpPr/>
            <p:nvPr/>
          </p:nvSpPr>
          <p:spPr>
            <a:xfrm>
              <a:off x="684360" y="4802040"/>
              <a:ext cx="2496960" cy="1499040"/>
            </a:xfrm>
            <a:prstGeom prst="rect">
              <a:avLst/>
            </a:prstGeom>
            <a:gradFill rotWithShape="0">
              <a:gsLst>
                <a:gs pos="0">
                  <a:srgbClr val="fffc78"/>
                </a:gs>
                <a:gs pos="100000">
                  <a:srgbClr val="fffdd7"/>
                </a:gs>
              </a:gsLst>
              <a:lin ang="16200000"/>
            </a:gradFill>
            <a:ln w="9360">
              <a:solidFill>
                <a:srgbClr val="ffcb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4800" rIns="64800" tIns="64800" bIns="64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1" i="1" lang="ru-RU" sz="1700" spc="-1" strike="noStrike">
                  <a:solidFill>
                    <a:srgbClr val="33cccc"/>
                  </a:solidFill>
                  <a:latin typeface="Times New Roman"/>
                  <a:ea typeface="Times New Roman"/>
                </a:rPr>
                <a:t>Развитие слухового внимания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0" name="Группа 21"/>
          <p:cNvGrpSpPr/>
          <p:nvPr/>
        </p:nvGrpSpPr>
        <p:grpSpPr>
          <a:xfrm>
            <a:off x="6364440" y="1413000"/>
            <a:ext cx="2498400" cy="1498320"/>
            <a:chOff x="6364440" y="1413000"/>
            <a:chExt cx="2498400" cy="1498320"/>
          </a:xfrm>
        </p:grpSpPr>
        <p:sp>
          <p:nvSpPr>
            <p:cNvPr id="121" name="Прямоугольник 28"/>
            <p:cNvSpPr/>
            <p:nvPr/>
          </p:nvSpPr>
          <p:spPr>
            <a:xfrm>
              <a:off x="6364440" y="1413000"/>
              <a:ext cx="2498400" cy="1498320"/>
            </a:xfrm>
            <a:prstGeom prst="rect">
              <a:avLst/>
            </a:prstGeom>
            <a:solidFill>
              <a:srgbClr val="d9d9d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Прямоугольник 29"/>
            <p:cNvSpPr/>
            <p:nvPr/>
          </p:nvSpPr>
          <p:spPr>
            <a:xfrm>
              <a:off x="6364440" y="1413000"/>
              <a:ext cx="2498400" cy="1498320"/>
            </a:xfrm>
            <a:prstGeom prst="rect">
              <a:avLst/>
            </a:prstGeom>
            <a:gradFill rotWithShape="0">
              <a:gsLst>
                <a:gs pos="0">
                  <a:srgbClr val="fffc78"/>
                </a:gs>
                <a:gs pos="100000">
                  <a:srgbClr val="fffdd7"/>
                </a:gs>
              </a:gsLst>
              <a:lin ang="16200000"/>
            </a:gradFill>
            <a:ln w="9360">
              <a:solidFill>
                <a:srgbClr val="ffcb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0" lang="ru-RU" sz="1400" spc="-1" strike="noStrike" u="sng">
                  <a:solidFill>
                    <a:srgbClr val="33cccc"/>
                  </a:solidFill>
                  <a:uFillTx/>
                  <a:latin typeface="Times New Roman"/>
                  <a:ea typeface="Times New Roman"/>
                  <a:hlinkClick r:id="rId3"/>
                </a:rPr>
                <a:t>Формирование пространственного восприятия, зрительно- пространственного анализа и синтеза, пространственных представлений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3" name="Группа 22"/>
          <p:cNvGrpSpPr/>
          <p:nvPr/>
        </p:nvGrpSpPr>
        <p:grpSpPr>
          <a:xfrm>
            <a:off x="6364440" y="3174840"/>
            <a:ext cx="2498400" cy="1498680"/>
            <a:chOff x="6364440" y="3174840"/>
            <a:chExt cx="2498400" cy="1498680"/>
          </a:xfrm>
        </p:grpSpPr>
        <p:sp>
          <p:nvSpPr>
            <p:cNvPr id="124" name="Прямоугольник 26"/>
            <p:cNvSpPr/>
            <p:nvPr/>
          </p:nvSpPr>
          <p:spPr>
            <a:xfrm>
              <a:off x="6364440" y="3174840"/>
              <a:ext cx="2498400" cy="1498680"/>
            </a:xfrm>
            <a:prstGeom prst="rect">
              <a:avLst/>
            </a:prstGeom>
            <a:solidFill>
              <a:srgbClr val="99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Прямоугольник 27"/>
            <p:cNvSpPr/>
            <p:nvPr/>
          </p:nvSpPr>
          <p:spPr>
            <a:xfrm>
              <a:off x="6364440" y="3174840"/>
              <a:ext cx="2498400" cy="1498680"/>
            </a:xfrm>
            <a:prstGeom prst="rect">
              <a:avLst/>
            </a:prstGeom>
            <a:gradFill rotWithShape="0">
              <a:gsLst>
                <a:gs pos="0">
                  <a:srgbClr val="fffc78"/>
                </a:gs>
                <a:gs pos="100000">
                  <a:srgbClr val="fffdd7"/>
                </a:gs>
              </a:gsLst>
              <a:lin ang="16200000"/>
            </a:gradFill>
            <a:ln w="9360">
              <a:solidFill>
                <a:srgbClr val="ffcb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4800" rIns="64800" tIns="64800" bIns="64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ru-RU" sz="1700" spc="-1" strike="noStrike" u="sng">
                  <a:solidFill>
                    <a:srgbClr val="33cccc"/>
                  </a:solidFill>
                  <a:uFillTx/>
                  <a:latin typeface="Times New Roman"/>
                  <a:ea typeface="Times New Roman"/>
                  <a:hlinkClick r:id="rId4"/>
                </a:rPr>
                <a:t>Развитие тонко координированных движений </a:t>
              </a:r>
              <a:r>
                <a:rPr b="0" lang="ru-RU" sz="1700" spc="-1" strike="noStrike" u="sng">
                  <a:solidFill>
                    <a:srgbClr val="33cccc"/>
                  </a:solidFill>
                  <a:uFillTx/>
                  <a:latin typeface="Times New Roman"/>
                  <a:ea typeface="Times New Roman"/>
                  <a:hlinkClick r:id="rId5"/>
                </a:rPr>
                <a:t>рук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6" name="Группа 23"/>
          <p:cNvGrpSpPr/>
          <p:nvPr/>
        </p:nvGrpSpPr>
        <p:grpSpPr>
          <a:xfrm>
            <a:off x="6356520" y="4836960"/>
            <a:ext cx="2498400" cy="1500480"/>
            <a:chOff x="6356520" y="4836960"/>
            <a:chExt cx="2498400" cy="1500480"/>
          </a:xfrm>
        </p:grpSpPr>
        <p:sp>
          <p:nvSpPr>
            <p:cNvPr id="127" name="Прямоугольник 24"/>
            <p:cNvSpPr/>
            <p:nvPr/>
          </p:nvSpPr>
          <p:spPr>
            <a:xfrm>
              <a:off x="6356520" y="4836960"/>
              <a:ext cx="2498400" cy="150048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Прямоугольник 25"/>
            <p:cNvSpPr/>
            <p:nvPr/>
          </p:nvSpPr>
          <p:spPr>
            <a:xfrm>
              <a:off x="6356520" y="4836960"/>
              <a:ext cx="2498400" cy="1500480"/>
            </a:xfrm>
            <a:prstGeom prst="rect">
              <a:avLst/>
            </a:prstGeom>
            <a:gradFill rotWithShape="0">
              <a:gsLst>
                <a:gs pos="0">
                  <a:srgbClr val="fffc78"/>
                </a:gs>
                <a:gs pos="100000">
                  <a:srgbClr val="fffdd7"/>
                </a:gs>
              </a:gsLst>
              <a:lin ang="16200000"/>
            </a:gradFill>
            <a:ln w="9360">
              <a:solidFill>
                <a:srgbClr val="ffcb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4800" rIns="64800" tIns="64800" bIns="64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ru-RU" sz="1700" spc="-1" strike="noStrike" u="sng">
                  <a:solidFill>
                    <a:srgbClr val="33cccc"/>
                  </a:solidFill>
                  <a:uFillTx/>
                  <a:latin typeface="Times New Roman"/>
                  <a:ea typeface="Times New Roman"/>
                  <a:hlinkClick r:id="rId6"/>
                </a:rPr>
                <a:t>Развитие буквенного гнозиса и дифференциация смешиваемых звуков и букв в слогах, словах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86924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Franklin Gothic Medium"/>
              </a:rPr>
              <a:t>Направления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69192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lnSpc>
                <a:spcPct val="10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Мероприятия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64600" indent="-264600">
              <a:lnSpc>
                <a:spcPct val="10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общение итогов фронтальной и индивидуальной работы с детьми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64600" indent="-264600">
              <a:lnSpc>
                <a:spcPct val="10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Анализ эффективности работы системы работы с детьми по развитию мелкой моторики рук у детей с ОВЗ  и приобщения ребенка к декоративно - прикладному искусству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64600" indent="-264600">
              <a:lnSpc>
                <a:spcPct val="10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азработка методических рекомендаций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64600" indent="-264600">
              <a:lnSpc>
                <a:spcPct val="10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дготовка презентационного буклета, фотоальбомов, портфолио, отражающих содержание работы с детьми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64600" indent="-264600">
              <a:lnSpc>
                <a:spcPct val="10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истематизация конспектов занятий продуктивной деятельности по развитию мелкой моторики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64600" indent="-264600">
              <a:lnSpc>
                <a:spcPct val="10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писание опыта работы «Шкатулка полезных слов» как эффективное средство обогащения словарного запаса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64600" indent="-264600">
              <a:lnSpc>
                <a:spcPct val="10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азработка и подборка материала для изготовления совместных работ детей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64600" indent="-264600">
              <a:lnSpc>
                <a:spcPct val="100000"/>
              </a:lnSpc>
              <a:spcBef>
                <a:spcPts val="499"/>
              </a:spcBef>
              <a:buClr>
                <a:srgbClr val="33cccc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4E25-DB77-4B7F-96CE-9A720CCDBD1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E45F-AA3B-4A2D-A178-477658CC1E4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4" name="Organization Chart 7"/>
          <p:cNvGrpSpPr/>
          <p:nvPr/>
        </p:nvGrpSpPr>
        <p:grpSpPr>
          <a:xfrm>
            <a:off x="324000" y="891360"/>
            <a:ext cx="8569440" cy="5848920"/>
            <a:chOff x="324000" y="891360"/>
            <a:chExt cx="8569440" cy="5848920"/>
          </a:xfrm>
        </p:grpSpPr>
        <p:cxnSp>
          <p:nvCxnSpPr>
            <p:cNvPr id="135" name="_s1028"/>
            <p:cNvCxnSpPr/>
            <p:nvPr/>
          </p:nvCxnSpPr>
          <p:spPr>
            <a:xfrm flipV="1" rot="16200000">
              <a:off x="5457960" y="2154600"/>
              <a:ext cx="1139040" cy="3199320"/>
            </a:xfrm>
            <a:prstGeom prst="bentConnector3">
              <a:avLst>
                <a:gd name="adj1" fmla="val 1274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1029"/>
            <p:cNvCxnSpPr/>
            <p:nvPr/>
          </p:nvCxnSpPr>
          <p:spPr>
            <a:xfrm flipV="1" rot="16200000">
              <a:off x="3961080" y="3725640"/>
              <a:ext cx="1048320" cy="114840"/>
            </a:xfrm>
            <a:prstGeom prst="bentConnector3">
              <a:avLst>
                <a:gd name="adj1" fmla="val 12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_s1030"/>
            <p:cNvCxnSpPr/>
            <p:nvPr/>
          </p:nvCxnSpPr>
          <p:spPr>
            <a:xfrm flipH="1" flipV="1" rot="5400000">
              <a:off x="2408040" y="2324520"/>
              <a:ext cx="1139040" cy="2859840"/>
            </a:xfrm>
            <a:prstGeom prst="bentConnector3">
              <a:avLst>
                <a:gd name="adj1" fmla="val 1274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8" name="_s1031"/>
            <p:cNvSpPr/>
            <p:nvPr/>
          </p:nvSpPr>
          <p:spPr>
            <a:xfrm>
              <a:off x="2628000" y="891360"/>
              <a:ext cx="3807720" cy="23587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33cc"/>
                  </a:solidFill>
                  <a:latin typeface="Tahoma"/>
                </a:rPr>
                <a:t>Предполагаемый образовательный результат</a:t>
              </a:r>
              <a:endParaRPr b="0" lang="en-US" sz="2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_s1032"/>
            <p:cNvSpPr/>
            <p:nvPr/>
          </p:nvSpPr>
          <p:spPr>
            <a:xfrm>
              <a:off x="324000" y="4299840"/>
              <a:ext cx="2808000" cy="24069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ahoma"/>
                </a:rPr>
                <a:t>Формирование стойкого интереса к занятиям за счет наглядности и доступности обучающего материала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_s1033"/>
            <p:cNvSpPr/>
            <p:nvPr/>
          </p:nvSpPr>
          <p:spPr>
            <a:xfrm>
              <a:off x="3348360" y="4266360"/>
              <a:ext cx="2595240" cy="2440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ahoma"/>
                </a:rPr>
                <a:t>Создание предпосылок к грамотному овладению письмом и чтением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_s1034"/>
            <p:cNvSpPr/>
            <p:nvPr/>
          </p:nvSpPr>
          <p:spPr>
            <a:xfrm>
              <a:off x="6156720" y="4299840"/>
              <a:ext cx="2736720" cy="2440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ahoma"/>
                </a:rPr>
                <a:t>Обеспечение информатизации педагогического процесса за счет применения информационно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ahoma"/>
                </a:rPr>
                <a:t>коммуникационных технологий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F40F-48D4-44BE-B25A-9030BAA42A0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26920" y="0"/>
            <a:ext cx="82090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Franklin Gothic Medium"/>
              </a:rPr>
              <a:t>Перспективы на будуще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116000" y="1413000"/>
            <a:ext cx="7848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35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6760" indent="3556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Times New Roman"/>
              </a:rPr>
              <a:t>Совершенствовать представленный ЦОР на  основе новых инструментов  обучения и обучающих материал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6760" indent="3556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6760" indent="3556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Times New Roman"/>
              </a:rPr>
              <a:t>Создание ЦОР по предупреждению  и устранению акустической дисграф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6760" indent="3556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6760" indent="3556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Times New Roman"/>
              </a:rPr>
              <a:t>Формирование  банка данных по проблемам нарушения письма и чтения детей различных возрастных категор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4" descr="h_7Xig9Bcpd5s3KCHSVNzTJef2lv8uQM4Z_"/>
          <p:cNvPicPr/>
          <p:nvPr/>
        </p:nvPicPr>
        <p:blipFill>
          <a:blip r:embed="rId1"/>
          <a:stretch/>
        </p:blipFill>
        <p:spPr>
          <a:xfrm>
            <a:off x="0" y="476280"/>
            <a:ext cx="16556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1F29-A173-49D0-8F88-9D00CB667EE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45960" y="144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3428640"/>
            <a:ext cx="8820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33cccc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Лизунова Л.Р. Компьютерная технология коррекции общего недоразвития речи у детей старшего дошкольного возраста. Пермь, ПКИПКРО, 2007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33cccc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Логопедия. Под редакцией профессора Л.С. Волковой. М. «Просвещение», 1995 г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33cccc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Лопухина. И.С. Логопедия. 550 занимательных упражнения для развития речи. М. «Аквариум» 1990 г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33cccc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адовникова И.Н. Нарушения письменной речи и их преодоление у младших школьников: Учебное пособие – М.: Гуманит. изд. центр ВЛАДОС, 1997. 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33cccc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иротюк А.Л. Нейропсихологическое и психофизиологическое сопровождение обучения. – М.: ТЦ Сфера, 2003. 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33cccc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Белошеева А.А., Голышева В.В. Психические расстройства у детей. Речевые нарушения у детей/ Серия “В семье больной ребёнок”. – Пермь: Здравствуй, 2009. – 270 с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33cccc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азепина Т.Б. Развитие познавательных процессов ребёнка в играх, тренингах, тестах/ Серия “Мир нашего ребёнка”. – Ростов н/Д: Феникс, 2002. – 64 с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33cccc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ихайлова Л.С. Как подготовить ребенка к школе. Пособие для родителей и воспитателей детских садов. Упражнения, задачи, игры, тесты. Часть I. – Волгогорад, издательство Гринина А.Е., 2001. – 64 с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33cccc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азанова Е.В.Учусь не путать буквы.Альбом1,2 .Упражнения по профилактике и коррекции оптической дисграфии. – М.:Издательство «Гном и Д», 2008. – 32с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33cccc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Лалаева Р.И. Логопедическая работа в коррекционных классах. – М.: Гуманит. изд. центр Владос, 2007. – 224с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33cccc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арамонова Л.Г.Предупреждение и устранение дисграфии у детей. – СПб.: Лениздат «Союз», 2001.- 249с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324000" y="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Tahoma"/>
              </a:rPr>
              <a:t>Интернет источник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376200" y="871200"/>
            <a:ext cx="784872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festival.1september.ru/articles/572274/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xreferat.ru/71/988-4-formirovanie-optiko-prostranstvennyh-predstavleniiy-u-mladshih-shkol-nikov-s-opticheskoiy-disgrafieiy.htm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fc-neman.ru/page.php?c=arhiv http://www.poznayka.ru/2006/11/20/uchim_figury__najjdi_figuru.htm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logozavr.ru/668 /728/http://dob.1september.ru/2001/01/4.htm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449280"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Картинки с сайта яндекс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http://900igr.net/Detskie_prezentatsii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итература: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2T20:32:35Z</dcterms:created>
  <dc:creator>Customer</dc:creator>
  <dc:description/>
  <dc:language>en-US</dc:language>
  <cp:lastModifiedBy>Олеся Владимировна</cp:lastModifiedBy>
  <dcterms:modified xsi:type="dcterms:W3CDTF">2015-03-25T13:30:34Z</dcterms:modified>
  <cp:revision>130</cp:revision>
  <dc:subject/>
  <dc:title>Слайд 1</dc:title>
</cp:coreProperties>
</file>