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E08-F220-41DE-B92B-49D304FD6B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BBB-C7A1-4278-B0B8-B965EE167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5F00-F20E-4B52-8B40-9D9F975DF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-598320" y="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6F1-1591-40B3-9957-A0C6946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1CB-5976-4264-AEBF-7607AF6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EF8-F1F4-46B5-BAFE-920208C4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D67-0456-4351-9382-0E43ECAC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31FD-083B-4B88-99F7-DB650DE9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053-93E7-492C-9BE0-0F3AE15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0C93-BA4E-4F4D-A70C-F5C798D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388-A807-4CB4-B007-5B8134D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8F15-1BDE-4F3B-B6FC-FDA7A7B2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707-04C2-45ED-997A-22FE4AA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D97E-D2F2-4E7E-ACFB-3DCD070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9D1-3A32-433C-A47F-6F80315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C73-71A1-4F76-8963-5D7538E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B8AC-3442-4A52-9E8C-7FCEA97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347-16B5-4848-AF36-ABBD3213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B68-E497-4DF2-87EA-C689E9B7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C2B-FC81-4108-AF3D-5C18CDAC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D681-ABE5-4058-A4C6-C121C903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A58B-6FC9-4AE4-8C47-7207852A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04E0-DC11-48B3-8956-E54B32C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9438-7277-40DB-B7BE-57DBAAF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E927-C780-4A3F-B9F6-C123658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F2E-3860-472F-A438-09523665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2187-E462-4AAE-908B-510CA05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DEA0-397C-44B2-B437-8A9709B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C0F2-E7DB-4927-98D8-2DFF5B7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66CF-9013-47A6-855C-0132FE8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F333-F008-4F0D-94F8-E11844F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3F05-955D-4AE3-919B-3708A180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EFC0-A4D9-4697-91F9-4F7A0461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F579-900E-4AAA-8F67-A1C08F7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72F2-BE40-451B-9EE6-38934277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B36C-B32C-41AB-9BF3-E1990476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79B-C748-4F21-88E3-2C20B3E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07D9-685B-4CCF-8D14-B4064E27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3852-5998-4AAF-A527-C56E7CC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EFF5-D4CE-4270-80B4-231B955C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E57B-A1A7-4027-8B24-2E03638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8E1C-96F7-4257-A8CE-0554C75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A10A-2E01-4B7C-ADAA-C9588A2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866D-4871-4F83-952C-849FFF94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B89A-1940-4359-A94A-1267DBD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DF33-7C11-44D0-B3CC-F948DCB0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FCBBA-DBB4-4AF7-A376-1B496E01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DBF-52CA-472D-B728-FD1F6C8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51431-370C-4B65-9D0D-B53F0B1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CFE8F-8C82-4BCD-ACF6-861F048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F3D0F-E58E-43EC-ACC7-A72A75A6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14995-CB56-4147-B717-7352099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7F913-9273-436D-89AD-E8D6FDC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92316-95CA-43C5-8E98-6E80916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A4903-E6B4-48CF-A1FA-730A8C7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653BE-BF44-401F-BE7E-8378C38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E4093-4BE7-4427-9E04-C6C456CD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18544-666B-4CDD-814F-A13EADE6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029-3364-4C0B-8437-76A3D59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79938-98C7-4A5D-B717-02B90522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1420C-0F3E-433F-981B-3A2ED5FB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406F7-2EE6-4511-9015-2E3CEB4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2D8A-44AC-4C27-884C-83F3243D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977F-92A9-44AD-B3D4-E2F6F698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9F28-01E0-4496-B52C-51B5E1A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FF9F6-B260-4101-A58E-27AC45A0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89BB-2C90-4428-B6D6-D99E010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EBC29-ECEE-410D-A23F-88220B0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5374-635C-4FBC-A8D8-03DA161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DD-EBB3-4703-A8EC-424FE66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3C8D-D42F-4C9D-9116-C13C798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AAC7-B525-4800-8370-38D7F148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FF12-8988-4B6D-A4FC-D94AD1E3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13C3-19C0-4B7D-AC36-18100F6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C4B1-D9E2-4BDE-86BA-74D0818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00D5-3155-4676-831D-3EDDF221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A5D7-55FD-4026-8368-29B4899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9AF2-9914-4FCA-AEA7-245277D1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979B-24CF-4FBD-8643-2A95A7E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2957-CC4C-4E8E-A973-C601800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AAB-E17B-414B-854C-D250E38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9F451-2350-4367-A594-2D120F6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EE3A-354E-4D70-B1CC-D1A20B6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56256-DD91-4EC5-ABF3-8D33268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F73B-77EE-40BD-8E8D-685DC3DC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D5E3-59C3-4ECE-9E87-C70400CC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4BA-E598-4379-91A8-FFB065B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6324-2953-4D11-9082-1D0FA00DB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6CF7-4F4E-4B6B-92D4-1ADD5F7D0F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C4B-9F02-4359-9ECB-738CB6DF41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B4C-9128-479C-9420-4E37D7C7F4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417F-7F39-4D56-9307-A672B125A8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E8F8-5068-4594-953F-404D30C796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D6E7-D91E-458B-9FC7-1268504DC35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99"/>
                </a:solidFill>
                <a:uFillTx/>
                <a:latin typeface="Arial"/>
              </a:rPr>
              <a:t>31 октября 2012 год.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УРОК КОЛЛЕКТИВНОГО ПОСЕЩЕНИЯ</a:t>
            </a: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в 5 класс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Угадай-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795320" y="2039760"/>
            <a:ext cx="408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  <a:ea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5824440" y="1633680"/>
            <a:ext cx="2502000" cy="2611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1795320" y="1795320"/>
            <a:ext cx="3918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Инструмент бывалый –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Не большой, не малый.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У него полно забот: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Он и режет и стри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DSCF7026"/>
          <p:cNvPicPr/>
          <p:nvPr/>
        </p:nvPicPr>
        <p:blipFill>
          <a:blip r:embed="rId1"/>
          <a:stretch/>
        </p:blipFill>
        <p:spPr>
          <a:xfrm>
            <a:off x="684360" y="404640"/>
            <a:ext cx="7785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-3881520" y="-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250920" y="-227880"/>
            <a:ext cx="864216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Шов вподгиб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закрытым сре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срез образца на 0,5 см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наночную сторону, заметать подогнут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й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первую подгибку еще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0,5 см, на изнаночную сторону, заметат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второй подгибки 0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0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трочить на 0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 от края внутренне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иба. Ширина шва 0,5-0,7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оляне шерстяной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Пляшет тонконожка —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Из-под туфельки стальной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Выползает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Стёжка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Угадай-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9" descr="P1020869"/>
          <p:cNvPicPr/>
          <p:nvPr/>
        </p:nvPicPr>
        <p:blipFill>
          <a:blip r:embed="rId1"/>
          <a:stretch/>
        </p:blipFill>
        <p:spPr>
          <a:xfrm>
            <a:off x="4643280" y="3500280"/>
            <a:ext cx="3600720" cy="27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cc"/>
                </a:solidFill>
                <a:latin typeface="Times New Roman"/>
              </a:rPr>
              <a:t>Машиновед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777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положении должна находиться игла при заправке верхней ни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9280" y="57337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cc99"/>
                </a:solidFill>
                <a:latin typeface="Arial"/>
              </a:rPr>
              <a:t>В крайнем верхнем  положении.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8494560" y="635472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3800" spc="-1" strike="noStrike">
                <a:solidFill>
                  <a:srgbClr val="0000ff"/>
                </a:solidFill>
                <a:latin typeface="Times New Roman"/>
              </a:rPr>
              <a:t>Машиновед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1800" y="1844640"/>
            <a:ext cx="769140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направлении относительно работающего вращается маховое колесо в разных видах швейных маш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cc99"/>
                </a:solidFill>
                <a:latin typeface="Arial"/>
              </a:rPr>
              <a:t>Маховое колесо у разных машин вращается одинаково – на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8494560" y="635472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3934" y="3837"/>
                </a:moveTo>
                <a:lnTo>
                  <a:pt x="16511" y="6448"/>
                </a:ln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lnTo>
                  <a:pt x="20897" y="10800"/>
                </a:lnTo>
                <a:lnTo>
                  <a:pt x="19243" y="10800"/>
                </a:lnTo>
                <a:lnTo>
                  <a:pt x="19243" y="17989"/>
                </a:lnTo>
                <a:lnTo>
                  <a:pt x="8625" y="17989"/>
                </a:lnTo>
                <a:lnTo>
                  <a:pt x="8625" y="10800"/>
                </a:lnTo>
                <a:lnTo>
                  <a:pt x="6971" y="10800"/>
                </a:lnTo>
                <a:close/>
              </a:path>
              <a:path fill="darkenLess" w="27868" h="21600">
                <a:moveTo>
                  <a:pt x="16511" y="6448"/>
                </a:moveTo>
                <a:lnTo>
                  <a:pt x="16511" y="4707"/>
                </a:lnTo>
                <a:lnTo>
                  <a:pt x="18286" y="4707"/>
                </a:lnTo>
                <a:lnTo>
                  <a:pt x="18286" y="8224"/>
                </a:lnTo>
                <a:close/>
              </a:path>
              <a:path fill="darkenLess" w="27868" h="21600">
                <a:moveTo>
                  <a:pt x="13012" y="14299"/>
                </a:moveTo>
                <a:lnTo>
                  <a:pt x="14857" y="14299"/>
                </a:lnTo>
                <a:lnTo>
                  <a:pt x="14857" y="17989"/>
                </a:lnTo>
                <a:lnTo>
                  <a:pt x="19243" y="17989"/>
                </a:lnTo>
                <a:lnTo>
                  <a:pt x="19243" y="10800"/>
                </a:lnTo>
                <a:lnTo>
                  <a:pt x="8625" y="10800"/>
                </a:lnTo>
                <a:lnTo>
                  <a:pt x="8625" y="17989"/>
                </a:lnTo>
                <a:lnTo>
                  <a:pt x="1301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DSCF688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260280"/>
            <a:ext cx="4402080" cy="3301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DSCF7158"/>
          <p:cNvPicPr/>
          <p:nvPr/>
        </p:nvPicPr>
        <p:blipFill>
          <a:blip r:embed="rId2"/>
          <a:stretch/>
        </p:blipFill>
        <p:spPr>
          <a:xfrm>
            <a:off x="464328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971640" y="162864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дит платья и рубаш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утюжит нам кармаш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хозяйстве верный друг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у него 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1360" y="41400"/>
            <a:ext cx="82454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Угадай-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11111"/>
          <p:cNvPicPr/>
          <p:nvPr/>
        </p:nvPicPr>
        <p:blipFill>
          <a:blip r:embed="rId1"/>
          <a:stretch/>
        </p:blipFill>
        <p:spPr>
          <a:xfrm>
            <a:off x="4643280" y="2924280"/>
            <a:ext cx="3564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DSCF7159"/>
          <p:cNvPicPr/>
          <p:nvPr/>
        </p:nvPicPr>
        <p:blipFill>
          <a:blip r:embed="rId1"/>
          <a:srcRect l="0" t="0" r="0" b="-1328"/>
          <a:stretch/>
        </p:blipFill>
        <p:spPr>
          <a:xfrm>
            <a:off x="2771640" y="17640"/>
            <a:ext cx="36435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66 ФОКСТРОТ 2.mp3" descr=""/>
          <p:cNvPicPr/>
          <p:nvPr/>
        </p:nvPicPr>
        <p:blipFill>
          <a:blip r:embed="rId1"/>
          <a:stretch/>
        </p:blipFill>
        <p:spPr>
          <a:xfrm>
            <a:off x="755640" y="5661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12345"/>
          <p:cNvPicPr/>
          <p:nvPr/>
        </p:nvPicPr>
        <p:blipFill>
          <a:blip r:embed="rId2"/>
          <a:stretch/>
        </p:blipFill>
        <p:spPr>
          <a:xfrm>
            <a:off x="2556000" y="3860640"/>
            <a:ext cx="3628800" cy="2762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12"/>
          <p:cNvPicPr/>
          <p:nvPr/>
        </p:nvPicPr>
        <p:blipFill>
          <a:blip r:embed="rId3"/>
          <a:stretch/>
        </p:blipFill>
        <p:spPr>
          <a:xfrm>
            <a:off x="5292720" y="189000"/>
            <a:ext cx="3571920" cy="3914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125"/>
          <p:cNvPicPr/>
          <p:nvPr/>
        </p:nvPicPr>
        <p:blipFill>
          <a:blip r:embed="rId4"/>
          <a:stretch/>
        </p:blipFill>
        <p:spPr>
          <a:xfrm>
            <a:off x="179280" y="189000"/>
            <a:ext cx="4105440" cy="36716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8"/>
          <p:cNvSpPr/>
          <p:nvPr/>
        </p:nvSpPr>
        <p:spPr>
          <a:xfrm rot="20272200">
            <a:off x="360" y="27813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97708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6720" y="1993680"/>
            <a:ext cx="756468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ются прочные длинные нити идущие вдоль ткан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640" y="57337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66ccff"/>
                </a:solidFill>
                <a:latin typeface="Garamond"/>
              </a:rPr>
              <a:t>Основная или долев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>
            <a:hlinkClick r:id="rId2" action="ppaction://hlinksldjump"/>
          </p:cNvPr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cabg061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1258920" y="189000"/>
            <a:ext cx="68673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-3881520" y="-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50920" y="-181800"/>
            <a:ext cx="864216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Шов вподгиб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закрытым сре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срез образца на 0,5 см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наночную сторону, заметать подогнут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й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гнуть первую подгибку еще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0,5 см, на изнаночную сторону, заметат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второй подгибки 0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0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трочить на 0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см от края внутренне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иба. Ширина шва 0,5-0,7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09-Mimoletnosti, Evanescent.mp3" descr=""/>
          <p:cNvPicPr/>
          <p:nvPr/>
        </p:nvPicPr>
        <p:blipFill>
          <a:blip r:embed="rId1"/>
          <a:stretch/>
        </p:blipFill>
        <p:spPr>
          <a:xfrm>
            <a:off x="684360" y="580536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475" name="10-Mamba Krutikh, Mamba Of The Krutoys.mp3" descr=""/>
          <p:cNvPicPr/>
          <p:nvPr/>
        </p:nvPicPr>
        <p:blipFill>
          <a:blip r:embed="rId2"/>
          <a:stretch/>
        </p:blipFill>
        <p:spPr>
          <a:xfrm>
            <a:off x="2916360" y="587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76" name="13-Elegiya, Elegy.mp3" descr=""/>
          <p:cNvPicPr/>
          <p:nvPr/>
        </p:nvPicPr>
        <p:blipFill>
          <a:blip r:embed="rId3"/>
          <a:stretch/>
        </p:blipFill>
        <p:spPr>
          <a:xfrm>
            <a:off x="514836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77" name="14-Karnaval bezumnogo mira, Carnival Of The Wild World.mp3" descr=""/>
          <p:cNvPicPr/>
          <p:nvPr/>
        </p:nvPicPr>
        <p:blipFill>
          <a:blip r:embed="rId4"/>
          <a:stretch/>
        </p:blipFill>
        <p:spPr>
          <a:xfrm>
            <a:off x="759636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31006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52386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331986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3130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нити проходят поперек ткани и кромк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9280" y="566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Уточные или попереч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55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Garamond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узкая полоска вдоль тка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26560" y="5516280"/>
            <a:ext cx="6551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66ccff"/>
                </a:solidFill>
                <a:latin typeface="Garamond"/>
              </a:rPr>
              <a:t>Кром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187280" y="189000"/>
            <a:ext cx="68677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пределить долевую и поперечные нити в ткани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9280" y="566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По звуку и по растяж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тянется, а какая дает усадку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9280" y="530064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Тянется-ПОПЕРЕЧНАЯ, усадку дает-ДОЛЕ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звучит звонко, долевая или поперечная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" y="566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Звонко звучит – ДОЛЕ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cabg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440" y="288720"/>
            <a:ext cx="6916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нить звучит глухо, долевая или поперечная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11280" y="5084280"/>
            <a:ext cx="820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Глухо звучит -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            </a:t>
            </a:r>
            <a:r>
              <a:rPr b="1" i="1" lang="ru-RU" sz="4000" spc="-1" strike="noStrike">
                <a:solidFill>
                  <a:srgbClr val="66ccff"/>
                </a:solidFill>
                <a:latin typeface="Garamond"/>
              </a:rPr>
              <a:t>ПОПЕРЕЧ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"/>
          <p:cNvSpPr/>
          <p:nvPr/>
        </p:nvSpPr>
        <p:spPr>
          <a:xfrm>
            <a:off x="856944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13027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lnTo>
                  <a:pt x="19990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8" y="17989"/>
                </a:lnTo>
                <a:lnTo>
                  <a:pt x="7718" y="10800"/>
                </a:lnTo>
                <a:lnTo>
                  <a:pt x="6064" y="10800"/>
                </a:lnTo>
                <a:close/>
              </a:path>
              <a:path fill="darkenLess" w="26054" h="21600">
                <a:moveTo>
                  <a:pt x="15603" y="6448"/>
                </a:moveTo>
                <a:lnTo>
                  <a:pt x="15603" y="4707"/>
                </a:lnTo>
                <a:lnTo>
                  <a:pt x="17379" y="4707"/>
                </a:lnTo>
                <a:lnTo>
                  <a:pt x="17379" y="8224"/>
                </a:lnTo>
                <a:close/>
              </a:path>
              <a:path fill="darkenLess" w="26054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8" y="10800"/>
                </a:lnTo>
                <a:lnTo>
                  <a:pt x="7718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cabg061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1258920" y="333360"/>
            <a:ext cx="6867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Tahoma"/>
              </a:rPr>
              <a:t>Материал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15760" y="-654480"/>
            <a:ext cx="8243640" cy="26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гад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468440" y="1143000"/>
            <a:ext cx="40831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Маленького роста я,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Тонкая и острая.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Носом путь себе ищу, 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За собою хвост тащ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6205680" y="1143000"/>
            <a:ext cx="2163600" cy="17971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1258920" y="3789360"/>
            <a:ext cx="53895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Маленькое ведёрко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На пальце сидит,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Сотнями глаз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Во все стороны гля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0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44188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7:25:53Z</dcterms:created>
  <dc:creator>User</dc:creator>
  <dc:description/>
  <dc:language>en-US</dc:language>
  <cp:lastModifiedBy>Admin</cp:lastModifiedBy>
  <dcterms:modified xsi:type="dcterms:W3CDTF">2015-10-11T11:43:04Z</dcterms:modified>
  <cp:revision>6</cp:revision>
  <dc:subject/>
  <dc:title>Угадай-ка!</dc:title>
</cp:coreProperties>
</file>