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0.gif" ContentType="image/gif"/>
  <Override PartName="/ppt/media/image12.jpeg" ContentType="image/jpeg"/>
  <Override PartName="/ppt/media/image9.png" ContentType="image/png"/>
  <Override PartName="/ppt/media/image8.gif" ContentType="image/gif"/>
  <Override PartName="/ppt/media/image7.jpeg" ContentType="image/jpeg"/>
  <Override PartName="/ppt/media/image11.jpeg" ContentType="image/jpeg"/>
  <Override PartName="/ppt/media/image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7.png" ContentType="image/png"/>
  <Override PartName="/ppt/media/image16.jpeg" ContentType="image/jpeg"/>
  <Override PartName="/ppt/media/image14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18.gif" ContentType="image/gif"/>
  <Override PartName="/ppt/media/image13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608B7-7B2A-4735-9A3E-280FE09DFE9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F8B29-D11A-45E0-ACDD-D18F5229AB5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-598320" y="0"/>
            <a:ext cx="4797360" cy="359892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E86AF-895D-42ED-8024-E51F7DD553B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-598320" y="0"/>
            <a:ext cx="4797360" cy="359892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0E528-881B-45DA-AB31-12F81017E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74201-8DCA-48AA-BF2F-B2D959283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E3411-CF9C-4090-BA13-8709CDCAB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EF709-9897-4BB8-A86D-B53DFE44B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6FEBA-43F8-435E-9F0C-7FAC615DC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E9C3B-C018-468A-8712-9FC57D132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09F5D-A121-4897-A810-B0B60D32A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76FA4-E150-4E66-B7B6-10440715B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C600B-2B09-4DB6-A6C1-F1EAF1401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DEC48-A486-4791-AE64-264B731F1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24DD8-D7EF-4021-BFD1-62516C5FD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61CC6-DD78-4B15-BE33-15CECBCA3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3DF5A-6B04-4256-BA7F-26FA7EEC7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E68BB-93DE-42DA-930F-741D17EE0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E1DF6-B814-4303-84FD-9F1A4AFD5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218B8-FCE6-4FA2-8354-85EC8B123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A590E-28C7-4467-B539-10E6EBF91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46B55D-3AEA-456F-9209-915CB8234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1AA029-5330-4C22-B49D-CFCE20178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AE7FC4-4C68-4C72-A80B-23D4C49E0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6189D0-7969-47C5-B4C7-40798B269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798682-2FAE-4471-B3F8-213557CBF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32869-BF19-4F86-97EE-BC95E1E79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CD3252-6D97-473D-BE7A-838E0EACD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47D8ED-E20A-4525-9D12-9E5601AD4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92C2D1-A654-405B-A340-2D6B3B7FC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C6DA0F-6B37-4AAB-A9A2-1DF13455D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0EA310-5607-42EE-A0B3-C0D441602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D2AA4A-C5F2-4F92-A309-9469321DC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36245A-68A2-4713-BD30-2E30135C0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3D8746-D183-4325-9650-5D38A80AD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B64BFE-BA9B-46D3-AF50-581E03432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630BEA-D4CA-4D00-8C70-BDD33A4D2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B0406-C332-46EC-B385-DAF5204F0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E27A2B-EE70-47F1-B473-95B539E15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269A3C-64A4-4025-AD26-021BC2EE9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17E865-A447-4BAD-B89A-3751FF7AE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7E9F02-8985-40BA-96CB-6FE562063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32A175-ED64-4754-86E4-1B71665B8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492030-4E88-43C6-9368-E4383DE0E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230269-CE8B-46E0-934E-4FE9D6AF2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6FCEA5-D018-460D-95DC-39CEF6A44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548494-18FC-48B4-9A55-7B83AADD5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F68FF02-C9AC-4113-8BAA-35624D7D4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CDBBD-0E3F-4A6F-889F-4CAAC24C9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5F35182-388C-4399-93CF-FE4485AC2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893B76E-BBAD-4E78-9AC7-DBD691026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7211DBE-B926-47AD-A6C7-C29CA2DEE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C594FCB-25CF-411C-84E9-027158D46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300AAC5-338B-4DC8-98A3-3E5BBA615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0CB9F04-9529-4340-B556-D65721B35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411C5B3-7503-4E13-B014-E833BEC92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04B78CD-68D9-4624-9243-C03BA0BF6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4DDB0AE-CFA6-4B63-9409-6ACC62A90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FD09B10-1323-4827-81C6-7E341B6C7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64DFD-626A-4A53-B06E-96CDC8CFF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D50E136-346B-40E1-8261-DCDA8AC32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D339A4-DBDC-4E95-8F2B-BEAF1DA50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787F29-8515-421E-9D65-184FC8EB9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A847C2-0966-44CA-B933-E84C0F7D4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9FD0D4-15BC-4F92-993F-82C8A27BD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EC3132-C4DF-4B8D-BD90-93D7E6B73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0DA868-A32A-497A-9AD1-7084BFF1A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3FDF88-423D-4ACE-B75A-270A25A05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5213C9-DCD7-433E-B580-ADCDF65F8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87AA62-F204-465C-AEA5-FED0935B9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F5BF4-7E67-42C6-AADB-97C2B1B04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807CB9-6FB9-467B-9FEC-0155D29BA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260CD6-51E2-4FE5-8C2A-17AC192F0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44F486-F8C0-4201-B132-16E0A7A5B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A721FC-9393-44B2-9E7D-8AC4F04BD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7F94E6-5D86-418C-A454-553CD8F84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53A000-F9B2-4EA9-93A5-D4ACC52F8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8DE56A-12C8-42EF-8F2C-0138C601E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1CF33B-91C2-4217-8E8B-C106DDF65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50242C-54F5-40ED-9A1D-69DDC21BF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E78658-2FDF-48DD-98F5-D3F2CCF6A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83C16-3877-4645-B2B9-762F31CBA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1A2632-D33C-494E-B0FD-CC8117BF2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FD214A-E190-4598-827A-F27E71601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624D04-B4DC-4130-9A1D-A5AE4C8F2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2A2DDE-42CC-4C3E-A1C5-1C378FE48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F0361B-F3DD-4B76-9C16-487EE4111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8D42F-AD76-4B6C-9901-FF3FE56FF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73.xml"/><Relationship Id="rId8" Type="http://schemas.openxmlformats.org/officeDocument/2006/relationships/slideLayout" Target="../slideLayouts/slideLayout74.xml"/><Relationship Id="rId9" Type="http://schemas.openxmlformats.org/officeDocument/2006/relationships/slideLayout" Target="../slideLayouts/slideLayout75.xml"/><Relationship Id="rId10" Type="http://schemas.openxmlformats.org/officeDocument/2006/relationships/slideLayout" Target="../slideLayouts/slideLayout76.xml"/><Relationship Id="rId11" Type="http://schemas.openxmlformats.org/officeDocument/2006/relationships/slideLayout" Target="../slideLayouts/slideLayout77.xml"/><Relationship Id="rId12" Type="http://schemas.openxmlformats.org/officeDocument/2006/relationships/slideLayout" Target="../slideLayouts/slideLayout78.xml"/><Relationship Id="rId13" Type="http://schemas.openxmlformats.org/officeDocument/2006/relationships/slideLayout" Target="../slideLayouts/slideLayout79.xml"/><Relationship Id="rId14" Type="http://schemas.openxmlformats.org/officeDocument/2006/relationships/slideLayout" Target="../slideLayouts/slideLayout80.xml"/><Relationship Id="rId15" Type="http://schemas.openxmlformats.org/officeDocument/2006/relationships/slideLayout" Target="../slideLayouts/slideLayout81.xml"/><Relationship Id="rId16" Type="http://schemas.openxmlformats.org/officeDocument/2006/relationships/slideLayout" Target="../slideLayouts/slideLayout82.xml"/><Relationship Id="rId17" Type="http://schemas.openxmlformats.org/officeDocument/2006/relationships/slideLayout" Target="../slideLayouts/slideLayout83.xml"/><Relationship Id="rId18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19416-9894-4B3E-81D2-8ADD5A373D9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74711-45E5-4FAA-AEA7-684D3503C0D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83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4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85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90FBA-38EE-46C3-B635-DFE704C03459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30" name="Freeform 3"/>
            <p:cNvSpPr/>
            <p:nvPr/>
          </p:nvSpPr>
          <p:spPr>
            <a:xfrm>
              <a:off x="2876400" y="4462560"/>
              <a:ext cx="6264360" cy="238896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4"/>
            <p:cNvSpPr/>
            <p:nvPr/>
          </p:nvSpPr>
          <p:spPr>
            <a:xfrm>
              <a:off x="6389640" y="5757840"/>
              <a:ext cx="2751120" cy="109368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5"/>
            <p:cNvSpPr/>
            <p:nvPr/>
          </p:nvSpPr>
          <p:spPr>
            <a:xfrm>
              <a:off x="0" y="0"/>
              <a:ext cx="8854920" cy="547200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6"/>
            <p:cNvSpPr/>
            <p:nvPr/>
          </p:nvSpPr>
          <p:spPr>
            <a:xfrm>
              <a:off x="7845480" y="0"/>
              <a:ext cx="1295280" cy="43812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7"/>
            <p:cNvSpPr/>
            <p:nvPr/>
          </p:nvSpPr>
          <p:spPr>
            <a:xfrm>
              <a:off x="0" y="3149640"/>
              <a:ext cx="9140760" cy="333036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8"/>
            <p:cNvSpPr/>
            <p:nvPr/>
          </p:nvSpPr>
          <p:spPr>
            <a:xfrm>
              <a:off x="0" y="162000"/>
              <a:ext cx="3112920" cy="200808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9"/>
            <p:cNvSpPr/>
            <p:nvPr/>
          </p:nvSpPr>
          <p:spPr>
            <a:xfrm>
              <a:off x="0" y="0"/>
              <a:ext cx="7475400" cy="460548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0"/>
            <p:cNvSpPr/>
            <p:nvPr/>
          </p:nvSpPr>
          <p:spPr>
            <a:xfrm>
              <a:off x="0" y="0"/>
              <a:ext cx="5989680" cy="374004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1"/>
            <p:cNvSpPr/>
            <p:nvPr/>
          </p:nvSpPr>
          <p:spPr>
            <a:xfrm>
              <a:off x="0" y="0"/>
              <a:ext cx="4656240" cy="293040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2"/>
            <p:cNvSpPr/>
            <p:nvPr/>
          </p:nvSpPr>
          <p:spPr>
            <a:xfrm>
              <a:off x="181080" y="4519440"/>
              <a:ext cx="2369880" cy="32400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2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3" name="Freeform 16"/>
              <p:cNvSpPr/>
              <p:nvPr/>
            </p:nvSpPr>
            <p:spPr>
              <a:xfrm>
                <a:off x="647640" y="4776840"/>
                <a:ext cx="74520" cy="9360"/>
              </a:xfrm>
              <a:prstGeom prst="pie">
                <a:avLst/>
              </a:pr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Freeform 26"/>
              <p:cNvSpPr/>
              <p:nvPr/>
            </p:nvSpPr>
            <p:spPr>
              <a:xfrm>
                <a:off x="990720" y="4586400"/>
                <a:ext cx="19080" cy="8568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Freeform 27"/>
              <p:cNvSpPr/>
              <p:nvPr/>
            </p:nvSpPr>
            <p:spPr>
              <a:xfrm>
                <a:off x="781200" y="4795920"/>
                <a:ext cx="75960" cy="1141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Freeform 30"/>
              <p:cNvSpPr/>
              <p:nvPr/>
            </p:nvSpPr>
            <p:spPr>
              <a:xfrm>
                <a:off x="581040" y="4938840"/>
                <a:ext cx="122400" cy="6660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Freeform 31"/>
              <p:cNvSpPr/>
              <p:nvPr/>
            </p:nvSpPr>
            <p:spPr>
              <a:xfrm>
                <a:off x="790560" y="5024520"/>
                <a:ext cx="104760" cy="475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Freeform 32"/>
              <p:cNvSpPr/>
              <p:nvPr/>
            </p:nvSpPr>
            <p:spPr>
              <a:xfrm>
                <a:off x="1333440" y="4633920"/>
                <a:ext cx="28800" cy="9540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Freeform 33"/>
              <p:cNvSpPr/>
              <p:nvPr/>
            </p:nvSpPr>
            <p:spPr>
              <a:xfrm>
                <a:off x="866880" y="4795920"/>
                <a:ext cx="9360" cy="284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Freeform 34"/>
              <p:cNvSpPr/>
              <p:nvPr/>
            </p:nvSpPr>
            <p:spPr>
              <a:xfrm>
                <a:off x="847800" y="4672080"/>
                <a:ext cx="47520" cy="1238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Freeform 35"/>
              <p:cNvSpPr/>
              <p:nvPr/>
            </p:nvSpPr>
            <p:spPr>
              <a:xfrm>
                <a:off x="857160" y="4824360"/>
                <a:ext cx="38160" cy="3816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78671-11AC-46C7-A6E4-3264E69A1726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ftr" idx="1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E17AF-817F-443E-8565-CABD1604A3A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dt" idx="1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252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3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254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7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258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6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17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18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2384B-884E-4952-A41B-C5C0C56D450A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1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302" name="Freeform 3"/>
            <p:cNvSpPr/>
            <p:nvPr/>
          </p:nvSpPr>
          <p:spPr>
            <a:xfrm>
              <a:off x="2876400" y="4462560"/>
              <a:ext cx="6264360" cy="238896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Freeform 4"/>
            <p:cNvSpPr/>
            <p:nvPr/>
          </p:nvSpPr>
          <p:spPr>
            <a:xfrm>
              <a:off x="6389640" y="5757840"/>
              <a:ext cx="2751120" cy="109368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Freeform 5"/>
            <p:cNvSpPr/>
            <p:nvPr/>
          </p:nvSpPr>
          <p:spPr>
            <a:xfrm>
              <a:off x="0" y="0"/>
              <a:ext cx="8854920" cy="547200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Freeform 6"/>
            <p:cNvSpPr/>
            <p:nvPr/>
          </p:nvSpPr>
          <p:spPr>
            <a:xfrm>
              <a:off x="7845480" y="0"/>
              <a:ext cx="1295280" cy="43812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Freeform 7"/>
            <p:cNvSpPr/>
            <p:nvPr/>
          </p:nvSpPr>
          <p:spPr>
            <a:xfrm>
              <a:off x="0" y="3149640"/>
              <a:ext cx="9140760" cy="333036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8"/>
            <p:cNvSpPr/>
            <p:nvPr/>
          </p:nvSpPr>
          <p:spPr>
            <a:xfrm>
              <a:off x="0" y="162000"/>
              <a:ext cx="3112920" cy="200808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Freeform 9"/>
            <p:cNvSpPr/>
            <p:nvPr/>
          </p:nvSpPr>
          <p:spPr>
            <a:xfrm>
              <a:off x="0" y="0"/>
              <a:ext cx="7475400" cy="460548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Freeform 10"/>
            <p:cNvSpPr/>
            <p:nvPr/>
          </p:nvSpPr>
          <p:spPr>
            <a:xfrm>
              <a:off x="0" y="0"/>
              <a:ext cx="5989680" cy="374004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11"/>
            <p:cNvSpPr/>
            <p:nvPr/>
          </p:nvSpPr>
          <p:spPr>
            <a:xfrm>
              <a:off x="0" y="0"/>
              <a:ext cx="4656240" cy="293040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Freeform 12"/>
            <p:cNvSpPr/>
            <p:nvPr/>
          </p:nvSpPr>
          <p:spPr>
            <a:xfrm>
              <a:off x="181080" y="4519440"/>
              <a:ext cx="2369880" cy="32400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4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315" name="Freeform 16"/>
              <p:cNvSpPr/>
              <p:nvPr/>
            </p:nvSpPr>
            <p:spPr>
              <a:xfrm>
                <a:off x="647640" y="4776840"/>
                <a:ext cx="74520" cy="9360"/>
              </a:xfrm>
              <a:prstGeom prst="pie">
                <a:avLst/>
              </a:pr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Freeform 26"/>
              <p:cNvSpPr/>
              <p:nvPr/>
            </p:nvSpPr>
            <p:spPr>
              <a:xfrm>
                <a:off x="990720" y="4586400"/>
                <a:ext cx="19080" cy="8568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Freeform 27"/>
              <p:cNvSpPr/>
              <p:nvPr/>
            </p:nvSpPr>
            <p:spPr>
              <a:xfrm>
                <a:off x="781200" y="4795920"/>
                <a:ext cx="75960" cy="1141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Freeform 30"/>
              <p:cNvSpPr/>
              <p:nvPr/>
            </p:nvSpPr>
            <p:spPr>
              <a:xfrm>
                <a:off x="581040" y="4938840"/>
                <a:ext cx="122400" cy="6660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Freeform 31"/>
              <p:cNvSpPr/>
              <p:nvPr/>
            </p:nvSpPr>
            <p:spPr>
              <a:xfrm>
                <a:off x="790560" y="5024520"/>
                <a:ext cx="104760" cy="475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Freeform 32"/>
              <p:cNvSpPr/>
              <p:nvPr/>
            </p:nvSpPr>
            <p:spPr>
              <a:xfrm>
                <a:off x="1333440" y="4633920"/>
                <a:ext cx="28800" cy="9540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Freeform 33"/>
              <p:cNvSpPr/>
              <p:nvPr/>
            </p:nvSpPr>
            <p:spPr>
              <a:xfrm>
                <a:off x="866880" y="4795920"/>
                <a:ext cx="9360" cy="284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Freeform 34"/>
              <p:cNvSpPr/>
              <p:nvPr/>
            </p:nvSpPr>
            <p:spPr>
              <a:xfrm>
                <a:off x="847800" y="4672080"/>
                <a:ext cx="47520" cy="1238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Freeform 35"/>
              <p:cNvSpPr/>
              <p:nvPr/>
            </p:nvSpPr>
            <p:spPr>
              <a:xfrm>
                <a:off x="857160" y="4824360"/>
                <a:ext cx="38160" cy="3816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61D17-6E2D-4AFC-AA6E-EE72835AE13A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7"/>
    <p:sldLayoutId id="2147483728" r:id="rId8"/>
    <p:sldLayoutId id="2147483729" r:id="rId9"/>
    <p:sldLayoutId id="2147483730" r:id="rId10"/>
    <p:sldLayoutId id="2147483731" r:id="rId11"/>
    <p:sldLayoutId id="2147483732" r:id="rId12"/>
    <p:sldLayoutId id="2147483733" r:id="rId13"/>
    <p:sldLayoutId id="2147483734" r:id="rId14"/>
    <p:sldLayoutId id="2147483735" r:id="rId15"/>
    <p:sldLayoutId id="2147483736" r:id="rId16"/>
    <p:sldLayoutId id="2147483737" r:id="rId17"/>
    <p:sldLayoutId id="2147483738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gif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slide2.xm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11280" y="76464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 u="sng">
                <a:solidFill>
                  <a:srgbClr val="ffff99"/>
                </a:solidFill>
                <a:uFillTx/>
                <a:latin typeface="Arial"/>
              </a:rPr>
              <a:t>31 октября 2012 год.</a:t>
            </a:r>
            <a:br>
              <a:rPr sz="4800"/>
            </a:br>
            <a:br>
              <a:rPr sz="4800"/>
            </a:br>
            <a:br>
              <a:rPr sz="4800"/>
            </a:br>
            <a:r>
              <a:rPr b="0" lang="ru-RU" sz="4800" spc="-1" strike="noStrike">
                <a:solidFill>
                  <a:srgbClr val="ffff99"/>
                </a:solidFill>
                <a:latin typeface="Arial"/>
              </a:rPr>
              <a:t>УРОК КОЛЛЕКТИВНОГО ПОСЕЩЕНИЯ</a:t>
            </a:r>
            <a:br>
              <a:rPr sz="4800"/>
            </a:br>
            <a:r>
              <a:rPr b="0" lang="ru-RU" sz="4800" spc="-1" strike="noStrike">
                <a:solidFill>
                  <a:srgbClr val="ffff99"/>
                </a:solidFill>
                <a:latin typeface="Arial"/>
              </a:rPr>
              <a:t>в 5 классе</a:t>
            </a:r>
            <a:endParaRPr b="0" lang="en-US" sz="4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41360" y="41400"/>
            <a:ext cx="824544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US" sz="4800" spc="-1" strike="noStrike">
                <a:solidFill>
                  <a:srgbClr val="ff0000"/>
                </a:solidFill>
                <a:latin typeface="Arial"/>
              </a:rPr>
              <a:t>Угадай-ка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3"/>
          <p:cNvSpPr/>
          <p:nvPr/>
        </p:nvSpPr>
        <p:spPr>
          <a:xfrm>
            <a:off x="1795320" y="2039760"/>
            <a:ext cx="4083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noAutofit/>
          </a:bodyPr>
          <a:p>
            <a:pPr>
              <a:lnSpc>
                <a:spcPct val="117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en-US" sz="2500" spc="-1" strike="noStrike">
                <a:solidFill>
                  <a:srgbClr val="008000"/>
                </a:solidFill>
                <a:latin typeface="Arial"/>
                <a:ea typeface="Arial Unicode MS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5" name="Picture 5" descr=""/>
          <p:cNvPicPr/>
          <p:nvPr/>
        </p:nvPicPr>
        <p:blipFill>
          <a:blip r:embed="rId1"/>
          <a:stretch/>
        </p:blipFill>
        <p:spPr>
          <a:xfrm>
            <a:off x="5824440" y="1633680"/>
            <a:ext cx="2502000" cy="2611440"/>
          </a:xfrm>
          <a:prstGeom prst="rect">
            <a:avLst/>
          </a:prstGeom>
          <a:ln w="0">
            <a:noFill/>
          </a:ln>
        </p:spPr>
      </p:pic>
      <p:sp>
        <p:nvSpPr>
          <p:cNvPr id="446" name="Text Box 6"/>
          <p:cNvSpPr/>
          <p:nvPr/>
        </p:nvSpPr>
        <p:spPr>
          <a:xfrm>
            <a:off x="1795320" y="1795320"/>
            <a:ext cx="391824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noAutofit/>
          </a:bodyPr>
          <a:p>
            <a:pPr>
              <a:lnSpc>
                <a:spcPct val="117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  <a:ea typeface="Arial Unicode MS"/>
              </a:rPr>
              <a:t>Инструмент бывалый –</a:t>
            </a:r>
            <a:br>
              <a:rPr sz="2400"/>
            </a:br>
            <a:r>
              <a:rPr b="1" lang="en-US" sz="2400" spc="-1" strike="noStrike">
                <a:solidFill>
                  <a:srgbClr val="008000"/>
                </a:solidFill>
                <a:latin typeface="Arial"/>
                <a:ea typeface="Arial Unicode MS"/>
              </a:rPr>
              <a:t>Не большой, не малый.</a:t>
            </a:r>
            <a:br>
              <a:rPr sz="2400"/>
            </a:br>
            <a:r>
              <a:rPr b="1" lang="en-US" sz="2400" spc="-1" strike="noStrike">
                <a:solidFill>
                  <a:srgbClr val="008000"/>
                </a:solidFill>
                <a:latin typeface="Arial"/>
                <a:ea typeface="Arial Unicode MS"/>
              </a:rPr>
              <a:t>У него полно забот:</a:t>
            </a:r>
            <a:br>
              <a:rPr sz="2400"/>
            </a:br>
            <a:r>
              <a:rPr b="1" lang="en-US" sz="2400" spc="-1" strike="noStrike">
                <a:solidFill>
                  <a:srgbClr val="008000"/>
                </a:solidFill>
                <a:latin typeface="Arial"/>
                <a:ea typeface="Arial Unicode MS"/>
              </a:rPr>
              <a:t>Он и режет и стриж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3" dur="500"/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6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7" name="Picture 4" descr="DSCF7026"/>
          <p:cNvPicPr/>
          <p:nvPr/>
        </p:nvPicPr>
        <p:blipFill>
          <a:blip r:embed="rId1"/>
          <a:stretch/>
        </p:blipFill>
        <p:spPr>
          <a:xfrm>
            <a:off x="684360" y="404640"/>
            <a:ext cx="7785000" cy="58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5"/>
          <p:cNvSpPr/>
          <p:nvPr/>
        </p:nvSpPr>
        <p:spPr>
          <a:xfrm>
            <a:off x="-3881520" y="-1428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Rectangle 6"/>
          <p:cNvSpPr/>
          <p:nvPr/>
        </p:nvSpPr>
        <p:spPr>
          <a:xfrm>
            <a:off x="250920" y="-227880"/>
            <a:ext cx="8642160" cy="67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  <a:ea typeface="Times New Roman"/>
              </a:rPr>
              <a:t>Шов вподгибк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  <a:ea typeface="Times New Roman"/>
              </a:rPr>
              <a:t>с закрытым срезом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Подогнуть срез образца на 0,5 см  н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изнаночную сторону, заметать подогнутый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край.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Подогнуть первую подгибку еще раз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на 0,5 см, на изнаночную сторону, заметать.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Ширина второй подгибки 0,5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0,7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см.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Застрочить на 0,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см от края внутреннего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подгиба. Ширина шва 0,5-0,7 с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/>
          </p:nvPr>
        </p:nvSpPr>
        <p:spPr>
          <a:xfrm>
            <a:off x="17928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 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 поляне шерстяной 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 Пляшет тонконожка — 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 Из-под туфельки стальной 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 Выползает 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 Стёжка. 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title"/>
          </p:nvPr>
        </p:nvSpPr>
        <p:spPr>
          <a:xfrm>
            <a:off x="441360" y="41400"/>
            <a:ext cx="824544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4000"/>
            </a:br>
            <a:r>
              <a:rPr b="1" i="1" lang="en-US" sz="4000" spc="-1" strike="noStrike">
                <a:solidFill>
                  <a:srgbClr val="ff3300"/>
                </a:solidFill>
                <a:latin typeface="Tahoma"/>
              </a:rPr>
              <a:t>Угадай-ка!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52" name="Picture 9" descr="P1020869"/>
          <p:cNvPicPr/>
          <p:nvPr/>
        </p:nvPicPr>
        <p:blipFill>
          <a:blip r:embed="rId1"/>
          <a:stretch/>
        </p:blipFill>
        <p:spPr>
          <a:xfrm>
            <a:off x="4643280" y="3500280"/>
            <a:ext cx="3600720" cy="270036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5" dur="1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914400" y="836280"/>
            <a:ext cx="8229600" cy="5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cc"/>
                </a:solidFill>
                <a:latin typeface="Times New Roman"/>
              </a:rPr>
              <a:t>Машиноведение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10920" y="2421000"/>
            <a:ext cx="777708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 каком положении должна находиться игла при заправке верхней нит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" spc="-1" strike="noStrike">
                <a:solidFill>
                  <a:srgbClr val="ff6600"/>
                </a:solidFill>
                <a:latin typeface="Arial"/>
              </a:rPr>
              <a:t>         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539280" y="5733720"/>
            <a:ext cx="820908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99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Ответ: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cccc99"/>
                </a:solidFill>
                <a:latin typeface="Arial"/>
              </a:rPr>
              <a:t>В крайнем верхнем  положении.                                      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AutoShape 5"/>
          <p:cNvSpPr/>
          <p:nvPr/>
        </p:nvSpPr>
        <p:spPr>
          <a:xfrm>
            <a:off x="8494560" y="6354720"/>
            <a:ext cx="649440" cy="503280"/>
          </a:xfrm>
          <a:custGeom>
            <a:avLst/>
            <a:gdLst>
              <a:gd name="textAreaLeft" fmla="*/ 32400 w 649440"/>
              <a:gd name="textAreaRight" fmla="*/ 617040 w 64944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7868" h="21600">
                <a:moveTo>
                  <a:pt x="0" y="0"/>
                </a:moveTo>
                <a:lnTo>
                  <a:pt x="27868" y="0"/>
                </a:lnTo>
                <a:lnTo>
                  <a:pt x="27868" y="21600"/>
                </a:lnTo>
                <a:lnTo>
                  <a:pt x="0" y="21600"/>
                </a:lnTo>
                <a:close/>
              </a:path>
              <a:path fill="lightenLess" w="27868" h="21600">
                <a:moveTo>
                  <a:pt x="0" y="0"/>
                </a:moveTo>
                <a:lnTo>
                  <a:pt x="27868" y="0"/>
                </a:lnTo>
                <a:lnTo>
                  <a:pt x="26468" y="1400"/>
                </a:lnTo>
                <a:lnTo>
                  <a:pt x="1400" y="1400"/>
                </a:lnTo>
                <a:close/>
              </a:path>
              <a:path fill="darken" w="27868" h="21600">
                <a:moveTo>
                  <a:pt x="27868" y="0"/>
                </a:moveTo>
                <a:lnTo>
                  <a:pt x="27868" y="21600"/>
                </a:lnTo>
                <a:lnTo>
                  <a:pt x="26468" y="20200"/>
                </a:lnTo>
                <a:lnTo>
                  <a:pt x="26468" y="1400"/>
                </a:lnTo>
                <a:close/>
              </a:path>
              <a:path fill="darkenLess" w="27868" h="21600">
                <a:moveTo>
                  <a:pt x="278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468" y="20200"/>
                </a:lnTo>
                <a:close/>
              </a:path>
              <a:path fill="lighten" w="278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868" h="21600">
                <a:moveTo>
                  <a:pt x="13934" y="3837"/>
                </a:moveTo>
                <a:lnTo>
                  <a:pt x="16511" y="6448"/>
                </a:lnTo>
                <a:lnTo>
                  <a:pt x="16511" y="4707"/>
                </a:lnTo>
                <a:lnTo>
                  <a:pt x="18286" y="4707"/>
                </a:lnTo>
                <a:lnTo>
                  <a:pt x="18286" y="8224"/>
                </a:lnTo>
                <a:lnTo>
                  <a:pt x="20897" y="10800"/>
                </a:lnTo>
                <a:lnTo>
                  <a:pt x="19243" y="10800"/>
                </a:lnTo>
                <a:lnTo>
                  <a:pt x="19243" y="17989"/>
                </a:lnTo>
                <a:lnTo>
                  <a:pt x="8625" y="17989"/>
                </a:lnTo>
                <a:lnTo>
                  <a:pt x="8625" y="10800"/>
                </a:lnTo>
                <a:lnTo>
                  <a:pt x="6971" y="10800"/>
                </a:lnTo>
                <a:close/>
              </a:path>
              <a:path fill="darkenLess" w="27868" h="21600">
                <a:moveTo>
                  <a:pt x="16511" y="6448"/>
                </a:moveTo>
                <a:lnTo>
                  <a:pt x="16511" y="4707"/>
                </a:lnTo>
                <a:lnTo>
                  <a:pt x="18286" y="4707"/>
                </a:lnTo>
                <a:lnTo>
                  <a:pt x="18286" y="8224"/>
                </a:lnTo>
                <a:close/>
              </a:path>
              <a:path fill="darkenLess" w="27868" h="21600">
                <a:moveTo>
                  <a:pt x="13012" y="14299"/>
                </a:moveTo>
                <a:lnTo>
                  <a:pt x="14857" y="14299"/>
                </a:lnTo>
                <a:lnTo>
                  <a:pt x="14857" y="17989"/>
                </a:lnTo>
                <a:lnTo>
                  <a:pt x="19243" y="17989"/>
                </a:lnTo>
                <a:lnTo>
                  <a:pt x="19243" y="10800"/>
                </a:lnTo>
                <a:lnTo>
                  <a:pt x="8625" y="10800"/>
                </a:lnTo>
                <a:lnTo>
                  <a:pt x="8625" y="17989"/>
                </a:lnTo>
                <a:lnTo>
                  <a:pt x="13012" y="17989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0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1000"/>
                            </p:stCondLst>
                            <p:childTnLst>
                              <p:par>
                                <p:cTn id="24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914400" y="836280"/>
            <a:ext cx="8229600" cy="5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cc"/>
                </a:solidFill>
                <a:latin typeface="Times New Roman"/>
              </a:rPr>
              <a:t>  </a:t>
            </a:r>
            <a:r>
              <a:rPr b="0" lang="ru-RU" sz="3800" spc="-1" strike="noStrike">
                <a:solidFill>
                  <a:srgbClr val="0000ff"/>
                </a:solidFill>
                <a:latin typeface="Times New Roman"/>
              </a:rPr>
              <a:t>Машиноведение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991800" y="1844640"/>
            <a:ext cx="7691400" cy="331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 каком направлении относительно работающего вращается маховое колесо в разных видах швейных машин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0" y="5444640"/>
            <a:ext cx="9144000" cy="141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00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990033"/>
                </a:solidFill>
                <a:latin typeface="Arial"/>
              </a:rPr>
              <a:t>Ответ: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cccc99"/>
                </a:solidFill>
                <a:latin typeface="Arial"/>
              </a:rPr>
              <a:t>Маховое колесо у разных машин вращается одинаково – на себ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AutoShape 5"/>
          <p:cNvSpPr/>
          <p:nvPr/>
        </p:nvSpPr>
        <p:spPr>
          <a:xfrm>
            <a:off x="8494560" y="6354720"/>
            <a:ext cx="649440" cy="503280"/>
          </a:xfrm>
          <a:custGeom>
            <a:avLst/>
            <a:gdLst>
              <a:gd name="textAreaLeft" fmla="*/ 32400 w 649440"/>
              <a:gd name="textAreaRight" fmla="*/ 617040 w 64944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7868" h="21600">
                <a:moveTo>
                  <a:pt x="0" y="0"/>
                </a:moveTo>
                <a:lnTo>
                  <a:pt x="27868" y="0"/>
                </a:lnTo>
                <a:lnTo>
                  <a:pt x="27868" y="21600"/>
                </a:lnTo>
                <a:lnTo>
                  <a:pt x="0" y="21600"/>
                </a:lnTo>
                <a:close/>
              </a:path>
              <a:path fill="lightenLess" w="27868" h="21600">
                <a:moveTo>
                  <a:pt x="0" y="0"/>
                </a:moveTo>
                <a:lnTo>
                  <a:pt x="27868" y="0"/>
                </a:lnTo>
                <a:lnTo>
                  <a:pt x="26468" y="1400"/>
                </a:lnTo>
                <a:lnTo>
                  <a:pt x="1400" y="1400"/>
                </a:lnTo>
                <a:close/>
              </a:path>
              <a:path fill="darken" w="27868" h="21600">
                <a:moveTo>
                  <a:pt x="27868" y="0"/>
                </a:moveTo>
                <a:lnTo>
                  <a:pt x="27868" y="21600"/>
                </a:lnTo>
                <a:lnTo>
                  <a:pt x="26468" y="20200"/>
                </a:lnTo>
                <a:lnTo>
                  <a:pt x="26468" y="1400"/>
                </a:lnTo>
                <a:close/>
              </a:path>
              <a:path fill="darkenLess" w="27868" h="21600">
                <a:moveTo>
                  <a:pt x="278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468" y="20200"/>
                </a:lnTo>
                <a:close/>
              </a:path>
              <a:path fill="lighten" w="278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868" h="21600">
                <a:moveTo>
                  <a:pt x="13934" y="3837"/>
                </a:moveTo>
                <a:lnTo>
                  <a:pt x="16511" y="6448"/>
                </a:lnTo>
                <a:lnTo>
                  <a:pt x="16511" y="4707"/>
                </a:lnTo>
                <a:lnTo>
                  <a:pt x="18286" y="4707"/>
                </a:lnTo>
                <a:lnTo>
                  <a:pt x="18286" y="8224"/>
                </a:lnTo>
                <a:lnTo>
                  <a:pt x="20897" y="10800"/>
                </a:lnTo>
                <a:lnTo>
                  <a:pt x="19243" y="10800"/>
                </a:lnTo>
                <a:lnTo>
                  <a:pt x="19243" y="17989"/>
                </a:lnTo>
                <a:lnTo>
                  <a:pt x="8625" y="17989"/>
                </a:lnTo>
                <a:lnTo>
                  <a:pt x="8625" y="10800"/>
                </a:lnTo>
                <a:lnTo>
                  <a:pt x="6971" y="10800"/>
                </a:lnTo>
                <a:close/>
              </a:path>
              <a:path fill="darkenLess" w="27868" h="21600">
                <a:moveTo>
                  <a:pt x="16511" y="6448"/>
                </a:moveTo>
                <a:lnTo>
                  <a:pt x="16511" y="4707"/>
                </a:lnTo>
                <a:lnTo>
                  <a:pt x="18286" y="4707"/>
                </a:lnTo>
                <a:lnTo>
                  <a:pt x="18286" y="8224"/>
                </a:lnTo>
                <a:close/>
              </a:path>
              <a:path fill="darkenLess" w="27868" h="21600">
                <a:moveTo>
                  <a:pt x="13012" y="14299"/>
                </a:moveTo>
                <a:lnTo>
                  <a:pt x="14857" y="14299"/>
                </a:lnTo>
                <a:lnTo>
                  <a:pt x="14857" y="17989"/>
                </a:lnTo>
                <a:lnTo>
                  <a:pt x="19243" y="17989"/>
                </a:lnTo>
                <a:lnTo>
                  <a:pt x="19243" y="10800"/>
                </a:lnTo>
                <a:lnTo>
                  <a:pt x="8625" y="10800"/>
                </a:lnTo>
                <a:lnTo>
                  <a:pt x="8625" y="17989"/>
                </a:lnTo>
                <a:lnTo>
                  <a:pt x="13012" y="17989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0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1000"/>
                            </p:stCondLst>
                            <p:childTnLst>
                              <p:par>
                                <p:cTn id="26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Picture 4" descr="DSCF6888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250920" y="260280"/>
            <a:ext cx="4402080" cy="330192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5" descr="DSCF7158"/>
          <p:cNvPicPr/>
          <p:nvPr/>
        </p:nvPicPr>
        <p:blipFill>
          <a:blip r:embed="rId2"/>
          <a:stretch/>
        </p:blipFill>
        <p:spPr>
          <a:xfrm>
            <a:off x="4643280" y="3357720"/>
            <a:ext cx="432144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4"/>
          <p:cNvSpPr/>
          <p:nvPr/>
        </p:nvSpPr>
        <p:spPr>
          <a:xfrm>
            <a:off x="971640" y="1628640"/>
            <a:ext cx="5761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ладит платья и рубашки,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утюжит нам кармашки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н в хозяйстве верный друг –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мя у него ..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41360" y="41400"/>
            <a:ext cx="824544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4000"/>
            </a:br>
            <a:r>
              <a:rPr b="1" i="1" lang="en-US" sz="4000" spc="-1" strike="noStrike">
                <a:solidFill>
                  <a:srgbClr val="ff3300"/>
                </a:solidFill>
                <a:latin typeface="Tahoma"/>
              </a:rPr>
              <a:t>Угадай-ка!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65" name="Picture 7" descr="11111"/>
          <p:cNvPicPr/>
          <p:nvPr/>
        </p:nvPicPr>
        <p:blipFill>
          <a:blip r:embed="rId1"/>
          <a:stretch/>
        </p:blipFill>
        <p:spPr>
          <a:xfrm>
            <a:off x="4643280" y="2924280"/>
            <a:ext cx="3564000" cy="35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6" name="Picture 4" descr="DSCF7159"/>
          <p:cNvPicPr/>
          <p:nvPr/>
        </p:nvPicPr>
        <p:blipFill>
          <a:blip r:embed="rId1"/>
          <a:srcRect l="0" t="0" r="0" b="-1328"/>
          <a:stretch/>
        </p:blipFill>
        <p:spPr>
          <a:xfrm>
            <a:off x="2771640" y="17640"/>
            <a:ext cx="3643560" cy="68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7" name="66 ФОКСТРОТ 2.mp3" descr=""/>
          <p:cNvPicPr/>
          <p:nvPr/>
        </p:nvPicPr>
        <p:blipFill>
          <a:blip r:embed="rId1"/>
          <a:stretch/>
        </p:blipFill>
        <p:spPr>
          <a:xfrm>
            <a:off x="755640" y="5661000"/>
            <a:ext cx="865080" cy="865080"/>
          </a:xfrm>
          <a:prstGeom prst="rect">
            <a:avLst/>
          </a:prstGeom>
          <a:ln w="0">
            <a:noFill/>
          </a:ln>
        </p:spPr>
      </p:pic>
      <p:pic>
        <p:nvPicPr>
          <p:cNvPr id="468" name="Picture 5" descr="12345"/>
          <p:cNvPicPr/>
          <p:nvPr/>
        </p:nvPicPr>
        <p:blipFill>
          <a:blip r:embed="rId2"/>
          <a:stretch/>
        </p:blipFill>
        <p:spPr>
          <a:xfrm>
            <a:off x="2556000" y="3860640"/>
            <a:ext cx="3628800" cy="2762280"/>
          </a:xfrm>
          <a:prstGeom prst="rect">
            <a:avLst/>
          </a:prstGeom>
          <a:ln w="0">
            <a:noFill/>
          </a:ln>
        </p:spPr>
      </p:pic>
      <p:pic>
        <p:nvPicPr>
          <p:cNvPr id="469" name="Picture 6" descr="12"/>
          <p:cNvPicPr/>
          <p:nvPr/>
        </p:nvPicPr>
        <p:blipFill>
          <a:blip r:embed="rId3"/>
          <a:stretch/>
        </p:blipFill>
        <p:spPr>
          <a:xfrm>
            <a:off x="5292720" y="189000"/>
            <a:ext cx="3571920" cy="3914640"/>
          </a:xfrm>
          <a:prstGeom prst="rect">
            <a:avLst/>
          </a:prstGeom>
          <a:ln w="0">
            <a:noFill/>
          </a:ln>
        </p:spPr>
      </p:pic>
      <p:pic>
        <p:nvPicPr>
          <p:cNvPr id="470" name="Picture 7" descr="125"/>
          <p:cNvPicPr/>
          <p:nvPr/>
        </p:nvPicPr>
        <p:blipFill>
          <a:blip r:embed="rId4"/>
          <a:stretch/>
        </p:blipFill>
        <p:spPr>
          <a:xfrm>
            <a:off x="179280" y="189000"/>
            <a:ext cx="4105440" cy="3671640"/>
          </a:xfrm>
          <a:prstGeom prst="rect">
            <a:avLst/>
          </a:prstGeom>
          <a:ln w="0">
            <a:noFill/>
          </a:ln>
        </p:spPr>
      </p:pic>
      <p:sp>
        <p:nvSpPr>
          <p:cNvPr id="471" name="Text Box 8"/>
          <p:cNvSpPr/>
          <p:nvPr/>
        </p:nvSpPr>
        <p:spPr>
          <a:xfrm rot="20272200">
            <a:off x="360" y="2781360"/>
            <a:ext cx="7916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3300"/>
                </a:solidFill>
                <a:latin typeface="Arial"/>
              </a:rPr>
              <a:t>ФИЗМИНУТК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0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5" dur="197708" fill="hold"/>
                                        <p:tgtEl>
                                          <p:spTgt spid="4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Picture 2" descr="cabg08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009440" y="288720"/>
            <a:ext cx="691668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6699"/>
                </a:solidFill>
                <a:latin typeface="Comic Sans MS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756720" y="1993680"/>
            <a:ext cx="7564680" cy="40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ак называются прочные длинные нити идущие вдоль ткани?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6600"/>
                </a:solidFill>
                <a:latin typeface="Arial"/>
              </a:rPr>
              <a:t>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323640" y="5733720"/>
            <a:ext cx="784836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твет: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4400" spc="-1" strike="noStrike">
                <a:solidFill>
                  <a:srgbClr val="66ccff"/>
                </a:solidFill>
                <a:latin typeface="Garamond"/>
              </a:rPr>
              <a:t>Основная или долевая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utoShape 6">
            <a:hlinkClick r:id="rId2" action="ppaction://hlinksldjump"/>
          </p:cNvPr>
          <p:cNvSpPr/>
          <p:nvPr/>
        </p:nvSpPr>
        <p:spPr>
          <a:xfrm>
            <a:off x="8569440" y="6381720"/>
            <a:ext cx="574560" cy="476280"/>
          </a:xfrm>
          <a:custGeom>
            <a:avLst/>
            <a:gdLst>
              <a:gd name="textAreaLeft" fmla="*/ 30600 w 574560"/>
              <a:gd name="textAreaRight" fmla="*/ 543960 w 57456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6054" h="21600">
                <a:moveTo>
                  <a:pt x="0" y="0"/>
                </a:moveTo>
                <a:lnTo>
                  <a:pt x="26054" y="0"/>
                </a:lnTo>
                <a:lnTo>
                  <a:pt x="26054" y="21600"/>
                </a:lnTo>
                <a:lnTo>
                  <a:pt x="0" y="21600"/>
                </a:lnTo>
                <a:close/>
              </a:path>
              <a:path fill="lightenLess" w="26054" h="21600">
                <a:moveTo>
                  <a:pt x="0" y="0"/>
                </a:moveTo>
                <a:lnTo>
                  <a:pt x="26054" y="0"/>
                </a:lnTo>
                <a:lnTo>
                  <a:pt x="24654" y="1400"/>
                </a:lnTo>
                <a:lnTo>
                  <a:pt x="1400" y="1400"/>
                </a:lnTo>
                <a:close/>
              </a:path>
              <a:path fill="darken" w="26054" h="21600">
                <a:moveTo>
                  <a:pt x="26054" y="0"/>
                </a:moveTo>
                <a:lnTo>
                  <a:pt x="26054" y="21600"/>
                </a:lnTo>
                <a:lnTo>
                  <a:pt x="24654" y="20200"/>
                </a:lnTo>
                <a:lnTo>
                  <a:pt x="24654" y="1400"/>
                </a:lnTo>
                <a:close/>
              </a:path>
              <a:path fill="darkenLess" w="26054" h="21600">
                <a:moveTo>
                  <a:pt x="260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54" y="20200"/>
                </a:lnTo>
                <a:close/>
              </a:path>
              <a:path fill="lighten" w="260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054" h="21600">
                <a:moveTo>
                  <a:pt x="13027" y="3837"/>
                </a:moveTo>
                <a:lnTo>
                  <a:pt x="15603" y="6448"/>
                </a:lnTo>
                <a:lnTo>
                  <a:pt x="15603" y="4707"/>
                </a:lnTo>
                <a:lnTo>
                  <a:pt x="17379" y="4707"/>
                </a:lnTo>
                <a:lnTo>
                  <a:pt x="17379" y="8224"/>
                </a:lnTo>
                <a:lnTo>
                  <a:pt x="19990" y="10800"/>
                </a:lnTo>
                <a:lnTo>
                  <a:pt x="18336" y="10800"/>
                </a:lnTo>
                <a:lnTo>
                  <a:pt x="18336" y="17989"/>
                </a:lnTo>
                <a:lnTo>
                  <a:pt x="7718" y="17989"/>
                </a:lnTo>
                <a:lnTo>
                  <a:pt x="7718" y="10800"/>
                </a:lnTo>
                <a:lnTo>
                  <a:pt x="6064" y="10800"/>
                </a:lnTo>
                <a:close/>
              </a:path>
              <a:path fill="darkenLess" w="26054" h="21600">
                <a:moveTo>
                  <a:pt x="15603" y="6448"/>
                </a:moveTo>
                <a:lnTo>
                  <a:pt x="15603" y="4707"/>
                </a:lnTo>
                <a:lnTo>
                  <a:pt x="17379" y="4707"/>
                </a:lnTo>
                <a:lnTo>
                  <a:pt x="17379" y="8224"/>
                </a:lnTo>
                <a:close/>
              </a:path>
              <a:path fill="darkenLess" w="26054" h="21600">
                <a:moveTo>
                  <a:pt x="12104" y="14299"/>
                </a:moveTo>
                <a:lnTo>
                  <a:pt x="13949" y="14299"/>
                </a:lnTo>
                <a:lnTo>
                  <a:pt x="13949" y="17989"/>
                </a:lnTo>
                <a:lnTo>
                  <a:pt x="18336" y="17989"/>
                </a:lnTo>
                <a:lnTo>
                  <a:pt x="18336" y="10800"/>
                </a:lnTo>
                <a:lnTo>
                  <a:pt x="7718" y="10800"/>
                </a:lnTo>
                <a:lnTo>
                  <a:pt x="7718" y="17989"/>
                </a:lnTo>
                <a:lnTo>
                  <a:pt x="12104" y="17989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4" name="Picture 7" descr="cabg061"/>
          <p:cNvPicPr/>
          <p:nvPr/>
        </p:nvPicPr>
        <p:blipFill>
          <a:blip r:embed="rId3"/>
          <a:stretch/>
        </p:blipFill>
        <p:spPr>
          <a:xfrm>
            <a:off x="179280" y="189000"/>
            <a:ext cx="1800360" cy="1152360"/>
          </a:xfrm>
          <a:prstGeom prst="rect">
            <a:avLst/>
          </a:prstGeom>
          <a:ln w="0">
            <a:noFill/>
          </a:ln>
        </p:spPr>
      </p:pic>
      <p:sp>
        <p:nvSpPr>
          <p:cNvPr id="395" name="Rectangle 8"/>
          <p:cNvSpPr/>
          <p:nvPr/>
        </p:nvSpPr>
        <p:spPr>
          <a:xfrm>
            <a:off x="1258920" y="189000"/>
            <a:ext cx="6867360" cy="96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6699"/>
                </a:solidFill>
                <a:latin typeface="Comic Sans MS"/>
              </a:rPr>
              <a:t>  </a:t>
            </a:r>
            <a:r>
              <a:rPr b="1" lang="ru-RU" sz="4400" spc="-1" strike="noStrike">
                <a:solidFill>
                  <a:srgbClr val="9933ff"/>
                </a:solidFill>
                <a:latin typeface="Tahoma"/>
              </a:rPr>
              <a:t>Материаловед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" dur="2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2"/>
          <p:cNvSpPr/>
          <p:nvPr/>
        </p:nvSpPr>
        <p:spPr>
          <a:xfrm>
            <a:off x="-3881520" y="-1428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Rectangle 3"/>
          <p:cNvSpPr/>
          <p:nvPr/>
        </p:nvSpPr>
        <p:spPr>
          <a:xfrm>
            <a:off x="250920" y="-181800"/>
            <a:ext cx="8642160" cy="67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  <a:ea typeface="Times New Roman"/>
              </a:rPr>
              <a:t>Шов вподгибк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  <a:ea typeface="Times New Roman"/>
              </a:rPr>
              <a:t>с закрытым срезом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Подогнуть срез образца на 0,5 см  н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изнаночную сторону, заметать подогнутый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край.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Подогнуть первую подгибку еще раз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на 0,5 см, на изнаночную сторону, заметать.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Ширина второй подгибки 0,5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0,7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см.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Застрочить на 0,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см от края внутреннего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подгиба. Ширина шва 0,5-0,7 с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4" name="09-Mimoletnosti, Evanescent.mp3" descr=""/>
          <p:cNvPicPr/>
          <p:nvPr/>
        </p:nvPicPr>
        <p:blipFill>
          <a:blip r:embed="rId1"/>
          <a:stretch/>
        </p:blipFill>
        <p:spPr>
          <a:xfrm>
            <a:off x="684360" y="5805360"/>
            <a:ext cx="799920" cy="800280"/>
          </a:xfrm>
          <a:prstGeom prst="rect">
            <a:avLst/>
          </a:prstGeom>
          <a:ln w="0">
            <a:noFill/>
          </a:ln>
        </p:spPr>
      </p:pic>
      <p:pic>
        <p:nvPicPr>
          <p:cNvPr id="475" name="10-Mamba Krutikh, Mamba Of The Krutoys.mp3" descr=""/>
          <p:cNvPicPr/>
          <p:nvPr/>
        </p:nvPicPr>
        <p:blipFill>
          <a:blip r:embed="rId2"/>
          <a:stretch/>
        </p:blipFill>
        <p:spPr>
          <a:xfrm>
            <a:off x="2916360" y="5877000"/>
            <a:ext cx="792000" cy="792000"/>
          </a:xfrm>
          <a:prstGeom prst="rect">
            <a:avLst/>
          </a:prstGeom>
          <a:ln w="0">
            <a:noFill/>
          </a:ln>
        </p:spPr>
      </p:pic>
      <p:pic>
        <p:nvPicPr>
          <p:cNvPr id="476" name="13-Elegiya, Elegy.mp3" descr=""/>
          <p:cNvPicPr/>
          <p:nvPr/>
        </p:nvPicPr>
        <p:blipFill>
          <a:blip r:embed="rId3"/>
          <a:stretch/>
        </p:blipFill>
        <p:spPr>
          <a:xfrm>
            <a:off x="5148360" y="587700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477" name="14-Karnaval bezumnogo mira, Carnival Of The Wild World.mp3" descr=""/>
          <p:cNvPicPr/>
          <p:nvPr/>
        </p:nvPicPr>
        <p:blipFill>
          <a:blip r:embed="rId4"/>
          <a:stretch/>
        </p:blipFill>
        <p:spPr>
          <a:xfrm>
            <a:off x="7596360" y="5877000"/>
            <a:ext cx="720720" cy="7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restart="whenNotActive" nodeType="interactiveSeq" fill="hold">
                <p:stCondLst>
                  <p:cond evt="onClick">
                    <p:tgtEl>
                      <p:spTgt spid="474"/>
                    </p:tgtEl>
                  </p:cond>
                </p:stCondLst>
                <p:childTnLst>
                  <p:par>
                    <p:cTn id="288" fill="hold">
                      <p:stCondLst>
                        <p:cond evt="onClick">
                          <p:tgtEl>
                            <p:spTgt spid="474"/>
                          </p:tgtEl>
                        </p:cond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1" dur="310066" fill="hold"/>
                                        <p:tgtEl>
                                          <p:spTgt spid="4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2" restart="whenNotActive" nodeType="interactiveSeq" fill="hold">
                <p:stCondLst>
                  <p:cond evt="onClick">
                    <p:tgtEl>
                      <p:spTgt spid="475"/>
                    </p:tgtEl>
                  </p:cond>
                </p:stCondLst>
                <p:childTnLst>
                  <p:par>
                    <p:cTn id="293" fill="hold">
                      <p:stCondLst>
                        <p:cond evt="onClick">
                          <p:tgtEl>
                            <p:spTgt spid="475"/>
                          </p:tgtEl>
                        </p:cond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6" dur="252386" fill="hold"/>
                                        <p:tgtEl>
                                          <p:spTgt spid="4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7" restart="whenNotActive" nodeType="interactiveSeq" fill="hold">
                <p:stCondLst>
                  <p:cond evt="onClick">
                    <p:tgtEl>
                      <p:spTgt spid="476"/>
                    </p:tgtEl>
                  </p:cond>
                </p:stCondLst>
                <p:childTnLst>
                  <p:par>
                    <p:cTn id="298" fill="hold">
                      <p:stCondLst>
                        <p:cond evt="onClick">
                          <p:tgtEl>
                            <p:spTgt spid="476"/>
                          </p:tgtEl>
                        </p:cond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1" dur="331986" fill="hold"/>
                                        <p:tgtEl>
                                          <p:spTgt spid="4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2" restart="whenNotActive" nodeType="interactiveSeq" fill="hold">
                <p:stCondLst>
                  <p:cond evt="onClick">
                    <p:tgtEl>
                      <p:spTgt spid="477"/>
                    </p:tgtEl>
                  </p:cond>
                </p:stCondLst>
                <p:childTnLst>
                  <p:par>
                    <p:cTn id="303" fill="hold">
                      <p:stCondLst>
                        <p:cond evt="onClick">
                          <p:tgtEl>
                            <p:spTgt spid="477"/>
                          </p:tgtEl>
                        </p:cond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6" dur="313013" fill="hold"/>
                                        <p:tgtEl>
                                          <p:spTgt spid="4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Picture 2" descr="cabg08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009440" y="288720"/>
            <a:ext cx="691668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6699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акие нити проходят поперек ткани и кромки?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6600"/>
                </a:solidFill>
                <a:latin typeface="Arial"/>
              </a:rPr>
              <a:t>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539280" y="5661000"/>
            <a:ext cx="820908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9900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вет: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4000" spc="-1" strike="noStrike">
                <a:solidFill>
                  <a:srgbClr val="66ccff"/>
                </a:solidFill>
                <a:latin typeface="Garamond"/>
              </a:rPr>
              <a:t>Уточные или поперечны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AutoShape 6"/>
          <p:cNvSpPr/>
          <p:nvPr/>
        </p:nvSpPr>
        <p:spPr>
          <a:xfrm>
            <a:off x="8569440" y="6381720"/>
            <a:ext cx="574560" cy="476280"/>
          </a:xfrm>
          <a:custGeom>
            <a:avLst/>
            <a:gdLst>
              <a:gd name="textAreaLeft" fmla="*/ 30600 w 574560"/>
              <a:gd name="textAreaRight" fmla="*/ 543960 w 57456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6054" h="21600">
                <a:moveTo>
                  <a:pt x="0" y="0"/>
                </a:moveTo>
                <a:lnTo>
                  <a:pt x="26054" y="0"/>
                </a:lnTo>
                <a:lnTo>
                  <a:pt x="26054" y="21600"/>
                </a:lnTo>
                <a:lnTo>
                  <a:pt x="0" y="21600"/>
                </a:lnTo>
                <a:close/>
              </a:path>
              <a:path fill="lightenLess" w="26054" h="21600">
                <a:moveTo>
                  <a:pt x="0" y="0"/>
                </a:moveTo>
                <a:lnTo>
                  <a:pt x="26054" y="0"/>
                </a:lnTo>
                <a:lnTo>
                  <a:pt x="24654" y="1400"/>
                </a:lnTo>
                <a:lnTo>
                  <a:pt x="1400" y="1400"/>
                </a:lnTo>
                <a:close/>
              </a:path>
              <a:path fill="darken" w="26054" h="21600">
                <a:moveTo>
                  <a:pt x="26054" y="0"/>
                </a:moveTo>
                <a:lnTo>
                  <a:pt x="26054" y="21600"/>
                </a:lnTo>
                <a:lnTo>
                  <a:pt x="24654" y="20200"/>
                </a:lnTo>
                <a:lnTo>
                  <a:pt x="24654" y="1400"/>
                </a:lnTo>
                <a:close/>
              </a:path>
              <a:path fill="darkenLess" w="26054" h="21600">
                <a:moveTo>
                  <a:pt x="260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54" y="20200"/>
                </a:lnTo>
                <a:close/>
              </a:path>
              <a:path fill="lighten" w="260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054" h="21600">
                <a:moveTo>
                  <a:pt x="13027" y="3837"/>
                </a:moveTo>
                <a:lnTo>
                  <a:pt x="15603" y="6448"/>
                </a:lnTo>
                <a:lnTo>
                  <a:pt x="15603" y="4707"/>
                </a:lnTo>
                <a:lnTo>
                  <a:pt x="17379" y="4707"/>
                </a:lnTo>
                <a:lnTo>
                  <a:pt x="17379" y="8224"/>
                </a:lnTo>
                <a:lnTo>
                  <a:pt x="19990" y="10800"/>
                </a:lnTo>
                <a:lnTo>
                  <a:pt x="18336" y="10800"/>
                </a:lnTo>
                <a:lnTo>
                  <a:pt x="18336" y="17989"/>
                </a:lnTo>
                <a:lnTo>
                  <a:pt x="7718" y="17989"/>
                </a:lnTo>
                <a:lnTo>
                  <a:pt x="7718" y="10800"/>
                </a:lnTo>
                <a:lnTo>
                  <a:pt x="6064" y="10800"/>
                </a:lnTo>
                <a:close/>
              </a:path>
              <a:path fill="darkenLess" w="26054" h="21600">
                <a:moveTo>
                  <a:pt x="15603" y="6448"/>
                </a:moveTo>
                <a:lnTo>
                  <a:pt x="15603" y="4707"/>
                </a:lnTo>
                <a:lnTo>
                  <a:pt x="17379" y="4707"/>
                </a:lnTo>
                <a:lnTo>
                  <a:pt x="17379" y="8224"/>
                </a:lnTo>
                <a:close/>
              </a:path>
              <a:path fill="darkenLess" w="26054" h="21600">
                <a:moveTo>
                  <a:pt x="12104" y="14299"/>
                </a:moveTo>
                <a:lnTo>
                  <a:pt x="13949" y="14299"/>
                </a:lnTo>
                <a:lnTo>
                  <a:pt x="13949" y="17989"/>
                </a:lnTo>
                <a:lnTo>
                  <a:pt x="18336" y="17989"/>
                </a:lnTo>
                <a:lnTo>
                  <a:pt x="18336" y="10800"/>
                </a:lnTo>
                <a:lnTo>
                  <a:pt x="7718" y="10800"/>
                </a:lnTo>
                <a:lnTo>
                  <a:pt x="7718" y="17989"/>
                </a:lnTo>
                <a:lnTo>
                  <a:pt x="12104" y="17989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7" descr="cabg061"/>
          <p:cNvPicPr/>
          <p:nvPr/>
        </p:nvPicPr>
        <p:blipFill>
          <a:blip r:embed="rId2"/>
          <a:stretch/>
        </p:blipFill>
        <p:spPr>
          <a:xfrm>
            <a:off x="179280" y="189000"/>
            <a:ext cx="1728720" cy="1152360"/>
          </a:xfrm>
          <a:prstGeom prst="rect">
            <a:avLst/>
          </a:prstGeom>
          <a:ln w="0">
            <a:noFill/>
          </a:ln>
        </p:spPr>
      </p:pic>
      <p:sp>
        <p:nvSpPr>
          <p:cNvPr id="402" name="Rectangle 8"/>
          <p:cNvSpPr/>
          <p:nvPr/>
        </p:nvSpPr>
        <p:spPr>
          <a:xfrm>
            <a:off x="1258920" y="333360"/>
            <a:ext cx="6867360" cy="96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6699"/>
                </a:solidFill>
                <a:latin typeface="Comic Sans MS"/>
              </a:rPr>
              <a:t>  </a:t>
            </a:r>
            <a:r>
              <a:rPr b="1" lang="ru-RU" sz="4400" spc="-1" strike="noStrike">
                <a:solidFill>
                  <a:srgbClr val="9933ff"/>
                </a:solidFill>
                <a:latin typeface="Tahoma"/>
              </a:rPr>
              <a:t>Материаловед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9" dur="2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000"/>
                            </p:stCondLst>
                            <p:childTnLst>
                              <p:par>
                                <p:cTn id="3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7" dur="1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3000"/>
                            </p:stCondLst>
                            <p:childTnLst>
                              <p:par>
                                <p:cTn id="3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2" descr="cabg08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009440" y="288720"/>
            <a:ext cx="691668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6699"/>
                </a:solidFill>
                <a:latin typeface="Comic Sans MS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84000" y="1341360"/>
            <a:ext cx="755964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ccff"/>
                </a:solidFill>
                <a:latin typeface="Garamond"/>
              </a:rPr>
              <a:t> 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ак называется узкая полоска вдоль ткани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Garamond"/>
              </a:rPr>
              <a:t>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6600"/>
                </a:solidFill>
                <a:latin typeface="Arial"/>
              </a:rPr>
              <a:t>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826560" y="5516280"/>
            <a:ext cx="655164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00"/>
                </a:solidFill>
                <a:latin typeface="Arial"/>
              </a:rPr>
              <a:t>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твет: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4400" spc="-1" strike="noStrike">
                <a:solidFill>
                  <a:srgbClr val="66ccff"/>
                </a:solidFill>
                <a:latin typeface="Garamond"/>
              </a:rPr>
              <a:t>Кромк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AutoShape 6"/>
          <p:cNvSpPr/>
          <p:nvPr/>
        </p:nvSpPr>
        <p:spPr>
          <a:xfrm>
            <a:off x="8569440" y="6381720"/>
            <a:ext cx="574560" cy="476280"/>
          </a:xfrm>
          <a:custGeom>
            <a:avLst/>
            <a:gdLst>
              <a:gd name="textAreaLeft" fmla="*/ 30600 w 574560"/>
              <a:gd name="textAreaRight" fmla="*/ 543960 w 57456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6054" h="21600">
                <a:moveTo>
                  <a:pt x="0" y="0"/>
                </a:moveTo>
                <a:lnTo>
                  <a:pt x="26054" y="0"/>
                </a:lnTo>
                <a:lnTo>
                  <a:pt x="26054" y="21600"/>
                </a:lnTo>
                <a:lnTo>
                  <a:pt x="0" y="21600"/>
                </a:lnTo>
                <a:close/>
              </a:path>
              <a:path fill="lightenLess" w="26054" h="21600">
                <a:moveTo>
                  <a:pt x="0" y="0"/>
                </a:moveTo>
                <a:lnTo>
                  <a:pt x="26054" y="0"/>
                </a:lnTo>
                <a:lnTo>
                  <a:pt x="24654" y="1400"/>
                </a:lnTo>
                <a:lnTo>
                  <a:pt x="1400" y="1400"/>
                </a:lnTo>
                <a:close/>
              </a:path>
              <a:path fill="darken" w="26054" h="21600">
                <a:moveTo>
                  <a:pt x="26054" y="0"/>
                </a:moveTo>
                <a:lnTo>
                  <a:pt x="26054" y="21600"/>
                </a:lnTo>
                <a:lnTo>
                  <a:pt x="24654" y="20200"/>
                </a:lnTo>
                <a:lnTo>
                  <a:pt x="24654" y="1400"/>
                </a:lnTo>
                <a:close/>
              </a:path>
              <a:path fill="darkenLess" w="26054" h="21600">
                <a:moveTo>
                  <a:pt x="260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54" y="20200"/>
                </a:lnTo>
                <a:close/>
              </a:path>
              <a:path fill="lighten" w="260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054" h="21600">
                <a:moveTo>
                  <a:pt x="13027" y="3837"/>
                </a:moveTo>
                <a:lnTo>
                  <a:pt x="15603" y="6448"/>
                </a:lnTo>
                <a:lnTo>
                  <a:pt x="15603" y="4707"/>
                </a:lnTo>
                <a:lnTo>
                  <a:pt x="17379" y="4707"/>
                </a:lnTo>
                <a:lnTo>
                  <a:pt x="17379" y="8224"/>
                </a:lnTo>
                <a:lnTo>
                  <a:pt x="19990" y="10800"/>
                </a:lnTo>
                <a:lnTo>
                  <a:pt x="18336" y="10800"/>
                </a:lnTo>
                <a:lnTo>
                  <a:pt x="18336" y="17989"/>
                </a:lnTo>
                <a:lnTo>
                  <a:pt x="7718" y="17989"/>
                </a:lnTo>
                <a:lnTo>
                  <a:pt x="7718" y="10800"/>
                </a:lnTo>
                <a:lnTo>
                  <a:pt x="6064" y="10800"/>
                </a:lnTo>
                <a:close/>
              </a:path>
              <a:path fill="darkenLess" w="26054" h="21600">
                <a:moveTo>
                  <a:pt x="15603" y="6448"/>
                </a:moveTo>
                <a:lnTo>
                  <a:pt x="15603" y="4707"/>
                </a:lnTo>
                <a:lnTo>
                  <a:pt x="17379" y="4707"/>
                </a:lnTo>
                <a:lnTo>
                  <a:pt x="17379" y="8224"/>
                </a:lnTo>
                <a:close/>
              </a:path>
              <a:path fill="darkenLess" w="26054" h="21600">
                <a:moveTo>
                  <a:pt x="12104" y="14299"/>
                </a:moveTo>
                <a:lnTo>
                  <a:pt x="13949" y="14299"/>
                </a:lnTo>
                <a:lnTo>
                  <a:pt x="13949" y="17989"/>
                </a:lnTo>
                <a:lnTo>
                  <a:pt x="18336" y="17989"/>
                </a:lnTo>
                <a:lnTo>
                  <a:pt x="18336" y="10800"/>
                </a:lnTo>
                <a:lnTo>
                  <a:pt x="7718" y="10800"/>
                </a:lnTo>
                <a:lnTo>
                  <a:pt x="7718" y="17989"/>
                </a:lnTo>
                <a:lnTo>
                  <a:pt x="12104" y="17989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7"/>
          <p:cNvSpPr/>
          <p:nvPr/>
        </p:nvSpPr>
        <p:spPr>
          <a:xfrm>
            <a:off x="1187280" y="189000"/>
            <a:ext cx="6867720" cy="96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6699"/>
                </a:solidFill>
                <a:latin typeface="Comic Sans MS"/>
              </a:rPr>
              <a:t>  </a:t>
            </a:r>
            <a:r>
              <a:rPr b="1" lang="ru-RU" sz="4400" spc="-1" strike="noStrike">
                <a:solidFill>
                  <a:srgbClr val="9933ff"/>
                </a:solidFill>
                <a:latin typeface="Tahoma"/>
              </a:rPr>
              <a:t>Материаловед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9" name="Picture 8" descr="cabg061"/>
          <p:cNvPicPr/>
          <p:nvPr/>
        </p:nvPicPr>
        <p:blipFill>
          <a:blip r:embed="rId2"/>
          <a:stretch/>
        </p:blipFill>
        <p:spPr>
          <a:xfrm>
            <a:off x="179280" y="189000"/>
            <a:ext cx="1800360" cy="11523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6" dur="2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2000"/>
                            </p:stCondLst>
                            <p:childTnLst>
                              <p:par>
                                <p:cTn id="5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4" dur="1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3000"/>
                            </p:stCondLst>
                            <p:childTnLst>
                              <p:par>
                                <p:cTn id="6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4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4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3500"/>
                            </p:stCondLst>
                            <p:childTnLst>
                              <p:par>
                                <p:cTn id="7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4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4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Picture 2" descr="cabg08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009440" y="288720"/>
            <a:ext cx="691668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6699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ак определить долевую и поперечные нити в ткани?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6600"/>
                </a:solidFill>
                <a:latin typeface="Arial"/>
              </a:rPr>
              <a:t>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539280" y="5661000"/>
            <a:ext cx="820908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9900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вет: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4000" spc="-1" strike="noStrike">
                <a:solidFill>
                  <a:srgbClr val="66ccff"/>
                </a:solidFill>
                <a:latin typeface="Garamond"/>
              </a:rPr>
              <a:t>По звуку и по растяжению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AutoShape 6"/>
          <p:cNvSpPr/>
          <p:nvPr/>
        </p:nvSpPr>
        <p:spPr>
          <a:xfrm>
            <a:off x="8569440" y="6381720"/>
            <a:ext cx="574560" cy="476280"/>
          </a:xfrm>
          <a:custGeom>
            <a:avLst/>
            <a:gdLst>
              <a:gd name="textAreaLeft" fmla="*/ 30600 w 574560"/>
              <a:gd name="textAreaRight" fmla="*/ 543960 w 57456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6054" h="21600">
                <a:moveTo>
                  <a:pt x="0" y="0"/>
                </a:moveTo>
                <a:lnTo>
                  <a:pt x="26054" y="0"/>
                </a:lnTo>
                <a:lnTo>
                  <a:pt x="26054" y="21600"/>
                </a:lnTo>
                <a:lnTo>
                  <a:pt x="0" y="21600"/>
                </a:lnTo>
                <a:close/>
              </a:path>
              <a:path fill="lightenLess" w="26054" h="21600">
                <a:moveTo>
                  <a:pt x="0" y="0"/>
                </a:moveTo>
                <a:lnTo>
                  <a:pt x="26054" y="0"/>
                </a:lnTo>
                <a:lnTo>
                  <a:pt x="24654" y="1400"/>
                </a:lnTo>
                <a:lnTo>
                  <a:pt x="1400" y="1400"/>
                </a:lnTo>
                <a:close/>
              </a:path>
              <a:path fill="darken" w="26054" h="21600">
                <a:moveTo>
                  <a:pt x="26054" y="0"/>
                </a:moveTo>
                <a:lnTo>
                  <a:pt x="26054" y="21600"/>
                </a:lnTo>
                <a:lnTo>
                  <a:pt x="24654" y="20200"/>
                </a:lnTo>
                <a:lnTo>
                  <a:pt x="24654" y="1400"/>
                </a:lnTo>
                <a:close/>
              </a:path>
              <a:path fill="darkenLess" w="26054" h="21600">
                <a:moveTo>
                  <a:pt x="260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54" y="20200"/>
                </a:lnTo>
                <a:close/>
              </a:path>
              <a:path fill="lighten" w="260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054" h="21600">
                <a:moveTo>
                  <a:pt x="13027" y="3837"/>
                </a:moveTo>
                <a:lnTo>
                  <a:pt x="15603" y="6448"/>
                </a:lnTo>
                <a:lnTo>
                  <a:pt x="15603" y="4707"/>
                </a:lnTo>
                <a:lnTo>
                  <a:pt x="17379" y="4707"/>
                </a:lnTo>
                <a:lnTo>
                  <a:pt x="17379" y="8224"/>
                </a:lnTo>
                <a:lnTo>
                  <a:pt x="19990" y="10800"/>
                </a:lnTo>
                <a:lnTo>
                  <a:pt x="18336" y="10800"/>
                </a:lnTo>
                <a:lnTo>
                  <a:pt x="18336" y="17989"/>
                </a:lnTo>
                <a:lnTo>
                  <a:pt x="7718" y="17989"/>
                </a:lnTo>
                <a:lnTo>
                  <a:pt x="7718" y="10800"/>
                </a:lnTo>
                <a:lnTo>
                  <a:pt x="6064" y="10800"/>
                </a:lnTo>
                <a:close/>
              </a:path>
              <a:path fill="darkenLess" w="26054" h="21600">
                <a:moveTo>
                  <a:pt x="15603" y="6448"/>
                </a:moveTo>
                <a:lnTo>
                  <a:pt x="15603" y="4707"/>
                </a:lnTo>
                <a:lnTo>
                  <a:pt x="17379" y="4707"/>
                </a:lnTo>
                <a:lnTo>
                  <a:pt x="17379" y="8224"/>
                </a:lnTo>
                <a:close/>
              </a:path>
              <a:path fill="darkenLess" w="26054" h="21600">
                <a:moveTo>
                  <a:pt x="12104" y="14299"/>
                </a:moveTo>
                <a:lnTo>
                  <a:pt x="13949" y="14299"/>
                </a:lnTo>
                <a:lnTo>
                  <a:pt x="13949" y="17989"/>
                </a:lnTo>
                <a:lnTo>
                  <a:pt x="18336" y="17989"/>
                </a:lnTo>
                <a:lnTo>
                  <a:pt x="18336" y="10800"/>
                </a:lnTo>
                <a:lnTo>
                  <a:pt x="7718" y="10800"/>
                </a:lnTo>
                <a:lnTo>
                  <a:pt x="7718" y="17989"/>
                </a:lnTo>
                <a:lnTo>
                  <a:pt x="12104" y="17989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5" name="Picture 7" descr="cabg061"/>
          <p:cNvPicPr/>
          <p:nvPr/>
        </p:nvPicPr>
        <p:blipFill>
          <a:blip r:embed="rId2"/>
          <a:stretch/>
        </p:blipFill>
        <p:spPr>
          <a:xfrm>
            <a:off x="179280" y="189000"/>
            <a:ext cx="1728720" cy="1152360"/>
          </a:xfrm>
          <a:prstGeom prst="rect">
            <a:avLst/>
          </a:prstGeom>
          <a:ln w="0">
            <a:noFill/>
          </a:ln>
        </p:spPr>
      </p:pic>
      <p:sp>
        <p:nvSpPr>
          <p:cNvPr id="416" name="Rectangle 8"/>
          <p:cNvSpPr/>
          <p:nvPr/>
        </p:nvSpPr>
        <p:spPr>
          <a:xfrm>
            <a:off x="1258920" y="333360"/>
            <a:ext cx="6867360" cy="96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6699"/>
                </a:solidFill>
                <a:latin typeface="Comic Sans MS"/>
              </a:rPr>
              <a:t>  </a:t>
            </a:r>
            <a:r>
              <a:rPr b="1" lang="ru-RU" sz="4400" spc="-1" strike="noStrike">
                <a:solidFill>
                  <a:srgbClr val="9933ff"/>
                </a:solidFill>
                <a:latin typeface="Tahoma"/>
              </a:rPr>
              <a:t>Материаловед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8" dur="2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2000"/>
                            </p:stCondLst>
                            <p:childTnLst>
                              <p:par>
                                <p:cTn id="9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6" dur="1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3000"/>
                            </p:stCondLst>
                            <p:childTnLst>
                              <p:par>
                                <p:cTn id="9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Picture 2" descr="cabg08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009440" y="288720"/>
            <a:ext cx="691668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6699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акая нить тянется, а какая дает усадку?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6600"/>
                </a:solidFill>
                <a:latin typeface="Arial"/>
              </a:rPr>
              <a:t>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539280" y="5300640"/>
            <a:ext cx="820908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9900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вет: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4000" spc="-1" strike="noStrike">
                <a:solidFill>
                  <a:srgbClr val="66ccff"/>
                </a:solidFill>
                <a:latin typeface="Garamond"/>
              </a:rPr>
              <a:t>Тянется-ПОПЕРЕЧНАЯ, усадку дает-ДОЛЕВА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AutoShape 6"/>
          <p:cNvSpPr/>
          <p:nvPr/>
        </p:nvSpPr>
        <p:spPr>
          <a:xfrm>
            <a:off x="8569440" y="6381720"/>
            <a:ext cx="574560" cy="476280"/>
          </a:xfrm>
          <a:custGeom>
            <a:avLst/>
            <a:gdLst>
              <a:gd name="textAreaLeft" fmla="*/ 30600 w 574560"/>
              <a:gd name="textAreaRight" fmla="*/ 543960 w 57456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6054" h="21600">
                <a:moveTo>
                  <a:pt x="0" y="0"/>
                </a:moveTo>
                <a:lnTo>
                  <a:pt x="26054" y="0"/>
                </a:lnTo>
                <a:lnTo>
                  <a:pt x="26054" y="21600"/>
                </a:lnTo>
                <a:lnTo>
                  <a:pt x="0" y="21600"/>
                </a:lnTo>
                <a:close/>
              </a:path>
              <a:path fill="lightenLess" w="26054" h="21600">
                <a:moveTo>
                  <a:pt x="0" y="0"/>
                </a:moveTo>
                <a:lnTo>
                  <a:pt x="26054" y="0"/>
                </a:lnTo>
                <a:lnTo>
                  <a:pt x="24654" y="1400"/>
                </a:lnTo>
                <a:lnTo>
                  <a:pt x="1400" y="1400"/>
                </a:lnTo>
                <a:close/>
              </a:path>
              <a:path fill="darken" w="26054" h="21600">
                <a:moveTo>
                  <a:pt x="26054" y="0"/>
                </a:moveTo>
                <a:lnTo>
                  <a:pt x="26054" y="21600"/>
                </a:lnTo>
                <a:lnTo>
                  <a:pt x="24654" y="20200"/>
                </a:lnTo>
                <a:lnTo>
                  <a:pt x="24654" y="1400"/>
                </a:lnTo>
                <a:close/>
              </a:path>
              <a:path fill="darkenLess" w="26054" h="21600">
                <a:moveTo>
                  <a:pt x="260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54" y="20200"/>
                </a:lnTo>
                <a:close/>
              </a:path>
              <a:path fill="lighten" w="260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054" h="21600">
                <a:moveTo>
                  <a:pt x="13027" y="3837"/>
                </a:moveTo>
                <a:lnTo>
                  <a:pt x="15603" y="6448"/>
                </a:lnTo>
                <a:lnTo>
                  <a:pt x="15603" y="4707"/>
                </a:lnTo>
                <a:lnTo>
                  <a:pt x="17379" y="4707"/>
                </a:lnTo>
                <a:lnTo>
                  <a:pt x="17379" y="8224"/>
                </a:lnTo>
                <a:lnTo>
                  <a:pt x="19990" y="10800"/>
                </a:lnTo>
                <a:lnTo>
                  <a:pt x="18336" y="10800"/>
                </a:lnTo>
                <a:lnTo>
                  <a:pt x="18336" y="17989"/>
                </a:lnTo>
                <a:lnTo>
                  <a:pt x="7718" y="17989"/>
                </a:lnTo>
                <a:lnTo>
                  <a:pt x="7718" y="10800"/>
                </a:lnTo>
                <a:lnTo>
                  <a:pt x="6064" y="10800"/>
                </a:lnTo>
                <a:close/>
              </a:path>
              <a:path fill="darkenLess" w="26054" h="21600">
                <a:moveTo>
                  <a:pt x="15603" y="6448"/>
                </a:moveTo>
                <a:lnTo>
                  <a:pt x="15603" y="4707"/>
                </a:lnTo>
                <a:lnTo>
                  <a:pt x="17379" y="4707"/>
                </a:lnTo>
                <a:lnTo>
                  <a:pt x="17379" y="8224"/>
                </a:lnTo>
                <a:close/>
              </a:path>
              <a:path fill="darkenLess" w="26054" h="21600">
                <a:moveTo>
                  <a:pt x="12104" y="14299"/>
                </a:moveTo>
                <a:lnTo>
                  <a:pt x="13949" y="14299"/>
                </a:lnTo>
                <a:lnTo>
                  <a:pt x="13949" y="17989"/>
                </a:lnTo>
                <a:lnTo>
                  <a:pt x="18336" y="17989"/>
                </a:lnTo>
                <a:lnTo>
                  <a:pt x="18336" y="10800"/>
                </a:lnTo>
                <a:lnTo>
                  <a:pt x="7718" y="10800"/>
                </a:lnTo>
                <a:lnTo>
                  <a:pt x="7718" y="17989"/>
                </a:lnTo>
                <a:lnTo>
                  <a:pt x="12104" y="17989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2" name="Picture 7" descr="cabg061"/>
          <p:cNvPicPr/>
          <p:nvPr/>
        </p:nvPicPr>
        <p:blipFill>
          <a:blip r:embed="rId2"/>
          <a:stretch/>
        </p:blipFill>
        <p:spPr>
          <a:xfrm>
            <a:off x="179280" y="189000"/>
            <a:ext cx="1728720" cy="1152360"/>
          </a:xfrm>
          <a:prstGeom prst="rect">
            <a:avLst/>
          </a:prstGeom>
          <a:ln w="0">
            <a:noFill/>
          </a:ln>
        </p:spPr>
      </p:pic>
      <p:sp>
        <p:nvSpPr>
          <p:cNvPr id="423" name="Rectangle 8"/>
          <p:cNvSpPr/>
          <p:nvPr/>
        </p:nvSpPr>
        <p:spPr>
          <a:xfrm>
            <a:off x="1258920" y="333360"/>
            <a:ext cx="6867360" cy="96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6699"/>
                </a:solidFill>
                <a:latin typeface="Comic Sans MS"/>
              </a:rPr>
              <a:t>  </a:t>
            </a:r>
            <a:r>
              <a:rPr b="1" lang="ru-RU" sz="4400" spc="-1" strike="noStrike">
                <a:solidFill>
                  <a:srgbClr val="9933ff"/>
                </a:solidFill>
                <a:latin typeface="Tahoma"/>
              </a:rPr>
              <a:t>Материаловед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5" dur="2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3" dur="1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3000"/>
                            </p:stCondLst>
                            <p:childTnLst>
                              <p:par>
                                <p:cTn id="12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Picture 2" descr="cabg08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009440" y="288720"/>
            <a:ext cx="691668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6699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акая нить звучит звонко, долевая или поперечная?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6600"/>
                </a:solidFill>
                <a:latin typeface="Arial"/>
              </a:rPr>
              <a:t>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8000" y="5661000"/>
            <a:ext cx="828036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9900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вет: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4000" spc="-1" strike="noStrike">
                <a:solidFill>
                  <a:srgbClr val="66ccff"/>
                </a:solidFill>
                <a:latin typeface="Garamond"/>
              </a:rPr>
              <a:t>Звонко звучит – ДОЛЕВА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AutoShape 6"/>
          <p:cNvSpPr/>
          <p:nvPr/>
        </p:nvSpPr>
        <p:spPr>
          <a:xfrm>
            <a:off x="8569440" y="6381720"/>
            <a:ext cx="574560" cy="476280"/>
          </a:xfrm>
          <a:custGeom>
            <a:avLst/>
            <a:gdLst>
              <a:gd name="textAreaLeft" fmla="*/ 30600 w 574560"/>
              <a:gd name="textAreaRight" fmla="*/ 543960 w 57456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6054" h="21600">
                <a:moveTo>
                  <a:pt x="0" y="0"/>
                </a:moveTo>
                <a:lnTo>
                  <a:pt x="26054" y="0"/>
                </a:lnTo>
                <a:lnTo>
                  <a:pt x="26054" y="21600"/>
                </a:lnTo>
                <a:lnTo>
                  <a:pt x="0" y="21600"/>
                </a:lnTo>
                <a:close/>
              </a:path>
              <a:path fill="lightenLess" w="26054" h="21600">
                <a:moveTo>
                  <a:pt x="0" y="0"/>
                </a:moveTo>
                <a:lnTo>
                  <a:pt x="26054" y="0"/>
                </a:lnTo>
                <a:lnTo>
                  <a:pt x="24654" y="1400"/>
                </a:lnTo>
                <a:lnTo>
                  <a:pt x="1400" y="1400"/>
                </a:lnTo>
                <a:close/>
              </a:path>
              <a:path fill="darken" w="26054" h="21600">
                <a:moveTo>
                  <a:pt x="26054" y="0"/>
                </a:moveTo>
                <a:lnTo>
                  <a:pt x="26054" y="21600"/>
                </a:lnTo>
                <a:lnTo>
                  <a:pt x="24654" y="20200"/>
                </a:lnTo>
                <a:lnTo>
                  <a:pt x="24654" y="1400"/>
                </a:lnTo>
                <a:close/>
              </a:path>
              <a:path fill="darkenLess" w="26054" h="21600">
                <a:moveTo>
                  <a:pt x="260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54" y="20200"/>
                </a:lnTo>
                <a:close/>
              </a:path>
              <a:path fill="lighten" w="260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054" h="21600">
                <a:moveTo>
                  <a:pt x="13027" y="3837"/>
                </a:moveTo>
                <a:lnTo>
                  <a:pt x="15603" y="6448"/>
                </a:lnTo>
                <a:lnTo>
                  <a:pt x="15603" y="4707"/>
                </a:lnTo>
                <a:lnTo>
                  <a:pt x="17379" y="4707"/>
                </a:lnTo>
                <a:lnTo>
                  <a:pt x="17379" y="8224"/>
                </a:lnTo>
                <a:lnTo>
                  <a:pt x="19990" y="10800"/>
                </a:lnTo>
                <a:lnTo>
                  <a:pt x="18336" y="10800"/>
                </a:lnTo>
                <a:lnTo>
                  <a:pt x="18336" y="17989"/>
                </a:lnTo>
                <a:lnTo>
                  <a:pt x="7718" y="17989"/>
                </a:lnTo>
                <a:lnTo>
                  <a:pt x="7718" y="10800"/>
                </a:lnTo>
                <a:lnTo>
                  <a:pt x="6064" y="10800"/>
                </a:lnTo>
                <a:close/>
              </a:path>
              <a:path fill="darkenLess" w="26054" h="21600">
                <a:moveTo>
                  <a:pt x="15603" y="6448"/>
                </a:moveTo>
                <a:lnTo>
                  <a:pt x="15603" y="4707"/>
                </a:lnTo>
                <a:lnTo>
                  <a:pt x="17379" y="4707"/>
                </a:lnTo>
                <a:lnTo>
                  <a:pt x="17379" y="8224"/>
                </a:lnTo>
                <a:close/>
              </a:path>
              <a:path fill="darkenLess" w="26054" h="21600">
                <a:moveTo>
                  <a:pt x="12104" y="14299"/>
                </a:moveTo>
                <a:lnTo>
                  <a:pt x="13949" y="14299"/>
                </a:lnTo>
                <a:lnTo>
                  <a:pt x="13949" y="17989"/>
                </a:lnTo>
                <a:lnTo>
                  <a:pt x="18336" y="17989"/>
                </a:lnTo>
                <a:lnTo>
                  <a:pt x="18336" y="10800"/>
                </a:lnTo>
                <a:lnTo>
                  <a:pt x="7718" y="10800"/>
                </a:lnTo>
                <a:lnTo>
                  <a:pt x="7718" y="17989"/>
                </a:lnTo>
                <a:lnTo>
                  <a:pt x="12104" y="17989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Picture 7" descr="cabg061"/>
          <p:cNvPicPr/>
          <p:nvPr/>
        </p:nvPicPr>
        <p:blipFill>
          <a:blip r:embed="rId2"/>
          <a:stretch/>
        </p:blipFill>
        <p:spPr>
          <a:xfrm>
            <a:off x="179280" y="189000"/>
            <a:ext cx="1728720" cy="1152360"/>
          </a:xfrm>
          <a:prstGeom prst="rect">
            <a:avLst/>
          </a:prstGeom>
          <a:ln w="0">
            <a:noFill/>
          </a:ln>
        </p:spPr>
      </p:pic>
      <p:sp>
        <p:nvSpPr>
          <p:cNvPr id="430" name="Rectangle 8"/>
          <p:cNvSpPr/>
          <p:nvPr/>
        </p:nvSpPr>
        <p:spPr>
          <a:xfrm>
            <a:off x="1258920" y="333360"/>
            <a:ext cx="6867360" cy="96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6699"/>
                </a:solidFill>
                <a:latin typeface="Comic Sans MS"/>
              </a:rPr>
              <a:t>  </a:t>
            </a:r>
            <a:r>
              <a:rPr b="1" lang="ru-RU" sz="4400" spc="-1" strike="noStrike">
                <a:solidFill>
                  <a:srgbClr val="9933ff"/>
                </a:solidFill>
                <a:latin typeface="Tahoma"/>
              </a:rPr>
              <a:t>Материаловед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2" dur="2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0" dur="1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3000"/>
                            </p:stCondLst>
                            <p:childTnLst>
                              <p:par>
                                <p:cTn id="15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1" name="Picture 2" descr="cabg08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009440" y="288720"/>
            <a:ext cx="691668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6699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акая нить звучит глухо, долевая или поперечная?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6600"/>
                </a:solidFill>
                <a:latin typeface="Arial"/>
              </a:rPr>
              <a:t>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611280" y="5084280"/>
            <a:ext cx="8208720" cy="10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9900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вет: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4000" spc="-1" strike="noStrike">
                <a:solidFill>
                  <a:srgbClr val="66ccff"/>
                </a:solidFill>
                <a:latin typeface="Garamond"/>
              </a:rPr>
              <a:t>Глухо звучит -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66ccff"/>
                </a:solidFill>
                <a:latin typeface="Garamond"/>
              </a:rPr>
              <a:t>            </a:t>
            </a:r>
            <a:r>
              <a:rPr b="1" i="1" lang="ru-RU" sz="4000" spc="-1" strike="noStrike">
                <a:solidFill>
                  <a:srgbClr val="66ccff"/>
                </a:solidFill>
                <a:latin typeface="Garamond"/>
              </a:rPr>
              <a:t>ПОПЕРЕЧНА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AutoShape 6"/>
          <p:cNvSpPr/>
          <p:nvPr/>
        </p:nvSpPr>
        <p:spPr>
          <a:xfrm>
            <a:off x="8569440" y="6381720"/>
            <a:ext cx="574560" cy="476280"/>
          </a:xfrm>
          <a:custGeom>
            <a:avLst/>
            <a:gdLst>
              <a:gd name="textAreaLeft" fmla="*/ 30600 w 574560"/>
              <a:gd name="textAreaRight" fmla="*/ 543960 w 57456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6054" h="21600">
                <a:moveTo>
                  <a:pt x="0" y="0"/>
                </a:moveTo>
                <a:lnTo>
                  <a:pt x="26054" y="0"/>
                </a:lnTo>
                <a:lnTo>
                  <a:pt x="26054" y="21600"/>
                </a:lnTo>
                <a:lnTo>
                  <a:pt x="0" y="21600"/>
                </a:lnTo>
                <a:close/>
              </a:path>
              <a:path fill="lightenLess" w="26054" h="21600">
                <a:moveTo>
                  <a:pt x="0" y="0"/>
                </a:moveTo>
                <a:lnTo>
                  <a:pt x="26054" y="0"/>
                </a:lnTo>
                <a:lnTo>
                  <a:pt x="24654" y="1400"/>
                </a:lnTo>
                <a:lnTo>
                  <a:pt x="1400" y="1400"/>
                </a:lnTo>
                <a:close/>
              </a:path>
              <a:path fill="darken" w="26054" h="21600">
                <a:moveTo>
                  <a:pt x="26054" y="0"/>
                </a:moveTo>
                <a:lnTo>
                  <a:pt x="26054" y="21600"/>
                </a:lnTo>
                <a:lnTo>
                  <a:pt x="24654" y="20200"/>
                </a:lnTo>
                <a:lnTo>
                  <a:pt x="24654" y="1400"/>
                </a:lnTo>
                <a:close/>
              </a:path>
              <a:path fill="darkenLess" w="26054" h="21600">
                <a:moveTo>
                  <a:pt x="260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54" y="20200"/>
                </a:lnTo>
                <a:close/>
              </a:path>
              <a:path fill="lighten" w="260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054" h="21600">
                <a:moveTo>
                  <a:pt x="13027" y="3837"/>
                </a:moveTo>
                <a:lnTo>
                  <a:pt x="15603" y="6448"/>
                </a:lnTo>
                <a:lnTo>
                  <a:pt x="15603" y="4707"/>
                </a:lnTo>
                <a:lnTo>
                  <a:pt x="17379" y="4707"/>
                </a:lnTo>
                <a:lnTo>
                  <a:pt x="17379" y="8224"/>
                </a:lnTo>
                <a:lnTo>
                  <a:pt x="19990" y="10800"/>
                </a:lnTo>
                <a:lnTo>
                  <a:pt x="18336" y="10800"/>
                </a:lnTo>
                <a:lnTo>
                  <a:pt x="18336" y="17989"/>
                </a:lnTo>
                <a:lnTo>
                  <a:pt x="7718" y="17989"/>
                </a:lnTo>
                <a:lnTo>
                  <a:pt x="7718" y="10800"/>
                </a:lnTo>
                <a:lnTo>
                  <a:pt x="6064" y="10800"/>
                </a:lnTo>
                <a:close/>
              </a:path>
              <a:path fill="darkenLess" w="26054" h="21600">
                <a:moveTo>
                  <a:pt x="15603" y="6448"/>
                </a:moveTo>
                <a:lnTo>
                  <a:pt x="15603" y="4707"/>
                </a:lnTo>
                <a:lnTo>
                  <a:pt x="17379" y="4707"/>
                </a:lnTo>
                <a:lnTo>
                  <a:pt x="17379" y="8224"/>
                </a:lnTo>
                <a:close/>
              </a:path>
              <a:path fill="darkenLess" w="26054" h="21600">
                <a:moveTo>
                  <a:pt x="12104" y="14299"/>
                </a:moveTo>
                <a:lnTo>
                  <a:pt x="13949" y="14299"/>
                </a:lnTo>
                <a:lnTo>
                  <a:pt x="13949" y="17989"/>
                </a:lnTo>
                <a:lnTo>
                  <a:pt x="18336" y="17989"/>
                </a:lnTo>
                <a:lnTo>
                  <a:pt x="18336" y="10800"/>
                </a:lnTo>
                <a:lnTo>
                  <a:pt x="7718" y="10800"/>
                </a:lnTo>
                <a:lnTo>
                  <a:pt x="7718" y="17989"/>
                </a:lnTo>
                <a:lnTo>
                  <a:pt x="12104" y="17989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6" name="Picture 7" descr="cabg061"/>
          <p:cNvPicPr/>
          <p:nvPr/>
        </p:nvPicPr>
        <p:blipFill>
          <a:blip r:embed="rId2"/>
          <a:stretch/>
        </p:blipFill>
        <p:spPr>
          <a:xfrm>
            <a:off x="179280" y="189000"/>
            <a:ext cx="1728720" cy="1152360"/>
          </a:xfrm>
          <a:prstGeom prst="rect">
            <a:avLst/>
          </a:prstGeom>
          <a:ln w="0">
            <a:noFill/>
          </a:ln>
        </p:spPr>
      </p:pic>
      <p:sp>
        <p:nvSpPr>
          <p:cNvPr id="437" name="Rectangle 8"/>
          <p:cNvSpPr/>
          <p:nvPr/>
        </p:nvSpPr>
        <p:spPr>
          <a:xfrm>
            <a:off x="1258920" y="333360"/>
            <a:ext cx="6867360" cy="96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6699"/>
                </a:solidFill>
                <a:latin typeface="Comic Sans MS"/>
              </a:rPr>
              <a:t>  </a:t>
            </a:r>
            <a:r>
              <a:rPr b="1" lang="ru-RU" sz="4400" spc="-1" strike="noStrike">
                <a:solidFill>
                  <a:srgbClr val="9933ff"/>
                </a:solidFill>
                <a:latin typeface="Tahoma"/>
              </a:rPr>
              <a:t>Материаловед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69" dur="2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2000"/>
                            </p:stCondLst>
                            <p:childTnLst>
                              <p:par>
                                <p:cTn id="17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77" dur="1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3000"/>
                            </p:stCondLst>
                            <p:childTnLst>
                              <p:par>
                                <p:cTn id="17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4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4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4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4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4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815760" y="-654480"/>
            <a:ext cx="8243640" cy="261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Arial"/>
              </a:rPr>
              <a:t>Угадай-ка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3"/>
          <p:cNvSpPr/>
          <p:nvPr/>
        </p:nvSpPr>
        <p:spPr>
          <a:xfrm>
            <a:off x="1468440" y="1143000"/>
            <a:ext cx="4083120" cy="16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noAutofit/>
          </a:bodyPr>
          <a:p>
            <a:pPr>
              <a:lnSpc>
                <a:spcPct val="117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Arial"/>
                <a:ea typeface="Arial Unicode MS"/>
              </a:rPr>
              <a:t>Маленького роста я, </a:t>
            </a:r>
            <a:br>
              <a:rPr sz="2200"/>
            </a:br>
            <a:r>
              <a:rPr b="1" lang="en-US" sz="2200" spc="-1" strike="noStrike">
                <a:solidFill>
                  <a:srgbClr val="008000"/>
                </a:solidFill>
                <a:latin typeface="Arial"/>
                <a:ea typeface="Arial Unicode MS"/>
              </a:rPr>
              <a:t>Тонкая и острая. </a:t>
            </a:r>
            <a:br>
              <a:rPr sz="2200"/>
            </a:br>
            <a:r>
              <a:rPr b="1" lang="en-US" sz="2200" spc="-1" strike="noStrike">
                <a:solidFill>
                  <a:srgbClr val="008000"/>
                </a:solidFill>
                <a:latin typeface="Arial"/>
                <a:ea typeface="Arial Unicode MS"/>
              </a:rPr>
              <a:t>Носом путь себе ищу, </a:t>
            </a:r>
            <a:br>
              <a:rPr sz="2200"/>
            </a:br>
            <a:r>
              <a:rPr b="1" lang="en-US" sz="2200" spc="-1" strike="noStrike">
                <a:solidFill>
                  <a:srgbClr val="008000"/>
                </a:solidFill>
                <a:latin typeface="Arial"/>
                <a:ea typeface="Arial Unicode MS"/>
              </a:rPr>
              <a:t>За собою хвост тащу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Picture 5" descr=""/>
          <p:cNvPicPr/>
          <p:nvPr/>
        </p:nvPicPr>
        <p:blipFill>
          <a:blip r:embed="rId1"/>
          <a:stretch/>
        </p:blipFill>
        <p:spPr>
          <a:xfrm>
            <a:off x="6205680" y="1143000"/>
            <a:ext cx="2163600" cy="1797120"/>
          </a:xfrm>
          <a:prstGeom prst="rect">
            <a:avLst/>
          </a:prstGeom>
          <a:ln w="0">
            <a:noFill/>
          </a:ln>
        </p:spPr>
      </p:pic>
      <p:sp>
        <p:nvSpPr>
          <p:cNvPr id="441" name="Text Box 8"/>
          <p:cNvSpPr/>
          <p:nvPr/>
        </p:nvSpPr>
        <p:spPr>
          <a:xfrm>
            <a:off x="1258920" y="3789360"/>
            <a:ext cx="5389560" cy="16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noAutofit/>
          </a:bodyPr>
          <a:p>
            <a:pPr>
              <a:lnSpc>
                <a:spcPct val="117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Arial"/>
                <a:ea typeface="Arial Unicode MS"/>
              </a:rPr>
              <a:t>Маленькое ведёрко</a:t>
            </a:r>
            <a:br>
              <a:rPr sz="2200"/>
            </a:br>
            <a:r>
              <a:rPr b="1" lang="en-US" sz="2200" spc="-1" strike="noStrike">
                <a:solidFill>
                  <a:srgbClr val="008000"/>
                </a:solidFill>
                <a:latin typeface="Arial"/>
                <a:ea typeface="Arial Unicode MS"/>
              </a:rPr>
              <a:t>На пальце сидит,</a:t>
            </a:r>
            <a:br>
              <a:rPr sz="2200"/>
            </a:br>
            <a:r>
              <a:rPr b="1" lang="en-US" sz="2200" spc="-1" strike="noStrike">
                <a:solidFill>
                  <a:srgbClr val="008000"/>
                </a:solidFill>
                <a:latin typeface="Arial"/>
                <a:ea typeface="Arial Unicode MS"/>
              </a:rPr>
              <a:t>Сотнями глаз</a:t>
            </a:r>
            <a:br>
              <a:rPr sz="2200"/>
            </a:br>
            <a:r>
              <a:rPr b="1" lang="en-US" sz="2200" spc="-1" strike="noStrike">
                <a:solidFill>
                  <a:srgbClr val="008000"/>
                </a:solidFill>
                <a:latin typeface="Arial"/>
                <a:ea typeface="Arial Unicode MS"/>
              </a:rPr>
              <a:t>Во все стороны глядит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2" name="Picture 10" descr=""/>
          <p:cNvPicPr/>
          <p:nvPr/>
        </p:nvPicPr>
        <p:blipFill>
          <a:blip r:embed="rId2"/>
          <a:stretch/>
        </p:blipFill>
        <p:spPr>
          <a:xfrm>
            <a:off x="6084720" y="3789360"/>
            <a:ext cx="2441880" cy="176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1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6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5T17:25:53Z</dcterms:created>
  <dc:creator>User</dc:creator>
  <dc:description/>
  <dc:language>en-US</dc:language>
  <cp:lastModifiedBy>Admin</cp:lastModifiedBy>
  <dcterms:modified xsi:type="dcterms:W3CDTF">2015-10-11T11:43:04Z</dcterms:modified>
  <cp:revision>6</cp:revision>
  <dc:subject/>
  <dc:title>Угадай-ка!</dc:title>
</cp:coreProperties>
</file>