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chimes.wav" ContentType="audio/x-wav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C6E-353C-48D3-A63D-D62E6CD3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F8F-744A-4393-8BA9-EDED0A3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636-3FE9-4F90-95D8-71CCD9B4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0C3-5A77-4FE2-895F-C3B6C412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8D80-5125-4BBA-9518-EFCF61B7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E076-D7AF-40EA-8759-9725F8AC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131E-7D0D-4BA7-8ED2-BBEA1A14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F49-5C5C-4E05-9322-87C2CBCE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6C46-DF79-4433-8B8C-BCFD9B60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85EE-1014-4910-B226-8B00EB6C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B619-EB56-4C43-AD39-40FDC3E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0FA-4790-449D-AD6E-64D62CA0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92BD-23DB-451D-B36F-62AB860A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B4C4-D2A3-47C8-8D02-D7DCC0A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42D0-C8D3-4273-A7D6-244CEFF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5EF0-2ACF-490F-88CF-BA097A21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EF21-6BDA-476B-9CC5-B1695589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F07-16F0-45E4-9B16-0729127B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46D-C793-499F-9F16-AEB47327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027-5CAA-4988-831E-F1BB5117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325-F4C1-4EF0-85B3-56B07165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AF0-BC68-468A-814F-1F1DE6B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D02-B19B-4773-9BE1-FF48ACD6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5AB-681E-43A9-8846-8BCFCBF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80D-0DC7-48A5-A22C-30EC224A42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5A3D-826C-42E5-8582-597C8CFED82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4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6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8.wmf"/><Relationship Id="rId6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6.wmf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Обыкновенные дроб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для устного 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1143000"/>
            <a:ext cx="2133720" cy="4800600"/>
          </a:xfrm>
          <a:prstGeom prst="rect">
            <a:avLst/>
          </a:prstGeom>
          <a:solidFill>
            <a:srgbClr val="ffda71"/>
          </a:solidFill>
          <a:ln w="9360">
            <a:solidFill>
              <a:srgbClr val="ffda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полните действ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1295280"/>
          <a:ext cx="971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971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752480" y="1295280"/>
          <a:ext cx="27936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295280"/>
                    <a:ext cx="2793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00200" y="2209680"/>
          <a:ext cx="109692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200" y="2209680"/>
                    <a:ext cx="10969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828800" y="2209680"/>
          <a:ext cx="406440" cy="7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2209680"/>
                    <a:ext cx="4064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12720" y="3048120"/>
          <a:ext cx="1270080" cy="77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20" y="3048120"/>
                    <a:ext cx="12700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828800" y="3048120"/>
          <a:ext cx="431640" cy="78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048120"/>
                    <a:ext cx="4316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38280" y="3962520"/>
          <a:ext cx="1220760" cy="771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8280" y="3962520"/>
                    <a:ext cx="1220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905120" y="3962520"/>
          <a:ext cx="406440" cy="785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5120" y="3962520"/>
                    <a:ext cx="4064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85800" y="4952880"/>
          <a:ext cx="996840" cy="77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" y="4952880"/>
                    <a:ext cx="9968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39880" y="4952880"/>
          <a:ext cx="304920" cy="78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39880" y="495288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553080" y="1143000"/>
            <a:ext cx="2133720" cy="4800600"/>
          </a:xfrm>
          <a:prstGeom prst="rect">
            <a:avLst/>
          </a:prstGeom>
          <a:solidFill>
            <a:srgbClr val="afffff"/>
          </a:solidFill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143000"/>
            <a:ext cx="2133720" cy="4800600"/>
          </a:xfrm>
          <a:prstGeom prst="rect">
            <a:avLst/>
          </a:prstGeom>
          <a:solidFill>
            <a:srgbClr val="93d488"/>
          </a:solidFill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9880" y="1371600"/>
          <a:ext cx="971640" cy="77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9880" y="1371600"/>
                    <a:ext cx="9716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00600" y="1371600"/>
          <a:ext cx="279360" cy="78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00600" y="1371600"/>
                    <a:ext cx="2793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747960" y="2286000"/>
          <a:ext cx="1096920" cy="771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47960" y="2286000"/>
                    <a:ext cx="10969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876920" y="2286000"/>
          <a:ext cx="406440" cy="78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76920" y="2286000"/>
                    <a:ext cx="4064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35360" y="3124080"/>
          <a:ext cx="1120680" cy="771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35360" y="3124080"/>
                    <a:ext cx="11206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76920" y="3124080"/>
          <a:ext cx="431640" cy="785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876920" y="3124080"/>
                    <a:ext cx="4316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809880" y="4038480"/>
          <a:ext cx="971640" cy="771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809880" y="4038480"/>
                    <a:ext cx="9716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6600" y="4038480"/>
          <a:ext cx="279360" cy="785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016600" y="4038480"/>
                    <a:ext cx="2793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621240" y="5029200"/>
          <a:ext cx="1222200" cy="771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21240" y="5029200"/>
                    <a:ext cx="122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00600" y="5029200"/>
          <a:ext cx="406440" cy="785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800600" y="5029200"/>
                    <a:ext cx="4064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710400" y="1371600"/>
          <a:ext cx="1419120" cy="771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710400" y="1371600"/>
                    <a:ext cx="14191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064360" y="1371600"/>
          <a:ext cx="304920" cy="7858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064360" y="137160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524640" y="2286000"/>
          <a:ext cx="1793880" cy="771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24640" y="2286000"/>
                    <a:ext cx="17938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229600" y="2286000"/>
          <a:ext cx="406440" cy="7858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8229600" y="2286000"/>
                    <a:ext cx="4064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548400" y="3087720"/>
          <a:ext cx="1743120" cy="846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548400" y="3087720"/>
                    <a:ext cx="1743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8292960" y="3124080"/>
          <a:ext cx="304920" cy="7858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8292960" y="312408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550200" y="4002120"/>
          <a:ext cx="1742760" cy="846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550200" y="4002120"/>
                    <a:ext cx="17427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204040" y="4038480"/>
          <a:ext cx="304920" cy="7858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204040" y="403848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496200" y="4992840"/>
          <a:ext cx="1722240" cy="8460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496200" y="4992840"/>
                    <a:ext cx="1722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8204040" y="5029200"/>
          <a:ext cx="304920" cy="7858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8204040" y="502920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143000"/>
            <a:ext cx="2133720" cy="4800600"/>
          </a:xfrm>
          <a:prstGeom prst="rect">
            <a:avLst/>
          </a:prstGeom>
          <a:solidFill>
            <a:srgbClr val="ffda71"/>
          </a:solidFill>
          <a:ln w="9360">
            <a:solidFill>
              <a:srgbClr val="ffda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шите уравнение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371600"/>
          <a:ext cx="16002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553080" y="1143000"/>
            <a:ext cx="2133720" cy="4800600"/>
          </a:xfrm>
          <a:prstGeom prst="rect">
            <a:avLst/>
          </a:prstGeom>
          <a:solidFill>
            <a:srgbClr val="afffff"/>
          </a:solidFill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1143000"/>
            <a:ext cx="2133720" cy="4800600"/>
          </a:xfrm>
          <a:prstGeom prst="rect">
            <a:avLst/>
          </a:prstGeom>
          <a:solidFill>
            <a:srgbClr val="93d488"/>
          </a:solidFill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95280" y="1400040"/>
          <a:ext cx="3384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400040"/>
                    <a:ext cx="338400" cy="990720"/>
                  </a:xfrm>
                  <a:prstGeom prst="rect">
                    <a:avLst/>
                  </a:prstGeom>
                  <a:ln w="9360">
                    <a:solidFill>
                      <a:srgbClr val="ffda71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93720" y="2860560"/>
          <a:ext cx="16002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720" y="286056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03200" y="2889360"/>
          <a:ext cx="33840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3200" y="2889360"/>
                    <a:ext cx="338400" cy="990360"/>
                  </a:xfrm>
                  <a:prstGeom prst="rect">
                    <a:avLst/>
                  </a:prstGeom>
                  <a:ln w="9360">
                    <a:solidFill>
                      <a:srgbClr val="ffda71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61880" y="4508640"/>
          <a:ext cx="1933560" cy="103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80" y="4508640"/>
                    <a:ext cx="193356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82600" y="4537080"/>
          <a:ext cx="451080" cy="9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2600" y="4537080"/>
                    <a:ext cx="451080" cy="990720"/>
                  </a:xfrm>
                  <a:prstGeom prst="rect">
                    <a:avLst/>
                  </a:prstGeom>
                  <a:ln w="9360">
                    <a:solidFill>
                      <a:srgbClr val="ffda71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68760" y="1440000"/>
          <a:ext cx="1600200" cy="103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68760" y="1440000"/>
                    <a:ext cx="160020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624120" y="1467000"/>
          <a:ext cx="33840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24120" y="1467000"/>
                    <a:ext cx="338400" cy="990360"/>
                  </a:xfrm>
                  <a:prstGeom prst="rect">
                    <a:avLst/>
                  </a:prstGeom>
                  <a:ln w="9360">
                    <a:solidFill>
                      <a:srgbClr val="93d48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662280" y="2825640"/>
          <a:ext cx="1600200" cy="1033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62280" y="282564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632040" y="2852640"/>
          <a:ext cx="309600" cy="990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2040" y="2852640"/>
                    <a:ext cx="309600" cy="990720"/>
                  </a:xfrm>
                  <a:prstGeom prst="rect">
                    <a:avLst/>
                  </a:prstGeom>
                  <a:ln w="9360">
                    <a:solidFill>
                      <a:srgbClr val="93d48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629160" y="4478400"/>
          <a:ext cx="1900080" cy="1033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29160" y="4478400"/>
                    <a:ext cx="19000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503520" y="4521240"/>
          <a:ext cx="451080" cy="990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03520" y="4521240"/>
                    <a:ext cx="451080" cy="990720"/>
                  </a:xfrm>
                  <a:prstGeom prst="rect">
                    <a:avLst/>
                  </a:prstGeom>
                  <a:ln w="9360">
                    <a:solidFill>
                      <a:srgbClr val="93d48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740640" y="1409760"/>
          <a:ext cx="1933560" cy="1033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40640" y="1409760"/>
                    <a:ext cx="19335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88000" y="1436760"/>
          <a:ext cx="478080" cy="990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88000" y="1436760"/>
                    <a:ext cx="478080" cy="990360"/>
                  </a:xfrm>
                  <a:prstGeom prst="rect">
                    <a:avLst/>
                  </a:prstGeom>
                  <a:ln w="9360">
                    <a:solidFill>
                      <a:srgbClr val="a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732720" y="2840040"/>
          <a:ext cx="1933560" cy="1033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732720" y="2840040"/>
                    <a:ext cx="19335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493040" y="2865600"/>
          <a:ext cx="449280" cy="990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493040" y="2865600"/>
                    <a:ext cx="449280" cy="990360"/>
                  </a:xfrm>
                  <a:prstGeom prst="rect">
                    <a:avLst/>
                  </a:prstGeom>
                  <a:ln w="9360">
                    <a:solidFill>
                      <a:srgbClr val="a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915240" y="4451400"/>
          <a:ext cx="1600200" cy="1033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15240" y="445140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897600" y="4508640"/>
          <a:ext cx="309600" cy="990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97600" y="4508640"/>
                    <a:ext cx="309600" cy="990360"/>
                  </a:xfrm>
                  <a:prstGeom prst="rect">
                    <a:avLst/>
                  </a:prstGeom>
                  <a:ln w="9360">
                    <a:solidFill>
                      <a:srgbClr val="a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8120" y="5334120"/>
            <a:ext cx="2209680" cy="838080"/>
          </a:xfrm>
          <a:prstGeom prst="rect">
            <a:avLst/>
          </a:prstGeom>
          <a:solidFill>
            <a:srgbClr val="ffda71"/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2209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505320"/>
            <a:ext cx="2209680" cy="838080"/>
          </a:xfrm>
          <a:prstGeom prst="rect">
            <a:avLst/>
          </a:prstGeom>
          <a:solidFill>
            <a:srgbClr val="ffda71"/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2209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полните таблицу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484440" y="2490840"/>
          <a:ext cx="3049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4440" y="2490840"/>
                    <a:ext cx="3049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13000" y="20574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правильна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74720" y="20574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шан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2438280"/>
            <a:ext cx="5333760" cy="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057400"/>
            <a:ext cx="0" cy="396252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0" y="2590920"/>
          <a:ext cx="4586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90920"/>
                    <a:ext cx="458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419720" y="3505320"/>
          <a:ext cx="5126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505320"/>
                    <a:ext cx="512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352680" y="3505320"/>
          <a:ext cx="4590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459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394080" y="4419720"/>
          <a:ext cx="4316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94080" y="4419720"/>
                    <a:ext cx="431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495680" y="4419720"/>
          <a:ext cx="51300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4419720"/>
                    <a:ext cx="51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495680" y="5334120"/>
          <a:ext cx="4860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5334120"/>
                    <a:ext cx="4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357720" y="5334120"/>
          <a:ext cx="4856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7720" y="5334120"/>
                    <a:ext cx="485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8120" y="5334120"/>
            <a:ext cx="2209680" cy="838080"/>
          </a:xfrm>
          <a:prstGeom prst="rect">
            <a:avLst/>
          </a:prstGeom>
          <a:solidFill>
            <a:srgbClr val="ffda71"/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419720"/>
            <a:ext cx="2209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3505320"/>
            <a:ext cx="2209680" cy="838080"/>
          </a:xfrm>
          <a:prstGeom prst="rect">
            <a:avLst/>
          </a:prstGeom>
          <a:solidFill>
            <a:srgbClr val="ffda71"/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590920"/>
            <a:ext cx="2209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полните таблицу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392640" y="2490840"/>
          <a:ext cx="47772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490840"/>
                    <a:ext cx="4777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13000" y="20574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правильна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74720" y="20574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шан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2438280"/>
            <a:ext cx="5333760" cy="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2057400"/>
            <a:ext cx="0" cy="396252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45000" y="2590920"/>
          <a:ext cx="5126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5000" y="2590920"/>
                    <a:ext cx="512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419720" y="3505320"/>
          <a:ext cx="5126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505320"/>
                    <a:ext cx="512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352680" y="3505320"/>
          <a:ext cx="4590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459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94080" y="4419720"/>
          <a:ext cx="4316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94080" y="4419720"/>
                    <a:ext cx="431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495680" y="4419720"/>
          <a:ext cx="51300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4419720"/>
                    <a:ext cx="51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429080" y="5334120"/>
          <a:ext cx="6206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9080" y="5334120"/>
                    <a:ext cx="620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370320" y="5334120"/>
          <a:ext cx="4586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70320" y="5334120"/>
                    <a:ext cx="458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43200" y="2743200"/>
            <a:ext cx="762120" cy="1371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полните действ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009960" y="2733840"/>
          <a:ext cx="503280" cy="64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2733840"/>
                    <a:ext cx="5032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066000" y="2894040"/>
          <a:ext cx="39024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0" y="2894040"/>
                    <a:ext cx="3902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09480" y="2590920"/>
            <a:ext cx="457200" cy="990360"/>
          </a:xfrm>
          <a:prstGeom prst="rect">
            <a:avLst/>
          </a:prstGeom>
          <a:solidFill>
            <a:srgbClr val="dfda00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066680" y="2743200"/>
            <a:ext cx="914400" cy="380880"/>
          </a:xfrm>
          <a:prstGeom prst="line">
            <a:avLst/>
          </a:prstGeom>
          <a:ln w="28440">
            <a:solidFill>
              <a:srgbClr val="dfd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2057400"/>
            <a:ext cx="83844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df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41960" y="3218040"/>
          <a:ext cx="58716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1960" y="3218040"/>
                    <a:ext cx="587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6880" y="2668680"/>
          <a:ext cx="48276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880" y="2668680"/>
                    <a:ext cx="4827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209680" y="2131920"/>
          <a:ext cx="457200" cy="7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2131920"/>
                    <a:ext cx="4572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rot="20998200">
            <a:off x="3276360" y="3428640"/>
            <a:ext cx="990360" cy="1143000"/>
          </a:xfrm>
          <a:prstGeom prst="triangle">
            <a:avLst>
              <a:gd name="adj" fmla="val 50000"/>
            </a:avLst>
          </a:prstGeom>
          <a:solidFill>
            <a:srgbClr val="99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622680" y="3794040"/>
          <a:ext cx="325440" cy="84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22680" y="3794040"/>
                    <a:ext cx="3254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724280" y="2057400"/>
            <a:ext cx="1214640" cy="1214280"/>
          </a:xfrm>
          <a:prstGeom prst="diamond">
            <a:avLst/>
          </a:prstGeom>
          <a:solidFill>
            <a:srgbClr val="ff944b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62520" y="2971800"/>
            <a:ext cx="1066680" cy="9907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105520" y="2209680"/>
          <a:ext cx="436320" cy="80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05520" y="2209680"/>
                    <a:ext cx="436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 rot="982800">
            <a:off x="6477120" y="3580920"/>
            <a:ext cx="914400" cy="1371600"/>
          </a:xfrm>
          <a:prstGeom prst="rtTriangle">
            <a:avLst/>
          </a:prstGeom>
          <a:solidFill>
            <a:srgbClr val="5399ff"/>
          </a:solidFill>
          <a:ln w="9360">
            <a:solidFill>
              <a:srgbClr val="ff9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2971800"/>
            <a:ext cx="838440" cy="1219320"/>
          </a:xfrm>
          <a:prstGeom prst="line">
            <a:avLst/>
          </a:prstGeom>
          <a:ln w="28440">
            <a:solidFill>
              <a:srgbClr val="ff9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89720" y="4040280"/>
          <a:ext cx="406440" cy="79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89720" y="4040280"/>
                    <a:ext cx="4064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7391520" y="2209680"/>
            <a:ext cx="990360" cy="114300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934320" y="3276360"/>
            <a:ext cx="685800" cy="10666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84120" y="2733840"/>
          <a:ext cx="568440" cy="726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84120" y="2733840"/>
                    <a:ext cx="5684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7243920" y="3581280"/>
          <a:ext cx="571320" cy="70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43920" y="3581280"/>
                    <a:ext cx="5713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7620120" y="2362320"/>
          <a:ext cx="554040" cy="901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0120" y="2362320"/>
                    <a:ext cx="55404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 txBox="1"/>
          <p:nvPr/>
        </p:nvSpPr>
        <p:spPr>
          <a:xfrm rot="5021400">
            <a:off x="7701120" y="5632920"/>
            <a:ext cx="727200" cy="281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z</cp:lastModifiedBy>
  <dcterms:modified xsi:type="dcterms:W3CDTF">2008-03-31T19:21:4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