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chimes.wav" ContentType="audio/x-wav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DF7-39EA-4D42-AAAB-EC7BEF29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BE5-1A63-4802-8D19-F976391F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89A-8DA9-4512-801D-169012D8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F55-81C9-4221-86C6-BAA6C11F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D3EB-7593-4A8E-816A-4F25F6C5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051F-CAFF-4252-853E-FF74122D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FF9F-06AD-41FC-A3CD-897A6718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4E9B-D5AD-4AC7-BFCA-408E2B33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8E1F-EB79-4116-A177-532A3D50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42BE-A809-437E-A7F7-FE8A3D9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D375-B66F-4DDA-9CF8-7511E39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BAC-5FEA-4A66-AE32-9D47AA8A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BADB-B0CD-4F01-8EBF-790E841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8A92-3B17-47AC-9F0F-93CFECF8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9025-4B73-4CDD-9C30-9417C5BE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16DE-A897-4C87-A3EA-D6E81814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C054-BC64-4C75-86C5-237505D6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4E0-6845-4FB3-91DA-2D3AF4A9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216-105C-441F-964B-273BA9DF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2B0-47F4-4A44-8708-F3FB2CD6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8BA-F62E-43C7-B5BE-A5969CD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1F5-F6ED-49A3-AAF2-EE156680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DB8-7CC5-40D1-80E3-3A270CF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E76-7C72-4311-811B-3A78A10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B562-9E88-4CDE-846F-50AC7EF0F8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98A9-B3B4-46B7-996A-6E3A250D451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4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6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7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28.wmf"/><Relationship Id="rId6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6.wmf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Обыкновенные дроб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для устного 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1143000"/>
            <a:ext cx="2133720" cy="4800600"/>
          </a:xfrm>
          <a:prstGeom prst="rect">
            <a:avLst/>
          </a:prstGeom>
          <a:solidFill>
            <a:srgbClr val="ffda71"/>
          </a:solidFill>
          <a:ln w="9360">
            <a:solidFill>
              <a:srgbClr val="ffda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полните действ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120" y="1295280"/>
          <a:ext cx="971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971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752480" y="1295280"/>
          <a:ext cx="27936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295280"/>
                    <a:ext cx="2793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00200" y="2209680"/>
          <a:ext cx="1096920" cy="7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200" y="2209680"/>
                    <a:ext cx="10969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828800" y="2209680"/>
          <a:ext cx="406440" cy="7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2209680"/>
                    <a:ext cx="4064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12720" y="3048120"/>
          <a:ext cx="1270080" cy="77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20" y="3048120"/>
                    <a:ext cx="12700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828800" y="3048120"/>
          <a:ext cx="431640" cy="78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3048120"/>
                    <a:ext cx="4316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38280" y="3962520"/>
          <a:ext cx="1220760" cy="771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8280" y="3962520"/>
                    <a:ext cx="1220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905120" y="3962520"/>
          <a:ext cx="406440" cy="785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5120" y="3962520"/>
                    <a:ext cx="4064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85800" y="4952880"/>
          <a:ext cx="996840" cy="77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" y="4952880"/>
                    <a:ext cx="9968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739880" y="4952880"/>
          <a:ext cx="304920" cy="78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39880" y="495288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553080" y="1143000"/>
            <a:ext cx="2133720" cy="4800600"/>
          </a:xfrm>
          <a:prstGeom prst="rect">
            <a:avLst/>
          </a:prstGeom>
          <a:solidFill>
            <a:srgbClr val="afffff"/>
          </a:solidFill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143000"/>
            <a:ext cx="2133720" cy="4800600"/>
          </a:xfrm>
          <a:prstGeom prst="rect">
            <a:avLst/>
          </a:prstGeom>
          <a:solidFill>
            <a:srgbClr val="93d488"/>
          </a:solidFill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9880" y="1371600"/>
          <a:ext cx="971640" cy="77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9880" y="1371600"/>
                    <a:ext cx="9716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00600" y="1371600"/>
          <a:ext cx="279360" cy="78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00600" y="1371600"/>
                    <a:ext cx="2793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747960" y="2286000"/>
          <a:ext cx="1096920" cy="771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47960" y="2286000"/>
                    <a:ext cx="10969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876920" y="2286000"/>
          <a:ext cx="406440" cy="785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76920" y="2286000"/>
                    <a:ext cx="4064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35360" y="3124080"/>
          <a:ext cx="1120680" cy="771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35360" y="3124080"/>
                    <a:ext cx="11206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76920" y="3124080"/>
          <a:ext cx="431640" cy="785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876920" y="3124080"/>
                    <a:ext cx="4316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809880" y="4038480"/>
          <a:ext cx="971640" cy="771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809880" y="4038480"/>
                    <a:ext cx="9716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6600" y="4038480"/>
          <a:ext cx="279360" cy="785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016600" y="4038480"/>
                    <a:ext cx="2793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621240" y="5029200"/>
          <a:ext cx="1222200" cy="771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21240" y="5029200"/>
                    <a:ext cx="1222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00600" y="5029200"/>
          <a:ext cx="406440" cy="785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800600" y="5029200"/>
                    <a:ext cx="4064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710400" y="1371600"/>
          <a:ext cx="1419120" cy="771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710400" y="1371600"/>
                    <a:ext cx="14191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8064360" y="1371600"/>
          <a:ext cx="304920" cy="7858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064360" y="137160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524640" y="2286000"/>
          <a:ext cx="1793880" cy="771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24640" y="2286000"/>
                    <a:ext cx="17938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229600" y="2286000"/>
          <a:ext cx="406440" cy="7858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8229600" y="2286000"/>
                    <a:ext cx="4064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548400" y="3087720"/>
          <a:ext cx="1743120" cy="846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548400" y="3087720"/>
                    <a:ext cx="1743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8292960" y="3124080"/>
          <a:ext cx="304920" cy="7858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8292960" y="312408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550200" y="4002120"/>
          <a:ext cx="1742760" cy="846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550200" y="4002120"/>
                    <a:ext cx="17427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204040" y="4038480"/>
          <a:ext cx="304920" cy="7858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204040" y="403848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496200" y="4992840"/>
          <a:ext cx="1722240" cy="8460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496200" y="4992840"/>
                    <a:ext cx="1722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8204040" y="5029200"/>
          <a:ext cx="304920" cy="7858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8204040" y="5029200"/>
                    <a:ext cx="304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143000"/>
            <a:ext cx="2133720" cy="4800600"/>
          </a:xfrm>
          <a:prstGeom prst="rect">
            <a:avLst/>
          </a:prstGeom>
          <a:solidFill>
            <a:srgbClr val="ffda71"/>
          </a:solidFill>
          <a:ln w="9360">
            <a:solidFill>
              <a:srgbClr val="ffda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шите уравнение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371600"/>
          <a:ext cx="16002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553080" y="1143000"/>
            <a:ext cx="2133720" cy="4800600"/>
          </a:xfrm>
          <a:prstGeom prst="rect">
            <a:avLst/>
          </a:prstGeom>
          <a:solidFill>
            <a:srgbClr val="afffff"/>
          </a:solidFill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1143000"/>
            <a:ext cx="2133720" cy="4800600"/>
          </a:xfrm>
          <a:prstGeom prst="rect">
            <a:avLst/>
          </a:prstGeom>
          <a:solidFill>
            <a:srgbClr val="93d488"/>
          </a:solidFill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95280" y="1400040"/>
          <a:ext cx="3384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400040"/>
                    <a:ext cx="338400" cy="990720"/>
                  </a:xfrm>
                  <a:prstGeom prst="rect">
                    <a:avLst/>
                  </a:prstGeom>
                  <a:ln w="9360">
                    <a:solidFill>
                      <a:srgbClr val="ffda71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93720" y="2860560"/>
          <a:ext cx="16002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720" y="286056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303200" y="2889360"/>
          <a:ext cx="33840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3200" y="2889360"/>
                    <a:ext cx="338400" cy="990360"/>
                  </a:xfrm>
                  <a:prstGeom prst="rect">
                    <a:avLst/>
                  </a:prstGeom>
                  <a:ln w="9360">
                    <a:solidFill>
                      <a:srgbClr val="ffda71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61880" y="4508640"/>
          <a:ext cx="1933560" cy="103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80" y="4508640"/>
                    <a:ext cx="193356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82600" y="4537080"/>
          <a:ext cx="451080" cy="9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2600" y="4537080"/>
                    <a:ext cx="451080" cy="990720"/>
                  </a:xfrm>
                  <a:prstGeom prst="rect">
                    <a:avLst/>
                  </a:prstGeom>
                  <a:ln w="9360">
                    <a:solidFill>
                      <a:srgbClr val="ffda71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668760" y="1440000"/>
          <a:ext cx="1600200" cy="103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68760" y="1440000"/>
                    <a:ext cx="160020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624120" y="1467000"/>
          <a:ext cx="33840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24120" y="1467000"/>
                    <a:ext cx="338400" cy="990360"/>
                  </a:xfrm>
                  <a:prstGeom prst="rect">
                    <a:avLst/>
                  </a:prstGeom>
                  <a:ln w="9360">
                    <a:solidFill>
                      <a:srgbClr val="93d48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662280" y="2825640"/>
          <a:ext cx="1600200" cy="1033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62280" y="282564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632040" y="2852640"/>
          <a:ext cx="309600" cy="990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2040" y="2852640"/>
                    <a:ext cx="309600" cy="990720"/>
                  </a:xfrm>
                  <a:prstGeom prst="rect">
                    <a:avLst/>
                  </a:prstGeom>
                  <a:ln w="9360">
                    <a:solidFill>
                      <a:srgbClr val="93d48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629160" y="4478400"/>
          <a:ext cx="1900080" cy="1033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29160" y="4478400"/>
                    <a:ext cx="19000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503520" y="4521240"/>
          <a:ext cx="451080" cy="990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03520" y="4521240"/>
                    <a:ext cx="451080" cy="990720"/>
                  </a:xfrm>
                  <a:prstGeom prst="rect">
                    <a:avLst/>
                  </a:prstGeom>
                  <a:ln w="9360">
                    <a:solidFill>
                      <a:srgbClr val="93d48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740640" y="1409760"/>
          <a:ext cx="1933560" cy="1033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40640" y="1409760"/>
                    <a:ext cx="19335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88000" y="1436760"/>
          <a:ext cx="478080" cy="990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88000" y="1436760"/>
                    <a:ext cx="478080" cy="990360"/>
                  </a:xfrm>
                  <a:prstGeom prst="rect">
                    <a:avLst/>
                  </a:prstGeom>
                  <a:ln w="9360">
                    <a:solidFill>
                      <a:srgbClr val="a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732720" y="2840040"/>
          <a:ext cx="1933560" cy="1033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732720" y="2840040"/>
                    <a:ext cx="19335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493040" y="2865600"/>
          <a:ext cx="449280" cy="990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493040" y="2865600"/>
                    <a:ext cx="449280" cy="990360"/>
                  </a:xfrm>
                  <a:prstGeom prst="rect">
                    <a:avLst/>
                  </a:prstGeom>
                  <a:ln w="9360">
                    <a:solidFill>
                      <a:srgbClr val="a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915240" y="4451400"/>
          <a:ext cx="1600200" cy="1033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15240" y="445140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897600" y="4508640"/>
          <a:ext cx="309600" cy="990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97600" y="4508640"/>
                    <a:ext cx="309600" cy="990360"/>
                  </a:xfrm>
                  <a:prstGeom prst="rect">
                    <a:avLst/>
                  </a:prstGeom>
                  <a:ln w="9360">
                    <a:solidFill>
                      <a:srgbClr val="a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8120" y="5334120"/>
            <a:ext cx="2209680" cy="838080"/>
          </a:xfrm>
          <a:prstGeom prst="rect">
            <a:avLst/>
          </a:prstGeom>
          <a:solidFill>
            <a:srgbClr val="ffda71"/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2209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3505320"/>
            <a:ext cx="2209680" cy="838080"/>
          </a:xfrm>
          <a:prstGeom prst="rect">
            <a:avLst/>
          </a:prstGeom>
          <a:solidFill>
            <a:srgbClr val="ffda71"/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2209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полните таблицу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484440" y="2490840"/>
          <a:ext cx="3049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4440" y="2490840"/>
                    <a:ext cx="3049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13000" y="20574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правильна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74720" y="20574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шан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2438280"/>
            <a:ext cx="5333760" cy="0"/>
          </a:xfrm>
          <a:prstGeom prst="line">
            <a:avLst/>
          </a:prstGeom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2057400"/>
            <a:ext cx="0" cy="3962520"/>
          </a:xfrm>
          <a:prstGeom prst="line">
            <a:avLst/>
          </a:prstGeom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0" y="2590920"/>
          <a:ext cx="4586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90920"/>
                    <a:ext cx="458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419720" y="3505320"/>
          <a:ext cx="51264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505320"/>
                    <a:ext cx="512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352680" y="3505320"/>
          <a:ext cx="4590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459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394080" y="4419720"/>
          <a:ext cx="4316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94080" y="4419720"/>
                    <a:ext cx="431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495680" y="4419720"/>
          <a:ext cx="51300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4419720"/>
                    <a:ext cx="51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495680" y="5334120"/>
          <a:ext cx="4860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5334120"/>
                    <a:ext cx="4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357720" y="5334120"/>
          <a:ext cx="4856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7720" y="5334120"/>
                    <a:ext cx="485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8120" y="5334120"/>
            <a:ext cx="2209680" cy="838080"/>
          </a:xfrm>
          <a:prstGeom prst="rect">
            <a:avLst/>
          </a:prstGeom>
          <a:solidFill>
            <a:srgbClr val="ffda71"/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419720"/>
            <a:ext cx="2209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3505320"/>
            <a:ext cx="2209680" cy="838080"/>
          </a:xfrm>
          <a:prstGeom prst="rect">
            <a:avLst/>
          </a:prstGeom>
          <a:solidFill>
            <a:srgbClr val="ffda71"/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2590920"/>
            <a:ext cx="2209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полните таблицу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392640" y="2490840"/>
          <a:ext cx="477720" cy="8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490840"/>
                    <a:ext cx="4777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13000" y="20574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правильна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74720" y="20574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шан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2438280"/>
            <a:ext cx="5333760" cy="0"/>
          </a:xfrm>
          <a:prstGeom prst="line">
            <a:avLst/>
          </a:prstGeom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2057400"/>
            <a:ext cx="0" cy="3962520"/>
          </a:xfrm>
          <a:prstGeom prst="line">
            <a:avLst/>
          </a:prstGeom>
          <a:ln w="284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45000" y="2590920"/>
          <a:ext cx="5126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5000" y="2590920"/>
                    <a:ext cx="512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419720" y="3505320"/>
          <a:ext cx="51264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505320"/>
                    <a:ext cx="512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352680" y="3505320"/>
          <a:ext cx="4590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459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394080" y="4419720"/>
          <a:ext cx="4316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94080" y="4419720"/>
                    <a:ext cx="431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495680" y="4419720"/>
          <a:ext cx="51300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4419720"/>
                    <a:ext cx="51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429080" y="5334120"/>
          <a:ext cx="6206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29080" y="5334120"/>
                    <a:ext cx="620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370320" y="5334120"/>
          <a:ext cx="4586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70320" y="5334120"/>
                    <a:ext cx="458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43200" y="2743200"/>
            <a:ext cx="762120" cy="1371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полните действ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009960" y="2733840"/>
          <a:ext cx="503280" cy="64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2733840"/>
                    <a:ext cx="50328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066000" y="2894040"/>
          <a:ext cx="39024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0" y="2894040"/>
                    <a:ext cx="3902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09480" y="2590920"/>
            <a:ext cx="457200" cy="990360"/>
          </a:xfrm>
          <a:prstGeom prst="rect">
            <a:avLst/>
          </a:prstGeom>
          <a:solidFill>
            <a:srgbClr val="dfda00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066680" y="2743200"/>
            <a:ext cx="914400" cy="380880"/>
          </a:xfrm>
          <a:prstGeom prst="line">
            <a:avLst/>
          </a:prstGeom>
          <a:ln w="28440">
            <a:solidFill>
              <a:srgbClr val="dfd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2057400"/>
            <a:ext cx="83844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df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341960" y="3218040"/>
          <a:ext cx="58716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1960" y="3218040"/>
                    <a:ext cx="587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6880" y="2668680"/>
          <a:ext cx="48276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880" y="2668680"/>
                    <a:ext cx="4827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209680" y="2131920"/>
          <a:ext cx="457200" cy="7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2131920"/>
                    <a:ext cx="4572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rot="20998200">
            <a:off x="3276360" y="3428640"/>
            <a:ext cx="990360" cy="1143000"/>
          </a:xfrm>
          <a:prstGeom prst="triangle">
            <a:avLst>
              <a:gd name="adj" fmla="val 50000"/>
            </a:avLst>
          </a:prstGeom>
          <a:solidFill>
            <a:srgbClr val="99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622680" y="3794040"/>
          <a:ext cx="325440" cy="84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22680" y="3794040"/>
                    <a:ext cx="3254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724280" y="2057400"/>
            <a:ext cx="1214640" cy="1214280"/>
          </a:xfrm>
          <a:prstGeom prst="diamond">
            <a:avLst/>
          </a:prstGeom>
          <a:solidFill>
            <a:srgbClr val="ff944b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62520" y="2971800"/>
            <a:ext cx="1066680" cy="9907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105520" y="2209680"/>
          <a:ext cx="436320" cy="80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05520" y="2209680"/>
                    <a:ext cx="436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 rot="982800">
            <a:off x="6477120" y="3580920"/>
            <a:ext cx="914400" cy="1371600"/>
          </a:xfrm>
          <a:prstGeom prst="rtTriangle">
            <a:avLst/>
          </a:prstGeom>
          <a:solidFill>
            <a:srgbClr val="5399ff"/>
          </a:solidFill>
          <a:ln w="9360">
            <a:solidFill>
              <a:srgbClr val="ff9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2971800"/>
            <a:ext cx="838440" cy="1219320"/>
          </a:xfrm>
          <a:prstGeom prst="line">
            <a:avLst/>
          </a:prstGeom>
          <a:ln w="28440">
            <a:solidFill>
              <a:srgbClr val="ff9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89720" y="4040280"/>
          <a:ext cx="406440" cy="79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89720" y="4040280"/>
                    <a:ext cx="4064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7391520" y="2209680"/>
            <a:ext cx="990360" cy="114300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934320" y="3276360"/>
            <a:ext cx="685800" cy="106668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84120" y="2733840"/>
          <a:ext cx="568440" cy="726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84120" y="2733840"/>
                    <a:ext cx="5684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7243920" y="3581280"/>
          <a:ext cx="571320" cy="70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43920" y="3581280"/>
                    <a:ext cx="5713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7620120" y="2362320"/>
          <a:ext cx="554040" cy="901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20120" y="2362320"/>
                    <a:ext cx="55404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 txBox="1"/>
          <p:nvPr/>
        </p:nvSpPr>
        <p:spPr>
          <a:xfrm rot="5021400">
            <a:off x="7701120" y="5632920"/>
            <a:ext cx="727200" cy="281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z</cp:lastModifiedBy>
  <dcterms:modified xsi:type="dcterms:W3CDTF">2008-03-31T19:21:4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