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D989-3BAE-4101-8A4E-0EFEE58D3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81D7-BB4F-4677-91FA-4015CCA7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F0C8-8506-4D1D-9979-CC61C60A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6CBB-130C-457A-A67B-603EFE52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D35D-B5AA-42F7-96F4-A4AF78A5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41F4-6E4D-4C4B-A1FB-200E2E4D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B33D-34B2-4659-9253-C012F9AE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257B-59DD-4288-8B33-12EF3254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3784-6D8E-4679-9242-1D400221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D5D7-1FC2-47E6-A6B5-48A0DAF8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D5AE-170C-4964-BDEB-88CB7D8E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F09-8572-4F74-80B0-2AB11723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3A00-51D1-41DF-8975-33DCF0820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3440" y="422280"/>
            <a:ext cx="9144000" cy="109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Занимательная физкультура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90840" y="552600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Учитель физической куль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МБОУ СОШ№ 10 город Новочебоксарс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Томилова Светлана  Владими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341280" y="2043000"/>
            <a:ext cx="515772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5680" y="21060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 Light"/>
              </a:rPr>
              <a:t>В спорте с их помощью определяют лучших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03080" y="2200320"/>
            <a:ext cx="910908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Соревн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Выступ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Виктор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5454720" y="2041560"/>
            <a:ext cx="605304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68400" y="3412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 Light"/>
              </a:rPr>
              <a:t>В честь неё праздник в календаре, к ней стремиться </a:t>
            </a:r>
            <a:br>
              <a:rPr sz="2800"/>
            </a:br>
            <a:r>
              <a:rPr b="1" lang="en-US" sz="2800" spc="-1" strike="noStrike">
                <a:solidFill>
                  <a:srgbClr val="00b050"/>
                </a:solidFill>
                <a:latin typeface="Calibri Light"/>
              </a:rPr>
              <a:t>                                команда в спорте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139400" y="1666440"/>
            <a:ext cx="10642680" cy="36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Меда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Конф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Награ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Побе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3" descr=""/>
          <p:cNvPicPr/>
          <p:nvPr/>
        </p:nvPicPr>
        <p:blipFill>
          <a:blip r:embed="rId1"/>
          <a:stretch/>
        </p:blipFill>
        <p:spPr>
          <a:xfrm>
            <a:off x="8707320" y="4662360"/>
            <a:ext cx="3075120" cy="19051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"/>
          <p:cNvPicPr/>
          <p:nvPr/>
        </p:nvPicPr>
        <p:blipFill>
          <a:blip r:embed="rId2"/>
          <a:stretch/>
        </p:blipFill>
        <p:spPr>
          <a:xfrm>
            <a:off x="6492960" y="1666800"/>
            <a:ext cx="4221000" cy="22798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"/>
          <p:cNvPicPr/>
          <p:nvPr/>
        </p:nvPicPr>
        <p:blipFill>
          <a:blip r:embed="rId3"/>
          <a:stretch/>
        </p:blipFill>
        <p:spPr>
          <a:xfrm>
            <a:off x="3154320" y="4172040"/>
            <a:ext cx="386712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1944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 Light"/>
              </a:rPr>
              <a:t>          </a:t>
            </a:r>
            <a:r>
              <a:rPr b="1" lang="en-US" sz="3200" spc="-1" strike="noStrike">
                <a:solidFill>
                  <a:srgbClr val="00b050"/>
                </a:solidFill>
                <a:latin typeface="Calibri Light"/>
              </a:rPr>
              <a:t>Спортивный переходящий приз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131920" y="1987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Куб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Грам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Мя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Дипл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3" descr=""/>
          <p:cNvPicPr/>
          <p:nvPr/>
        </p:nvPicPr>
        <p:blipFill>
          <a:blip r:embed="rId1"/>
          <a:stretch/>
        </p:blipFill>
        <p:spPr>
          <a:xfrm>
            <a:off x="5354640" y="1859040"/>
            <a:ext cx="650412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 Light"/>
              </a:rPr>
              <a:t>                 </a:t>
            </a:r>
            <a:r>
              <a:rPr b="1" lang="en-US" sz="3200" spc="-1" strike="noStrike">
                <a:solidFill>
                  <a:srgbClr val="00b050"/>
                </a:solidFill>
                <a:latin typeface="Calibri Light"/>
              </a:rPr>
              <a:t>Что старается установить спортсмен?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96920" y="1690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Нормати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Рекор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Уста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Поряд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1"/>
          <a:stretch/>
        </p:blipFill>
        <p:spPr>
          <a:xfrm>
            <a:off x="8170920" y="1544760"/>
            <a:ext cx="3673440" cy="19540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"/>
          <p:cNvPicPr/>
          <p:nvPr/>
        </p:nvPicPr>
        <p:blipFill>
          <a:blip r:embed="rId2"/>
          <a:stretch/>
        </p:blipFill>
        <p:spPr>
          <a:xfrm>
            <a:off x="6940440" y="4341960"/>
            <a:ext cx="3467160" cy="23079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"/>
          <p:cNvPicPr/>
          <p:nvPr/>
        </p:nvPicPr>
        <p:blipFill>
          <a:blip r:embed="rId3"/>
          <a:stretch/>
        </p:blipFill>
        <p:spPr>
          <a:xfrm>
            <a:off x="3335400" y="2001960"/>
            <a:ext cx="360504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 Light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Calibri Light"/>
              </a:rPr>
              <a:t>В какой строке указаны слова, описывающие здорового человека?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2800" y="3015720"/>
            <a:ext cx="1044396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Сутулый, крепкий, неуклюжий, высо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Горбатый, бледный, хилый, низ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Стройный, сильный, ловкий, стат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tretch/>
        </p:blipFill>
        <p:spPr>
          <a:xfrm>
            <a:off x="6964200" y="1690560"/>
            <a:ext cx="365292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"/>
          <p:cNvSpPr/>
          <p:nvPr/>
        </p:nvSpPr>
        <p:spPr>
          <a:xfrm>
            <a:off x="2385000" y="2494080"/>
            <a:ext cx="661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50"/>
                </a:solidFill>
                <a:latin typeface="Calibri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 Light"/>
              </a:rPr>
              <a:t>Каких птиц традиционно выпускают на открытие Олимпийских игр?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5520" y="2587320"/>
            <a:ext cx="7013520" cy="16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171360" indent="-171360">
              <a:lnSpc>
                <a:spcPct val="90000"/>
              </a:lnSpc>
              <a:spcBef>
                <a:spcPts val="1001"/>
              </a:spcBef>
              <a:buClr>
                <a:srgbClr val="2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864"/>
                </a:solidFill>
                <a:latin typeface="Calibri"/>
              </a:rPr>
              <a:t>Сини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001"/>
              </a:spcBef>
              <a:buClr>
                <a:srgbClr val="2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864"/>
                </a:solidFill>
                <a:latin typeface="Calibri"/>
              </a:rPr>
              <a:t>Жаворон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001"/>
              </a:spcBef>
              <a:buClr>
                <a:srgbClr val="2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864"/>
                </a:solidFill>
                <a:latin typeface="Calibri"/>
              </a:rPr>
              <a:t>Скворц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001"/>
              </a:spcBef>
              <a:buClr>
                <a:srgbClr val="2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864"/>
                </a:solidFill>
                <a:latin typeface="Calibri"/>
              </a:rPr>
              <a:t>Голуб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3" descr=""/>
          <p:cNvPicPr/>
          <p:nvPr/>
        </p:nvPicPr>
        <p:blipFill>
          <a:blip r:embed="rId1"/>
          <a:stretch/>
        </p:blipFill>
        <p:spPr>
          <a:xfrm>
            <a:off x="4691160" y="1849320"/>
            <a:ext cx="2415960" cy="15861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2"/>
          <a:stretch/>
        </p:blipFill>
        <p:spPr>
          <a:xfrm>
            <a:off x="8872560" y="4889520"/>
            <a:ext cx="2705040" cy="18032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"/>
          <p:cNvPicPr/>
          <p:nvPr/>
        </p:nvPicPr>
        <p:blipFill>
          <a:blip r:embed="rId3"/>
          <a:stretch/>
        </p:blipFill>
        <p:spPr>
          <a:xfrm>
            <a:off x="8486640" y="1486080"/>
            <a:ext cx="3090960" cy="23176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"/>
          <p:cNvPicPr/>
          <p:nvPr/>
        </p:nvPicPr>
        <p:blipFill>
          <a:blip r:embed="rId4"/>
          <a:stretch/>
        </p:blipFill>
        <p:spPr>
          <a:xfrm>
            <a:off x="3659040" y="4110120"/>
            <a:ext cx="344808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52800" y="2793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 Light"/>
              </a:rPr>
              <a:t>Какое современное государство считается родиной</a:t>
            </a:r>
            <a:br>
              <a:rPr sz="2800"/>
            </a:br>
            <a:r>
              <a:rPr b="1" lang="en-US" sz="2800" spc="-1" strike="noStrike">
                <a:solidFill>
                  <a:srgbClr val="00b050"/>
                </a:solidFill>
                <a:latin typeface="Calibri Light"/>
              </a:rPr>
              <a:t>Олимпийских Игр?   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31880" y="26175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Фран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Великобрит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Гре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Рос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3" descr=""/>
          <p:cNvPicPr/>
          <p:nvPr/>
        </p:nvPicPr>
        <p:blipFill>
          <a:blip r:embed="rId1"/>
          <a:stretch/>
        </p:blipFill>
        <p:spPr>
          <a:xfrm>
            <a:off x="5433840" y="1862280"/>
            <a:ext cx="542952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66840" y="1206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 Light"/>
              </a:rPr>
              <a:t>Как звучит олимпийский девиз?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«быстрее, выше, сильнее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«быстрее, лучше, дальше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«сильнее, выше, скорее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7696080" y="1446120"/>
            <a:ext cx="4098960" cy="2949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"/>
          <p:cNvPicPr/>
          <p:nvPr/>
        </p:nvPicPr>
        <p:blipFill>
          <a:blip r:embed="rId2"/>
          <a:stretch/>
        </p:blipFill>
        <p:spPr>
          <a:xfrm>
            <a:off x="1720800" y="4002120"/>
            <a:ext cx="553572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44800" y="856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 Light"/>
              </a:rPr>
              <a:t>Какого хоккея пока ещё не существует?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1764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на тра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пляж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с  шайб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с  мяч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4738680" y="2527200"/>
            <a:ext cx="512928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52680" y="330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 Light"/>
              </a:rPr>
              <a:t>Для каких видов спорта необходимы сани?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41440" y="24109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Бейсбо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Биатло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Боулин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Бобсл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"/>
          <p:cNvPicPr/>
          <p:nvPr/>
        </p:nvPicPr>
        <p:blipFill>
          <a:blip r:embed="rId1"/>
          <a:stretch/>
        </p:blipFill>
        <p:spPr>
          <a:xfrm>
            <a:off x="4678200" y="2013120"/>
            <a:ext cx="639144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2600" y="293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 Light"/>
              </a:rPr>
              <a:t>В каком виде спорта используется музыкальное сопровождение?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82600" y="20998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Дзюд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Хокк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Фигурное кат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Армресл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"/>
          <p:cNvPicPr/>
          <p:nvPr/>
        </p:nvPicPr>
        <p:blipFill>
          <a:blip r:embed="rId1"/>
          <a:stretch/>
        </p:blipFill>
        <p:spPr>
          <a:xfrm>
            <a:off x="7540560" y="1214280"/>
            <a:ext cx="3962520" cy="26434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2"/>
          <a:stretch/>
        </p:blipFill>
        <p:spPr>
          <a:xfrm>
            <a:off x="4638600" y="4338720"/>
            <a:ext cx="405468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38240" y="213840"/>
            <a:ext cx="851508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 Light"/>
              </a:rPr>
              <a:t>Зачем нужно мыть руки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054160" y="1590840"/>
            <a:ext cx="929952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Для того, чтобы быть чистым и опрятн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Для того, чтобы кожа была мягкой и упруг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Для того, чтобы очищать кожу от грязи и микроб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3618000" y="3490920"/>
            <a:ext cx="43527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3040" y="1270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 Light"/>
              </a:rPr>
              <a:t>Какие предметы ухода за кожей указаны правильно?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9800" y="2039760"/>
            <a:ext cx="10515600" cy="43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Зубная щётка, зубная паста, жевательная рези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Мочалка, мыло, полотенце, кр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Гуталин, обувная щётка, к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" descr=""/>
          <p:cNvPicPr/>
          <p:nvPr/>
        </p:nvPicPr>
        <p:blipFill>
          <a:blip r:embed="rId1"/>
          <a:stretch/>
        </p:blipFill>
        <p:spPr>
          <a:xfrm>
            <a:off x="9867960" y="4836960"/>
            <a:ext cx="2020680" cy="20210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"/>
          <p:cNvPicPr/>
          <p:nvPr/>
        </p:nvPicPr>
        <p:blipFill>
          <a:blip r:embed="rId2"/>
          <a:stretch/>
        </p:blipFill>
        <p:spPr>
          <a:xfrm>
            <a:off x="8707320" y="2243160"/>
            <a:ext cx="3002040" cy="18050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6" descr=""/>
          <p:cNvPicPr/>
          <p:nvPr/>
        </p:nvPicPr>
        <p:blipFill>
          <a:blip r:embed="rId3"/>
          <a:stretch/>
        </p:blipFill>
        <p:spPr>
          <a:xfrm>
            <a:off x="4910040" y="4214880"/>
            <a:ext cx="34401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19:08:41Z</dcterms:created>
  <dc:creator>Лена Теребова</dc:creator>
  <dc:description/>
  <dc:language>en-US</dc:language>
  <cp:lastModifiedBy>Света</cp:lastModifiedBy>
  <dcterms:modified xsi:type="dcterms:W3CDTF">2015-10-11T18:25:56Z</dcterms:modified>
  <cp:revision>14</cp:revision>
  <dc:subject/>
  <dc:title>Занимательная физкультура</dc:title>
</cp:coreProperties>
</file>