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6.png" ContentType="image/png"/>
  <Override PartName="/ppt/media/image25.jpeg" ContentType="image/jpeg"/>
  <Override PartName="/ppt/media/image2.jpeg" ContentType="image/jpeg"/>
  <Override PartName="/ppt/media/image24.wmf" ContentType="image/x-wmf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gif" ContentType="image/gif"/>
  <Override PartName="/ppt/media/image2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2E6-347B-47C5-BDA3-37BBBAC3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EBF-0453-40B4-998D-F405BACF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A90-17BE-4790-A7F1-71F60E10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FEA-3C93-4D73-B574-4EA54D77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B9DE-62BA-4B0C-ACCA-B04AFFD6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9C49-C4B0-465E-B4EE-4AB1F3A9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7B90-16F7-44C1-AF44-A0C1BE86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26E-48C5-4E5E-9BE2-8929A22B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439A-2769-4FEB-B43E-6272E287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F207-4CB4-41C8-ACD8-60950817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002A-841D-4231-BE71-604B0FC5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FB3-CD86-45C1-8290-6BE7DF64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9F41-64B0-4A1C-9D9D-33F3958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8322-0631-4D20-996B-51920F45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C813-3F8E-4C6E-A172-1B6F5FA1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1FDB-0591-4A87-8CD1-D4F8EDDC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B757-9BC1-4989-9A69-3C9269CF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7AE-3D5C-4875-828B-51CB72E2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DDB-7696-4B03-96F1-1397ACBD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4E2-2088-4864-AD36-983772F3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896-D901-46B4-8E6A-D8863DF4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E2B-63E8-423B-BDC8-97B1184F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C49-8EF5-43BA-B411-9DC8687B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C0C-A7C0-415C-B4E8-DABB726A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CB6A-2AD2-46C1-9452-EE45AE85B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0D83-2654-42B0-A66F-3AEBED16C3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25641547_1211597224_50368_1024_7681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18253605af80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5946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 Narrow"/>
              </a:rPr>
              <a:t>«ЗЕРКАЛ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 Narrow"/>
              </a:rPr>
              <a:t>С.В.МИХАЛ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HTZ8G0PfBM-pre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M-9_-_zvuki_afriki_(iPlayer.f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07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990099"/>
                </a:solidFill>
                <a:latin typeface="Arial"/>
              </a:rPr>
              <a:t>ИГРА  «НАБОРЩИК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Shkolnik"/>
          <p:cNvPicPr/>
          <p:nvPr/>
        </p:nvPicPr>
        <p:blipFill>
          <a:blip r:embed="rId1"/>
          <a:stretch/>
        </p:blipFill>
        <p:spPr>
          <a:xfrm>
            <a:off x="6012000" y="3573360"/>
            <a:ext cx="289872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1348197107_04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Чтение  басни по ро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rcRect l="0" t="0" r="0" b="-13430"/>
          <a:stretch/>
        </p:blipFill>
        <p:spPr>
          <a:xfrm>
            <a:off x="0" y="5011560"/>
            <a:ext cx="2957400" cy="208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2"/>
          <a:srcRect l="0" t="-6354" r="0" b="0"/>
          <a:stretch/>
        </p:blipFill>
        <p:spPr>
          <a:xfrm>
            <a:off x="6480000" y="4898880"/>
            <a:ext cx="2664000" cy="1959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Georgia"/>
              </a:rPr>
              <a:t>ПИСЬМО   НОСОРОГУ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5" descr="j0290679"/>
          <p:cNvPicPr/>
          <p:nvPr/>
        </p:nvPicPr>
        <p:blipFill>
          <a:blip r:embed="rId1"/>
          <a:stretch/>
        </p:blipFill>
        <p:spPr>
          <a:xfrm>
            <a:off x="6156360" y="3933720"/>
            <a:ext cx="324000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Собр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деформированный тек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j0415484"/>
          <p:cNvPicPr/>
          <p:nvPr/>
        </p:nvPicPr>
        <p:blipFill>
          <a:blip r:embed="rId1"/>
          <a:stretch/>
        </p:blipFill>
        <p:spPr>
          <a:xfrm>
            <a:off x="5940360" y="4581360"/>
            <a:ext cx="2508480" cy="184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ИТУ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ра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Book Antiqua"/>
              </a:rPr>
              <a:t>«Чем кумушек считать трудиться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Book Antiqua"/>
              </a:rPr>
              <a:t>не лучше ль на себя, кума, оборотитьс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И. Крылов «Зеркало и Обезьян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35388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Ужасно интересно, все  то, что неизвес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А то, что неизвестно, нам хочется узн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Но, чтоб добыть нам 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Проявим мы стар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Тогда с тобою многое удастся нам пон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s22647317"/>
          <p:cNvPicPr/>
          <p:nvPr/>
        </p:nvPicPr>
        <p:blipFill>
          <a:blip r:embed="rId1"/>
          <a:stretch/>
        </p:blipFill>
        <p:spPr>
          <a:xfrm>
            <a:off x="7740720" y="5648400"/>
            <a:ext cx="153180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фон 3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05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6"/>
          <p:cNvSpPr txBox="1"/>
          <p:nvPr/>
        </p:nvSpPr>
        <p:spPr>
          <a:xfrm>
            <a:off x="684360" y="1052640"/>
            <a:ext cx="7200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Настоящая басня,</a:t>
            </a:r>
            <a:endParaRPr b="1" i="1" lang="en-US" sz="4800" spc="1" strike="noStrike">
              <a:ln w="9360">
                <a:solidFill>
                  <a:srgbClr val="ffffb7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писанная большим </a:t>
            </a:r>
            <a:endParaRPr b="1" i="1" lang="en-US" sz="4800" spc="1" strike="noStrike">
              <a:ln w="9360">
                <a:solidFill>
                  <a:srgbClr val="ffffb7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поэтом, </a:t>
            </a:r>
            <a:endParaRPr b="1" i="1" lang="en-US" sz="4800" spc="1" strike="noStrike">
              <a:ln w="9360">
                <a:solidFill>
                  <a:srgbClr val="ffffb7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переживает века.</a:t>
            </a:r>
            <a:endParaRPr b="1" i="1" lang="en-US" sz="4800" spc="1" strike="noStrike">
              <a:ln w="9360">
                <a:solidFill>
                  <a:srgbClr val="ffffb7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4788000" y="5734080"/>
            <a:ext cx="43434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Ираклий Андронников</a:t>
            </a:r>
            <a:endParaRPr b="1" lang="en-US" sz="3200" spc="1" strike="noStrike">
              <a:ln w="9360">
                <a:solidFill>
                  <a:srgbClr val="ffffb7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958560" y="62881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578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Monotype Corsiva"/>
              </a:rPr>
              <a:t>    </a:t>
            </a:r>
            <a:r>
              <a:rPr b="1" i="1" lang="ru-RU" sz="5400" spc="-1" strike="noStrike">
                <a:solidFill>
                  <a:srgbClr val="ffffb7"/>
                </a:solidFill>
                <a:latin typeface="Monotype Corsiva"/>
              </a:rPr>
              <a:t>Иван  Бунин  «Листопад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autumn2[1]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50000"/>
          </a:xfrm>
          <a:prstGeom prst="rect">
            <a:avLst/>
          </a:prstGeom>
          <a:ln w="0">
            <a:noFill/>
          </a:ln>
        </p:spPr>
      </p:pic>
      <p:pic>
        <p:nvPicPr>
          <p:cNvPr id="108" name="03- Beethoven - Fur Elise.mp3" descr=""/>
          <p:cNvPicPr/>
          <p:nvPr/>
        </p:nvPicPr>
        <p:blipFill>
          <a:blip r:embed="rId2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086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592869773[1]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/>
          <p:cNvSpPr/>
          <p:nvPr/>
        </p:nvSpPr>
        <p:spPr>
          <a:xfrm>
            <a:off x="3886200" y="228600"/>
            <a:ext cx="4952880" cy="3048120"/>
          </a:xfrm>
          <a:prstGeom prst="cloudCallout">
            <a:avLst>
              <a:gd name="adj1" fmla="val -61921"/>
              <a:gd name="adj2" fmla="val 65782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4140360" y="1484280"/>
            <a:ext cx="419076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114" name="Picture 5" descr="16"/>
          <p:cNvPicPr/>
          <p:nvPr/>
        </p:nvPicPr>
        <p:blipFill>
          <a:blip r:embed="rId2"/>
          <a:stretch/>
        </p:blipFill>
        <p:spPr>
          <a:xfrm>
            <a:off x="533520" y="2438280"/>
            <a:ext cx="327636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b7"/>
                </a:solidFill>
                <a:latin typeface="Monotype Corsiva"/>
              </a:rPr>
              <a:t>ЗЕРКАЛО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mirror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фон 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4"/>
          <p:cNvSpPr txBox="1"/>
          <p:nvPr/>
        </p:nvSpPr>
        <p:spPr>
          <a:xfrm>
            <a:off x="1116000" y="333360"/>
            <a:ext cx="3457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Сергей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Михалков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279440" y="3141720"/>
            <a:ext cx="43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124360" y="50760"/>
            <a:ext cx="28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116000" y="6308640"/>
            <a:ext cx="66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4594320" y="692280"/>
            <a:ext cx="4441680" cy="5689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250920" y="4508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13.03.1913 – 27.08.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12"/>
          <p:cNvPicPr/>
          <p:nvPr/>
        </p:nvPicPr>
        <p:blipFill>
          <a:blip r:embed="rId1"/>
          <a:stretch/>
        </p:blipFill>
        <p:spPr>
          <a:xfrm>
            <a:off x="395280" y="333360"/>
            <a:ext cx="1920960" cy="2305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981520" cy="424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3059280" y="1844640"/>
            <a:ext cx="267624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324000" y="2852640"/>
            <a:ext cx="2573280" cy="379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тские г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Содержимое 3" descr="17727.jpg"/>
          <p:cNvPicPr/>
          <p:nvPr/>
        </p:nvPicPr>
        <p:blipFill>
          <a:blip r:embed="rId1"/>
          <a:stretch/>
        </p:blipFill>
        <p:spPr>
          <a:xfrm>
            <a:off x="5715000" y="1928880"/>
            <a:ext cx="2743200" cy="4406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293532_01.jpg"/>
          <p:cNvPicPr/>
          <p:nvPr/>
        </p:nvPicPr>
        <p:blipFill>
          <a:blip r:embed="rId2"/>
          <a:stretch/>
        </p:blipFill>
        <p:spPr>
          <a:xfrm>
            <a:off x="468360" y="1916280"/>
            <a:ext cx="441144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07:11:14Z</dcterms:created>
  <dc:creator>Оксана</dc:creator>
  <dc:description/>
  <dc:language>en-US</dc:language>
  <cp:lastModifiedBy>User</cp:lastModifiedBy>
  <dcterms:modified xsi:type="dcterms:W3CDTF">2015-10-11T07:37:29Z</dcterms:modified>
  <cp:revision>15</cp:revision>
  <dc:subject/>
  <dc:title>Слайд 1</dc:title>
</cp:coreProperties>
</file>