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2DF-4832-4A11-82BF-A58C1810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766-F4D6-4340-A393-51F1D6F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5AA-062C-4670-8BF8-5C0D8BD9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696-A9C7-4D90-81CD-065D3B75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9BD-0396-4BE4-868C-609B75EA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944-C828-49AE-9A4D-724E69B5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68A-7044-4CD1-84B3-A5EE1396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D9F-81FD-4AFD-907E-B8664938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67A-6C08-4581-BE56-981F151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E6F-7B66-4136-8A57-3FC3C347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B64-E504-4325-924F-68E4A0D7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702-6AC5-42E5-B9CE-2B60CDFB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8C03-4B20-43C9-809A-4886380E2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0" y="841320"/>
            <a:ext cx="8985240" cy="409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993600"/>
            <a:ext cx="6516720" cy="442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321760" cy="452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-36360" y="274680"/>
            <a:ext cx="9253440" cy="54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c35"/>
            </a:gs>
            <a:gs pos="100000">
              <a:srgbClr val="7793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371520" y="1163520"/>
            <a:ext cx="8869320" cy="473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Ел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Сосн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Лип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\Desktop\фото растений\Birch-520x693.jpg"/>
          <p:cNvPicPr/>
          <p:nvPr/>
        </p:nvPicPr>
        <p:blipFill>
          <a:blip r:embed="rId1"/>
          <a:stretch/>
        </p:blipFill>
        <p:spPr>
          <a:xfrm>
            <a:off x="1143000" y="500040"/>
            <a:ext cx="7215120" cy="6357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Берёз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Осин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Ду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89072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2" descr=""/>
          <p:cNvPicPr/>
          <p:nvPr/>
        </p:nvPicPr>
        <p:blipFill>
          <a:blip r:embed="rId2"/>
          <a:stretch/>
        </p:blipFill>
        <p:spPr>
          <a:xfrm>
            <a:off x="189000" y="1384200"/>
            <a:ext cx="8558280" cy="482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7:28:32Z</dcterms:created>
  <dc:creator>Admin</dc:creator>
  <dc:description/>
  <dc:language>en-US</dc:language>
  <cp:lastModifiedBy>Z</cp:lastModifiedBy>
  <dcterms:modified xsi:type="dcterms:W3CDTF">2015-09-23T02:43:28Z</dcterms:modified>
  <cp:revision>20</cp:revision>
  <dc:subject/>
  <dc:title>Слайд 1</dc:title>
</cp:coreProperties>
</file>