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AA1-CA5E-4A1A-BFEB-F4C18EBF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D88-793A-42FA-8B66-7078538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C32-3483-4315-B7C8-EBCD04EE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6A2-E14F-42DD-AD33-71EC4E4D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09C-610D-4027-94EC-FA20C166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AFC-7B5B-42F7-9907-8455DCA3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C33-5121-4E94-9E68-9156260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D5B-EE3F-4C80-9FDE-CFFB313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356-8E22-4EB4-8AAA-3E833972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A2F-39E2-44A5-B138-2642AE7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3CE-A714-417F-A66E-729E0D1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708-268F-4677-9B83-109DE69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D2A2-53A6-4A8F-A703-EDD962A20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0" y="841320"/>
            <a:ext cx="8985240" cy="409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993600"/>
            <a:ext cx="6516720" cy="442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21760" cy="452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-36360" y="274680"/>
            <a:ext cx="9253440" cy="54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c35"/>
            </a:gs>
            <a:gs pos="100000">
              <a:srgbClr val="7793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371520" y="1163520"/>
            <a:ext cx="8869320" cy="473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Ел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Сос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Лип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\Desktop\фото растений\Birch-520x693.jpg"/>
          <p:cNvPicPr/>
          <p:nvPr/>
        </p:nvPicPr>
        <p:blipFill>
          <a:blip r:embed="rId1"/>
          <a:stretch/>
        </p:blipFill>
        <p:spPr>
          <a:xfrm>
            <a:off x="1143000" y="500040"/>
            <a:ext cx="7215120" cy="6357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Берёз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Оси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Ду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89072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2" descr=""/>
          <p:cNvPicPr/>
          <p:nvPr/>
        </p:nvPicPr>
        <p:blipFill>
          <a:blip r:embed="rId2"/>
          <a:stretch/>
        </p:blipFill>
        <p:spPr>
          <a:xfrm>
            <a:off x="189000" y="1384200"/>
            <a:ext cx="8558280" cy="482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7:28:32Z</dcterms:created>
  <dc:creator>Admin</dc:creator>
  <dc:description/>
  <dc:language>en-US</dc:language>
  <cp:lastModifiedBy>Z</cp:lastModifiedBy>
  <dcterms:modified xsi:type="dcterms:W3CDTF">2015-09-23T02:43:28Z</dcterms:modified>
  <cp:revision>20</cp:revision>
  <dc:subject/>
  <dc:title>Слайд 1</dc:title>
</cp:coreProperties>
</file>