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DF903-0DA1-4614-AD92-2E9C72F5790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18921-DC4D-4508-88D1-44B5D0DB435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2FD0-EAF4-4F68-A49A-41CB0B70A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A2B4-2727-4556-B8AF-8534FC285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471E-B28E-4B7B-BE9E-61D033B2F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9FB9-1F15-40BE-8FAC-BF0B6D10B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14DF0-03CC-4F37-A069-23D3FC8DB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D2985-5797-4CF9-A4F4-BEC744109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972A0-2566-4161-868C-A87BA364B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277D4-C383-42FC-AE36-DD947E0F7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6D993-E8F9-4B13-9FFC-00A8C7DE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E3ABB-2096-4DD7-84B5-ED96990EA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7D2BB-B5E3-4F31-8D07-EF30C13D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89D1-2B00-4EB8-A76A-1EEB94C96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61A8D-2488-466E-90D8-54F7A491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8A8A0-7992-4A0A-86F8-1DF1ED50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5301C-5838-4E25-BD78-18A2394CF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AA87F-0320-4167-8F0E-43A5D6EE8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C08E9-9496-46D7-99C6-B95E9B192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B952-7CCE-4ADC-923A-9D4FDAA1E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EF28-4EE9-4C69-867E-4CE51E4FD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444D-F6AE-40A1-9505-D07C687B4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FB3E-139A-4ECB-B6FD-88DEA5233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1467-2CAE-4B8A-8117-FDD8B7CF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4CED-BDEC-40DD-BEAE-AAB72892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802E-1BDC-4A0E-87B6-7097F8F4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4FA9C-A184-4BFE-BC11-E502C222A72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D400F-9485-436A-9261-C9ABC36A8B1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ecff"/>
                </a:solidFill>
                <a:latin typeface="Arial"/>
              </a:rPr>
              <a:t>Тема</a:t>
            </a: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: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9900"/>
                </a:solidFill>
                <a:latin typeface="Arial"/>
              </a:rPr>
              <a:t>Тема:«Охрана природы»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5" descr="001"/>
          <p:cNvPicPr/>
          <p:nvPr/>
        </p:nvPicPr>
        <p:blipFill>
          <a:blip r:embed="rId1"/>
          <a:stretch/>
        </p:blipFill>
        <p:spPr>
          <a:xfrm>
            <a:off x="611280" y="189000"/>
            <a:ext cx="824544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ecff"/>
                </a:solidFill>
                <a:latin typeface="Arial"/>
              </a:rPr>
              <a:t>МОРАЛЬ.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1. Не вредить окружающей сред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2. Относиться к природе ответственно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3. Делать что-то полезное для природ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4. Предвидеть последствия своего поступк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ecff"/>
                </a:solidFill>
                <a:latin typeface="Arial"/>
              </a:rPr>
              <a:t>Запомни!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1.Каждый лично несёт ответственность за сохранение природ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2. Не причиняй зла живом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3. Помоги любой жиз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7" descr="717182"/>
          <p:cNvPicPr/>
          <p:nvPr/>
        </p:nvPicPr>
        <p:blipFill>
          <a:blip r:embed="rId1"/>
          <a:stretch/>
        </p:blipFill>
        <p:spPr>
          <a:xfrm>
            <a:off x="6659640" y="3573360"/>
            <a:ext cx="2286000" cy="304812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9"/>
          <p:cNvSpPr/>
          <p:nvPr/>
        </p:nvSpPr>
        <p:spPr>
          <a:xfrm>
            <a:off x="7380360" y="5805360"/>
            <a:ext cx="183960" cy="124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ttp://file.mobilmusic.ru/9d/53/02/717182.gi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10"/>
          <p:cNvSpPr/>
          <p:nvPr/>
        </p:nvSpPr>
        <p:spPr>
          <a:xfrm>
            <a:off x="3203640" y="551664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ttp://file.mobilmusic.ru/9d/53/02/717182.gi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63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Первым на защиту природы встал царь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Пётр Первый и издал УКАЗЫ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-об охране леса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- запрет на отстре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лосей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- запрет на слив му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ора в реку Неву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7" descr="petr"/>
          <p:cNvPicPr/>
          <p:nvPr/>
        </p:nvPicPr>
        <p:blipFill>
          <a:blip r:embed="rId1"/>
          <a:stretch/>
        </p:blipFill>
        <p:spPr>
          <a:xfrm>
            <a:off x="6227640" y="2421000"/>
            <a:ext cx="2428920" cy="333360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8"/>
          <p:cNvSpPr/>
          <p:nvPr/>
        </p:nvSpPr>
        <p:spPr>
          <a:xfrm>
            <a:off x="6227640" y="4797360"/>
            <a:ext cx="230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ttp://history-gatchina.ru/owners/dog/imgdog/petr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ecff"/>
                </a:solidFill>
                <a:latin typeface="Arial"/>
              </a:rPr>
              <a:t>20 век.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1. Создан Международный союз охраны природ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2. 1971г. – создана организация «ГРИНПИС»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5" descr="greenpeace-logo2"/>
          <p:cNvPicPr/>
          <p:nvPr/>
        </p:nvPicPr>
        <p:blipFill>
          <a:blip r:embed="rId1"/>
          <a:stretch/>
        </p:blipFill>
        <p:spPr>
          <a:xfrm>
            <a:off x="826920" y="386064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6"/>
          <p:cNvSpPr/>
          <p:nvPr/>
        </p:nvSpPr>
        <p:spPr>
          <a:xfrm>
            <a:off x="5148360" y="5661000"/>
            <a:ext cx="266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ttp://www.mojeopinie.pl/img/zoom3/greenpeace-logo2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648320" y="476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Смотрю на глобус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шар земной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Такой прекрас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и родн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И шепчут губы: «Я смогу, свою планету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Сберегу!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8" descr="cut_300_300_91a6139ab7d1"/>
          <p:cNvPicPr/>
          <p:nvPr/>
        </p:nvPicPr>
        <p:blipFill>
          <a:blip r:embed="rId1"/>
          <a:stretch/>
        </p:blipFill>
        <p:spPr>
          <a:xfrm>
            <a:off x="900000" y="1700280"/>
            <a:ext cx="2857680" cy="285732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9"/>
          <p:cNvSpPr/>
          <p:nvPr/>
        </p:nvSpPr>
        <p:spPr>
          <a:xfrm>
            <a:off x="900000" y="4869000"/>
            <a:ext cx="259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ttp://www.obzor-smi.ru/images/articles/arts/cache/cut_300_300_91a6139ab7d1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ecff"/>
                </a:solidFill>
                <a:latin typeface="Arial"/>
              </a:rPr>
              <a:t>Цель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Познакомить с последствиями влияния человека на природу, экологическими проблемами, которые необходимо решать на современном этап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ecff"/>
                </a:solidFill>
                <a:latin typeface="Arial"/>
              </a:rPr>
              <a:t>Автор: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00"/>
                </a:solidFill>
                <a:latin typeface="Arial"/>
              </a:rPr>
              <a:t>Ученица 3 а класса МБОУ Комаровской СОШ Кузнецовой Кристин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Смотрю на глобус-шар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                             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земно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                            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И вдруг вздохнул он, ка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                            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живо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                            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И шепчут мне материк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                            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Ты береги нас, береги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                            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В тревоге рощи и лес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                            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Роса на травах, как сле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                            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И тихо просят родник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                            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Ты береги нас, береги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7" descr="1200-globe"/>
          <p:cNvPicPr/>
          <p:nvPr/>
        </p:nvPicPr>
        <p:blipFill>
          <a:blip r:embed="rId1"/>
          <a:stretch/>
        </p:blipFill>
        <p:spPr>
          <a:xfrm>
            <a:off x="539640" y="189000"/>
            <a:ext cx="2857680" cy="285732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8"/>
          <p:cNvSpPr/>
          <p:nvPr/>
        </p:nvSpPr>
        <p:spPr>
          <a:xfrm>
            <a:off x="727200" y="3246480"/>
            <a:ext cx="247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ttp://cache.gawker.com/assets/images/lifehacker/2011/06/1200-globe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7200" y="115560"/>
            <a:ext cx="822960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Мы часто слышим слово «ЭКОЛОГИЯ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А что  это тако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5" descr="130648342086"/>
          <p:cNvPicPr/>
          <p:nvPr/>
        </p:nvPicPr>
        <p:blipFill>
          <a:blip r:embed="rId1"/>
          <a:stretch/>
        </p:blipFill>
        <p:spPr>
          <a:xfrm>
            <a:off x="179280" y="2276640"/>
            <a:ext cx="3486240" cy="333360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6"/>
          <p:cNvSpPr/>
          <p:nvPr/>
        </p:nvSpPr>
        <p:spPr>
          <a:xfrm>
            <a:off x="539640" y="5229360"/>
            <a:ext cx="2284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ttp://mignews.com.ua/files/pictures/201105/130648342086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9" descr="image"/>
          <p:cNvPicPr/>
          <p:nvPr/>
        </p:nvPicPr>
        <p:blipFill>
          <a:blip r:embed="rId2"/>
          <a:stretch/>
        </p:blipFill>
        <p:spPr>
          <a:xfrm>
            <a:off x="5219640" y="242100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10"/>
          <p:cNvSpPr/>
          <p:nvPr/>
        </p:nvSpPr>
        <p:spPr>
          <a:xfrm>
            <a:off x="5364000" y="4941720"/>
            <a:ext cx="1731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ttp://pravdaurfo.ru/sites/default/files/image.jpe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Экология – это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00"/>
                </a:solidFill>
                <a:latin typeface="Arial"/>
              </a:rPr>
              <a:t>наука о взаимоотношениях живых организмов между собой и окружающей средой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Organization Chart 7"/>
          <p:cNvGrpSpPr/>
          <p:nvPr/>
        </p:nvGrpSpPr>
        <p:grpSpPr>
          <a:xfrm>
            <a:off x="442800" y="333360"/>
            <a:ext cx="8208360" cy="6189480"/>
            <a:chOff x="442800" y="333360"/>
            <a:chExt cx="8208360" cy="6189480"/>
          </a:xfrm>
        </p:grpSpPr>
        <p:cxnSp>
          <p:nvCxnSpPr>
            <p:cNvPr id="235" name="_s1028"/>
            <p:cNvCxnSpPr>
              <a:stCxn id="236" idx="0"/>
              <a:endCxn id="237" idx="2"/>
            </p:cNvCxnSpPr>
            <p:nvPr/>
          </p:nvCxnSpPr>
          <p:spPr>
            <a:xfrm flipV="1" rot="16200000">
              <a:off x="5364360" y="1990800"/>
              <a:ext cx="1238400" cy="2873520"/>
            </a:xfrm>
            <a:prstGeom prst="bentConnector3">
              <a:avLst>
                <a:gd name="adj1" fmla="val 1279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8" name="_s1029"/>
            <p:cNvCxnSpPr>
              <a:stCxn id="239" idx="0"/>
              <a:endCxn id="237" idx="2"/>
            </p:cNvCxnSpPr>
            <p:nvPr/>
          </p:nvCxnSpPr>
          <p:spPr>
            <a:xfrm flipV="1">
              <a:off x="4547160" y="2808720"/>
              <a:ext cx="3600" cy="1238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0" name="_s1030"/>
            <p:cNvCxnSpPr>
              <a:stCxn id="241" idx="0"/>
              <a:endCxn id="237" idx="2"/>
            </p:cNvCxnSpPr>
            <p:nvPr/>
          </p:nvCxnSpPr>
          <p:spPr>
            <a:xfrm flipH="1" flipV="1" rot="5400000">
              <a:off x="2491200" y="1991160"/>
              <a:ext cx="1238400" cy="2873520"/>
            </a:xfrm>
            <a:prstGeom prst="bentConnector3">
              <a:avLst>
                <a:gd name="adj1" fmla="val 12794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37" name="_s1031"/>
            <p:cNvSpPr/>
            <p:nvPr/>
          </p:nvSpPr>
          <p:spPr>
            <a:xfrm>
              <a:off x="3315600" y="333360"/>
              <a:ext cx="2462400" cy="2475720"/>
            </a:xfrm>
            <a:custGeom>
              <a:avLst/>
              <a:gdLst>
                <a:gd name="textAreaLeft" fmla="*/ 119880 w 2462400"/>
                <a:gd name="textAreaRight" fmla="*/ 2342520 w 2462400"/>
                <a:gd name="textAreaTop" fmla="*/ 119880 h 2475720"/>
                <a:gd name="textAreaBottom" fmla="*/ 2355840 h 2475720"/>
              </a:gdLst>
              <a:ahLst/>
              <a:rect l="textAreaLeft" t="textAreaTop" r="textAreaRight" b="textAreaBottom"/>
              <a:pathLst>
                <a:path w="21600" h="21717">
                  <a:moveTo>
                    <a:pt x="3600" y="0"/>
                  </a:moveTo>
                  <a:arcTo wR="3600" hR="3600" stAng="16200000" swAng="-5400000"/>
                  <a:lnTo>
                    <a:pt x="0" y="18117"/>
                  </a:lnTo>
                  <a:arcTo wR="3600" hR="3600" stAng="10800000" swAng="-5400000"/>
                  <a:lnTo>
                    <a:pt x="18000" y="217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Отрицательн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результаты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деятельност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человека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_s1032"/>
            <p:cNvSpPr/>
            <p:nvPr/>
          </p:nvSpPr>
          <p:spPr>
            <a:xfrm>
              <a:off x="442800" y="4047120"/>
              <a:ext cx="2462400" cy="2475720"/>
            </a:xfrm>
            <a:custGeom>
              <a:avLst/>
              <a:gdLst>
                <a:gd name="textAreaLeft" fmla="*/ 119880 w 2462400"/>
                <a:gd name="textAreaRight" fmla="*/ 2342520 w 2462400"/>
                <a:gd name="textAreaTop" fmla="*/ 119880 h 2475720"/>
                <a:gd name="textAreaBottom" fmla="*/ 2355840 h 2475720"/>
              </a:gdLst>
              <a:ahLst/>
              <a:rect l="textAreaLeft" t="textAreaTop" r="textAreaRight" b="textAreaBottom"/>
              <a:pathLst>
                <a:path w="21600" h="21717">
                  <a:moveTo>
                    <a:pt x="3600" y="0"/>
                  </a:moveTo>
                  <a:arcTo wR="3600" hR="3600" stAng="16200000" swAng="-5400000"/>
                  <a:lnTo>
                    <a:pt x="0" y="18117"/>
                  </a:lnTo>
                  <a:arcTo wR="3600" hR="3600" stAng="10800000" swAng="-5400000"/>
                  <a:lnTo>
                    <a:pt x="18000" y="217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Вырубка лесов</a:t>
              </a: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_s1033"/>
            <p:cNvSpPr/>
            <p:nvPr/>
          </p:nvSpPr>
          <p:spPr>
            <a:xfrm>
              <a:off x="3315600" y="4047120"/>
              <a:ext cx="2462400" cy="2475720"/>
            </a:xfrm>
            <a:custGeom>
              <a:avLst/>
              <a:gdLst>
                <a:gd name="textAreaLeft" fmla="*/ 119880 w 2462400"/>
                <a:gd name="textAreaRight" fmla="*/ 2342520 w 2462400"/>
                <a:gd name="textAreaTop" fmla="*/ 119880 h 2475720"/>
                <a:gd name="textAreaBottom" fmla="*/ 2355840 h 2475720"/>
              </a:gdLst>
              <a:ahLst/>
              <a:rect l="textAreaLeft" t="textAreaTop" r="textAreaRight" b="textAreaBottom"/>
              <a:pathLst>
                <a:path w="21600" h="21717">
                  <a:moveTo>
                    <a:pt x="3600" y="0"/>
                  </a:moveTo>
                  <a:arcTo wR="3600" hR="3600" stAng="16200000" swAng="-5400000"/>
                  <a:lnTo>
                    <a:pt x="0" y="18117"/>
                  </a:lnTo>
                  <a:arcTo wR="3600" hR="3600" stAng="10800000" swAng="-5400000"/>
                  <a:lnTo>
                    <a:pt x="18000" y="217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Загрязнение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мирового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Океана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_s1034"/>
            <p:cNvSpPr/>
            <p:nvPr/>
          </p:nvSpPr>
          <p:spPr>
            <a:xfrm>
              <a:off x="6188760" y="4047120"/>
              <a:ext cx="2462400" cy="2475720"/>
            </a:xfrm>
            <a:custGeom>
              <a:avLst/>
              <a:gdLst>
                <a:gd name="textAreaLeft" fmla="*/ 119880 w 2462400"/>
                <a:gd name="textAreaRight" fmla="*/ 2342520 w 2462400"/>
                <a:gd name="textAreaTop" fmla="*/ 119880 h 2475720"/>
                <a:gd name="textAreaBottom" fmla="*/ 2355840 h 2475720"/>
              </a:gdLst>
              <a:ahLst/>
              <a:rect l="textAreaLeft" t="textAreaTop" r="textAreaRight" b="textAreaBottom"/>
              <a:pathLst>
                <a:path w="21600" h="21717">
                  <a:moveTo>
                    <a:pt x="3600" y="0"/>
                  </a:moveTo>
                  <a:arcTo wR="3600" hR="3600" stAng="16200000" swAng="-5400000"/>
                  <a:lnTo>
                    <a:pt x="0" y="18117"/>
                  </a:lnTo>
                  <a:arcTo wR="3600" hR="3600" stAng="10800000" swAng="-5400000"/>
                  <a:lnTo>
                    <a:pt x="18000" y="217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Загрязнение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Воздуха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Arial"/>
              </a:rPr>
              <a:t>Вдумаемся в эти данные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 год исчезает 50000 биологических видов в нашей экосистем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 Х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I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X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в. исчезло свыше 250 видов позвоночны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д угрозой исчезновения находятся ещё более 20 тысяч ви дов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http://zoo.rin.ru/images/parts/img_41_sm.jp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8" descr="img_41_sm"/>
          <p:cNvPicPr/>
          <p:nvPr/>
        </p:nvPicPr>
        <p:blipFill>
          <a:blip r:embed="rId1"/>
          <a:stretch/>
        </p:blipFill>
        <p:spPr>
          <a:xfrm>
            <a:off x="6804000" y="3789360"/>
            <a:ext cx="191124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00"/>
                </a:solidFill>
                <a:latin typeface="Arial"/>
              </a:rPr>
              <a:t>Страшные факты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.Ежегодно сжигает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я млрд. тонн топли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атмосферу выбра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ывается млн. тонн сажи, золы, пы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. Ежегодно попадает в почву сотни млр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онн бытовых сто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. Нашу землю отравляют радиоактивные отхо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6T09:36:00Z</dcterms:created>
  <dc:creator>света</dc:creator>
  <dc:description/>
  <dc:language>en-US</dc:language>
  <cp:lastModifiedBy>учитель</cp:lastModifiedBy>
  <dcterms:modified xsi:type="dcterms:W3CDTF">2015-03-20T08:50:00Z</dcterms:modified>
  <cp:revision>5</cp:revision>
  <dc:subject/>
  <dc:title>Тема:</dc:title>
</cp:coreProperties>
</file>