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34E3-BC6A-4AD6-99CC-56D1D7391A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89F1-3131-4EDB-BCCA-DD6989D464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283-7716-4C19-BC77-FB7EC1CA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468-ED58-4AFF-AC8C-CD9A35E2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9C3-4F95-4CE1-BDFB-AD8ABB08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D03-26B6-4F18-968F-F74C9B1C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60A2-0D50-45C0-BF58-0AB14A92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91B4-F838-4273-AFCE-C1CC3687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AC10-F33E-484B-B430-B7412CB5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C41-609F-4671-B608-B28C2B6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0C29-DF2D-4730-B915-6B87816A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CF53-5C9C-4C97-8054-C10CBE8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15AB-F90D-466C-84FC-B7689B8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6E7-E86D-4184-A3D9-AC3FF49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6F1F-D9F9-4140-A431-C9EE1AF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3582-777F-4F24-BE2F-057C7B6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F957-7119-4E1D-8129-E6008E41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2091-47ED-446A-9DF2-8496C744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B178-F7EA-49E6-ADB8-7CABC940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1A1-0E46-4F3E-B5D2-E84DB7E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CB0-F5D6-4C94-BBE0-85F3F96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DF3-C39B-4FC9-8AF6-48692D10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F7F-1ED0-4473-A216-651CA6F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975-FABC-4E8B-A89D-01C1BAB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DFF-69FA-4C65-8BB7-43281736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579-19AF-4ADA-934B-C95A8C9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FAF-F518-4C05-ABEE-17BF97BF5F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A1F3-0A0C-451F-AECB-142E88F43D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Тема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Тема:«Охрана природы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001"/>
          <p:cNvPicPr/>
          <p:nvPr/>
        </p:nvPicPr>
        <p:blipFill>
          <a:blip r:embed="rId1"/>
          <a:stretch/>
        </p:blipFill>
        <p:spPr>
          <a:xfrm>
            <a:off x="611280" y="189000"/>
            <a:ext cx="82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МОРАЛЬ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1. Не вредить окружающей сре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Относиться к природе ответствен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Делать что-то полезное для прир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4. Предвидеть последствия своего поступ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Запомни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.Каждый лично несёт ответственность за сохранение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2. Не причиняй зла жив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. Помоги люб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717182"/>
          <p:cNvPicPr/>
          <p:nvPr/>
        </p:nvPicPr>
        <p:blipFill>
          <a:blip r:embed="rId1"/>
          <a:stretch/>
        </p:blipFill>
        <p:spPr>
          <a:xfrm>
            <a:off x="6659640" y="3573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7380360" y="5805360"/>
            <a:ext cx="183960" cy="12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203640" y="551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рвым на защиту природы встал ца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ётр Первый и издал УК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об охране лес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отстре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се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слив му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ра в реку Не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petr"/>
          <p:cNvPicPr/>
          <p:nvPr/>
        </p:nvPicPr>
        <p:blipFill>
          <a:blip r:embed="rId1"/>
          <a:stretch/>
        </p:blipFill>
        <p:spPr>
          <a:xfrm>
            <a:off x="6227640" y="24210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8"/>
          <p:cNvSpPr/>
          <p:nvPr/>
        </p:nvSpPr>
        <p:spPr>
          <a:xfrm>
            <a:off x="6227640" y="4797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history-gatchina.ru/owners/dog/imgdog/pet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20 век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. Создан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. 1971г. – создана организация «ГРИНПИС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greenpeace-logo2"/>
          <p:cNvPicPr/>
          <p:nvPr/>
        </p:nvPicPr>
        <p:blipFill>
          <a:blip r:embed="rId1"/>
          <a:stretch/>
        </p:blipFill>
        <p:spPr>
          <a:xfrm>
            <a:off x="82692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5148360" y="5661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ojeopinie.pl/img/zoom3/greenpeace-logo2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мотрю на глобу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шар зем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акой прекра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р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шепчут губы: «Я смогу, свою плане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берег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cut_300_300_91a6139ab7d1"/>
          <p:cNvPicPr/>
          <p:nvPr/>
        </p:nvPicPr>
        <p:blipFill>
          <a:blip r:embed="rId1"/>
          <a:stretch/>
        </p:blipFill>
        <p:spPr>
          <a:xfrm>
            <a:off x="900000" y="1700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900000" y="4869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obzor-smi.ru/images/articles/arts/cache/cut_300_300_91a6139ab7d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накомить с последствиями влияния человека на природу, экологическими проблемами, которые необходимо решать на современном эта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Автор: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Ученица 3 а класса МБОУ Комаровской СОШ Кузнецовой Крист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мотрю на глобус-ш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ем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вдруг вздохнул он, 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шепчут мне матер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тревоге рощи и л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оса на травах, как с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тихо просят род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1200-globe"/>
          <p:cNvPicPr/>
          <p:nvPr/>
        </p:nvPicPr>
        <p:blipFill>
          <a:blip r:embed="rId1"/>
          <a:stretch/>
        </p:blipFill>
        <p:spPr>
          <a:xfrm>
            <a:off x="539640" y="18900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727200" y="3246480"/>
            <a:ext cx="24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ache.gawker.com/assets/images/lifehacker/2011/06/1200-glob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ы часто слышим слово «ЭКОЛОГ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 что  это тако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30648342086"/>
          <p:cNvPicPr/>
          <p:nvPr/>
        </p:nvPicPr>
        <p:blipFill>
          <a:blip r:embed="rId1"/>
          <a:stretch/>
        </p:blipFill>
        <p:spPr>
          <a:xfrm>
            <a:off x="179280" y="227664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539640" y="5229360"/>
            <a:ext cx="228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gnews.com.ua/files/pictures/201105/13064834208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image"/>
          <p:cNvPicPr/>
          <p:nvPr/>
        </p:nvPicPr>
        <p:blipFill>
          <a:blip r:embed="rId2"/>
          <a:stretch/>
        </p:blipFill>
        <p:spPr>
          <a:xfrm>
            <a:off x="521964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"/>
          <p:cNvSpPr/>
          <p:nvPr/>
        </p:nvSpPr>
        <p:spPr>
          <a:xfrm>
            <a:off x="5364000" y="4941720"/>
            <a:ext cx="17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ravdaurfo.ru/sites/default/files/image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Экология – эт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наука о взаимоотношениях живых организмов между собой и окружающей средо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Organization Chart 7"/>
          <p:cNvGrpSpPr/>
          <p:nvPr/>
        </p:nvGrpSpPr>
        <p:grpSpPr>
          <a:xfrm>
            <a:off x="442800" y="333360"/>
            <a:ext cx="8208360" cy="6189480"/>
            <a:chOff x="442800" y="333360"/>
            <a:chExt cx="8208360" cy="6189480"/>
          </a:xfrm>
        </p:grpSpPr>
        <p:cxnSp>
          <p:nvCxnSpPr>
            <p:cNvPr id="235" name="_s1028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5364360" y="199080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1029"/>
            <p:cNvCxnSpPr>
              <a:stCxn id="239" idx="0"/>
              <a:endCxn id="237" idx="2"/>
            </p:cNvCxnSpPr>
            <p:nvPr/>
          </p:nvCxnSpPr>
          <p:spPr>
            <a:xfrm flipV="1">
              <a:off x="4547160" y="2808720"/>
              <a:ext cx="3600" cy="123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1030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2491200" y="199116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7" name="_s1031"/>
            <p:cNvSpPr/>
            <p:nvPr/>
          </p:nvSpPr>
          <p:spPr>
            <a:xfrm>
              <a:off x="3315600" y="33336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032"/>
            <p:cNvSpPr/>
            <p:nvPr/>
          </p:nvSpPr>
          <p:spPr>
            <a:xfrm>
              <a:off x="4428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рубка лесов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3"/>
            <p:cNvSpPr/>
            <p:nvPr/>
          </p:nvSpPr>
          <p:spPr>
            <a:xfrm>
              <a:off x="33156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ировог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кеан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618876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здух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Вдумаемся в эти данны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год исчезает 50000 биологических видов в нашей экосис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. исчезло свыше 250 видов позвоноч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угрозой исчезновения находятся ещё более 20 тысяч ви д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zoo.rin.ru/images/parts/img_41_sm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img_41_sm"/>
          <p:cNvPicPr/>
          <p:nvPr/>
        </p:nvPicPr>
        <p:blipFill>
          <a:blip r:embed="rId1"/>
          <a:stretch/>
        </p:blipFill>
        <p:spPr>
          <a:xfrm>
            <a:off x="6804000" y="3789360"/>
            <a:ext cx="19112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рашные факты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Ежегодно сжига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я млрд. тонн топл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тмосферу выбр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вается млн. тонн сажи, золы, пы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Ежегодно попадает в почву сотни млр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н бытовых ст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шу землю отравляют радиоактивны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9:36:00Z</dcterms:created>
  <dc:creator>света</dc:creator>
  <dc:description/>
  <dc:language>en-US</dc:language>
  <cp:lastModifiedBy>учитель</cp:lastModifiedBy>
  <dcterms:modified xsi:type="dcterms:W3CDTF">2015-03-20T08:50:00Z</dcterms:modified>
  <cp:revision>5</cp:revision>
  <dc:subject/>
  <dc:title>Тема:</dc:title>
</cp:coreProperties>
</file>