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082-E7A0-41D0-B84F-176719EF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B21-E2AA-4079-9060-C7BAAB50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46A-FF79-486B-9FB3-3E57E73E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7F9-E1D9-4FA7-B561-33DE7D77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E12-6F9F-4F97-8B02-C348D510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8E0-0138-450F-8A20-74EFC506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37D-D2D2-4BED-87B8-1D40666E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94C-361C-463D-A25C-96118EF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41B-34CF-4D42-A3F7-C87E8449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052-BF6B-4724-81D4-F361387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43C-EA6A-4624-B620-88E1CBFB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B8B-0073-4BB8-83CE-E8BC80C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BA5-65F5-4F96-84C4-0BD4F86C6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как и все живые организмы состоят из 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клетка имеет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 представителей разных царств между собой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тельной чертой растительной клетки является наличие  ……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073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00000" y="2708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4572000" y="2708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843280" y="3500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Б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572000" y="347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30072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90480" y="1052640"/>
            <a:ext cx="7635960" cy="4680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322800" y="31734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  Е       Е В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492360" y="16970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 В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17760" y="26240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Л О       О Ф И Л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476520" y="21589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О В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754360" y="3635280"/>
            <a:ext cx="46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 С Т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298600" y="4097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О Д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 Ж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18360" cy="3959280"/>
          </a:xfrm>
          <a:prstGeom prst="rect">
            <a:avLst/>
          </a:prstGeom>
          <a:ln w="0">
            <a:noFill/>
          </a:ln>
        </p:spPr>
      </p:pic>
      <p:sp>
        <p:nvSpPr>
          <p:cNvPr id="55" name="Овал 1"/>
          <p:cNvSpPr/>
          <p:nvPr/>
        </p:nvSpPr>
        <p:spPr>
          <a:xfrm>
            <a:off x="611280" y="1484280"/>
            <a:ext cx="1800000" cy="1724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6516720" y="1395360"/>
            <a:ext cx="1800360" cy="181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5148360" y="2301840"/>
            <a:ext cx="1584360" cy="19908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210960"/>
            <a:ext cx="83487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Изображение 118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71640" y="2421000"/>
            <a:ext cx="6480000" cy="424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1835280" y="3500280"/>
            <a:ext cx="4537080" cy="14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е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684360" y="907920"/>
            <a:ext cx="6265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итель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1292"/>
          <p:cNvPicPr/>
          <p:nvPr/>
        </p:nvPicPr>
        <p:blipFill>
          <a:blip r:embed="rId1">
            <a:lum contrast="18000"/>
          </a:blip>
          <a:srcRect l="15651" t="13064" r="17970" b="16590"/>
          <a:stretch/>
        </p:blipFill>
        <p:spPr>
          <a:xfrm>
            <a:off x="468360" y="476280"/>
            <a:ext cx="266544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95280" y="4149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Изображение 1293"/>
          <p:cNvPicPr/>
          <p:nvPr/>
        </p:nvPicPr>
        <p:blipFill>
          <a:blip r:embed="rId2"/>
          <a:srcRect l="0" t="5218" r="4047" b="5369"/>
          <a:stretch/>
        </p:blipFill>
        <p:spPr>
          <a:xfrm>
            <a:off x="2771640" y="4221000"/>
            <a:ext cx="3159360" cy="2159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411280" y="5516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Изображение 1295"/>
          <p:cNvPicPr/>
          <p:nvPr/>
        </p:nvPicPr>
        <p:blipFill>
          <a:blip r:embed="rId3">
            <a:lum contrast="18000"/>
          </a:blip>
          <a:srcRect l="0" t="25000" r="32310" b="13635"/>
          <a:stretch/>
        </p:blipFill>
        <p:spPr>
          <a:xfrm>
            <a:off x="6659640" y="3933720"/>
            <a:ext cx="2271600" cy="266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Изображение 1294"/>
          <p:cNvPicPr/>
          <p:nvPr/>
        </p:nvPicPr>
        <p:blipFill>
          <a:blip r:embed="rId4">
            <a:lum contrast="18000"/>
          </a:blip>
          <a:srcRect l="2039" t="7235" r="1552" b="8845"/>
          <a:stretch/>
        </p:blipFill>
        <p:spPr>
          <a:xfrm>
            <a:off x="4284720" y="907920"/>
            <a:ext cx="345600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4211640" y="90792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81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203640" y="6237360"/>
            <a:ext cx="287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84360" y="26028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те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932360" y="40464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076720" y="404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а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6804000" y="35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бные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Изображение 1292"/>
          <p:cNvPicPr/>
          <p:nvPr/>
        </p:nvPicPr>
        <p:blipFill>
          <a:blip r:embed="rId1">
            <a:lum contrast="18000"/>
          </a:blip>
          <a:srcRect l="7791" t="8834" r="4303" b="8784"/>
          <a:stretch/>
        </p:blipFill>
        <p:spPr>
          <a:xfrm>
            <a:off x="250920" y="404640"/>
            <a:ext cx="8569080" cy="590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Изображение 1291"/>
          <p:cNvPicPr/>
          <p:nvPr/>
        </p:nvPicPr>
        <p:blipFill>
          <a:blip r:embed="rId1">
            <a:lum contrast="36000"/>
          </a:blip>
          <a:srcRect l="17257" t="0" r="0" b="0"/>
          <a:stretch/>
        </p:blipFill>
        <p:spPr>
          <a:xfrm>
            <a:off x="5548320" y="3726000"/>
            <a:ext cx="3384720" cy="201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Изображение 1290"/>
          <p:cNvPicPr/>
          <p:nvPr/>
        </p:nvPicPr>
        <p:blipFill>
          <a:blip r:embed="rId2">
            <a:lum contrast="12000"/>
          </a:blip>
          <a:srcRect l="21078" t="12193" r="-8031" b="0"/>
          <a:stretch/>
        </p:blipFill>
        <p:spPr>
          <a:xfrm>
            <a:off x="6156360" y="33336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Изображение 1289"/>
          <p:cNvPicPr/>
          <p:nvPr/>
        </p:nvPicPr>
        <p:blipFill>
          <a:blip r:embed="rId3"/>
          <a:stretch/>
        </p:blipFill>
        <p:spPr>
          <a:xfrm>
            <a:off x="428760" y="3286080"/>
            <a:ext cx="3049560" cy="2519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411280" y="3429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Изображение 1288"/>
          <p:cNvPicPr/>
          <p:nvPr/>
        </p:nvPicPr>
        <p:blipFill>
          <a:blip r:embed="rId4"/>
          <a:srcRect l="15703" t="13411" r="4646" b="10555"/>
          <a:stretch/>
        </p:blipFill>
        <p:spPr>
          <a:xfrm>
            <a:off x="539640" y="18900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3419640" y="2276640"/>
            <a:ext cx="57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327480" y="589752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300720" y="5734080"/>
            <a:ext cx="37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51640" y="2060640"/>
            <a:ext cx="50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3:05:31Z</dcterms:created>
  <dc:creator>Customer</dc:creator>
  <dc:description/>
  <dc:language>en-US</dc:language>
  <cp:lastModifiedBy>саблина </cp:lastModifiedBy>
  <cp:lastPrinted>2015-08-03T08:10:05Z</cp:lastPrinted>
  <dcterms:modified xsi:type="dcterms:W3CDTF">2015-09-21T09:35:28Z</dcterms:modified>
  <cp:revision>18</cp:revision>
  <dc:subject/>
  <dc:title>  </dc:title>
</cp:coreProperties>
</file>