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22F-7836-4E2D-A90B-7D7BA176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61B-3C8D-4008-9B63-0F6B274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58F-5B6E-467C-B5BB-6A90AC3B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08F-6D0F-4179-AE51-57D3F414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726-06DA-4C60-8357-7C6E638E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402-4C67-4A81-B54B-5967E453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6AD-E58D-4C04-936F-661A251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FD8-EF12-4485-B2FD-46F8267A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3DE-8CAC-4FD1-B869-BBC9B07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041-1E74-42EF-B37E-174BA49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56A-89BA-4793-B859-D71BBA7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F57-3D95-485A-8232-A64B651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E626-1BF2-4417-899E-C3D1A3497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Н- и –НН-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илагательных и  причастиях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7840" y="274680"/>
            <a:ext cx="4286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И. Шишкин. 1890 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4" descr="82836.jpg"/>
          <p:cNvPicPr/>
          <p:nvPr/>
        </p:nvPicPr>
        <p:blipFill>
          <a:blip r:embed="rId1"/>
          <a:stretch/>
        </p:blipFill>
        <p:spPr>
          <a:xfrm>
            <a:off x="214200" y="214200"/>
            <a:ext cx="45720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4857840" y="2828880"/>
            <a:ext cx="50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 дремлет, качая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негом сыпу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та, как ризой, она…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yanvarj.mp3" descr=""/>
          <p:cNvPicPr/>
          <p:nvPr/>
        </p:nvPicPr>
        <p:blipFill>
          <a:blip r:embed="rId2"/>
          <a:stretch/>
        </p:blipFill>
        <p:spPr>
          <a:xfrm>
            <a:off x="4929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с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выуч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196 – разобрать орфограммы устно, подготовиться писать под диктовку. Выписать словосочетания с причастиями и отглагольными прилагательными, изучаемую орфограмму подчерк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: записать слова с изучаемой орфограммой для игры «третье лишне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00040" y="1643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b6bcf"/>
                </a:solidFill>
                <a:latin typeface="Constantia"/>
              </a:rPr>
              <a:t>  </a:t>
            </a:r>
            <a:r>
              <a:rPr b="1" i="1" lang="ru-RU" sz="7200" spc="-1" strike="noStrike">
                <a:solidFill>
                  <a:srgbClr val="6b6bcf"/>
                </a:solidFill>
                <a:latin typeface="Constanti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написание –Н- и –НН- в разных частях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рфографическое правило  написания -н- и –нн- в причастия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различать причастия и отглагольные прилагательные и правильно писать –н- и –нн- в суффикс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2174760"/>
            <a:ext cx="428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при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зависим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иста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зависимого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причас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- г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- б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– в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- а,г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40384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чёное яблок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чённое в духовке яблоко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лагольное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страдательное 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шеная трава – некошеная трава – скошенная трава - нескошенная трав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</a:rPr>
              <a:t>Прилагательное или причас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rganization Chart 4"/>
          <p:cNvGrpSpPr/>
          <p:nvPr/>
        </p:nvGrpSpPr>
        <p:grpSpPr>
          <a:xfrm>
            <a:off x="214200" y="714240"/>
            <a:ext cx="8571960" cy="5785920"/>
            <a:chOff x="214200" y="714240"/>
            <a:chExt cx="8571960" cy="5785920"/>
          </a:xfrm>
        </p:grpSpPr>
        <p:cxnSp>
          <p:nvCxnSpPr>
            <p:cNvPr id="55" name="_s8198"/>
            <p:cNvCxnSpPr>
              <a:stCxn id="56" idx="0"/>
              <a:endCxn id="57" idx="2"/>
            </p:cNvCxnSpPr>
            <p:nvPr/>
          </p:nvCxnSpPr>
          <p:spPr>
            <a:xfrm flipH="1" flipV="1" rot="5400000">
              <a:off x="5834880" y="4188960"/>
              <a:ext cx="349200" cy="1653480"/>
            </a:xfrm>
            <a:prstGeom prst="bentConnector3">
              <a:avLst>
                <a:gd name="adj1" fmla="val 49948"/>
              </a:avLst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58" name="_s8201"/>
            <p:cNvCxnSpPr>
              <a:stCxn id="57" idx="1"/>
              <a:endCxn id="59" idx="2"/>
            </p:cNvCxnSpPr>
            <p:nvPr/>
          </p:nvCxnSpPr>
          <p:spPr>
            <a:xfrm rot="10800000">
              <a:off x="5425560" y="2995920"/>
              <a:ext cx="172800" cy="1043640"/>
            </a:xfrm>
            <a:prstGeom prst="bentConnector2">
              <a:avLst/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0" name="_s8202"/>
            <p:cNvCxnSpPr>
              <a:stCxn id="61" idx="0"/>
              <a:endCxn id="57" idx="2"/>
            </p:cNvCxnSpPr>
            <p:nvPr/>
          </p:nvCxnSpPr>
          <p:spPr>
            <a:xfrm flipV="1" rot="16200000">
              <a:off x="7022520" y="4654800"/>
              <a:ext cx="349200" cy="721440"/>
            </a:xfrm>
            <a:prstGeom prst="bentConnector3">
              <a:avLst>
                <a:gd name="adj1" fmla="val 49948"/>
              </a:avLst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2" name="_s8203"/>
            <p:cNvCxnSpPr>
              <a:stCxn id="63" idx="3"/>
              <a:endCxn id="59" idx="2"/>
            </p:cNvCxnSpPr>
            <p:nvPr/>
          </p:nvCxnSpPr>
          <p:spPr>
            <a:xfrm flipV="1">
              <a:off x="4542120" y="2995560"/>
              <a:ext cx="882000" cy="1030320"/>
            </a:xfrm>
            <a:prstGeom prst="bentConnector2">
              <a:avLst/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4" name="_s8204"/>
            <p:cNvCxnSpPr>
              <a:stCxn id="59" idx="0"/>
              <a:endCxn id="65" idx="2"/>
            </p:cNvCxnSpPr>
            <p:nvPr/>
          </p:nvCxnSpPr>
          <p:spPr>
            <a:xfrm flipV="1" rot="16200000">
              <a:off x="4542120" y="1139760"/>
              <a:ext cx="332280" cy="14295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3c8c93"/>
              </a:solidFill>
              <a:miter/>
            </a:ln>
          </p:spPr>
        </p:cxnSp>
        <p:cxnSp>
          <p:nvCxnSpPr>
            <p:cNvPr id="66" name="_s8205"/>
            <p:cNvCxnSpPr>
              <a:stCxn id="67" idx="0"/>
              <a:endCxn id="65" idx="2"/>
            </p:cNvCxnSpPr>
            <p:nvPr/>
          </p:nvCxnSpPr>
          <p:spPr>
            <a:xfrm flipH="1" flipV="1" rot="5400000">
              <a:off x="2482920" y="515880"/>
              <a:ext cx="332280" cy="26913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3c8c93"/>
              </a:solidFill>
              <a:miter/>
            </a:ln>
          </p:spPr>
        </p:cxnSp>
        <p:sp>
          <p:nvSpPr>
            <p:cNvPr id="65" name="_s8206"/>
            <p:cNvSpPr/>
            <p:nvPr/>
          </p:nvSpPr>
          <p:spPr>
            <a:xfrm>
              <a:off x="2686680" y="714240"/>
              <a:ext cx="2615040" cy="97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Есть ли зависим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слово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8207"/>
            <p:cNvSpPr/>
            <p:nvPr/>
          </p:nvSpPr>
          <p:spPr>
            <a:xfrm>
              <a:off x="214200" y="2021040"/>
              <a:ext cx="2181960" cy="97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            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Д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част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8208"/>
            <p:cNvSpPr/>
            <p:nvPr/>
          </p:nvSpPr>
          <p:spPr>
            <a:xfrm>
              <a:off x="4142520" y="2021040"/>
              <a:ext cx="2563560" cy="97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Не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Есть ли приставк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8209"/>
            <p:cNvSpPr/>
            <p:nvPr/>
          </p:nvSpPr>
          <p:spPr>
            <a:xfrm>
              <a:off x="2613960" y="3327840"/>
              <a:ext cx="1928160" cy="139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час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8210"/>
            <p:cNvSpPr/>
            <p:nvPr/>
          </p:nvSpPr>
          <p:spPr>
            <a:xfrm>
              <a:off x="5598360" y="3233160"/>
              <a:ext cx="2473200" cy="16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Нет. Образова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от глаго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совершен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вид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8211"/>
            <p:cNvSpPr/>
            <p:nvPr/>
          </p:nvSpPr>
          <p:spPr>
            <a:xfrm>
              <a:off x="6325560" y="5193360"/>
              <a:ext cx="2460600" cy="130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Не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лаг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8214"/>
            <p:cNvSpPr/>
            <p:nvPr/>
          </p:nvSpPr>
          <p:spPr>
            <a:xfrm>
              <a:off x="4215240" y="5193360"/>
              <a:ext cx="1931400" cy="130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c8c93"/>
                  </a:solidFill>
                  <a:latin typeface="Arial"/>
                </a:rPr>
                <a:t>Это причас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Н- и –НН- в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н-, -ян-, -и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иня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и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Н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2174400"/>
            <a:ext cx="40417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нн-, -енн-Батальонный, тык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ен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42960" y="50007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л.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клянный, оловя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ревянный, ветр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н- -1; -нн-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356760"/>
            <a:ext cx="91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 Но я открыть упорно не хотела зажмуре_ых от мыльной пены глаз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. Фокин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 Из тьмы выступали груже_ые углем платформы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. Казанцев)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Узенькая степная тропа влилась в мягкую пыль наезже_ой дорог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. Ефремов)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Блестели отшлифова_ые росой рельсы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. Шолохов)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Улицы были завале_ы обломками кирпич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. Крестовский)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Тяжело груже_ые составы шли в Москву с Урала, из Сибир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Э. Хруцкий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 Он вспоминал беше_ый грохот копыт по улицам Ростов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Э. Хруцкий)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Тусклый свет едва пробивался сквозь полузашторе_ые окн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Е. Яковлева)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Дорога пролегала между двумя живыми изгородями стриже_ого кустарни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. Погорело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 Дальше шла дорога, кое-где пересыпа_ая щебнем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Т. Поляков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) Они уселись вокруг полирова_ого стола. 12) Босые ноги чуть покалывает свежескоше_ая трав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. Даш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2 2 2 1 2 1 2 1 2 2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2:11:58Z</dcterms:created>
  <dc:creator>Admin</dc:creator>
  <dc:description/>
  <dc:language>en-US</dc:language>
  <cp:lastModifiedBy>SamLab.ws</cp:lastModifiedBy>
  <dcterms:modified xsi:type="dcterms:W3CDTF">2011-01-24T06:26:27Z</dcterms:modified>
  <cp:revision>74</cp:revision>
  <dc:subject/>
  <dc:title>-Н- и –НН-  в прилагательных и  причастиях </dc:title>
</cp:coreProperties>
</file>