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wmf" ContentType="image/x-wmf"/>
  <Override PartName="/ppt/media/image15.jpeg" ContentType="image/jpeg"/>
  <Override PartName="/ppt/media/image14.wmf" ContentType="image/x-wmf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D36-04B7-44B6-A42B-46F449E7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815-8ED0-4317-9A6F-71A4AF7A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16B-4B84-4C64-8E4A-DDB2D54F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100-045B-4657-B3C0-FF60AA73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88E6-E619-440E-8CE8-9FBC8E26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3751-2EDA-4BC0-8553-59956A20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D944-AC5B-44A7-94E8-8ADF76D7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7D96-4D32-4D4F-B218-E2D3C842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ACD0-A969-437A-8853-8EC74755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1FBF-D58E-484A-810B-08A674E3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2B98-D775-4893-8909-B95D2133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1A7-0BAA-4EAA-879F-85CEA55E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4617-0442-494B-97E2-7CD79D04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F300-3DB1-4483-88E1-92AC8947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214B-1602-446C-945F-DCF549EB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E7C6-5F25-44BD-9F62-582FBA52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EAE0-ADF3-4866-9C12-4C57F1C3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763-BA8E-463D-85FB-6FF383E8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D0F-DE80-47EB-AC92-FE394515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FAB-EB74-4DD4-B814-B7897465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A71-B3FC-4338-A9E3-EF1BEAD0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0A2-E937-4C75-8CE4-4ED0939B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512-A52F-4C5A-9678-DEBB60E8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A68-B94D-4918-9C7A-DCDFB136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9847-291B-4B56-A136-D924728F19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49D3-9011-4F4D-BB03-B60D6D722A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з чего сделан мир 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строение ато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Picture 4" descr="U03_16"/>
          <p:cNvPicPr/>
          <p:nvPr/>
        </p:nvPicPr>
        <p:blipFill>
          <a:blip r:embed="rId1"/>
          <a:stretch/>
        </p:blipFill>
        <p:spPr>
          <a:xfrm>
            <a:off x="468360" y="4292640"/>
            <a:ext cx="2158920" cy="21589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85" name="Picture 5" descr="U04_04"/>
          <p:cNvPicPr/>
          <p:nvPr/>
        </p:nvPicPr>
        <p:blipFill>
          <a:blip r:embed="rId2"/>
          <a:stretch/>
        </p:blipFill>
        <p:spPr>
          <a:xfrm>
            <a:off x="6804000" y="260280"/>
            <a:ext cx="1871640" cy="18716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Цитата из греческого источника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52720" y="1339560"/>
            <a:ext cx="51832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…и ничто не возникает из небытия кружась в вихре, и таким образом рождается все сложное: огонь, вода, воздух, земля.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34960" y="1347840"/>
            <a:ext cx="3300480" cy="3198240"/>
            <a:chOff x="534960" y="1347840"/>
            <a:chExt cx="3300480" cy="3198240"/>
          </a:xfrm>
        </p:grpSpPr>
        <p:sp>
          <p:nvSpPr>
            <p:cNvPr id="115" name="Rectangle 5"/>
            <p:cNvSpPr/>
            <p:nvPr/>
          </p:nvSpPr>
          <p:spPr>
            <a:xfrm>
              <a:off x="612720" y="1431360"/>
              <a:ext cx="3154320" cy="299952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1238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105920" y="1900440"/>
              <a:ext cx="2166480" cy="2060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Oval 7"/>
            <p:cNvSpPr/>
            <p:nvPr/>
          </p:nvSpPr>
          <p:spPr>
            <a:xfrm>
              <a:off x="1588320" y="1552320"/>
              <a:ext cx="1232280" cy="2822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ОГОНЬ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 rot="16200000">
              <a:off x="302400" y="2797200"/>
              <a:ext cx="1171440" cy="2966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ЗЕМЛЯ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" name="Oval 9"/>
            <p:cNvSpPr/>
            <p:nvPr/>
          </p:nvSpPr>
          <p:spPr>
            <a:xfrm rot="5400000">
              <a:off x="2935440" y="2878200"/>
              <a:ext cx="1171440" cy="2966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ВОЗДУХ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Oval 10"/>
            <p:cNvSpPr/>
            <p:nvPr/>
          </p:nvSpPr>
          <p:spPr>
            <a:xfrm>
              <a:off x="1546200" y="4096800"/>
              <a:ext cx="1231920" cy="2822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ВОДА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1" name="Group 11"/>
            <p:cNvGrpSpPr/>
            <p:nvPr/>
          </p:nvGrpSpPr>
          <p:grpSpPr>
            <a:xfrm>
              <a:off x="534960" y="1347840"/>
              <a:ext cx="3300480" cy="3198240"/>
              <a:chOff x="534960" y="1347840"/>
              <a:chExt cx="3300480" cy="3198240"/>
            </a:xfrm>
          </p:grpSpPr>
          <p:sp>
            <p:nvSpPr>
              <p:cNvPr id="122" name="Oval 12"/>
              <p:cNvSpPr/>
              <p:nvPr/>
            </p:nvSpPr>
            <p:spPr>
              <a:xfrm rot="18871800">
                <a:off x="450720" y="1728360"/>
                <a:ext cx="1170720" cy="2545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СУХОСТЬ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Oval 13"/>
              <p:cNvSpPr/>
              <p:nvPr/>
            </p:nvSpPr>
            <p:spPr>
              <a:xfrm rot="3228000">
                <a:off x="2744640" y="1767960"/>
                <a:ext cx="1170720" cy="2545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ТЕПЛОТА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Oval 14"/>
              <p:cNvSpPr/>
              <p:nvPr/>
            </p:nvSpPr>
            <p:spPr>
              <a:xfrm rot="3263400">
                <a:off x="408600" y="3868560"/>
                <a:ext cx="1170720" cy="2545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ХОЛОД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15"/>
              <p:cNvSpPr/>
              <p:nvPr/>
            </p:nvSpPr>
            <p:spPr>
              <a:xfrm rot="18960600">
                <a:off x="2692440" y="3894480"/>
                <a:ext cx="1231200" cy="24228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ВЛАЖНОСТЬ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 rot="2700000">
              <a:off x="1453320" y="2153880"/>
              <a:ext cx="1463400" cy="153900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 flipH="1">
              <a:off x="2139840" y="1894320"/>
              <a:ext cx="42840" cy="2040480"/>
            </a:xfrm>
            <a:custGeom>
              <a:avLst/>
              <a:gdLst/>
              <a:ahLst/>
              <a:rect l="l" t="t" r="r" b="b"/>
              <a:pathLst>
                <a:path w="1" h="1996">
                  <a:moveTo>
                    <a:pt x="0" y="0"/>
                  </a:moveTo>
                  <a:cubicBezTo>
                    <a:pt x="0" y="831"/>
                    <a:pt x="0" y="1663"/>
                    <a:pt x="0" y="1996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prstDash val="lgDash"/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 flipH="1" rot="5400000">
              <a:off x="2151720" y="1832400"/>
              <a:ext cx="40680" cy="2145600"/>
            </a:xfrm>
            <a:custGeom>
              <a:avLst/>
              <a:gdLst/>
              <a:ahLst/>
              <a:rect l="l" t="t" r="r" b="b"/>
              <a:pathLst>
                <a:path w="1" h="1996">
                  <a:moveTo>
                    <a:pt x="0" y="0"/>
                  </a:moveTo>
                  <a:cubicBezTo>
                    <a:pt x="0" y="831"/>
                    <a:pt x="0" y="1663"/>
                    <a:pt x="0" y="1996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prstDash val="lgDash"/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9" name="Rectangle 19"/>
          <p:cNvSpPr/>
          <p:nvPr/>
        </p:nvSpPr>
        <p:spPr>
          <a:xfrm>
            <a:off x="179280" y="4797360"/>
            <a:ext cx="8569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передает нам учение Демокрита один из поздних греческих писател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латон и его уч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" y="1341360"/>
            <a:ext cx="6491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латон развивает своеобразное атомистическое учение. Наиболее существенное отличие от Демокрита состоит в том, что в качестве первоатомов. Платон принимает не объемные тела, а плоскости-треугольники. Согласно Платону существует два вида элементарных треугольников: прямоугольный равнобедренный и прямоугольный с катетом, равным половине гипотенузы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5" descr="pp_05400"/>
          <p:cNvPicPr/>
          <p:nvPr/>
        </p:nvPicPr>
        <p:blipFill>
          <a:blip r:embed="rId2"/>
          <a:stretch/>
        </p:blipFill>
        <p:spPr>
          <a:xfrm>
            <a:off x="6516720" y="1557360"/>
            <a:ext cx="2400120" cy="26719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133" name="AutoShape 8"/>
          <p:cNvSpPr/>
          <p:nvPr/>
        </p:nvSpPr>
        <p:spPr>
          <a:xfrm>
            <a:off x="5148360" y="5084640"/>
            <a:ext cx="1224000" cy="1224000"/>
          </a:xfrm>
          <a:prstGeom prst="rtTriangl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6300720" y="4941720"/>
            <a:ext cx="1511280" cy="720720"/>
          </a:xfrm>
          <a:prstGeom prst="rtTriangl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6"/>
          <p:cNvPicPr/>
          <p:nvPr/>
        </p:nvPicPr>
        <p:blipFill>
          <a:blip r:embed="rId1"/>
          <a:stretch/>
        </p:blipFill>
        <p:spPr>
          <a:xfrm>
            <a:off x="5003640" y="981000"/>
            <a:ext cx="3135600" cy="33116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0" y="692280"/>
            <a:ext cx="4572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тыре равнобедренных треугольника, сложенные в квадрат, дают сложный атом- мельчайшие элементы четырех основных стих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627280" y="5373720"/>
            <a:ext cx="1008000" cy="100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99"/>
              </a:gs>
              <a:gs pos="100000">
                <a:srgbClr val="ff99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324000" y="4221000"/>
          <a:ext cx="1728720" cy="15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221000"/>
                    <a:ext cx="17287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9"/>
          <p:cNvGraphicFramePr/>
          <p:nvPr/>
        </p:nvGraphicFramePr>
        <p:xfrm>
          <a:off x="2050920" y="3284640"/>
          <a:ext cx="1417680" cy="174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3284640"/>
                    <a:ext cx="141768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епопулярная теор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большинства философов понятие о материальной частице, которую нельзя расщепить на более мелкие частицы, казалось настолько парадоксальным, что никто из них не мог его принять. Атомистическая теория оставалась непопулярной в течение двух тысячелетий после Демокрита, о ней почти никто не вспомина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4" descr="demokrit"/>
          <p:cNvPicPr/>
          <p:nvPr/>
        </p:nvPicPr>
        <p:blipFill>
          <a:blip r:embed="rId2"/>
          <a:stretch/>
        </p:blipFill>
        <p:spPr>
          <a:xfrm>
            <a:off x="7524720" y="3500280"/>
            <a:ext cx="1276560" cy="18194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пикурейц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-таки атомистическая теория полностью не исчезла. Древнегреческий философ Эпикур (около 342-270 до н.э.) использовал атомизм в своем учении, а эпикурейцы имели немало приверженцев и в последующие ве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укреци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из приверженцев был древнеримский поэт Тит Лукреций Кар (ок.95-55 до н.э.), известный как Лукреций. Он изложил атомистические взгляды Демокрита и Эпикура в поэме «О природе вещей» - лучшей из когда-либо написанных дидактических поэ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7451640" y="1268280"/>
            <a:ext cx="576360" cy="505080"/>
          </a:xfrm>
          <a:prstGeom prst="diamond">
            <a:avLst/>
          </a:prstGeom>
          <a:gradFill rotWithShape="0">
            <a:gsLst>
              <a:gs pos="0">
                <a:srgbClr val="00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8101080" y="1054080"/>
            <a:ext cx="576360" cy="504720"/>
          </a:xfrm>
          <a:prstGeom prst="diamond">
            <a:avLst/>
          </a:pr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7596360" y="477720"/>
            <a:ext cx="576000" cy="647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трывок из поэмы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О природе вещей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526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…</a:t>
            </a: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существуют тела, которых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мы видеть не можем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Ведь осязать, как и быть осязаемым,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тело лишь может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И, наконец, на морском берегу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Разбивающем волны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Платье сырее всегда, и , на солнце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Вися, оно сохнет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Видеть, однако, нельзя, как влага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На нем оседает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Да и не видно того, как она исчезает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От зноя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Значит, дробится вода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На такие мельчайшие части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99"/>
                </a:solidFill>
                <a:latin typeface="Verdana"/>
              </a:rPr>
              <a:t>Что недоступны они совершенно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99"/>
                </a:solidFill>
                <a:latin typeface="Verdana"/>
              </a:rPr>
              <a:t>Для нашего глаза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6" descr="7"/>
          <p:cNvPicPr/>
          <p:nvPr/>
        </p:nvPicPr>
        <p:blipFill>
          <a:blip r:embed="rId1"/>
          <a:stretch/>
        </p:blipFill>
        <p:spPr>
          <a:xfrm>
            <a:off x="6084720" y="2060640"/>
            <a:ext cx="2565720" cy="35575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3565440" y="765000"/>
            <a:ext cx="532764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Для нашего глаза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Ибо лежит за пределами нашего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Чувства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ся природа начал. Поэтому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Раз недоступны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Нашему зренью они, то от нас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И движенья их скрыты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от посмотри: всякий раз, когда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солнечный свет проникает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 наши жилища и мрак прорезает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Своими лучами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Множество маленьких тел в пустоте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Ты увидишь, мелькая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Мечутся взад и вперед в лучистом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Сиянии света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                   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8" descr="NERO1"/>
          <p:cNvPicPr/>
          <p:nvPr/>
        </p:nvPicPr>
        <p:blipFill>
          <a:blip r:embed="rId1"/>
          <a:stretch/>
        </p:blipFill>
        <p:spPr>
          <a:xfrm flipH="1">
            <a:off x="842760" y="2205000"/>
            <a:ext cx="1928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Знай же: идет от начал всеобщее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Это блужданье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Так, исходя от начал,  движение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Мало-помалу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Наших касается чувств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И становится видимым также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Нам и в пылинках оно, что движутся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 солнечном свете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Хоть незаметны толчки, от которых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Оно происходит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10"/>
          <p:cNvGrpSpPr/>
          <p:nvPr/>
        </p:nvGrpSpPr>
        <p:grpSpPr>
          <a:xfrm>
            <a:off x="4284360" y="836280"/>
            <a:ext cx="4751640" cy="5688360"/>
            <a:chOff x="4284360" y="836280"/>
            <a:chExt cx="4751640" cy="5688360"/>
          </a:xfrm>
        </p:grpSpPr>
        <p:sp>
          <p:nvSpPr>
            <p:cNvPr id="159" name="AutoShape 6"/>
            <p:cNvSpPr/>
            <p:nvPr/>
          </p:nvSpPr>
          <p:spPr>
            <a:xfrm>
              <a:off x="7164360" y="421956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 rot="10800000">
              <a:off x="7235640" y="83628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 rot="16200000">
              <a:off x="8333640" y="3086640"/>
              <a:ext cx="144360" cy="1260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 rot="5400000">
              <a:off x="5364720" y="256428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4637520" y="979920"/>
            <a:ext cx="4502880" cy="5405760"/>
            <a:chOff x="4637520" y="979920"/>
            <a:chExt cx="4502880" cy="5405760"/>
          </a:xfrm>
        </p:grpSpPr>
        <p:sp>
          <p:nvSpPr>
            <p:cNvPr id="164" name="AutoShape 12"/>
            <p:cNvSpPr/>
            <p:nvPr/>
          </p:nvSpPr>
          <p:spPr>
            <a:xfrm rot="20373600">
              <a:off x="7934760" y="412776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9573600">
              <a:off x="6819840" y="93240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AutoShape 14"/>
            <p:cNvSpPr/>
            <p:nvPr/>
          </p:nvSpPr>
          <p:spPr>
            <a:xfrm rot="14973600">
              <a:off x="8452080" y="2690640"/>
              <a:ext cx="144360" cy="1260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AutoShape 15"/>
            <p:cNvSpPr/>
            <p:nvPr/>
          </p:nvSpPr>
          <p:spPr>
            <a:xfrm rot="4173600">
              <a:off x="5670360" y="320544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8" name="AutoShape 17"/>
          <p:cNvSpPr/>
          <p:nvPr/>
        </p:nvSpPr>
        <p:spPr>
          <a:xfrm rot="19215000">
            <a:off x="8235720" y="4035240"/>
            <a:ext cx="104760" cy="1776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23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18"/>
          <p:cNvSpPr/>
          <p:nvPr/>
        </p:nvSpPr>
        <p:spPr>
          <a:xfrm rot="8415000">
            <a:off x="6292440" y="131724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3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9"/>
          <p:cNvSpPr/>
          <p:nvPr/>
        </p:nvSpPr>
        <p:spPr>
          <a:xfrm rot="13815000">
            <a:off x="8241120" y="2467440"/>
            <a:ext cx="144360" cy="126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77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20"/>
          <p:cNvSpPr/>
          <p:nvPr/>
        </p:nvSpPr>
        <p:spPr>
          <a:xfrm rot="3015000">
            <a:off x="5958360" y="384228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85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22"/>
          <p:cNvSpPr/>
          <p:nvPr/>
        </p:nvSpPr>
        <p:spPr>
          <a:xfrm rot="17860800">
            <a:off x="8370000" y="3697560"/>
            <a:ext cx="144360" cy="133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37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23"/>
          <p:cNvSpPr/>
          <p:nvPr/>
        </p:nvSpPr>
        <p:spPr>
          <a:xfrm rot="7060800">
            <a:off x="5929920" y="185292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4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4"/>
          <p:cNvSpPr/>
          <p:nvPr/>
        </p:nvSpPr>
        <p:spPr>
          <a:xfrm rot="12460800">
            <a:off x="8237520" y="1114200"/>
            <a:ext cx="131760" cy="2415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9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25"/>
          <p:cNvSpPr/>
          <p:nvPr/>
        </p:nvSpPr>
        <p:spPr>
          <a:xfrm rot="1660800">
            <a:off x="6590880" y="431460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99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6659640" y="3141720"/>
            <a:ext cx="1338120" cy="13366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26"/>
          <p:cNvSpPr/>
          <p:nvPr/>
        </p:nvSpPr>
        <p:spPr>
          <a:xfrm rot="12001800">
            <a:off x="7812000" y="836640"/>
            <a:ext cx="101520" cy="2628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9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Без микроскоп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тая эти строки, нельзя не удивляться тому, что две тысячи лет тому назад люди, не имея научных приборов, додумались до столь тонких вещей, как существование атомов и их непрерывное движение, похожее на броуновско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5145120" y="5372280"/>
            <a:ext cx="291960" cy="288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5432400" y="573264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5648400" y="537228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5940360" y="5805360"/>
            <a:ext cx="292320" cy="2890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6227640" y="6165720"/>
            <a:ext cx="292320" cy="289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Oval 9"/>
          <p:cNvSpPr/>
          <p:nvPr/>
        </p:nvSpPr>
        <p:spPr>
          <a:xfrm>
            <a:off x="6443640" y="580536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6013440" y="5013360"/>
            <a:ext cx="291960" cy="288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6300720" y="5373720"/>
            <a:ext cx="292320" cy="288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6516720" y="501336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Oval 13"/>
          <p:cNvSpPr/>
          <p:nvPr/>
        </p:nvSpPr>
        <p:spPr>
          <a:xfrm>
            <a:off x="6877080" y="5445000"/>
            <a:ext cx="291960" cy="2890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7164360" y="580536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Oval 15"/>
          <p:cNvSpPr/>
          <p:nvPr/>
        </p:nvSpPr>
        <p:spPr>
          <a:xfrm>
            <a:off x="7380360" y="544500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Oval 16"/>
          <p:cNvSpPr/>
          <p:nvPr/>
        </p:nvSpPr>
        <p:spPr>
          <a:xfrm>
            <a:off x="6877080" y="6208560"/>
            <a:ext cx="291960" cy="2890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Oval 17"/>
          <p:cNvSpPr/>
          <p:nvPr/>
        </p:nvSpPr>
        <p:spPr>
          <a:xfrm>
            <a:off x="7164360" y="656892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7380360" y="620856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7740720" y="5734080"/>
            <a:ext cx="291960" cy="288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8028000" y="609444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Oval 21"/>
          <p:cNvSpPr/>
          <p:nvPr/>
        </p:nvSpPr>
        <p:spPr>
          <a:xfrm>
            <a:off x="8244000" y="573408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амая важная информац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Если бы в результате какой-то мировой катастрофы все накопленные научные знания оказались бы уничтоженными и к грядущим поколениям живых существ перешла бы только одна фраза …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все тела состоят из атомов-маленьких телец, которые находятся в беспрерывном движении… В одной этой фразе… содержится невероятное количество информации о мире…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Verdana"/>
              </a:rPr>
              <a:t>Ричард Фейнма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овременные представления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б устройстве атом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1093680" y="1600200"/>
            <a:ext cx="6954840" cy="45306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Атом – сложная частица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086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мология названия «неделимый» отражает сущность атома с точностью до наоборот. Атом делим и состоит из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жность строения атома доказана открытиями, сделанными в конце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чале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X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временные представления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ж. Томсон – 1897 г. – изучил природу катодных луч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.Г. Столетов – 1889 г. – открытие явления фотоэффект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.Беккерель, М.Склодовская-Кюри – 1896-1899 гг. –открытие радиоактив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.Резерфорд – 1889-1900 гг. – определение природы  -частиц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4" descr="PierKuri"/>
          <p:cNvPicPr/>
          <p:nvPr/>
        </p:nvPicPr>
        <p:blipFill>
          <a:blip r:embed="rId5"/>
          <a:stretch/>
        </p:blipFill>
        <p:spPr>
          <a:xfrm>
            <a:off x="8075520" y="4010040"/>
            <a:ext cx="1068480" cy="143496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05" name="Picture 5" descr="MariaKuri"/>
          <p:cNvPicPr/>
          <p:nvPr/>
        </p:nvPicPr>
        <p:blipFill>
          <a:blip r:embed="rId6"/>
          <a:stretch/>
        </p:blipFill>
        <p:spPr>
          <a:xfrm>
            <a:off x="7093080" y="5300640"/>
            <a:ext cx="1089000" cy="14414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06" name="Picture 6" descr="4"/>
          <p:cNvPicPr/>
          <p:nvPr/>
        </p:nvPicPr>
        <p:blipFill>
          <a:blip r:embed="rId7"/>
          <a:stretch/>
        </p:blipFill>
        <p:spPr>
          <a:xfrm>
            <a:off x="7164360" y="3059280"/>
            <a:ext cx="942840" cy="13777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07" name="Picture 7" descr="Tomson"/>
          <p:cNvPicPr/>
          <p:nvPr/>
        </p:nvPicPr>
        <p:blipFill>
          <a:blip r:embed="rId8"/>
          <a:stretch/>
        </p:blipFill>
        <p:spPr>
          <a:xfrm>
            <a:off x="7983360" y="1400040"/>
            <a:ext cx="1125720" cy="17416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дель Томсон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5905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ж.Томсон (1907 г.) – атом состоит из положительного заряда, который равномерно распространен по всему объему атома, и электронов, которые колеблются внутри этого заряд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6516720" y="1852560"/>
          <a:ext cx="2111400" cy="251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1852560"/>
                    <a:ext cx="2111400" cy="2513160"/>
                  </a:xfrm>
                  <a:prstGeom prst="rect">
                    <a:avLst/>
                  </a:prstGeom>
                  <a:ln w="6984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2" name="Rectangle 6"/>
          <p:cNvSpPr/>
          <p:nvPr/>
        </p:nvSpPr>
        <p:spPr>
          <a:xfrm>
            <a:off x="324000" y="5272200"/>
            <a:ext cx="84960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дель не была подтверждена экспериментальными фактами и осталась просто гипотез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дель Резерфор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Э.Резерфорд (1911г.) – предлагает планетарную(ядерную) модель атома согласно которо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внутри атома находится положительно заряженное ядро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весь положительный заряд и почти вся масса атома сосредоточены в ядр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4" descr="U18_08"/>
          <p:cNvPicPr/>
          <p:nvPr/>
        </p:nvPicPr>
        <p:blipFill>
          <a:blip r:embed="rId4"/>
          <a:stretch/>
        </p:blipFill>
        <p:spPr>
          <a:xfrm>
            <a:off x="6443640" y="1916280"/>
            <a:ext cx="2233800" cy="19746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216" name="Rectangle 7"/>
          <p:cNvSpPr/>
          <p:nvPr/>
        </p:nvSpPr>
        <p:spPr>
          <a:xfrm>
            <a:off x="395280" y="4724280"/>
            <a:ext cx="727236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электроны вращаются вокруг ядра по замкнутым орбитам подобно движению планет вокруг Солнц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о классическая теория Резерфорда не могла объяснить излучение и поглощение энергии атомо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482760"/>
            <a:ext cx="5627520" cy="58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Н.Бор (1913г.) – внес в планетарную модель атома Э.Резерфорда квантовые представлени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лектроны в атоме вращаются по строго определенным орбитам, не испуская и не поглощая энерги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при переходе электронов с одной орбиты на другую происходит поглощение или выделение энерг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1922г. он получает Нобелевскую премию по физик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4" descr="U22_02"/>
          <p:cNvPicPr/>
          <p:nvPr/>
        </p:nvPicPr>
        <p:blipFill>
          <a:blip r:embed="rId5"/>
          <a:stretch/>
        </p:blipFill>
        <p:spPr>
          <a:xfrm>
            <a:off x="6516720" y="4149720"/>
            <a:ext cx="2190600" cy="21337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19" name="Picture 5" descr="NilsBor"/>
          <p:cNvPicPr/>
          <p:nvPr/>
        </p:nvPicPr>
        <p:blipFill>
          <a:blip r:embed="rId6"/>
          <a:stretch/>
        </p:blipFill>
        <p:spPr>
          <a:xfrm>
            <a:off x="6732720" y="620640"/>
            <a:ext cx="1850760" cy="25192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85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временная квантовая модель строения атом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лектрон имеет двойственную (корпускулярно-волновую) природу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ядро состоит из нуклонов – протонов и нейтрон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03236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Вывод: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3" name="Group 16"/>
          <p:cNvGrpSpPr/>
          <p:nvPr/>
        </p:nvGrpSpPr>
        <p:grpSpPr>
          <a:xfrm>
            <a:off x="684360" y="404640"/>
            <a:ext cx="5616000" cy="3687480"/>
            <a:chOff x="684360" y="404640"/>
            <a:chExt cx="5616000" cy="3687480"/>
          </a:xfrm>
        </p:grpSpPr>
        <p:sp>
          <p:nvSpPr>
            <p:cNvPr id="224" name="AutoShape 6"/>
            <p:cNvSpPr/>
            <p:nvPr/>
          </p:nvSpPr>
          <p:spPr>
            <a:xfrm>
              <a:off x="684360" y="1992960"/>
              <a:ext cx="1418040" cy="9079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Verdana"/>
                </a:rPr>
                <a:t>атом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2670120" y="1085040"/>
              <a:ext cx="1418040" cy="9079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ff33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Verdana"/>
                </a:rPr>
                <a:t>ядро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>
              <a:off x="2612520" y="3183840"/>
              <a:ext cx="1418040" cy="9082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ff33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800000"/>
                  </a:solidFill>
                  <a:latin typeface="Verdana"/>
                </a:rPr>
                <a:t>е</a:t>
              </a:r>
              <a:r>
                <a:rPr b="1" lang="ru-RU" sz="5400" spc="-1" strike="noStrike" baseline="34000">
                  <a:solidFill>
                    <a:srgbClr val="800000"/>
                  </a:solidFill>
                  <a:latin typeface="Verdana"/>
                </a:rPr>
                <a:t>-</a:t>
              </a:r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AutoShape 10"/>
            <p:cNvSpPr/>
            <p:nvPr/>
          </p:nvSpPr>
          <p:spPr>
            <a:xfrm>
              <a:off x="4654800" y="404640"/>
              <a:ext cx="1645560" cy="96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ccf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Verdana"/>
                </a:rPr>
                <a:t>p</a:t>
              </a:r>
              <a:r>
                <a:rPr b="1" lang="ru-RU" sz="4800" spc="-1" strike="noStrike" baseline="58000">
                  <a:solidFill>
                    <a:srgbClr val="800000"/>
                  </a:solidFill>
                  <a:latin typeface="Verdana"/>
                </a:rPr>
                <a:t>+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AutoShape 11"/>
            <p:cNvSpPr/>
            <p:nvPr/>
          </p:nvSpPr>
          <p:spPr>
            <a:xfrm>
              <a:off x="4712400" y="2163240"/>
              <a:ext cx="1418040" cy="90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ccf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Verdana"/>
                </a:rPr>
                <a:t>n</a:t>
              </a:r>
              <a:r>
                <a:rPr b="1" lang="en-US" sz="4800" spc="-1" strike="noStrike" baseline="40000">
                  <a:solidFill>
                    <a:srgbClr val="800000"/>
                  </a:solidFill>
                  <a:latin typeface="Verdana"/>
                </a:rPr>
                <a:t>0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AutoShape 12"/>
            <p:cNvSpPr/>
            <p:nvPr/>
          </p:nvSpPr>
          <p:spPr>
            <a:xfrm rot="20076000">
              <a:off x="1875960" y="1810080"/>
              <a:ext cx="849960" cy="186120"/>
            </a:xfrm>
            <a:custGeom>
              <a:avLst/>
              <a:gdLst>
                <a:gd name="textAreaLeft" fmla="*/ 106200 w 849960"/>
                <a:gd name="textAreaRight" fmla="*/ 743760 w 849960"/>
                <a:gd name="textAreaTop" fmla="*/ 46440 h 186120"/>
                <a:gd name="textAreaBottom" fmla="*/ 139680 h 1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AutoShape 13"/>
            <p:cNvSpPr/>
            <p:nvPr/>
          </p:nvSpPr>
          <p:spPr>
            <a:xfrm rot="2241600">
              <a:off x="1647360" y="3127680"/>
              <a:ext cx="1020240" cy="128520"/>
            </a:xfrm>
            <a:custGeom>
              <a:avLst/>
              <a:gdLst>
                <a:gd name="textAreaLeft" fmla="*/ 127440 w 1020240"/>
                <a:gd name="textAreaRight" fmla="*/ 892800 w 1020240"/>
                <a:gd name="textAreaTop" fmla="*/ 32040 h 128520"/>
                <a:gd name="textAreaBottom" fmla="*/ 96480 h 1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AutoShape 14"/>
            <p:cNvSpPr/>
            <p:nvPr/>
          </p:nvSpPr>
          <p:spPr>
            <a:xfrm rot="2241600">
              <a:off x="3804120" y="2048760"/>
              <a:ext cx="1020240" cy="128880"/>
            </a:xfrm>
            <a:custGeom>
              <a:avLst/>
              <a:gdLst>
                <a:gd name="textAreaLeft" fmla="*/ 127440 w 1020240"/>
                <a:gd name="textAreaRight" fmla="*/ 892800 w 1020240"/>
                <a:gd name="textAreaTop" fmla="*/ 32040 h 128880"/>
                <a:gd name="textAreaBottom" fmla="*/ 96840 h 1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AutoShape 15"/>
            <p:cNvSpPr/>
            <p:nvPr/>
          </p:nvSpPr>
          <p:spPr>
            <a:xfrm rot="20076000">
              <a:off x="4030560" y="1142280"/>
              <a:ext cx="737640" cy="128880"/>
            </a:xfrm>
            <a:custGeom>
              <a:avLst/>
              <a:gdLst>
                <a:gd name="textAreaLeft" fmla="*/ 92160 w 737640"/>
                <a:gd name="textAreaRight" fmla="*/ 645480 w 737640"/>
                <a:gd name="textAreaTop" fmla="*/ 32040 h 128880"/>
                <a:gd name="textAreaBottom" fmla="*/ 96840 h 1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4932360" y="3438360"/>
          <a:ext cx="4067280" cy="3230640"/>
        </p:xfrm>
        <a:graphic>
          <a:graphicData uri="http://schemas.openxmlformats.org/drawingml/2006/table">
            <a:tbl>
              <a:tblPr/>
              <a:tblGrid>
                <a:gridCol w="1798560"/>
                <a:gridCol w="226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=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q=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=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q=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</a:t>
                      </a: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=</a:t>
                      </a: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q=-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(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атома)=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(ядр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Заряд атома нейтр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то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5" name="atom.avi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411880" cy="40590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983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лгий пут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ременные понятия элемента, атома и простого вещества сформировались сравнительно недавно. Атомистическая теория строения материи - учение о том, что все вещества состоят из мельчайших частиц, - прошла долгий и трудный пу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томистика древних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рупнейший физик современности, один из творцов квантовой механики - Э. Шредингер в своей статье, писал: «Современное атомистическое учение- всего лишь повторение теории Левкиппа и Демокрита. Из нее оно произошло и есть плоть от плоти ее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6" descr="shredinger"/>
          <p:cNvPicPr/>
          <p:nvPr/>
        </p:nvPicPr>
        <p:blipFill>
          <a:blip r:embed="rId2"/>
          <a:stretch/>
        </p:blipFill>
        <p:spPr>
          <a:xfrm>
            <a:off x="5940360" y="2060640"/>
            <a:ext cx="2279880" cy="30240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Фале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767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алес (около 625-547 до н.э. ), наблюдая за различными превращениями веществ, пришел к выводу, что все они являются разновидностями одного «первичного элемента» - начала всех вещест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7" descr="1"/>
          <p:cNvPicPr/>
          <p:nvPr/>
        </p:nvPicPr>
        <p:blipFill>
          <a:blip r:embed="rId2"/>
          <a:stretch/>
        </p:blipFill>
        <p:spPr>
          <a:xfrm>
            <a:off x="4356000" y="1628640"/>
            <a:ext cx="4552920" cy="22100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96" name="Rectangle 8"/>
          <p:cNvSpPr/>
          <p:nvPr/>
        </p:nvSpPr>
        <p:spPr>
          <a:xfrm>
            <a:off x="1403280" y="4508640"/>
            <a:ext cx="6337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им элементом Фалес считал воду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наксимен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5040360"/>
          </a:xfrm>
          <a:prstGeom prst="rect">
            <a:avLst/>
          </a:prstGeom>
          <a:noFill/>
          <a:ln w="6984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аксиме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. до н.э.) называл первичным элементом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воздух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ракли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-V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. до н.э.) –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огон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Picture 5" descr="hram"/>
          <p:cNvPicPr/>
          <p:nvPr/>
        </p:nvPicPr>
        <p:blipFill>
          <a:blip r:embed="rId1"/>
          <a:stretch/>
        </p:blipFill>
        <p:spPr>
          <a:xfrm>
            <a:off x="4859280" y="2498760"/>
            <a:ext cx="4038480" cy="25858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чение Аристоте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47640" y="1600200"/>
            <a:ext cx="53276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Аристотель (384-322 до н.э.) развивал учение о четырех первоначалах – огне, воздухе, воде и земле. Элементы он считал не материальными субстанциями, подобными обычной воде или земле, а лишь носителями определенных качеств, которыми наделены все тела. 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6" descr="pa_37800"/>
          <p:cNvPicPr/>
          <p:nvPr/>
        </p:nvPicPr>
        <p:blipFill>
          <a:blip r:embed="rId2"/>
          <a:stretch/>
        </p:blipFill>
        <p:spPr>
          <a:xfrm>
            <a:off x="723960" y="1773360"/>
            <a:ext cx="2263680" cy="25192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103" name="Rectangle 7"/>
          <p:cNvSpPr/>
          <p:nvPr/>
        </p:nvSpPr>
        <p:spPr>
          <a:xfrm>
            <a:off x="539640" y="5661000"/>
            <a:ext cx="792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Эти качества – теплота, холод, сухость и влажность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елима ли материя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вым задался этим вопросом иониец Левкипп (ок. 500-440 до н.э.). Он считал, что в итоге такого деления можно получить настолько малую частицу, что дальнейшее деление станет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невозможным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5" descr="tr_aplet"/>
          <p:cNvPicPr/>
          <p:nvPr/>
        </p:nvPicPr>
        <p:blipFill>
          <a:blip r:embed="rId2"/>
          <a:srcRect l="0" t="0" r="0" b="15414"/>
          <a:stretch/>
        </p:blipFill>
        <p:spPr>
          <a:xfrm>
            <a:off x="6804000" y="4797360"/>
            <a:ext cx="2084400" cy="17892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томы Левкиппа и Демокри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мокрит из Абдеры (ок. 470-360 до н.э.), ученик Левкиппа, развил эту мысль своего учителя. Он назвал эти крошечные частички - «неделимые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томы Левкиппа и Демокрита – это прежде всего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простейшие телесны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геометрические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форм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и именно этим можно объяснить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различия в свойства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элемент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924360" y="6093000"/>
            <a:ext cx="576360" cy="504720"/>
          </a:xfrm>
          <a:prstGeom prst="diamond">
            <a:avLst/>
          </a:pr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19640" y="5516640"/>
            <a:ext cx="576000" cy="647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4140360" y="5373720"/>
            <a:ext cx="574560" cy="546120"/>
          </a:xfrm>
          <a:prstGeom prst="pentagon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03:19:24Z</dcterms:created>
  <dc:creator>Администратор</dc:creator>
  <dc:description/>
  <dc:language>en-US</dc:language>
  <cp:lastModifiedBy>user</cp:lastModifiedBy>
  <dcterms:modified xsi:type="dcterms:W3CDTF">2001-12-31T16:47:21Z</dcterms:modified>
  <cp:revision>67</cp:revision>
  <dc:subject/>
  <dc:title>Слайд 1</dc:title>
</cp:coreProperties>
</file>