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D58-6521-4A9F-965F-706115C7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28F-3C55-4E98-BC9F-A8664C8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4B8-3667-4A84-BE45-EB80F684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1F1-FEB8-43DE-A0D0-5431C1FA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8435-0243-4175-B447-5A1A65E4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4CA-FE27-4762-9B00-78A48BAC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FBCC-2406-49E5-8597-E30009EE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BAA9-333E-4353-9976-80F7916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B7B2-93C1-4F11-8670-B2EFB37B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9BA2-5AB9-4FC7-B024-6962F4F6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B15F-A173-4F41-A674-04D2CE4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C3B-F012-438F-88D1-7678CC04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6C7C-80EF-4629-91C5-7B0EF94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4D25-2A11-4DAB-908C-2C3E4E7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840-D58B-4038-A652-F0009BF4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2F38-9EA7-4543-92CF-44572C8E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47E7-F66F-483E-831D-C54DD1F2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69C-DCC0-4702-BC52-3B369DC0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4EF-338E-428D-8BFA-A84AAA08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31F-3813-4CE2-A473-F391259A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133-BCE6-4556-9F93-F19AC001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CE0-9802-4EAB-BD3D-F89A3DA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C55-1F99-4E59-A446-95F351B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CD8-8FF4-4778-977A-635C778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7F1-53BB-4260-8C79-785534ED9D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AF2A-68C6-438C-87C8-0BC0BB246B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 чего сделан мир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строение ато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Picture 4" descr="U03_16"/>
          <p:cNvPicPr/>
          <p:nvPr/>
        </p:nvPicPr>
        <p:blipFill>
          <a:blip r:embed="rId1"/>
          <a:stretch/>
        </p:blipFill>
        <p:spPr>
          <a:xfrm>
            <a:off x="468360" y="4292640"/>
            <a:ext cx="2158920" cy="2158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85" name="Picture 5" descr="U04_04"/>
          <p:cNvPicPr/>
          <p:nvPr/>
        </p:nvPicPr>
        <p:blipFill>
          <a:blip r:embed="rId2"/>
          <a:stretch/>
        </p:blipFill>
        <p:spPr>
          <a:xfrm>
            <a:off x="6804000" y="260280"/>
            <a:ext cx="1871640" cy="187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итата из греческого источник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2720" y="1339560"/>
            <a:ext cx="51832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…и ничто не возникает из небытия кружась в вихре, и таким образом рождается все сложное: огонь, вода, воздух, земля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34960" y="1347840"/>
            <a:ext cx="3300480" cy="3198240"/>
            <a:chOff x="534960" y="1347840"/>
            <a:chExt cx="3300480" cy="3198240"/>
          </a:xfrm>
        </p:grpSpPr>
        <p:sp>
          <p:nvSpPr>
            <p:cNvPr id="115" name="Rectangle 5"/>
            <p:cNvSpPr/>
            <p:nvPr/>
          </p:nvSpPr>
          <p:spPr>
            <a:xfrm>
              <a:off x="612720" y="1431360"/>
              <a:ext cx="3154320" cy="29995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1238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105920" y="1900440"/>
              <a:ext cx="2166480" cy="2060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7"/>
            <p:cNvSpPr/>
            <p:nvPr/>
          </p:nvSpPr>
          <p:spPr>
            <a:xfrm>
              <a:off x="1588320" y="1552320"/>
              <a:ext cx="123228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ОГОН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 rot="16200000">
              <a:off x="302400" y="2797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 rot="5400000">
              <a:off x="2935440" y="2878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ЗДУХ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1546200" y="4096800"/>
              <a:ext cx="123192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Д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" name="Group 11"/>
            <p:cNvGrpSpPr/>
            <p:nvPr/>
          </p:nvGrpSpPr>
          <p:grpSpPr>
            <a:xfrm>
              <a:off x="534960" y="1347840"/>
              <a:ext cx="3300480" cy="3198240"/>
              <a:chOff x="534960" y="1347840"/>
              <a:chExt cx="3300480" cy="3198240"/>
            </a:xfrm>
          </p:grpSpPr>
          <p:sp>
            <p:nvSpPr>
              <p:cNvPr id="122" name="Oval 12"/>
              <p:cNvSpPr/>
              <p:nvPr/>
            </p:nvSpPr>
            <p:spPr>
              <a:xfrm rot="18871800">
                <a:off x="450720" y="17283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СУХ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Oval 13"/>
              <p:cNvSpPr/>
              <p:nvPr/>
            </p:nvSpPr>
            <p:spPr>
              <a:xfrm rot="3228000">
                <a:off x="2744640" y="17679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ТЕПЛОТА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14"/>
              <p:cNvSpPr/>
              <p:nvPr/>
            </p:nvSpPr>
            <p:spPr>
              <a:xfrm rot="3263400">
                <a:off x="408600" y="38685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ХОЛОД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5"/>
              <p:cNvSpPr/>
              <p:nvPr/>
            </p:nvSpPr>
            <p:spPr>
              <a:xfrm rot="18960600">
                <a:off x="2692440" y="3894480"/>
                <a:ext cx="1231200" cy="24228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ВЛАЖН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 rot="2700000">
              <a:off x="1453320" y="2153880"/>
              <a:ext cx="1463400" cy="153900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flipH="1">
              <a:off x="2139840" y="1894320"/>
              <a:ext cx="42840" cy="204048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 flipH="1" rot="5400000">
              <a:off x="2151720" y="1832400"/>
              <a:ext cx="40680" cy="214560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9" name="Rectangle 19"/>
          <p:cNvSpPr/>
          <p:nvPr/>
        </p:nvSpPr>
        <p:spPr>
          <a:xfrm>
            <a:off x="179280" y="4797360"/>
            <a:ext cx="856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передает нам учение Демокрита один из поздних греческих писате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тон и его у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341360"/>
            <a:ext cx="649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атон развивает своеобразное атомистическое учение. Наиболее существенное отличие от Демокрита состоит в том, что в качестве первоатомов. Платон принимает не объемные тела, а плоскости-треугольники. Согласно Платону существует два вида элементарных треугольников: прямоугольный равнобедренный и прямоугольный с катетом, равным половине гипотенузы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5" descr="pp_05400"/>
          <p:cNvPicPr/>
          <p:nvPr/>
        </p:nvPicPr>
        <p:blipFill>
          <a:blip r:embed="rId2"/>
          <a:stretch/>
        </p:blipFill>
        <p:spPr>
          <a:xfrm>
            <a:off x="6516720" y="1557360"/>
            <a:ext cx="2400120" cy="2671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3" name="AutoShape 8"/>
          <p:cNvSpPr/>
          <p:nvPr/>
        </p:nvSpPr>
        <p:spPr>
          <a:xfrm>
            <a:off x="5148360" y="5084640"/>
            <a:ext cx="1224000" cy="122400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6300720" y="4941720"/>
            <a:ext cx="1511280" cy="72072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"/>
          <p:cNvPicPr/>
          <p:nvPr/>
        </p:nvPicPr>
        <p:blipFill>
          <a:blip r:embed="rId1"/>
          <a:stretch/>
        </p:blipFill>
        <p:spPr>
          <a:xfrm>
            <a:off x="5003640" y="981000"/>
            <a:ext cx="3135600" cy="331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0" y="692280"/>
            <a:ext cx="45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тыре равнобедренных треугольника, сложенные в квадрат, дают сложный атом- мельчайшие элементы четырех основных стих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627280" y="5373720"/>
            <a:ext cx="100800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99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324000" y="4221000"/>
          <a:ext cx="172872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17287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2050920" y="3284640"/>
          <a:ext cx="1417680" cy="17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3284640"/>
                    <a:ext cx="14176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епопулярная теор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большинства философов понятие о материальной частице, которую нельзя расщепить на более мелкие частицы, казалось настолько парадоксальным, что никто из них не мог его принять. Атомистическая теория оставалась непопулярной в течение двух тысячелетий после Демокрита, о ней почти никто не вспомина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4" descr="demokrit"/>
          <p:cNvPicPr/>
          <p:nvPr/>
        </p:nvPicPr>
        <p:blipFill>
          <a:blip r:embed="rId2"/>
          <a:stretch/>
        </p:blipFill>
        <p:spPr>
          <a:xfrm>
            <a:off x="7524720" y="3500280"/>
            <a:ext cx="1276560" cy="1819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пикурейц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-таки атомистическая теория полностью не исчезла. Древнегреческий философ Эпикур (около 342-270 до н.э.) использовал атомизм в своем учении, а эпикурейцы имели немало приверженцев и в последующие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укреци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из приверженцев был древнеримский поэт Тит Лукреций Кар (ок.95-55 до н.э.), известный как Лукреций. Он изложил атомистические взгляды Демокрита и Эпикура в поэме «О природе вещей» - лучшей из когда-либо написанных дидактических поэ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451640" y="1268280"/>
            <a:ext cx="576360" cy="505080"/>
          </a:xfrm>
          <a:prstGeom prst="diamond">
            <a:avLst/>
          </a:prstGeom>
          <a:gradFill rotWithShape="0">
            <a:gsLst>
              <a:gs pos="0">
                <a:srgbClr val="00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8101080" y="105408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7596360" y="47772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рывок из поэмы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О природе вещей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…</a:t>
            </a: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существуют тела, которых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мы видеть не можем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едь осязать, как и быть осязаемым,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тело лишь может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И, наконец, на морском берегу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Разбивающем волны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Платье сырее всегда, и , на солнце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ся, оно сохнет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деть, однако, нельзя, как влаг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нем оседает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Да и не видно того, как она исчезае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От зно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Значит, дробится вод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такие мельчайшие части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Что недоступны они совершенно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Для нашего глаза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6" descr="7"/>
          <p:cNvPicPr/>
          <p:nvPr/>
        </p:nvPicPr>
        <p:blipFill>
          <a:blip r:embed="rId1"/>
          <a:stretch/>
        </p:blipFill>
        <p:spPr>
          <a:xfrm>
            <a:off x="6084720" y="2060640"/>
            <a:ext cx="2565720" cy="35575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565440" y="765000"/>
            <a:ext cx="5327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Для нашего глаза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бо лежит за пределами нашего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Чувств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ся природа начал. Поэтом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Раз недоступны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ему зренью они, то от нас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движенья их скрыты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от посмотри: всякий раз, когд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олнечный свет проникает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наши жилища и мрак прорезает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воими лучами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ножество маленьких тел в пусто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ы увидишь, мелькая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ечутся взад и вперед в лучистом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иянии света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                   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8" descr="NERO1"/>
          <p:cNvPicPr/>
          <p:nvPr/>
        </p:nvPicPr>
        <p:blipFill>
          <a:blip r:embed="rId1"/>
          <a:stretch/>
        </p:blipFill>
        <p:spPr>
          <a:xfrm flipH="1">
            <a:off x="842760" y="2205000"/>
            <a:ext cx="1928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Знай же: идет от начал всеобще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Это блужданье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ак, исходя от начал,  движени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ало-помал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их касается чувств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становится видимым такж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м и в пылинках оно, что движутся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солнечном све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Хоть незаметны толчки, от которых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Оно происходит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4284360" y="836280"/>
            <a:ext cx="4751640" cy="5688360"/>
            <a:chOff x="4284360" y="836280"/>
            <a:chExt cx="4751640" cy="5688360"/>
          </a:xfrm>
        </p:grpSpPr>
        <p:sp>
          <p:nvSpPr>
            <p:cNvPr id="159" name="AutoShape 6"/>
            <p:cNvSpPr/>
            <p:nvPr/>
          </p:nvSpPr>
          <p:spPr>
            <a:xfrm>
              <a:off x="7164360" y="42195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 rot="10800000">
              <a:off x="7235640" y="836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 rot="16200000">
              <a:off x="8333640" y="3086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 rot="5400000">
              <a:off x="5364720" y="2564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4637520" y="979920"/>
            <a:ext cx="4502880" cy="5405760"/>
            <a:chOff x="4637520" y="979920"/>
            <a:chExt cx="4502880" cy="5405760"/>
          </a:xfrm>
        </p:grpSpPr>
        <p:sp>
          <p:nvSpPr>
            <p:cNvPr id="164" name="AutoShape 12"/>
            <p:cNvSpPr/>
            <p:nvPr/>
          </p:nvSpPr>
          <p:spPr>
            <a:xfrm rot="20373600">
              <a:off x="7934760" y="41277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9573600">
              <a:off x="6819840" y="93240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 rot="14973600">
              <a:off x="8452080" y="2690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 rot="4173600">
              <a:off x="5670360" y="320544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8" name="AutoShape 17"/>
          <p:cNvSpPr/>
          <p:nvPr/>
        </p:nvSpPr>
        <p:spPr>
          <a:xfrm rot="19215000">
            <a:off x="8235720" y="4035240"/>
            <a:ext cx="104760" cy="1776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8"/>
          <p:cNvSpPr/>
          <p:nvPr/>
        </p:nvSpPr>
        <p:spPr>
          <a:xfrm rot="8415000">
            <a:off x="6292440" y="131724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3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9"/>
          <p:cNvSpPr/>
          <p:nvPr/>
        </p:nvSpPr>
        <p:spPr>
          <a:xfrm rot="13815000">
            <a:off x="8241120" y="2467440"/>
            <a:ext cx="144360" cy="12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7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20"/>
          <p:cNvSpPr/>
          <p:nvPr/>
        </p:nvSpPr>
        <p:spPr>
          <a:xfrm rot="3015000">
            <a:off x="5958360" y="384228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2"/>
          <p:cNvSpPr/>
          <p:nvPr/>
        </p:nvSpPr>
        <p:spPr>
          <a:xfrm rot="17860800">
            <a:off x="8370000" y="3697560"/>
            <a:ext cx="144360" cy="133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37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3"/>
          <p:cNvSpPr/>
          <p:nvPr/>
        </p:nvSpPr>
        <p:spPr>
          <a:xfrm rot="7060800">
            <a:off x="5929920" y="185292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4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4"/>
          <p:cNvSpPr/>
          <p:nvPr/>
        </p:nvSpPr>
        <p:spPr>
          <a:xfrm rot="12460800">
            <a:off x="8237520" y="1114200"/>
            <a:ext cx="131760" cy="241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5"/>
          <p:cNvSpPr/>
          <p:nvPr/>
        </p:nvSpPr>
        <p:spPr>
          <a:xfrm rot="1660800">
            <a:off x="6590880" y="431460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99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659640" y="3141720"/>
            <a:ext cx="1338120" cy="1336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 rot="12001800">
            <a:off x="7812000" y="836640"/>
            <a:ext cx="101520" cy="2628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ез микроскоп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я эти строки, нельзя не удивляться тому, что две тысячи лет тому назад люди, не имея научных приборов, додумались до столь тонких вещей, как существование атомов и их непрерывное движение, похожее на броуновско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14512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5432400" y="57326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564840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940360" y="5805360"/>
            <a:ext cx="29232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6227640" y="6165720"/>
            <a:ext cx="29232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644364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01344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6300720" y="5373720"/>
            <a:ext cx="29232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51672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87708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716436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738036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687708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7164360" y="656892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738036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74072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8028000" y="60944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Oval 21"/>
          <p:cNvSpPr/>
          <p:nvPr/>
        </p:nvSpPr>
        <p:spPr>
          <a:xfrm>
            <a:off x="824400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амая важная информац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Если бы в результате какой-то мировой катастрофы все накопленные научные знания оказались бы уничтоженными и к грядущим поколениям живых существ перешла бы только одна фраза …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все тела состоят из атомов-маленьких телец, которые находятся в беспрерывном движении… В одной этой фразе… содержится невероятное количество информации о мире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Verdana"/>
              </a:rPr>
              <a:t>Ричард Фейнм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 устройстве атом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1093680" y="1600200"/>
            <a:ext cx="6954840" cy="4530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том – сложная частица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мология названия «неделимый» отражает сущность атома с точностью до наоборот. Атом делим и состоит из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ность строения атома доказана открытиями, сделанными в конц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чал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 Томсон – 1897 г. – изучил природу катодных луч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Г. Столетов – 1889 г. – открытие явления фотоэффек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Беккерель, М.Склодовская-Кюри – 1896-1899 гг. –открытие радиоактив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.Резерфорд – 1889-1900 гг. – определение природы  -части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PierKuri"/>
          <p:cNvPicPr/>
          <p:nvPr/>
        </p:nvPicPr>
        <p:blipFill>
          <a:blip r:embed="rId5"/>
          <a:stretch/>
        </p:blipFill>
        <p:spPr>
          <a:xfrm>
            <a:off x="8075520" y="4010040"/>
            <a:ext cx="1068480" cy="143496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5" name="Picture 5" descr="MariaKuri"/>
          <p:cNvPicPr/>
          <p:nvPr/>
        </p:nvPicPr>
        <p:blipFill>
          <a:blip r:embed="rId6"/>
          <a:stretch/>
        </p:blipFill>
        <p:spPr>
          <a:xfrm>
            <a:off x="7093080" y="5300640"/>
            <a:ext cx="1089000" cy="1441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6" name="Picture 6" descr="4"/>
          <p:cNvPicPr/>
          <p:nvPr/>
        </p:nvPicPr>
        <p:blipFill>
          <a:blip r:embed="rId7"/>
          <a:stretch/>
        </p:blipFill>
        <p:spPr>
          <a:xfrm>
            <a:off x="7164360" y="3059280"/>
            <a:ext cx="942840" cy="1377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7" name="Picture 7" descr="Tomson"/>
          <p:cNvPicPr/>
          <p:nvPr/>
        </p:nvPicPr>
        <p:blipFill>
          <a:blip r:embed="rId8"/>
          <a:stretch/>
        </p:blipFill>
        <p:spPr>
          <a:xfrm>
            <a:off x="7983360" y="1400040"/>
            <a:ext cx="1125720" cy="17416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Томс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90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Томсон (1907 г.) – атом состоит из положительного заряда, который равномерно распространен по всему объему атома, и электронов, которые колеблются внутри этого заряд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6516720" y="1852560"/>
          <a:ext cx="2111400" cy="251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1852560"/>
                    <a:ext cx="2111400" cy="2513160"/>
                  </a:xfrm>
                  <a:prstGeom prst="rect">
                    <a:avLst/>
                  </a:prstGeom>
                  <a:ln w="6984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Rectangle 6"/>
          <p:cNvSpPr/>
          <p:nvPr/>
        </p:nvSpPr>
        <p:spPr>
          <a:xfrm>
            <a:off x="324000" y="5272200"/>
            <a:ext cx="8496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дель не была подтверждена экспериментальными фактами и осталась просто гипотез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Резерфор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Э.Резерфорд (1911г.) – предлагает планетарную(ядерную) модель атома согласно которо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нутри атома находится положительно заряженное ядр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есь положительный заряд и почти вся масса атома сосредоточены в ядр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U18_08"/>
          <p:cNvPicPr/>
          <p:nvPr/>
        </p:nvPicPr>
        <p:blipFill>
          <a:blip r:embed="rId4"/>
          <a:stretch/>
        </p:blipFill>
        <p:spPr>
          <a:xfrm>
            <a:off x="6443640" y="1916280"/>
            <a:ext cx="2233800" cy="1974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216" name="Rectangle 7"/>
          <p:cNvSpPr/>
          <p:nvPr/>
        </p:nvSpPr>
        <p:spPr>
          <a:xfrm>
            <a:off x="395280" y="4724280"/>
            <a:ext cx="7272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электроны вращаются вокруг ядра по замкнутым орбитам подобно движению планет вокруг Солнц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классическая теория Резерфорда не могла объяснить излучение и поглощение энергии атом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82760"/>
            <a:ext cx="5627520" cy="58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Н.Бор (1913г.) – внес в планетарную модель атома Э.Резерфорда квантовые представл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лектроны в атоме вращаются по строго определенным орбитам, не испуская и не поглощая энерг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ри переходе электронов с одной орбиты на другую происходит поглощение или выделение энерг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1922г. он получает Нобелевскую премию по физик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U22_02"/>
          <p:cNvPicPr/>
          <p:nvPr/>
        </p:nvPicPr>
        <p:blipFill>
          <a:blip r:embed="rId5"/>
          <a:stretch/>
        </p:blipFill>
        <p:spPr>
          <a:xfrm>
            <a:off x="6516720" y="4149720"/>
            <a:ext cx="2190600" cy="2133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19" name="Picture 5" descr="NilsBor"/>
          <p:cNvPicPr/>
          <p:nvPr/>
        </p:nvPicPr>
        <p:blipFill>
          <a:blip r:embed="rId6"/>
          <a:stretch/>
        </p:blipFill>
        <p:spPr>
          <a:xfrm>
            <a:off x="6732720" y="620640"/>
            <a:ext cx="185076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ая квантовая модель строения атом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лектрон имеет двойственную (корпускулярно-волновую) природу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ядро состоит из нуклонов – протонов и нейтр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03236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684360" y="404640"/>
            <a:ext cx="5616000" cy="3687480"/>
            <a:chOff x="684360" y="404640"/>
            <a:chExt cx="5616000" cy="3687480"/>
          </a:xfrm>
        </p:grpSpPr>
        <p:sp>
          <p:nvSpPr>
            <p:cNvPr id="224" name="AutoShape 6"/>
            <p:cNvSpPr/>
            <p:nvPr/>
          </p:nvSpPr>
          <p:spPr>
            <a:xfrm>
              <a:off x="684360" y="199296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атом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670120" y="10850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ядро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12520" y="3183840"/>
              <a:ext cx="1418040" cy="9082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800000"/>
                  </a:solidFill>
                  <a:latin typeface="Verdana"/>
                </a:rPr>
                <a:t>е</a:t>
              </a:r>
              <a:r>
                <a:rPr b="1" lang="ru-RU" sz="5400" spc="-1" strike="noStrike" baseline="34000">
                  <a:solidFill>
                    <a:srgbClr val="800000"/>
                  </a:solidFill>
                  <a:latin typeface="Verdana"/>
                </a:rPr>
                <a:t>-</a:t>
              </a:r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4654800" y="404640"/>
              <a:ext cx="1645560" cy="96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p</a:t>
              </a:r>
              <a:r>
                <a:rPr b="1" lang="ru-RU" sz="4800" spc="-1" strike="noStrike" baseline="58000">
                  <a:solidFill>
                    <a:srgbClr val="800000"/>
                  </a:solidFill>
                  <a:latin typeface="Verdana"/>
                </a:rPr>
                <a:t>+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4712400" y="21632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n</a:t>
              </a:r>
              <a:r>
                <a:rPr b="1" lang="en-US" sz="4800" spc="-1" strike="noStrike" baseline="40000">
                  <a:solidFill>
                    <a:srgbClr val="800000"/>
                  </a:solidFill>
                  <a:latin typeface="Verdana"/>
                </a:rPr>
                <a:t>0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12"/>
            <p:cNvSpPr/>
            <p:nvPr/>
          </p:nvSpPr>
          <p:spPr>
            <a:xfrm rot="20076000">
              <a:off x="1875960" y="1810080"/>
              <a:ext cx="849960" cy="186120"/>
            </a:xfrm>
            <a:custGeom>
              <a:avLst/>
              <a:gdLst>
                <a:gd name="textAreaLeft" fmla="*/ 106200 w 849960"/>
                <a:gd name="textAreaRight" fmla="*/ 743760 w 849960"/>
                <a:gd name="textAreaTop" fmla="*/ 46440 h 186120"/>
                <a:gd name="textAreaBottom" fmla="*/ 1396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AutoShape 13"/>
            <p:cNvSpPr/>
            <p:nvPr/>
          </p:nvSpPr>
          <p:spPr>
            <a:xfrm rot="2241600">
              <a:off x="1647360" y="3127680"/>
              <a:ext cx="1020240" cy="12852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520"/>
                <a:gd name="textAreaBottom" fmla="*/ 96480 h 1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AutoShape 14"/>
            <p:cNvSpPr/>
            <p:nvPr/>
          </p:nvSpPr>
          <p:spPr>
            <a:xfrm rot="2241600">
              <a:off x="3804120" y="2048760"/>
              <a:ext cx="1020240" cy="12888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AutoShape 15"/>
            <p:cNvSpPr/>
            <p:nvPr/>
          </p:nvSpPr>
          <p:spPr>
            <a:xfrm rot="20076000">
              <a:off x="4030560" y="1142280"/>
              <a:ext cx="737640" cy="128880"/>
            </a:xfrm>
            <a:custGeom>
              <a:avLst/>
              <a:gdLst>
                <a:gd name="textAreaLeft" fmla="*/ 92160 w 737640"/>
                <a:gd name="textAreaRight" fmla="*/ 645480 w 7376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4932360" y="3438360"/>
          <a:ext cx="4067280" cy="3230640"/>
        </p:xfrm>
        <a:graphic>
          <a:graphicData uri="http://schemas.openxmlformats.org/drawingml/2006/table">
            <a:tbl>
              <a:tblPr/>
              <a:tblGrid>
                <a:gridCol w="1798560"/>
                <a:gridCol w="226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=</a:t>
                      </a: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-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(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тома)=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ядр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Заряд атома нейтр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5" name="atom.avi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11880" cy="4059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83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лгий пу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ые понятия элемента, атома и простого вещества сформировались сравнительно недавно. Атомистическая теория строения материи - учение о том, что все вещества состоят из мельчайших частиц, - прошла долгий и трудный пу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истика древни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упнейший физик современности, один из творцов квантовой механики - Э. Шредингер в своей статье, писал: «Современное атомистическое учение- всего лишь повторение теории Левкиппа и Демокрита. Из нее оно произошло и есть плоть от плоти е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6" descr="shredinger"/>
          <p:cNvPicPr/>
          <p:nvPr/>
        </p:nvPicPr>
        <p:blipFill>
          <a:blip r:embed="rId2"/>
          <a:stretch/>
        </p:blipFill>
        <p:spPr>
          <a:xfrm>
            <a:off x="5940360" y="2060640"/>
            <a:ext cx="2279880" cy="3024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ле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7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лес (около 625-547 до н.э. ), наблюдая за различными превращениями веществ, пришел к выводу, что все они являются разновидностями одного «первичного элемента» - начала всех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7" descr="1"/>
          <p:cNvPicPr/>
          <p:nvPr/>
        </p:nvPicPr>
        <p:blipFill>
          <a:blip r:embed="rId2"/>
          <a:stretch/>
        </p:blipFill>
        <p:spPr>
          <a:xfrm>
            <a:off x="4356000" y="1628640"/>
            <a:ext cx="4552920" cy="22100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96" name="Rectangle 8"/>
          <p:cNvSpPr/>
          <p:nvPr/>
        </p:nvSpPr>
        <p:spPr>
          <a:xfrm>
            <a:off x="1403280" y="4508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им элементом Фалес считал вод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наксиме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5040360"/>
          </a:xfrm>
          <a:prstGeom prst="rect">
            <a:avLst/>
          </a:prstGeom>
          <a:noFill/>
          <a:ln w="698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ксим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. до н.э.) называл первичным элементом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воздух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акл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-V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. до н.э.) –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ого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5" descr="hram"/>
          <p:cNvPicPr/>
          <p:nvPr/>
        </p:nvPicPr>
        <p:blipFill>
          <a:blip r:embed="rId1"/>
          <a:stretch/>
        </p:blipFill>
        <p:spPr>
          <a:xfrm>
            <a:off x="4859280" y="2498760"/>
            <a:ext cx="4038480" cy="25858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ение Аристоте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47640" y="1600200"/>
            <a:ext cx="5327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Аристотель (384-322 до н.э.) развивал учение о четырех первоначалах – огне, воздухе, воде и земле. Элементы он считал не материальными субстанциями, подобными обычной воде или земле, а лишь носителями определенных качеств, которыми наделены все тела.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pa_37800"/>
          <p:cNvPicPr/>
          <p:nvPr/>
        </p:nvPicPr>
        <p:blipFill>
          <a:blip r:embed="rId2"/>
          <a:stretch/>
        </p:blipFill>
        <p:spPr>
          <a:xfrm>
            <a:off x="723960" y="1773360"/>
            <a:ext cx="226368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03" name="Rectangle 7"/>
          <p:cNvSpPr/>
          <p:nvPr/>
        </p:nvSpPr>
        <p:spPr>
          <a:xfrm>
            <a:off x="539640" y="5661000"/>
            <a:ext cx="79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Эти качества – теплота, холод, сухость и влаж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елима ли матери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ым задался этим вопросом иониец Левкипп (ок. 500-440 до н.э.). Он считал, что в итоге такого деления можно получить настолько малую частицу, что дальнейшее деление станет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невозможны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5" descr="tr_aplet"/>
          <p:cNvPicPr/>
          <p:nvPr/>
        </p:nvPicPr>
        <p:blipFill>
          <a:blip r:embed="rId2"/>
          <a:srcRect l="0" t="0" r="0" b="15414"/>
          <a:stretch/>
        </p:blipFill>
        <p:spPr>
          <a:xfrm>
            <a:off x="6804000" y="4797360"/>
            <a:ext cx="2084400" cy="17892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ы Левкиппа и Демокри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крит из Абдеры (ок. 470-360 до н.э.), ученик Левкиппа, развил эту мысль своего учителя. Он назвал эти крошечные частички - «неделимые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томы Левкиппа и Демокрита – это прежде всего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ростейшие телес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еометрические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форм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 именно этим можно объяснить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различия в свойств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924360" y="609300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19640" y="551664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4140360" y="5373720"/>
            <a:ext cx="574560" cy="546120"/>
          </a:xfrm>
          <a:prstGeom prst="pentagon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3:19:24Z</dcterms:created>
  <dc:creator>Администратор</dc:creator>
  <dc:description/>
  <dc:language>en-US</dc:language>
  <cp:lastModifiedBy>user</cp:lastModifiedBy>
  <dcterms:modified xsi:type="dcterms:W3CDTF">2001-12-31T16:47:21Z</dcterms:modified>
  <cp:revision>67</cp:revision>
  <dc:subject/>
  <dc:title>Слайд 1</dc:title>
</cp:coreProperties>
</file>