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C1F-E8E6-44E3-BD7B-D366AC02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2E1-0613-4F73-B3E0-42F23785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D2C-F773-48E2-801A-0FC75D8D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0F8-9DD1-4B2F-9567-E1A1F1CC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692-8B2C-4726-B26C-36BA2F0D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FE2-4F10-4935-ACF2-E6883629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02D4-4366-4F21-A891-5C1EA12D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216-2B43-4DE6-80E6-2FA43F3D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C73-F1DA-4EB7-92CA-B53F19A9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4E7-877C-466F-969E-5E20D27E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41B-8F6F-4E3A-BAFC-C478556D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A47-5DF5-4F7F-9377-296273DE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8222-1C98-4B0A-BC34-A4D952F7D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9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Corporea's Desk of Progress - Works In Progress - Reaper Message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675640" cy="6669000"/>
          </a:xfrm>
          <a:prstGeom prst="rect">
            <a:avLst/>
          </a:prstGeom>
          <a:ln w="0">
            <a:noFill/>
          </a:ln>
        </p:spPr>
      </p:pic>
      <p:sp>
        <p:nvSpPr>
          <p:cNvPr id="45" name="Заголовок 1"/>
          <p:cNvSpPr/>
          <p:nvPr/>
        </p:nvSpPr>
        <p:spPr>
          <a:xfrm>
            <a:off x="1332000" y="234936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Monotype Corsiva"/>
              </a:rPr>
              <a:t>Проект</a:t>
            </a:r>
            <a:br>
              <a:rPr sz="2800"/>
            </a:br>
            <a:r>
              <a:rPr b="1" i="1" lang="en-US" sz="2800" spc="-1" strike="noStrike">
                <a:solidFill>
                  <a:srgbClr val="800000"/>
                </a:solidFill>
                <a:latin typeface="Monotype Corsiva"/>
              </a:rPr>
              <a:t>«Добрый волшебник Урала – </a:t>
            </a:r>
            <a:br>
              <a:rPr sz="2800"/>
            </a:br>
            <a:r>
              <a:rPr b="1" i="1" lang="en-US" sz="2800" spc="-1" strike="noStrike">
                <a:solidFill>
                  <a:srgbClr val="800000"/>
                </a:solidFill>
                <a:latin typeface="Monotype Corsiva"/>
              </a:rPr>
              <a:t>Павел Петрович Баж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1908000" y="3573360"/>
            <a:ext cx="2449800" cy="2389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88000" y="3789360"/>
            <a:ext cx="3384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Жогло Ольга, учащаяся 6 «в» класса МБОУ «Лицей» р.п.Степ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Кунаева А.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15920"/>
            <a:ext cx="820728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униципальный конкурс художественного творчества, посвященный 135-летию со дня рождения П.П. Бажова «ДРАГОЦЕННЫЕ РОССЫПИ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33200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58920" y="1557360"/>
            <a:ext cx="2808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Молодая семья жила более содержательной жизнью, чем большинство сослуживцев Бажова, проводивших свободное время за картами. Супруги много читали, бывали в театрах. В их семье родилось семеро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176720" cy="3363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32000" y="1125360"/>
            <a:ext cx="633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Участвовал в гражданской войне 1918-21 гг. на Урале, в Сибири, на Алта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В 1923-29 жил в Свердловске и работал в редакции «Крестьянской газеты». В это время им было написано свыше сорока сказов на темы уральского заводского фолькл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С 1930 г. - в Свердловском книжном издатель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11280" y="3141720"/>
            <a:ext cx="4025880" cy="266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1197000"/>
            <a:ext cx="4249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В 1937 году Бажова исключили из партии (через год — восстановили). Но тогда, лишившись привычной работы в издательстве, он посвятил всё своё время сказам, и они замерцали в «Малахитовой шкатулке» подлинными уральскими самоцве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В 1939 выходит самое знаменитое произведение Бажова - сборник сказок «Малахитовая шкатулка», за которую писатель получает Государственную премию. В дальнейшем Бажов пополнял эту книгу новыми сказ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Детская кроватка Дрофа-плюс Малахитовая шкатулка (Бажов П.) - купить Детскую кроватку Дрофа-плюс Малахитовая шкатулка (Бажов П.)"/>
          <p:cNvPicPr/>
          <p:nvPr/>
        </p:nvPicPr>
        <p:blipFill>
          <a:blip r:embed="rId2"/>
          <a:stretch/>
        </p:blipFill>
        <p:spPr>
          <a:xfrm>
            <a:off x="5508720" y="1341360"/>
            <a:ext cx="2797200" cy="388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Детская кроватка Дрофа-плюс Малахитовая шкатулка (Бажов П.) - купить Детскую кроватку Дрофа-плюс Малахитовая шкатулка (Бажов П.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76360" y="2133720"/>
            <a:ext cx="61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Сказы, записанные и обработанные Бажовым — изначально фольклорные. Многие из них (т. н. «тайные сказы» — старинные устные предания уральских горнорабочих) он слышал мальчиком от В. А. Хмелинина с Полевского завода (Хмелинин-Слышко, дед Слышко, «Стаканчик» из «Уральских былей»). Дед Слышко — рассказчик в «Малахитовой шкатулке». Позже Бажову пришлось официально заявлять, что это приём, и он не просто записал чужие рассказы, а действительно является их сочини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5564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Иллюстрация 35 из 49 для Малахитовая шкатулка. Уральские сказы - Павел Бажов Лабиринт - книги. Источник: Blackboard_Wri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2133720"/>
            <a:ext cx="66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Главная тема бажовских сказов — простой человек и его труд, талант и мастерство. Связь с природой, с тайными основами жизни осуществляется через могущественных представителей волшебного горного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Иллюстрация 6 из 33 для Малахитовая шкатулка - Павел Бажов Лабиринт - книги. Источник: LyakaL"/>
          <p:cNvPicPr/>
          <p:nvPr/>
        </p:nvPicPr>
        <p:blipFill>
          <a:blip r:embed="rId3"/>
          <a:stretch/>
        </p:blipFill>
        <p:spPr>
          <a:xfrm>
            <a:off x="1476360" y="3573360"/>
            <a:ext cx="2873520" cy="215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Иллюстрация 7 из 9 для Малахитовая шкатулка - Павел Бажов Лабиринт - книги. Источник: Макарова Елена"/>
          <p:cNvPicPr/>
          <p:nvPr/>
        </p:nvPicPr>
        <p:blipFill>
          <a:blip r:embed="rId4"/>
          <a:stretch/>
        </p:blipFill>
        <p:spPr>
          <a:xfrm>
            <a:off x="4572000" y="3573360"/>
            <a:ext cx="268776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Детская кроватка Дрофа-плюс Малахитовая шкатулка (Бажов П.) - купить Детскую кроватку Дрофа-плюс Малахитовая шкатулка (Бажов П.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916280"/>
            <a:ext cx="381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Один из самых ярких образов такого рода — Хозяйка Медной горы, с которой встречается мастер Степан из сказа «Малахитовая шкатулка». Хозяйка Медной горы помогает герою сказа «Каменный цветок» Даниле раскрыть свой талант — и разочаровывается в мастере после того, как он отказывается от попыток самостоятельно сделать Каменный цве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Аудиокнига онлайн слушать медной горы хозяйка скачать Torrent на fgold.ru.com"/>
          <p:cNvPicPr/>
          <p:nvPr/>
        </p:nvPicPr>
        <p:blipFill>
          <a:blip r:embed="rId3"/>
          <a:stretch/>
        </p:blipFill>
        <p:spPr>
          <a:xfrm>
            <a:off x="5148360" y="1989000"/>
            <a:ext cx="2530440" cy="3841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4320" t="2835" r="4320" b="212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" y="1773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Дом - музей писателя Павла Петровича Бажова - Сысерть"/>
          <p:cNvPicPr/>
          <p:nvPr/>
        </p:nvPicPr>
        <p:blipFill>
          <a:blip r:embed="rId2"/>
          <a:stretch/>
        </p:blipFill>
        <p:spPr>
          <a:xfrm>
            <a:off x="1116000" y="1268280"/>
            <a:ext cx="6912000" cy="5156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4360" y="620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Дом - музей писателя Павла Петровича Баж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4320" t="2835" r="4320" b="212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84360" y="333360"/>
            <a:ext cx="38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Е. Хорин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«Домик писате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Недалёко от Исет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рый дом и сад гус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Там шумит осенний ве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Беспокойною лист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блаков пушистых греб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роплывают сторо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этом доме жил волшебни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удрый сказочник седо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комната в доме Бажова - Сысерть-Музей Бажова - 3 класс - Фотоальбом - КЛАССНЫЙ САЙТ"/>
          <p:cNvPicPr/>
          <p:nvPr/>
        </p:nvPicPr>
        <p:blipFill>
          <a:blip r:embed="rId2"/>
          <a:stretch/>
        </p:blipFill>
        <p:spPr>
          <a:xfrm>
            <a:off x="4643280" y="3500280"/>
            <a:ext cx="4176720" cy="2797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Музеи / Екатеринбург / БЕСПЛАТНО - Афиша бесплатных развлечений"/>
          <p:cNvPicPr/>
          <p:nvPr/>
        </p:nvPicPr>
        <p:blipFill>
          <a:blip r:embed="rId3"/>
          <a:stretch/>
        </p:blipFill>
        <p:spPr>
          <a:xfrm>
            <a:off x="250920" y="3429000"/>
            <a:ext cx="4105080" cy="2781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Советский сказ Павла Бажова - MIRADOX"/>
          <p:cNvPicPr/>
          <p:nvPr/>
        </p:nvPicPr>
        <p:blipFill>
          <a:blip r:embed="rId4"/>
          <a:stretch/>
        </p:blipFill>
        <p:spPr>
          <a:xfrm>
            <a:off x="6156360" y="638280"/>
            <a:ext cx="2832120" cy="212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Фотоальбомы - Официальный портал Екатеринбурга"/>
          <p:cNvPicPr/>
          <p:nvPr/>
        </p:nvPicPr>
        <p:blipFill>
          <a:blip r:embed="rId5"/>
          <a:stretch/>
        </p:blipFill>
        <p:spPr>
          <a:xfrm>
            <a:off x="108000" y="766800"/>
            <a:ext cx="2519280" cy="201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4320" t="2835" r="4320" b="212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765000"/>
            <a:ext cx="36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лед копыта серебр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Вьётся змейкою в 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Огневушкою круж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ламя жаркое в п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Ящерки мелькнули раз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Встал Данила над цветко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 шкатулкой, полной сказ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жется Бажовский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Дом-музей П.П.Бажова, Россия, Екатеринбург: фото, описание адрес"/>
          <p:cNvPicPr/>
          <p:nvPr/>
        </p:nvPicPr>
        <p:blipFill>
          <a:blip r:embed="rId2"/>
          <a:stretch/>
        </p:blipFill>
        <p:spPr>
          <a:xfrm>
            <a:off x="395280" y="3716280"/>
            <a:ext cx="4176720" cy="2452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БАМАШ-тур Музеи Екатеринбурга"/>
          <p:cNvPicPr/>
          <p:nvPr/>
        </p:nvPicPr>
        <p:blipFill>
          <a:blip r:embed="rId3"/>
          <a:stretch/>
        </p:blipFill>
        <p:spPr>
          <a:xfrm>
            <a:off x="4716360" y="3716280"/>
            <a:ext cx="4025880" cy="2511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Бажов Павел - Малахитовая шкатулка (сборник) Герасимов Вячеслав, 2003, сказки для детей и взрослых, 160 kbps"/>
          <p:cNvPicPr/>
          <p:nvPr/>
        </p:nvPicPr>
        <p:blipFill>
          <a:blip r:embed="rId4"/>
          <a:stretch/>
        </p:blipFill>
        <p:spPr>
          <a:xfrm>
            <a:off x="6012000" y="981000"/>
            <a:ext cx="2952720" cy="2030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Обсуждения Вдохновение Группы Мой Мир"/>
          <p:cNvPicPr/>
          <p:nvPr/>
        </p:nvPicPr>
        <p:blipFill>
          <a:blip r:embed="rId5"/>
          <a:stretch/>
        </p:blipFill>
        <p:spPr>
          <a:xfrm>
            <a:off x="366840" y="476280"/>
            <a:ext cx="2162160" cy="300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4320" t="2835" r="4320" b="212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0" y="189000"/>
            <a:ext cx="38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А из сада – гомон птич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Ветви тянутся к лучам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Есть ещё такой обы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У ребят у свердловча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Каждою весною н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Тихо входят на крыльц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Посадить в саду Баж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Маленькое деревц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И посадят возле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Всем лихим ветр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Чтобы крепким и весёл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Это дерево ро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И шумит листвой рябин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Зеленеет каждый год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К дому этому троп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Никогда не зараст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Повесть о П.П. Бажове в стихах - Педагогический портал &quot;О детстве&quot;"/>
          <p:cNvPicPr/>
          <p:nvPr/>
        </p:nvPicPr>
        <p:blipFill>
          <a:blip r:embed="rId2"/>
          <a:stretch/>
        </p:blipFill>
        <p:spPr>
          <a:xfrm>
            <a:off x="395280" y="3573360"/>
            <a:ext cx="4105440" cy="3078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Программа &quot;Малахитовое лето&quot; Екатеринбург - Афиша - Weburg"/>
          <p:cNvPicPr/>
          <p:nvPr/>
        </p:nvPicPr>
        <p:blipFill>
          <a:blip r:embed="rId3"/>
          <a:stretch/>
        </p:blipFill>
        <p:spPr>
          <a:xfrm>
            <a:off x="395280" y="404640"/>
            <a:ext cx="4321080" cy="288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Дом-музей П.П. Бажова в Сысерти НАШ УРАЛ"/>
          <p:cNvPicPr/>
          <p:nvPr/>
        </p:nvPicPr>
        <p:blipFill>
          <a:blip r:embed="rId4"/>
          <a:stretch/>
        </p:blipFill>
        <p:spPr>
          <a:xfrm>
            <a:off x="5076720" y="4653000"/>
            <a:ext cx="2787840" cy="2090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27280" y="2349360"/>
            <a:ext cx="3529080" cy="268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47640" y="476280"/>
            <a:ext cx="6120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Arial"/>
              </a:rPr>
              <a:t>Бажов Павел Петрович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Arial"/>
              </a:rPr>
              <a:t>(27 января 1879 - 3 декабря 1950) – знаменитый русский советский писатель, знаменитый уральский сказочник, прозаик, талантливый обработчик народных преданий, легенд, уральских ска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4320" t="2835" r="4320" b="212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8360" y="76500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33360"/>
            <a:ext cx="511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Т. Сарышева «Хозяйка медной го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Распахнуты скалы, дорога откры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ростят ему выдумку, бегство, искан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А ей – по зелёной траве малах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Бродить улыбаясь: она ведь из ка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Что с каменной станется! Душно и мел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Ревнивое чувство. Теперь оно гл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рипала к стволу ошалевшая бел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Трусливые зайцы расправили 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Хозяйка идёт. И в том её си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Что стоит ей только кивнуть головою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И дерево вдруг упадёт веков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А в том, что Данилу домой отпуст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Распахнуты скалы, дорога откры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ростят ему выдумку, бегство, искан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А ей – по зелёной траве малах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Бродить улыбаясь: она ведь из ка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Ночь в музее: почувствуй магию стихий! Первый Музей Славянской Мифологии"/>
          <p:cNvPicPr/>
          <p:nvPr/>
        </p:nvPicPr>
        <p:blipFill>
          <a:blip r:embed="rId2"/>
          <a:stretch/>
        </p:blipFill>
        <p:spPr>
          <a:xfrm>
            <a:off x="5508720" y="836640"/>
            <a:ext cx="3382920" cy="405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320" t="2835" r="4320" b="212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4000" y="404640"/>
            <a:ext cx="41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Ставила Дарёнка во дв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С чистою водой корытц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Чтоб олешек мален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Мог воды нап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Топнул олен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Серебряным копытц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И оставил Дарьюшке на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Самоцветных камуш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Целое корыт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(Э. Кочан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Удалённая работа Портфолио фрилансера Ягур Анна yagurana"/>
          <p:cNvPicPr/>
          <p:nvPr/>
        </p:nvPicPr>
        <p:blipFill>
          <a:blip r:embed="rId2"/>
          <a:stretch/>
        </p:blipFill>
        <p:spPr>
          <a:xfrm>
            <a:off x="4356000" y="476280"/>
            <a:ext cx="4148280" cy="2936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427640" y="4005360"/>
            <a:ext cx="41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Тёмной ночью у ко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оявляется он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Мастерица петь, пляс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Самородок указ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Звали эту веселушку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Огневушка – поскаку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(И. Блох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мифология - Самое интересное в блогах"/>
          <p:cNvPicPr/>
          <p:nvPr/>
        </p:nvPicPr>
        <p:blipFill>
          <a:blip r:embed="rId3"/>
          <a:stretch/>
        </p:blipFill>
        <p:spPr>
          <a:xfrm>
            <a:off x="611280" y="3284640"/>
            <a:ext cx="3527280" cy="3430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Corporea's Desk of Progress - Works In Progress - Reaper Message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619280" y="2060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Стихотворение молодого рабочего – камн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2349360"/>
            <a:ext cx="35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Вечерний костё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И старую выш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И Думную г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И дедушку Слы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Представил я с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За ясное сло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За чудные с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Спасибо Баж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Приволье, раздоль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Родной наш Ура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Твои камнере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Твои мас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2349360"/>
            <a:ext cx="309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Такое сво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Руками твори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Что мёртвые кам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У них говор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Огнём загора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Цветные кам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И сказы рожда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Нам в поуч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Он трогает сло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И сердце и раз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Спасибо Баж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За чудные сказы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32000" y="1125360"/>
            <a:ext cx="63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авел Петрович Бажов родился 27 января 1879 года на Урале, вблизи Екатеринбурга, в семье потомственного горнозаводского мастера Сысертского завода Петра Васильевича и Августы Стефановны Бажевых (так тогда писалась эта фамил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9673" t="3690" r="50335" b="22751"/>
          <a:stretch/>
        </p:blipFill>
        <p:spPr>
          <a:xfrm>
            <a:off x="2268360" y="2924280"/>
            <a:ext cx="1878120" cy="2590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52465" t="3690" r="7575" b="22751"/>
          <a:stretch/>
        </p:blipFill>
        <p:spPr>
          <a:xfrm>
            <a:off x="4643280" y="2924280"/>
            <a:ext cx="187668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58920" y="141300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Фамилия Бажов происходит от местного слова «бажить» – то есть ворожить, предвещать. У Бажова и прозвище мальчишечье уличное было – Колдунков. И позже, когда Бажов стал печатать свои произведения, он подписывался одним из своих псевдонимов – Колду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Советский сказ Павла Бажова - MIRADOX"/>
          <p:cNvPicPr/>
          <p:nvPr/>
        </p:nvPicPr>
        <p:blipFill>
          <a:blip r:embed="rId2"/>
          <a:stretch/>
        </p:blipFill>
        <p:spPr>
          <a:xfrm>
            <a:off x="2916360" y="3213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1197000"/>
            <a:ext cx="705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етр Васильевич Бажев был мастером пудлингово-сварочного цеха Сысертского металлургического завода близ Екатеринбурга. Мать писателя, Августа Стефановна, была искусной кружевницей. Это было большим подспорьем для семьи, особенно во время вынужденной безработицы муж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Будущий писатель жил и формировался в среде уральских горнорабочих. Впечатления детства оказались для Бажова самыми важными и яр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Поездка на Южный урал - сплав по реке на катамаранах"/>
          <p:cNvPicPr/>
          <p:nvPr/>
        </p:nvPicPr>
        <p:blipFill>
          <a:blip r:embed="rId2"/>
          <a:stretch/>
        </p:blipFill>
        <p:spPr>
          <a:xfrm>
            <a:off x="1476360" y="3716280"/>
            <a:ext cx="2497320" cy="187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Павел Петрович Бажов (1952-1993) - FB2 - PDF - RTF &quot; Скачать программы бесплатно"/>
          <p:cNvPicPr/>
          <p:nvPr/>
        </p:nvPicPr>
        <p:blipFill>
          <a:blip r:embed="rId3"/>
          <a:stretch/>
        </p:blipFill>
        <p:spPr>
          <a:xfrm>
            <a:off x="4716360" y="3716280"/>
            <a:ext cx="1675080" cy="222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32000" y="141300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Детство и отрочество Павла Петровича Бажова прошли в городке Сысерти и на Полевском заводе, входившем в Сысертский горный ок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Бажов родился в уральском городке Сысерть, в 1879 году в семье горного мастера Петра Васильевича Бажова. Детство мальчик провел"/>
          <p:cNvPicPr/>
          <p:nvPr/>
        </p:nvPicPr>
        <p:blipFill>
          <a:blip r:embed="rId2"/>
          <a:stretch/>
        </p:blipFill>
        <p:spPr>
          <a:xfrm>
            <a:off x="2050920" y="2492280"/>
            <a:ext cx="5154840" cy="306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76720" y="1197000"/>
            <a:ext cx="475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Бажов учился в мужской земской трехлетней школе, в которой был талантливый учитель словесности, сумевший увлечь ребят литера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Так, 9-летний мальчик однажды наизусть прочел весь школьный сборник стихотворений Н.А. Некрасова, выученный им по собственному почину. Прекрасно сдав вступительные экзамены, Бажов был зачислен в Екатеринбургское духовное училище. По окончании училища в 14 лет Павел поступил в Пермскую духовную семинарию, в которой обучался 6 лет. Это было время его знакомства с классической и современной литера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2416320" cy="31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56000" y="1052640"/>
            <a:ext cx="36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1899 году Бажов окончил Пермскую семинарию – третьим по сумме баллов. Настало время выбора пути в жизни. Бажов решил учительствовать в начальной школе в районе, населенном старообрядцами. Свой трудовой путь он начал в глухой уральской деревне Шайдуриха, возле Невьянска,  а затем в Екатеринбурге и Камышлове. Он преподавал русский язык, много ездил по Уралу, интересовался фольклором, краеведением, этнографией, занимался журналисти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Павел Петрович Бажов - Cобрание сочинений :: NoNaMe"/>
          <p:cNvPicPr/>
          <p:nvPr/>
        </p:nvPicPr>
        <p:blipFill>
          <a:blip r:embed="rId2"/>
          <a:stretch/>
        </p:blipFill>
        <p:spPr>
          <a:xfrm>
            <a:off x="1116000" y="1197000"/>
            <a:ext cx="3203640" cy="449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84720" y="1628640"/>
            <a:ext cx="3527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В 1907 году П. Бажов перешел в епархиальное (женское) училище. Здесь он знакомится со своей будущей женой, а на тот момент просто его ученицей, Валентиной Иваницкой, с которой они поженились в 1911 году. Брак был основан на любви и единстве устремл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2798640" cy="3952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5:21:06Z</dcterms:created>
  <dc:creator>boris</dc:creator>
  <dc:description/>
  <dc:language>en-US</dc:language>
  <cp:lastModifiedBy>boris</cp:lastModifiedBy>
  <dcterms:modified xsi:type="dcterms:W3CDTF">2015-10-12T16:34:11Z</dcterms:modified>
  <cp:revision>15</cp:revision>
  <dc:subject/>
  <dc:title>Слайд 1</dc:title>
</cp:coreProperties>
</file>