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2EF-B819-4E8C-B8E3-1EE373F0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0DF-6F85-44BC-9362-AA4AD499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C6F-C11C-4833-AA7A-095961E4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C6A-92CA-47E9-8B40-3743EF1B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ACC-7EFF-46F3-8E42-DADCD933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C19-71CE-4155-8E12-55DE9890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9B0-7457-4A23-8A79-6945495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28A-9BE5-4A8B-AD7D-86530DF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986-0769-4B47-A5EF-29D62736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0CF-6929-41F3-BB3B-A981465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DF6-C0CD-4CC4-AB80-D829140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91C-AACD-4DA7-A031-19219B6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2A2-C52E-4154-908C-E39D2939B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6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то3479.wav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tree23"/>
          <p:cNvPicPr/>
          <p:nvPr/>
        </p:nvPicPr>
        <p:blipFill>
          <a:blip r:embed="rId6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1" descr="tree23"/>
          <p:cNvPicPr/>
          <p:nvPr/>
        </p:nvPicPr>
        <p:blipFill>
          <a:blip r:embed="rId7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tree23"/>
          <p:cNvPicPr/>
          <p:nvPr/>
        </p:nvPicPr>
        <p:blipFill>
          <a:blip r:embed="rId8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kalendula_kopija"/>
          <p:cNvPicPr/>
          <p:nvPr/>
        </p:nvPicPr>
        <p:blipFill>
          <a:blip r:embed="rId9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kalendula_kopija"/>
          <p:cNvPicPr/>
          <p:nvPr/>
        </p:nvPicPr>
        <p:blipFill>
          <a:blip r:embed="rId10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7" descr="kalendula_kopija"/>
          <p:cNvPicPr/>
          <p:nvPr/>
        </p:nvPicPr>
        <p:blipFill>
          <a:blip r:embed="rId11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kalendula_kopija"/>
          <p:cNvPicPr/>
          <p:nvPr/>
        </p:nvPicPr>
        <p:blipFill>
          <a:blip r:embed="rId12"/>
          <a:srcRect l="13015" t="0" r="11690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kalendula_kopija"/>
          <p:cNvPicPr/>
          <p:nvPr/>
        </p:nvPicPr>
        <p:blipFill>
          <a:blip r:embed="rId13"/>
          <a:srcRect l="13015" t="0" r="11690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2"/>
          <p:cNvPicPr/>
          <p:nvPr/>
        </p:nvPicPr>
        <p:blipFill>
          <a:blip r:embed="rId14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33"/>
          <p:cNvPicPr/>
          <p:nvPr/>
        </p:nvPicPr>
        <p:blipFill>
          <a:blip r:embed="rId15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6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50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15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160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7"/>
          <p:cNvSpPr/>
          <p:nvPr/>
        </p:nvSpPr>
        <p:spPr>
          <a:xfrm rot="1261200">
            <a:off x="5363640" y="3357360"/>
            <a:ext cx="1059120" cy="1253880"/>
          </a:xfrm>
          <a:custGeom>
            <a:avLst/>
            <a:gdLst>
              <a:gd name="textAreaLeft" fmla="*/ 0 w 1059120"/>
              <a:gd name="textAreaRight" fmla="*/ 878400 w 1059120"/>
              <a:gd name="textAreaTop" fmla="*/ 969480 h 1253880"/>
              <a:gd name="textAreaBottom" fmla="*/ 1040040 h 125388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custGeom>
            <a:avLst/>
            <a:gdLst>
              <a:gd name="textAreaLeft" fmla="*/ 0 w 1173240"/>
              <a:gd name="textAreaRight" fmla="*/ 973080 w 1173240"/>
              <a:gd name="textAreaTop" fmla="*/ 1034640 h 1338120"/>
              <a:gd name="textAreaBottom" fmla="*/ 1109880 h 133812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пор3526.wav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32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4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44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44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4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44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4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4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4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45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4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458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4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46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464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САДИК</cp:lastModifiedBy>
  <dcterms:modified xsi:type="dcterms:W3CDTF">2015-10-12T12:54:05Z</dcterms:modified>
  <cp:revision>50</cp:revision>
  <dc:subject/>
  <dc:title>Слайд 1</dc:title>
</cp:coreProperties>
</file>