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F7D-9DF3-4318-B802-378758D7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E1C-8878-44D6-AF56-CCF7009A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1E0-A8A1-4306-B9CD-77ADD94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790-7CB7-40F6-AD88-2175876D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251-57EE-48B0-BBD0-A654D02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6D2-8A36-4958-8EAF-559E004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4A7-58D1-43D2-A120-AEAE871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C97-9C9C-41D1-9533-ADF96C9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AB3-14D5-4FE4-AF97-EC2B9DF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D6C-BD76-4921-ADC0-0924093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D18-D414-43BF-B39B-6417AAB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D58-FAC6-4A70-9F6F-7D49D19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949-EED2-471F-96E6-6B3A1840D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6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то3479.wav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tree23"/>
          <p:cNvPicPr/>
          <p:nvPr/>
        </p:nvPicPr>
        <p:blipFill>
          <a:blip r:embed="rId6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1" descr="tree23"/>
          <p:cNvPicPr/>
          <p:nvPr/>
        </p:nvPicPr>
        <p:blipFill>
          <a:blip r:embed="rId7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tree23"/>
          <p:cNvPicPr/>
          <p:nvPr/>
        </p:nvPicPr>
        <p:blipFill>
          <a:blip r:embed="rId8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kalendula_kopija"/>
          <p:cNvPicPr/>
          <p:nvPr/>
        </p:nvPicPr>
        <p:blipFill>
          <a:blip r:embed="rId9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kalendula_kopija"/>
          <p:cNvPicPr/>
          <p:nvPr/>
        </p:nvPicPr>
        <p:blipFill>
          <a:blip r:embed="rId10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7" descr="kalendula_kopija"/>
          <p:cNvPicPr/>
          <p:nvPr/>
        </p:nvPicPr>
        <p:blipFill>
          <a:blip r:embed="rId11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kalendula_kopija"/>
          <p:cNvPicPr/>
          <p:nvPr/>
        </p:nvPicPr>
        <p:blipFill>
          <a:blip r:embed="rId12"/>
          <a:srcRect l="13015" t="0" r="11690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kalendula_kopija"/>
          <p:cNvPicPr/>
          <p:nvPr/>
        </p:nvPicPr>
        <p:blipFill>
          <a:blip r:embed="rId13"/>
          <a:srcRect l="13015" t="0" r="11690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2"/>
          <p:cNvPicPr/>
          <p:nvPr/>
        </p:nvPicPr>
        <p:blipFill>
          <a:blip r:embed="rId14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33"/>
          <p:cNvPicPr/>
          <p:nvPr/>
        </p:nvPicPr>
        <p:blipFill>
          <a:blip r:embed="rId15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6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50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15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160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7"/>
          <p:cNvSpPr/>
          <p:nvPr/>
        </p:nvSpPr>
        <p:spPr>
          <a:xfrm rot="1261200">
            <a:off x="5363640" y="3357360"/>
            <a:ext cx="1059120" cy="1253880"/>
          </a:xfrm>
          <a:custGeom>
            <a:avLst/>
            <a:gdLst>
              <a:gd name="textAreaLeft" fmla="*/ 0 w 1059120"/>
              <a:gd name="textAreaRight" fmla="*/ 878400 w 1059120"/>
              <a:gd name="textAreaTop" fmla="*/ 969480 h 1253880"/>
              <a:gd name="textAreaBottom" fmla="*/ 1040040 h 125388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custGeom>
            <a:avLst/>
            <a:gdLst>
              <a:gd name="textAreaLeft" fmla="*/ 0 w 1173240"/>
              <a:gd name="textAreaRight" fmla="*/ 973080 w 1173240"/>
              <a:gd name="textAreaTop" fmla="*/ 1034640 h 1338120"/>
              <a:gd name="textAreaBottom" fmla="*/ 1109880 h 133812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пор3526.wav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32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4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44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44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4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44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4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4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4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45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4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458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4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46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464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САДИК</cp:lastModifiedBy>
  <dcterms:modified xsi:type="dcterms:W3CDTF">2015-10-12T12:54:05Z</dcterms:modified>
  <cp:revision>50</cp:revision>
  <dc:subject/>
  <dc:title>Слайд 1</dc:title>
</cp:coreProperties>
</file>