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24D8-7D5C-40E7-B633-311BB9EA2F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3700-40E8-4C5D-86EA-27885A2AD055}" type="slidenum">
              <a:rPr b="0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F83-B4C5-4F57-A044-EF6E4D67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0B0-F54D-43D0-BD02-2B5531C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F3D-483C-4CA3-8764-E6EE1E0F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D07-63CB-48EB-9AE7-D941E94D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333A-0499-4626-B476-23603540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F973-3670-4CA2-858E-793077BF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25EC-2839-4AA0-A697-145803B1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0BB1-C62E-41E4-84F6-3AC29F15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DFAF-D85B-4BAD-8C7E-17953A03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047D-26CC-4353-86A8-6C0C6947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3E90-B05B-404A-849A-175F7DD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9F2-D826-483A-A8F2-69CDF46A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AEBA-467B-48C1-9F67-1A8508BA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605D-F2A8-4CFB-9163-8E5C4D0D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5FC4-769B-4AE6-80FA-C7A5EBB6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DA90-6E9D-416F-8A98-D0A45552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DBCE-91D4-426D-9964-17134B7C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6D97-2C70-429B-A2F3-09EDD226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CEF7-AD8C-4D5E-95B2-FDC80E2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920C-19C2-46EE-A06E-CE7E65A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0C9A-D3FF-4790-95AB-1661A38F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034F-3A5C-4BFA-8BD1-C86FF554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F55-CED2-4CF4-893D-BA6D4857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9543-2104-4522-BB81-5CD68F22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66F3-7A68-4A74-9550-7322106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6CC8-2518-4BE9-A069-055C5E8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20AE-A4BA-41CD-A351-3F229AA6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4839-B7F2-4289-90C0-8AE11600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78FC-B1A8-43FB-BBFD-1FE0C3B2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90AA-D910-483C-9478-46E4B35F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C5468-10B2-4ECA-923F-FB4723CC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4E68B-C18A-426B-9A61-FA45738F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D838-DC27-477D-8E83-4E5612E4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AB9-7447-4003-9648-BD43C744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BB4E4-A578-4E41-9409-7B66BE25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DA78-531E-40D7-85CA-42E89812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A710-4BBF-43AB-9886-95863FEE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B1A16-4925-4468-8C81-64EA86E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8D05-5128-4E00-BDD1-DEB1759A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E023-60EB-44FE-BB6B-B8522BE0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402F-C8BD-45DA-9CD2-FA27EF72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5B4C-D213-42FB-84FE-427EBD10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35BBE-C2A8-40FA-9F77-10F4C424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03759-5E21-4A8B-B3EF-CAE25ECD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EA7-1A57-40D1-9E6E-DF17E84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251B-4494-4A5C-BE79-0772FF19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C3E5-C994-4086-8AE6-9F410AF8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7F639-D802-4DF7-97CC-44824CC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4067C-59A8-4FFB-8DC4-79CE3666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9C931-670B-4B80-81C4-E204A22C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81F7-2972-450B-8C5C-845217B0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DE161-1FBF-4DF8-A730-B5EA5800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FB87A-C02D-4DA1-8626-F5ECC1C7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BB63-F65D-4025-9EDF-D3733213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19EB7-FB10-4C21-A1C4-2A7D4660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912-D4CD-45B7-9259-49DCF61C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D68AD-731E-4B51-8210-323BB960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75A68-A769-497B-94A8-3B6BB482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46AB1-D7AB-45DE-9AF0-CAB5CC6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8503-293F-4ED8-9F79-09048CFA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80209-D32E-43ED-97F3-5C01DA5C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2E985-92F0-47E9-8E82-AA540FA8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BAE4-DAEE-4BE1-B657-FC72C70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9746E-EFBF-4D48-A394-C9822175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E3E5-7A35-45BB-8983-A76111E9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B03B1-CAF2-4D9C-95F5-6157510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B08-9EB2-4FC3-AD64-DF99050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B682-C40F-427D-BE8D-2F8364CA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065A6-A2AF-446E-8A9B-1B7DF076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BEBB7-32F0-4874-AC63-2CEF36EB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96098-B573-4106-B1E2-6AB2358E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B77B4-961E-451F-98DD-12F3110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D4F56-2245-4C99-9B5E-354524BB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71DF9-3209-4628-8221-09EC5C19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7FF2E-5A11-4E62-A5A7-795CFD86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DCE1-77B2-4FB0-8CCB-503FE748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D59C1-0D1E-4AE9-BCD0-AAA8AE7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09A-C06D-4630-A8FA-57EAF6C5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8B133-ACDA-4F57-BC3F-D4E348E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A8C8-5B58-4636-BD6F-EC10E37B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13A21-85A0-48D1-884B-77B510C7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8F839-3B4F-474E-81D9-532268E3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3EAE-2817-40CD-B833-A84A1FF0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38B-C251-44AF-8F22-F18A2EF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e3e3">
              <a:alpha val="33000"/>
            </a:srgbClr>
          </a:solidFill>
          <a:ln cap="rnd" w="3240">
            <a:solidFill>
              <a:srgbClr val="f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9e9e"/>
            </a:solidFill>
            <a:miter/>
          </a:ln>
          <a:effectLst>
            <a:outerShdw dist="12600" dir="5400000" blurRad="0" rotWithShape="0">
              <a:srgbClr val="af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864A-CB8C-44EC-9F87-C381548FDD44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e3e3">
              <a:alpha val="33000"/>
            </a:srgbClr>
          </a:solidFill>
          <a:ln cap="rnd" w="3240">
            <a:solidFill>
              <a:srgbClr val="f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9e9e"/>
            </a:solidFill>
            <a:miter/>
          </a:ln>
          <a:effectLst>
            <a:outerShdw dist="12600" dir="5400000" blurRad="0" rotWithShape="0">
              <a:srgbClr val="af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54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8802-5CCD-4E36-862F-A6D3801AE008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54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58BB-6722-407B-BFD9-142C1BC76933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5306-B811-4686-AF54-A0CA89C0E48E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8802-3D77-4BDA-8864-4AE1DB132343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796B-D030-4E6C-9D02-BB7FC78C3476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6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C2D7-8972-4B16-BE28-DC30AA835C68}" type="slidenum">
              <a:rPr b="0" lang="ru-RU" sz="1200" spc="-1" strike="noStrike">
                <a:solidFill>
                  <a:srgbClr val="d2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6160" y="214200"/>
            <a:ext cx="836784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0000"/>
                </a:solidFill>
                <a:latin typeface="Corbel"/>
              </a:rPr>
              <a:t> </a:t>
            </a:r>
            <a:r>
              <a:rPr b="1" lang="ru-RU" sz="4400" spc="-1" strike="noStrike">
                <a:solidFill>
                  <a:srgbClr val="dd0000"/>
                </a:solidFill>
                <a:latin typeface="Corbel"/>
              </a:rPr>
              <a:t>Игра как средство мотивации познавательной деятельности обучающихся первой ступени. </a:t>
            </a:r>
            <a:endParaRPr b="0" lang="en-US" sz="4400" spc="-1" strike="noStrike">
              <a:solidFill>
                <a:srgbClr val="dd0000"/>
              </a:solidFill>
              <a:latin typeface="Corbe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143080" y="2714760"/>
            <a:ext cx="5229360" cy="39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214280" y="42840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я задача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делать  процесс обучения занимательным, создать у детей бодрое рабочее настроение, облегчить преодоление трудностей в усвоении учебного материала. </a:t>
            </a:r>
            <a:endParaRPr b="0" lang="en-US" sz="36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2560" y="0"/>
            <a:ext cx="8731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0000"/>
                </a:solidFill>
                <a:latin typeface="Corbel"/>
              </a:rPr>
              <a:t>При использовании игровых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900000"/>
                </a:solidFill>
                <a:latin typeface="Corbel"/>
              </a:rPr>
              <a:t>на уроках соблюдаю следующие условия</a:t>
            </a: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: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71360" y="1499760"/>
            <a:ext cx="8072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1) соответствие игры учебно -воспитательным целям урока;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2) доступность для учащихся данного возраста;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3) умеренность в использовании игр на уроках.</a:t>
            </a:r>
            <a:br>
              <a:rPr sz="3200"/>
            </a:b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9720" y="115920"/>
            <a:ext cx="7991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900000"/>
                </a:solidFill>
                <a:latin typeface="inherit"/>
              </a:rPr>
              <a:t>Реализация игровых приемов и ситуаций при урочной форме занятий происходит по следующим основным направлениям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dd0000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43000" y="1413000"/>
          <a:ext cx="7821720" cy="4579920"/>
        </p:xfrm>
        <a:graphic>
          <a:graphicData uri="http://schemas.openxmlformats.org/drawingml/2006/table">
            <a:tbl>
              <a:tblPr/>
              <a:tblGrid>
                <a:gridCol w="7821720"/>
              </a:tblGrid>
              <a:tr h="4579920">
                <a:tc>
                  <a:txBody>
                    <a:bodyPr lIns="90000" rIns="90000" tIns="95400" bIns="954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идактическую цель ставлю перед учащимися в форме игровой задачи;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ую деятельность подчиняю правилам игры;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й материал использую в качестве ее средства;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 учебную деятельность ввожу элемент соревнования, который    переводит дидактическую задачу в игровую;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спешное выполнение дидактического задания связываю с игровым результатом.</a:t>
                      </a:r>
                      <a:endParaRPr b="0" lang="en-US" sz="24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9144000" y="1125360"/>
          <a:ext cx="8748720" cy="424368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Rectangle 1"/>
          <p:cNvSpPr/>
          <p:nvPr/>
        </p:nvSpPr>
        <p:spPr>
          <a:xfrm>
            <a:off x="30492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0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812000" y="61657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600000"/>
          </a:solidFill>
          <a:ln w="25560">
            <a:solidFill>
              <a:srgbClr val="4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459640" y="616572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00000"/>
          </a:solidFill>
          <a:ln w="25560">
            <a:solidFill>
              <a:srgbClr val="4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Times New Roman"/>
                <a:ea typeface="Times New Roman"/>
              </a:rPr>
              <a:t>Мотивация познавательной деятельности: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04920" y="1341360"/>
          <a:ext cx="8686800" cy="56768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679720">
                <a:tc>
                  <a:txBody>
                    <a:bodyPr lIns="90000" rIns="90000" tIns="95400" bIns="95400" anchor="ctr">
                      <a:noAutofit/>
                    </a:bodyPr>
                    <a:p>
                      <a:pPr marL="627120">
                        <a:lnSpc>
                          <a:spcPct val="100000"/>
                        </a:lnSpc>
                        <a:buClr>
                          <a:srgbClr val="900000"/>
                        </a:buClr>
                        <a:buFont typeface="inheri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В игре команды или отдельные ученики изначально равны (нет отличников и троечников, есть игроки)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2.Ситуация успеха создает благоприятный эмоциональный фон для развития познавательного интереса.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3.Каждая игра имеет близкий результат (окончание игры),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4.Состязательность - неотъемлемая часть игры - притягательна для детей.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5.Удовольствие, полученное от игры, создает комфортное состояние на уроках и усиливает желание изучать предмет.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6.В игре всегда есть некое таинство - неполученный ответ, что активизирует мыслительную деятельность ученика, толкает на поиск ответа.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  <a:p>
                      <a:pPr marL="62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00000"/>
                          </a:solidFill>
                          <a:latin typeface="inherit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304920" y="5732640"/>
          <a:ext cx="8686800" cy="3650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Rectangle 1"/>
          <p:cNvSpPr/>
          <p:nvPr/>
        </p:nvSpPr>
        <p:spPr>
          <a:xfrm>
            <a:off x="30492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333360"/>
            <a:ext cx="799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                </a:t>
            </a:r>
            <a:r>
              <a:rPr b="1" lang="ru-RU" sz="2800" spc="-1" strike="noStrike">
                <a:solidFill>
                  <a:srgbClr val="900000"/>
                </a:solidFill>
                <a:latin typeface="Corbel"/>
              </a:rPr>
              <a:t>В своей деятельности я применяю</a:t>
            </a: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:</a:t>
            </a:r>
            <a:br>
              <a:rPr sz="3900"/>
            </a:b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Ролевые игры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4748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«капитан Флинт»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pic>
        <p:nvPicPr>
          <p:cNvPr id="358" name="Содержимое 2" descr=""/>
          <p:cNvPicPr/>
          <p:nvPr/>
        </p:nvPicPr>
        <p:blipFill>
          <a:blip r:embed="rId1"/>
          <a:stretch/>
        </p:blipFill>
        <p:spPr>
          <a:xfrm>
            <a:off x="1090440" y="1352520"/>
            <a:ext cx="4608720" cy="4908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C:\Program Files\Microsoft Office\MEDIA\CAGCAT10\j0292152.wmf"/>
          <p:cNvPicPr/>
          <p:nvPr/>
        </p:nvPicPr>
        <p:blipFill>
          <a:blip r:embed="rId2"/>
          <a:stretch/>
        </p:blipFill>
        <p:spPr>
          <a:xfrm>
            <a:off x="5715000" y="1571760"/>
            <a:ext cx="278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0"/>
          <p:cNvSpPr/>
          <p:nvPr/>
        </p:nvSpPr>
        <p:spPr>
          <a:xfrm>
            <a:off x="1000080" y="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Вопросы для лото: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1. Какое из чисел натурального ряда является наименьшим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2. Вспомните сказку о волке и козлятах. Сколько было козлят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3. Какое число предшествует 1000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4. Какое число следует за наибольшим двузначным числом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5. Какое из натуральных чисел является наименьшим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6. Какое из чисел предшествует числу 99?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7. 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8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orbel"/>
              </a:rPr>
              <a:t>Выполняя данное задание ученик должен помнить, что  для ответа на каждый вопрос отводится не более 30 секунд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0000"/>
                </a:solidFill>
                <a:latin typeface="Corbel"/>
              </a:rPr>
              <a:t>Цель: отработка навыка счёта в пределах 1000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361" name="Рисунок 1" descr=""/>
          <p:cNvPicPr/>
          <p:nvPr/>
        </p:nvPicPr>
        <p:blipFill>
          <a:blip r:embed="rId1"/>
          <a:srcRect l="0" t="0" r="40451" b="54316"/>
          <a:stretch/>
        </p:blipFill>
        <p:spPr>
          <a:xfrm>
            <a:off x="1357200" y="3714840"/>
            <a:ext cx="3664080" cy="1601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" descr=""/>
          <p:cNvPicPr/>
          <p:nvPr/>
        </p:nvPicPr>
        <p:blipFill>
          <a:blip r:embed="rId2"/>
          <a:srcRect l="78808" t="0" r="0" b="54316"/>
          <a:stretch/>
        </p:blipFill>
        <p:spPr>
          <a:xfrm>
            <a:off x="5000760" y="3714840"/>
            <a:ext cx="1304640" cy="16016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" descr=""/>
          <p:cNvPicPr/>
          <p:nvPr/>
        </p:nvPicPr>
        <p:blipFill>
          <a:blip r:embed="rId3"/>
          <a:srcRect l="0" t="54122" r="19767" b="4305"/>
          <a:stretch/>
        </p:blipFill>
        <p:spPr>
          <a:xfrm>
            <a:off x="1285920" y="5286240"/>
            <a:ext cx="500076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8840" y="0"/>
            <a:ext cx="49291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b0f0"/>
                </a:solidFill>
                <a:latin typeface="Corbel"/>
              </a:rPr>
              <a:t>Азбука-Лото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571840" y="4465800"/>
          <a:ext cx="6157800" cy="2193840"/>
        </p:xfrm>
        <a:graphic>
          <a:graphicData uri="http://schemas.openxmlformats.org/drawingml/2006/table">
            <a:tbl>
              <a:tblPr/>
              <a:tblGrid>
                <a:gridCol w="1047600"/>
                <a:gridCol w="920880"/>
                <a:gridCol w="1047600"/>
                <a:gridCol w="1047960"/>
                <a:gridCol w="1046160"/>
                <a:gridCol w="104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 к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 д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Ю ю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М м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 и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З з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Ч ч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А а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Ш ш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 п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Е е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ы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Щ щ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Э э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 в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Я я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Ж ж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Б б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Ф ф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Л л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Р р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Н н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О о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ъ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Х х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Й й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У у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Т т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Г г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Ц ц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Ё ё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 с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ь</a:t>
                      </a:r>
                      <a:endParaRPr b="0" lang="en-U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e8cbcb"/>
                    </a:solidFill>
                  </a:tcPr>
                </a:tc>
              </a:tr>
            </a:tbl>
          </a:graphicData>
        </a:graphic>
      </p:graphicFrame>
      <p:sp>
        <p:nvSpPr>
          <p:cNvPr id="366" name="Прямоугольник 4"/>
          <p:cNvSpPr/>
          <p:nvPr/>
        </p:nvSpPr>
        <p:spPr>
          <a:xfrm>
            <a:off x="1143000" y="928800"/>
            <a:ext cx="76438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ждый ученик получает карточку с буквами   и конверт с фишками.  Я называю буквы.</a:t>
            </a: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и находят буквы и закрывают их .</a:t>
            </a: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е игры способствуют быстрому запоминанию изученных букв и подготавливают учащихся к чтению .</a:t>
            </a:r>
            <a:endParaRPr b="0" lang="en-US" sz="2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Буквенные пирамиды</a:t>
            </a:r>
            <a:endParaRPr b="0" lang="en-US" sz="43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213920" y="1356840"/>
            <a:ext cx="7215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           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Н        А                                                               НА      ТА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      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М                 О                                                      ЛУ             НА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Т                         У                                                 КУ                    РЫ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С                              И                                           ЛИ                          СА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Л                                  Ы                                      СА                                НИ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Р                                       А                                 КО                                      СЫ</a:t>
            </a:r>
            <a:endParaRPr b="0" lang="en-US" sz="20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69" name="Прямая соединительная линия 4"/>
          <p:cNvSpPr/>
          <p:nvPr/>
        </p:nvSpPr>
        <p:spPr>
          <a:xfrm flipH="1">
            <a:off x="2499840" y="1571760"/>
            <a:ext cx="1800" cy="221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0" name="Прямая соединительная линия 8"/>
          <p:cNvSpPr/>
          <p:nvPr/>
        </p:nvSpPr>
        <p:spPr>
          <a:xfrm flipH="1">
            <a:off x="6714720" y="1643040"/>
            <a:ext cx="1800" cy="221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1" name="Прямоугольник 11"/>
          <p:cNvSpPr/>
          <p:nvPr/>
        </p:nvSpPr>
        <p:spPr>
          <a:xfrm>
            <a:off x="1150920" y="4500720"/>
            <a:ext cx="7135920" cy="20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rbel"/>
              </a:rPr>
              <a:t>УЧЕНИК ДОЛЖЕН «СПУСТИТЬСЯ» С ПИРАМИДЫ ИЛИ  «ВЗОБРАТЬСЯ» НА НЕЁ .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rbel"/>
              </a:rPr>
              <a:t>ИГРА ПРОВОДИТСЯ СО ВСЕМ КЛАССОМ ИЛИ ИНДИВИДУАЛЬНО.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ЦЕЛЬ: </a:t>
            </a:r>
            <a:r>
              <a:rPr b="0" lang="ru-RU" sz="1800" spc="-1" strike="noStrike">
                <a:solidFill>
                  <a:srgbClr val="0000cc"/>
                </a:solidFill>
                <a:latin typeface="Corbel"/>
              </a:rPr>
              <a:t>ОТРАБОТКА НАВЫКА ЧТЕНИЯ.</a:t>
            </a: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71360" y="7138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orbel"/>
              </a:rPr>
              <a:t>Вывод: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таким образом, игровые технологии являются одной из уникальных форм обучения, которые позволяют сделать интересными и увлекательными не только работу учащихся на творческом уровне, но и будничные шаги по изучению базового материала. Вкладывая образовательное содержание в игровую оболочку, решаю одну из ключевых проблем педагогики – проблему мотивации учебной деятельности.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37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16572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00000"/>
          </a:solidFill>
          <a:ln w="25560">
            <a:solidFill>
              <a:srgbClr val="4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7812000" y="61657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600000"/>
          </a:solidFill>
          <a:ln w="25560">
            <a:solidFill>
              <a:srgbClr val="4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Игровые технологии используются в следующих случаях: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2071800"/>
            <a:ext cx="7497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• 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 качестве самодеятельных технологий для освоения понятия, темы и даже раздела учебного предмета;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• 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 качестве элементов (иногда весьма существенных) более обширной технологии;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• 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 качестве урока (занятия) или его части (введения, объяснения, закрепления, упражнения, контроля);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•  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 качестве технологий внеклассной работы (коллективные творческие дела).</a:t>
            </a:r>
            <a:endParaRPr b="0" lang="en-US" sz="30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Место и роль игровой технологии 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71360" y="1447920"/>
            <a:ext cx="786276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Социокультурное назначение игры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Функция межнациональной коммуникации.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Функция самореализации ребенка в игре.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Коммуникативная игра.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Диагностическая функция игры.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Игротерапевтическая функция игры.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Функция коррекции в игре.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6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Развлекательная функция игры.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720" y="1213920"/>
            <a:ext cx="76435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виду деятельности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игательные, умственные, трудовые, социальные, психологические;</a:t>
            </a:r>
            <a:br>
              <a:rPr sz="1800"/>
            </a:b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071720"/>
            <a:ext cx="81439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характеру педагогического процесса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ающие, тренинговые, контролирующие, обобщающие, познавательные, воспитательные, развивающие, репродуктивные, продуктивные, творческие, коммуникативные, диагностические, профориентационные, психотехнические;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0080" y="1214280"/>
            <a:ext cx="81439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характеру игровой методики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ные, сюжетные, ролевые, деловые, имитационные, игры-драматизации;</a:t>
            </a:r>
            <a:br>
              <a:rPr sz="3200"/>
            </a:b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00080" y="107172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структуре 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-упражнения, игры-состязания. </a:t>
            </a:r>
            <a:br>
              <a:rPr sz="3200"/>
            </a:b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00080" y="1071360"/>
            <a:ext cx="8143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предметной области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ческие, химические, биологические, физические, экологические, музыкальные, театральные,литературные, трудовые, технические, производственные, физкультурные, спортивные, военно-прикладные, туристические, народные, обществоведческие, управленческие, экономические, коммерческие;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3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00000"/>
                </a:solidFill>
                <a:latin typeface="Corbel"/>
              </a:rPr>
              <a:t>Классификация педагогических игр</a:t>
            </a:r>
            <a:endParaRPr b="0" lang="en-US" sz="3900" spc="-1" strike="noStrike">
              <a:solidFill>
                <a:srgbClr val="dd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00080" y="1071360"/>
            <a:ext cx="8143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 игровой среде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предметов, с предметами, настольные, комнатные, уличные, на местности, компьютерные, телевизионные, технические средства обучения (ТСО), технические со средствами передвижения.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2:40:04Z</dcterms:created>
  <dc:creator>DNA7 X86</dc:creator>
  <dc:description/>
  <dc:language>en-US</dc:language>
  <cp:lastModifiedBy>Admin</cp:lastModifiedBy>
  <dcterms:modified xsi:type="dcterms:W3CDTF">2014-02-03T22:03:45Z</dcterms:modified>
  <cp:revision>143</cp:revision>
  <dc:subject/>
  <dc:title>« Игровые технологии  в учебном процессе»</dc:title>
</cp:coreProperties>
</file>