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5770-2617-4D91-8E2E-BA74EF1B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0147-0CFC-46D2-9139-F793665A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6224-C480-4619-AAB9-DAC1093E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442C-517B-43F2-ADC3-38FB82F5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E23C-79A6-49F0-8BC9-FFCC73FD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B15A-7331-4AB6-9EEA-4782EF5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FC9B-498F-4402-8ED0-68B0EFA6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B98A-36A3-4D12-9554-28B37A2E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311D-DADC-4F2E-9033-283B825B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4DEE-B2B4-42CC-B1BB-23FF38C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810-01EF-4383-B321-60B1914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AF65-9E4B-4A23-9B9B-7702B7F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4813-D6A4-45EB-A3FA-80F50B8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058D-4805-4AA0-894D-EDF8971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1D0-DBEB-45D1-9844-661081BD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A48-966B-4016-8BBF-E02771FC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9D72-BEC5-4CA6-97B3-55FE0676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A6C6-09A3-4B0D-95B1-F2D5BEE1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DB28-A4EA-4810-BA14-E34406C0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2C5C-680A-4191-B35C-E846C612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6A98-E664-44C9-8881-E8F0AA1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69D9-5DFD-4E45-BF5C-82C49F50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86F8-27F3-4274-84D8-0FE846FD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3CBF-3673-438B-9399-2058C44E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00ED-7672-4592-A4C7-F16A0E2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9EDA-1621-473B-8A8E-1680DFF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F8E5-6441-4350-9B09-533A74BF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A6A2-C614-404D-8168-D1425BDD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D6ED-A1B1-44B9-A907-7FC590B9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DFDF-7B90-413F-992E-35108FE4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28FF-DF60-4513-8FB5-C1DD24A1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F37B-36AB-49C2-A7C0-9CBC4AA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305F-F748-43B8-A066-9219F966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1131-4392-4CCE-86D2-DC54CF7A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1C6D-7A53-4B08-B1B8-75879A3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E5F1-1945-486D-AB95-C06E61A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8EFA-1007-4C9E-94FB-B6591A5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BAEE-AF19-499D-8F18-8A76624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46B8-C2F6-47E6-9A0F-58859055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28EE-6264-4BEA-BF92-57FE007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0E70-693D-40FA-B8C4-B90BCC14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5C1D-1E02-4CA6-AA5F-B4DCF2A9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BD65-4987-4E81-AA2A-CE688E3A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2767-3416-4250-BA7F-DD24D71D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6DC6-E255-4EE2-8332-9316A32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756D-F60D-416D-A494-273C112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BC9B-5BD6-4C8D-AFF5-D5929FC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50C2-0271-421C-847D-ECC0F1D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291-D87E-4EB3-87A5-0B9EFFD0D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afd1"/>
                  </a:gs>
                  <a:gs pos="100000">
                    <a:srgbClr val="a7d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7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0"/>
                  </a:gs>
                  <a:gs pos="100000">
                    <a:srgbClr val="a7d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db5d8"/>
                </a:gs>
                <a:gs pos="100000">
                  <a:srgbClr val="a7d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75"/>
                </a:gs>
                <a:gs pos="100000">
                  <a:srgbClr val="a7d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1311-FD9E-4220-93D5-4D648448D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ff"/>
                  </a:gs>
                  <a:gs pos="100000">
                    <a:srgbClr val="98c3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afd1"/>
                  </a:gs>
                  <a:gs pos="100000">
                    <a:srgbClr val="a7d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7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0"/>
                  </a:gs>
                  <a:gs pos="100000">
                    <a:srgbClr val="a7d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db5d8"/>
                </a:gs>
                <a:gs pos="100000">
                  <a:srgbClr val="a7d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75"/>
                </a:gs>
                <a:gs pos="100000">
                  <a:srgbClr val="a7d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87B-8151-4CCE-9FC6-EC1A39F4F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15C9-2FF1-454B-890C-255F918C7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38512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Бюджетное учреждение профессионального образовани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Ханты-Мансийского автономного округа - Югры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«Нижневартовский социально-гуманитарный колледж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(БУ «НСГК»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оект учебного занятия в рамках реализации интегрированного образования обучающихся с ограниченными возможностями здоровь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(задержка психического развития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 учебной дисциплине «Иностранный язык (немецкий)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Целевая группа: 1 курс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пециальность: Преподавание в начальных классах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THEMA</a:t>
            </a: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„</a:t>
            </a:r>
            <a:r>
              <a:rPr b="0" i="1" lang="en-US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IM REISEBÜRO </a:t>
            </a:r>
            <a:r>
              <a:rPr b="0" lang="de-DE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 (В бюро путешествий)</a:t>
            </a:r>
            <a:br>
              <a:rPr sz="2000"/>
            </a:b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Автор: Коробова Надежда Петровн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4873"/>
                </a:solidFill>
                <a:latin typeface="Times New Roman"/>
                <a:ea typeface="Times New Roman"/>
              </a:rPr>
              <a:t>Нижневартовск, 2015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6ecff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I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Моделирование речевой ситуац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Работайте пар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дставьте себе: вы планируете поездку в Берлин и идете в турагентство. Задайте туроператору вопросы. Используйте нужные разделы разговорника Запишите полученный диало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Работают в пар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Работает в пар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457200" y="1600200"/>
          <a:ext cx="8229600" cy="1554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II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выучите составленный диалог, новые слова и выра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выучите одну роль из составленного диалога, 5 новых слов и выраж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1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ние 1: Переведите следующие словосочетания и предложения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ür den Verkaufsleiter; für den Geschäftsführer; für zwei Tage; für eine Woche; ich bin für diese Reise; durch die Strasse; ich bin gegen die Flugreise; ohne Flugkarte; ohne Visietenkarte; um 12 Uhr; die Maschine fliegt um 7 Uhr a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ние 2: Словарный диктант (записать слова в таблицу в соответствии с их восприятием)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Flugkarte, die Maschine, der Flug,  der Start, die Landung, der Fluggast, der Flughafen, der Abflug, der Raucher, der Nichtrauc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2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ch ausruhen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дыхат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ch amüsier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влекаться, веселитьс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ch wohlfühl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увствовать себя хорошо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ngweil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кучать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Entspannung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ряд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Abwechslung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нообразие, развлечени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as Erlebnis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печатление, пережито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as Angebot an ...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бор, ассортимен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ieten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лагать, предоставлят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s Ausland reisen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тешествовать за границу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Reiseroute nach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ристический маршру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e Zurückkehrung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вращени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ennenlernen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знакомиться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ass machen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ставлять удовольств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3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eisen ist interessant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ist eine gute Möglichkeit ,die Welt besser kennenzulern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ist eine Art der Entspannung und Abwechslung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Man kann die Geschichte und Kultur anderer Länder kennenlernen, die Natur erleb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Auf Reisen gibt es immer interessante Erlebnisse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gibt viele Reisebüros, die verschiedene Reisen organisier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Man kann mit der Bahn, mit dem Bus, mit dem Schiff oder mit dem Flugzeug reis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iele Menschen reisen mit dem Auto und sogar mit dem Rad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Das Angebot an Busreisen ist gross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Aber auch Fluggesellschaften bieten Kurzreisen von drei bis fünf Tage a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Man kann wählen, womit man am besten reist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iele Menschen wollen ins Ausland reis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gibt schöne Reiserouten: nach Frankreich, nach Spanien, nach Itali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s gibt aber interessante Städtereisen: Berlin, Paris usw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on Packen der Sachen bis Zurückkehrung ist ein Erlebnis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eisen macht Spass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4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pic>
        <p:nvPicPr>
          <p:cNvPr id="219" name="Picture 3" descr="C:\Users\306CAB\Desktop\71291.jpeg"/>
          <p:cNvPicPr/>
          <p:nvPr/>
        </p:nvPicPr>
        <p:blipFill>
          <a:blip r:embed="rId1"/>
          <a:stretch/>
        </p:blipFill>
        <p:spPr>
          <a:xfrm>
            <a:off x="1143000" y="1579680"/>
            <a:ext cx="6572160" cy="43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5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r Pass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аспо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2 Fotos für das Visum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2 фото для визы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okument der Bestätigung ihre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Zahlungsfähigkeit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декларация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gebogen der Reisegesellschaft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анкета о цели поезд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ie internationale Fahrerlaubnis (водительские права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er internationale Versicherungsschein (страховое свидетельство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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ie Fahrkarte, die Flugkarte, die Schiffkarte (билеты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Что бы Вы еще взяли?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ausländische Währung (EURO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Geschenke und Souvenir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Reiselektür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Filmkamera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ie Fotokamera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er Stadtplan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er Stadtführer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as Wörterbuch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der Sprachführ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ПРИЛОЖЕНИЕ 6</a:t>
            </a:r>
            <a:br>
              <a:rPr sz="2800"/>
            </a:br>
            <a:r>
              <a:rPr b="1" lang="ru-RU" sz="2800" spc="-1" strike="noStrike">
                <a:solidFill>
                  <a:srgbClr val="d6ecff"/>
                </a:solidFill>
                <a:latin typeface="Garamond"/>
              </a:rPr>
              <a:t>Чтение текста с полным пониманием</a:t>
            </a:r>
            <a:endParaRPr b="1" lang="en-US" sz="28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Angestellte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Guten Tag. Kann ich ihnen helfen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Ja, ich möchte gern einige Informationen über Städte in Norddeutschland bekomm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Und welche denn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Ja, Hamburg, Lübeck und Bremen. Ich reise gern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Hier ist eine Broschüre von Lübeck</a:t>
            </a: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anke schön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Ang.: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 Hier ist eine Broschüre von Bremen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a, gerne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ier bitte ein Plakat über Hamburg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de-DE" sz="1600" spc="-1" strike="noStrike">
                <a:solidFill>
                  <a:srgbClr val="ffffff"/>
                </a:solidFill>
                <a:latin typeface="Garamond"/>
              </a:rPr>
              <a:t>Vielen Dank. Das ist sehr nett von Ihn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rn gescheh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im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iedersehen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eb880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ng.: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iedersehen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THEMA</a:t>
            </a:r>
            <a:r>
              <a:rPr b="0" lang="ru-RU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r>
              <a:rPr b="0" lang="de-DE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„</a:t>
            </a:r>
            <a:r>
              <a:rPr b="0" i="1" lang="en-US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IM REISEBÜRO </a:t>
            </a:r>
            <a:r>
              <a:rPr b="0" lang="de-DE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“</a:t>
            </a:r>
            <a:r>
              <a:rPr b="0" lang="ru-RU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r>
              <a:rPr b="0" lang="ru-RU" sz="6000" spc="-1" strike="noStrike">
                <a:solidFill>
                  <a:srgbClr val="003869"/>
                </a:solidFill>
                <a:latin typeface="Times New Roman"/>
                <a:ea typeface="Times New Roman"/>
              </a:rPr>
              <a:t>(В бюро путешествий)</a:t>
            </a:r>
            <a:endParaRPr b="1" lang="en-US" sz="6000" spc="-1" strike="noStrike">
              <a:solidFill>
                <a:srgbClr val="d6ec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занят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повышение уровня коммуникативной компетенции студентов в повседневной и социально – культурной сфере об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Задач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ктивизац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обязательного минимума лексики для активного усво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устной речи студен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умений моделирования речевого поведения в ситуации «В бюро путешествий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ecff"/>
                </a:solidFill>
                <a:latin typeface="Garamond"/>
              </a:rPr>
              <a:t>Ход занятия:</a:t>
            </a:r>
            <a:br>
              <a:rPr sz="4400"/>
            </a:br>
            <a:endParaRPr b="1" lang="en-US" sz="4400" spc="-1" strike="noStrike">
              <a:solidFill>
                <a:srgbClr val="d6ec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7120" y="3571560"/>
            <a:ext cx="832968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b8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57120" y="928800"/>
          <a:ext cx="8572680" cy="37494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  <a:gridCol w="2857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buClr>
                          <a:srgbClr val="003f75"/>
                        </a:buClr>
                        <a:buFont typeface="Garamond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Организационный мо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71680" indent="-571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Преподаватель вводит в атмосферу иноязычной речи, знакомит с темой, планом работы на занятии, выясняет, насколько интересна и важна </a:t>
                      </a:r>
                      <a:r>
                        <a:rPr b="0" lang="ru-RU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эта тема для обучающихся, создает положительную атмосферу на занят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Отвечают на вопросы  преподавателя, знакомятся с этапами работы на заняти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f75"/>
                          </a:solidFill>
                          <a:latin typeface="Garamond"/>
                        </a:rPr>
                        <a:t>Вопросы подготовлены в письменном виде, отвечает кратко (Да/Нет), имеет подробный план занят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85840" y="285840"/>
          <a:ext cx="8586720" cy="5943600"/>
        </p:xfrm>
        <a:graphic>
          <a:graphicData uri="http://schemas.openxmlformats.org/drawingml/2006/table">
            <a:tbl>
              <a:tblPr/>
              <a:tblGrid>
                <a:gridCol w="2862000"/>
                <a:gridCol w="2862360"/>
                <a:gridCol w="2862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9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II.</a:t>
                      </a:r>
                      <a:r>
                        <a:rPr b="1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 Опрос обучающихся по заданному на дом материа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Выполняют зад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роверка правильного использования предлогов, требующих </a:t>
                      </a:r>
                      <a:r>
                        <a:rPr b="0" lang="en-US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Akkusati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Задание 1: Переведите следующие словосочетания и предложения на русский язык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роверка знания лексики по теме: «Заказ билетов на самолет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Задание 2: Словарный диктант (записать слова в таблицу в соответствии с их восприятие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Задания в Приложении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Использование заданий с опорой, подробных инструкц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 заданию 1: Соедините стрелочкой немецкие предложения с русским перевод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 заданию 2 дается список слов на немецком языке, если студент услышит слово, он отмечает в списк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ложительная оценка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500040" y="35712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 Активизация </a:t>
                      </a:r>
                      <a:r>
                        <a:rPr b="1" lang="ru-RU" sz="1800" spc="-1" strike="noStrike">
                          <a:solidFill>
                            <a:srgbClr val="003869"/>
                          </a:solidFill>
                          <a:latin typeface="Garamond"/>
                          <a:ea typeface="Times New Roman"/>
                        </a:rPr>
                        <a:t>обязательного минимума лексики для активного усво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лова на слайде (Приложение 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работают со словар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Найти в словаре, записать перев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Прочитать сл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Составить три предлож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зачитывают составленные предлож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Индивидуальный подх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подаватель помогает студенту найти в словаре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подаватель помогает прочитать сл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869"/>
                          </a:solidFill>
                          <a:latin typeface="Garamond"/>
                        </a:rPr>
                        <a:t>Создание ситуации успех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: Соотнести предложение и картинку, прочитать вслу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500040" y="357120"/>
          <a:ext cx="8229600" cy="5668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III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Обсуждение в парах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 1: Скажите, верно, что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 2: Ответьте на вопросы преподавател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IV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Монологическое высказывание, представление мнения от  пар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Высказывают мнение в парах: верно/невер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Отвечают на вопросы преподавателя полным отве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высказывает мнение с опоро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не менее 7 предложен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создание ситуации успе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отвечает кратко (Да/Н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отвечает кратко (Да/Н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 прочитывает мн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5 предложен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e58"/>
                          </a:solidFill>
                          <a:latin typeface="Garamond"/>
                        </a:rPr>
                        <a:t>Положительная оценка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57200" y="50004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.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Физкультмину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Задание на скорость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пишут названия транспортных средст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овторить прилагательные, написать рядом транспортное сред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Si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Billi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Schne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B</a:t>
                      </a:r>
                      <a:r>
                        <a:rPr b="0" i="1" lang="de-DE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equ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aramond"/>
                        </a:rPr>
                        <a:t>Использование заданий с опор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Даны слова на карточках, соотнести с картинка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00040" y="357120"/>
          <a:ext cx="8229600" cy="5668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Ы РАБОТЫ СО СТУДЕНТОМ С 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.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 Работа со словар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VII.</a:t>
                      </a: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Чтение текста с полным поним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оставить список документов, необходимых для загранпоез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Студенты читают в пар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Отвечают на вопросы преподавателя  по прочитанному текс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aramond"/>
                        </a:rPr>
                        <a:t>Использование заданий с опорой на образ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Даны слова с переводом, выбрать и составить список документов, необходимых д.ля загранпоезд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(Приложение 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aramond"/>
                        </a:rPr>
                        <a:t>Индивидуальный под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Преподаватель читает со студен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e75"/>
                          </a:solidFill>
                          <a:latin typeface="Garamond"/>
                        </a:rPr>
                        <a:t>Найти в тексте названия городов, куда хотел съездить герой текс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7:41:21Z</dcterms:created>
  <dc:creator>Библиотека</dc:creator>
  <dc:description/>
  <dc:language>en-US</dc:language>
  <cp:lastModifiedBy>ravtovich_ts</cp:lastModifiedBy>
  <dcterms:modified xsi:type="dcterms:W3CDTF">2015-10-12T05:33:50Z</dcterms:modified>
  <cp:revision>157</cp:revision>
  <dc:subject/>
  <dc:title>Слайд 1</dc:title>
</cp:coreProperties>
</file>