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3F27-C321-456F-976A-E677CF12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2630-6B4D-494D-8F09-44361584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6847-DF4C-4CB2-A1E3-AE8D3E55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DF30-EC00-4017-AF88-FF283DD0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C804-115D-494F-9F98-C33D5D32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DF8B-0771-4BDF-BB24-FF83370A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2C0-2B16-49A8-B928-EABE98AF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AB4-2301-487F-9FB8-7C610B9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1AAC-C23C-4FE4-AED0-0F87728D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49D5-D728-4107-B1B3-EDFC835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EFB-0F1F-43DB-B4DD-5F369BF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B9C0-E517-432F-920B-B9EFEE8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29DA-41B8-41AE-8F77-8E40B93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07E8-0F8D-46E6-8E4C-B311B2F1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7851-D846-4E2A-AFC1-DD1DEEDB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C888-3F03-4947-A1FC-9EDA6294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CD88-71E1-4FD2-9651-720952DE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DEC5-31A5-40B6-A645-3E5369B5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A886-F60A-462A-8AD5-20F2A9E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5225-9C1B-48E7-90FA-8CFB7657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D6B1-BD8A-465D-AB95-0F2BE70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BD15-ED16-4B04-A585-75F83966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E2B2-AB37-4B14-BF61-6648AE14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99E8-DB59-4D00-ADAB-31C08F6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05E0-63B5-4BBF-B964-47899E5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C401-9A6A-45B1-9BB8-D7424183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23E8-E98C-4D87-9DEF-3311651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D566-234E-4F91-AADB-8FD5FEBA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931E-4B15-4D26-95C6-1D9C6618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80B7-F765-4CDF-AA90-C872B1F3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2DCF-21A6-4204-AE5C-C678D86B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6AA8-DB36-4DED-BE9E-E2ADB729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3B88-6122-4C3D-BB19-1688937D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466A-CD02-4671-B296-7839E6D9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058E-58DF-4C80-B82C-E779D22D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D475-177E-4CE2-9CFA-5D2945D7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947E-D664-4ADC-8929-7ABB25E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C24C-C7B8-4CDB-A6A5-C4F8431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FDF8-390F-429A-87F2-614EE3D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5D0E-58B8-467B-AFA2-925A100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519E-2F06-42EE-8DC3-702A81BD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BD1D-F376-4569-8847-C0294DD1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5AE1-0594-4126-9D80-C57E5F0A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BD74-E4DE-4556-AAA3-214396E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C852-3984-4E1A-BD37-9BFD2C7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1FEB-A915-4950-A6D3-9F268DE1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F2BD-967E-4559-ABF0-89CBE7F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CD86-CCAE-49E1-AC6A-17AFDF2E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A472-1D9A-402C-A050-3C760DD49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afd1"/>
                  </a:gs>
                  <a:gs pos="100000">
                    <a:srgbClr val="a7d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7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0"/>
                  </a:gs>
                  <a:gs pos="100000">
                    <a:srgbClr val="a7d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db5d8"/>
                </a:gs>
                <a:gs pos="100000">
                  <a:srgbClr val="a7d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75"/>
                </a:gs>
                <a:gs pos="100000">
                  <a:srgbClr val="a7d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BAE6-CC32-4C70-B2C5-4D7A70340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afd1"/>
                  </a:gs>
                  <a:gs pos="100000">
                    <a:srgbClr val="a7d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7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0"/>
                  </a:gs>
                  <a:gs pos="100000">
                    <a:srgbClr val="a7d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db5d8"/>
                </a:gs>
                <a:gs pos="100000">
                  <a:srgbClr val="a7d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75"/>
                </a:gs>
                <a:gs pos="100000">
                  <a:srgbClr val="a7d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B92-70C5-42B1-966B-CF2B9F9F3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F435-9CAD-4CE5-AB0E-90811C27D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38512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Бюджетное учреждение профессионального образования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Ханты-Мансийского автономного округа - Югры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«Нижневартовский социально-гуманитарный колледж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(БУ «НСГК»)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оект учебного занятия в рамках реализации интегрированного образования обучающихся с ограниченными возможностями здоровь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(задержка психического развития)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 учебной дисциплине «Иностранный язык (немецкий)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Целевая группа: 1 курс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пециальность: Преподавание в начальных классах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THEMA</a:t>
            </a: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„</a:t>
            </a:r>
            <a:r>
              <a:rPr b="0" i="1" lang="en-US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IM REISEBÜRO </a:t>
            </a:r>
            <a:r>
              <a:rPr b="0" lang="de-DE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 (В бюро путешествий)</a:t>
            </a:r>
            <a:br>
              <a:rPr sz="2000"/>
            </a:b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Автор: Коробова Надежда Петровн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Нижневартовск, 2015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6ecff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I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Моделирование речевой ситуац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Работайте пар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дставьте себе: вы планируете поездку в Берлин и идете в турагентство. Задайте туроператору вопросы. Используйте нужные разделы разговорника Запишите полученный диало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Работают в пар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Работает в пар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457200" y="1600200"/>
          <a:ext cx="8229600" cy="1554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II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выучите составленный диалог, новые слова и выра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выучите одну роль из составленного диалога, 5 новых слов и выраж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1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дание 1: Переведите следующие словосочетания и предложения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ür den Verkaufsleiter; für den Geschäftsführer; für zwei Tage; für eine Woche; ich bin für diese Reise; durch die Strasse; ich bin gegen die Flugreise; ohne Flugkarte; ohne Visietenkarte; um 12 Uhr; die Maschine fliegt um 7 Uhr a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дание 2: Словарный диктант (записать слова в таблицу в соответствии с их восприятием)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Flugkarte, die Maschine, der Flug,  der Start, die Landung, der Fluggast, der Flughafen, der Abflug, der Raucher, der Nichtrauc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2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ch ausruhen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дыхать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ch amüsier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влекаться, веселитьс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ch wohlfühl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увствовать себя хорошо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ngweil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кучать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Entspannung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ряд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Abwechslung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нообразие, развлечени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as Erlebnis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печатление, пережито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as Angebot an ...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бор, ассортимен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iet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лагать, предоставлять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s Ausland reisen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тешествовать за границу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Reiseroute nach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ристический маршру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Zurückkehrung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вращени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ennenlernen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знакомиться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ass machen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ставлять удовольстви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3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eisen ist interessant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ist eine gute Möglichkeit ,die Welt besser kennenzulern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ist eine Art der Entspannung und Abwechslung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Man kann die Geschichte und Kultur anderer Länder kennenlernen, die Natur erleb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Auf Reisen gibt es immer interessante Erlebnisse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gibt viele Reisebüros, die verschiedene Reisen organisier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Man kann mit der Bahn, mit dem Bus, mit dem Schiff oder mit dem Flugzeug reis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iele Menschen reisen mit dem Auto und sogar mit dem Rad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Das Angebot an Busreisen ist gross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Aber auch Fluggesellschaften bieten Kurzreisen von drei bis fünf Tage a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Man kann wählen, womit man am besten reist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iele Menschen wollen ins Ausland reis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gibt schöne Reiserouten: nach Frankreich, nach Spanien, nach Itali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gibt aber interessante Städtereisen: Berlin, Paris usw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on Packen der Sachen bis Zurückkehrung ist ein Erlebnis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eisen macht Spass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4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pic>
        <p:nvPicPr>
          <p:cNvPr id="219" name="Picture 3" descr="C:\Users\306CAB\Desktop\71291.jpeg"/>
          <p:cNvPicPr/>
          <p:nvPr/>
        </p:nvPicPr>
        <p:blipFill>
          <a:blip r:embed="rId1"/>
          <a:stretch/>
        </p:blipFill>
        <p:spPr>
          <a:xfrm>
            <a:off x="1143000" y="1579680"/>
            <a:ext cx="6572160" cy="43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5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r Pass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аспо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2 Fotos für das Visum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2 фото для визы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okument der Bestätigung ihre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Zahlungsfähigkeit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декларация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gebogen der Reisegesellschaft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анкета о цели поезд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ie internationale Fahrerlaubnis (водительские права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er internationale Versicherungsschein (страховое свидетельство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ie Fahrkarte, die Flugkarte, die Schiffkarte (билеты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Что бы Вы еще взяли?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ausländische Währung (EURO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Geschenke und Souvenirs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Reiselektür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Filmkamera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Fotokamera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er Stadtplan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er Stadtführer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as Wörterbuch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er Sprachführ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6</a:t>
            </a:r>
            <a:br>
              <a:rPr sz="2800"/>
            </a:b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Чтение текста с полным пониманием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Angestellte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Guten Tag. Kann ich ihnen helfen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Ja, ich möchte gern einige Informationen über Städte in Norddeutschland bekomm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Und welche denn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Ja, Hamburg, Lübeck und Bremen. Ich reise gern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Hier ist eine Broschüre von Lübeck</a:t>
            </a: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anke schön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Ang.: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 Hier ist eine Broschüre von Bremen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a, gerne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ier bitte ein Plakat über Hamburg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Vielen Dank. Das ist sehr nett von Ihn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rn gescheh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iederseh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iedersehen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THEMA</a:t>
            </a:r>
            <a:r>
              <a:rPr b="0" lang="ru-RU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 </a:t>
            </a:r>
            <a:br>
              <a:rPr sz="6000"/>
            </a:br>
            <a:r>
              <a:rPr b="0" lang="de-DE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„</a:t>
            </a:r>
            <a:r>
              <a:rPr b="0" i="1" lang="en-US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IM REISEBÜRO </a:t>
            </a:r>
            <a:r>
              <a:rPr b="0" lang="de-DE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“</a:t>
            </a:r>
            <a:r>
              <a:rPr b="0" lang="ru-RU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 </a:t>
            </a:r>
            <a:br>
              <a:rPr sz="6000"/>
            </a:br>
            <a:r>
              <a:rPr b="0" lang="ru-RU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(В бюро путешествий)</a:t>
            </a:r>
            <a:endParaRPr b="1" lang="en-US" sz="6000" spc="-1" strike="noStrike">
              <a:solidFill>
                <a:srgbClr val="d6ec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занят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повышение уровня коммуникативной компетенции студентов в повседневной и социально – культурной сфере об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Задач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ктивизац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обязательного минимума лексики для активного усвое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устной речи студент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умений моделирования речевого поведения в ситуации «В бюро путешествий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ecff"/>
                </a:solidFill>
                <a:latin typeface="Garamond"/>
              </a:rPr>
              <a:t>Ход занятия:</a:t>
            </a:r>
            <a:br>
              <a:rPr sz="4400"/>
            </a:b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7120" y="3571560"/>
            <a:ext cx="832968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57120" y="928800"/>
          <a:ext cx="8572680" cy="37494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  <a:gridCol w="2857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buClr>
                          <a:srgbClr val="003f75"/>
                        </a:buClr>
                        <a:buFont typeface="Garamond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Организационный мо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71680" indent="-571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Преподаватель вводит в атмосферу иноязычной речи, знакомит с темой, планом работы на занятии, выясняет, насколько интересна и важна </a:t>
                      </a:r>
                      <a:r>
                        <a:rPr b="0" lang="ru-RU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эта тема для обучающихся, создает положительную атмосферу на занят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Отвечают на вопросы  преподавателя, знакомятся с этапами работы на заняти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Вопросы подготовлены в письменном виде, отвечает кратко (Да/Нет), имеет подробный план занят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85840" y="285840"/>
          <a:ext cx="8586720" cy="5943600"/>
        </p:xfrm>
        <a:graphic>
          <a:graphicData uri="http://schemas.openxmlformats.org/drawingml/2006/table">
            <a:tbl>
              <a:tblPr/>
              <a:tblGrid>
                <a:gridCol w="2862000"/>
                <a:gridCol w="2862360"/>
                <a:gridCol w="2862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9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II.</a:t>
                      </a:r>
                      <a:r>
                        <a:rPr b="1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 Опрос обучающихся по заданному на дом материа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Выполняют зад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роверка правильного использования предлогов, требующих </a:t>
                      </a:r>
                      <a:r>
                        <a:rPr b="0" lang="en-US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Akkusati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Задание 1: Переведите следующие словосочетания и предложения на русский язык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роверка знания лексики по теме: «Заказ билетов на самолет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Задание 2: Словарный диктант (записать слова в таблицу в соответствии с их восприятие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Задания в Приложении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Использование заданий с опорой, подробных инструкц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 заданию 1: Соедините стрелочкой немецкие предложения с русским перевод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 заданию 2 дается список слов на немецком языке, если студент услышит слово, он отмечает в списк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ложительная оценка раб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500040" y="35712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 Активизация </a:t>
                      </a:r>
                      <a:r>
                        <a:rPr b="1" lang="ru-RU" sz="1800" spc="-1" strike="noStrike">
                          <a:solidFill>
                            <a:srgbClr val="003869"/>
                          </a:solidFill>
                          <a:latin typeface="Garamond"/>
                          <a:ea typeface="Times New Roman"/>
                        </a:rPr>
                        <a:t>обязательного минимума лексики для активного усво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лова на слайде (Приложение 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работают со словар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Найти в словаре, записать перев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Прочитать сл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Составить три предлож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зачитывают составленные предлож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Индивидуальный подх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подаватель помогает студенту найти в словаре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подаватель помогает прочитать сл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Создание ситуации успех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Соотнести предложение и картинку, прочитать вслу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500040" y="357120"/>
          <a:ext cx="8229600" cy="5668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III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Обсуждение в парах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 1: Скажите, верно, что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 2: Ответьте на вопросы преподавател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IV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Монологическое высказывание, представление мнения от  пар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Высказывают мнение в парах: верно/невер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Отвечают на вопросы преподавателя полным ответ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высказывает мнение с опоро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не менее 7 предложен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создание ситуации успе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отвечает кратко (Да/Н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отвечает кратко (Да/Н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прочитывает мн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5 предложен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ложительная оценка раб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57200" y="50004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Физкультминут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 на скорость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пишут названия транспортных средст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овторить прилагательные, написать рядом транспортное сред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Si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Billi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Schne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B</a:t>
                      </a: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equ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aramond"/>
                        </a:rPr>
                        <a:t>Использование заданий с опор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Даны слова на карточках, соотнести с картинка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00040" y="357120"/>
          <a:ext cx="8229600" cy="5668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.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 Работа со словар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I.</a:t>
                      </a: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Чтение текста с полным поним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оставить список документов, необходимых для загранпоез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читают в пар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Отвечают на вопросы преподавателя  по прочитанному текст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aramond"/>
                        </a:rPr>
                        <a:t>Использование заданий с опорой на образ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Даны слова с переводом, выбрать и составить список документов, необходимых д.ля загранпоезд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aramond"/>
                        </a:rPr>
                        <a:t>Индивидуальный под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подаватель читает со студент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Найти в тексте названия городов, куда хотел съездить герой текс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7:41:21Z</dcterms:created>
  <dc:creator>Библиотека</dc:creator>
  <dc:description/>
  <dc:language>en-US</dc:language>
  <cp:lastModifiedBy>ravtovich_ts</cp:lastModifiedBy>
  <dcterms:modified xsi:type="dcterms:W3CDTF">2015-10-12T05:33:50Z</dcterms:modified>
  <cp:revision>157</cp:revision>
  <dc:subject/>
  <dc:title>Слайд 1</dc:title>
</cp:coreProperties>
</file>