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DF66-17B9-4D9E-9FB1-71AD6BBE94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BC6D-5992-45F9-83A1-F5D56E7747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5CA1-413C-4172-9E85-17F7DF8A3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8C44-B705-43C1-92B4-83D38AD2E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E3ED-FC48-4EB6-8E91-FABB69B9F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9F6D-76B3-417A-B274-9EDB0C614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B51-9CAA-42FC-926C-50C835456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8A2-E4F5-4E5C-83DE-E4ED84144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3863-B039-4ED6-9D5B-B47165EA6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F06-1DC0-489B-BE1D-9EC49594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EFD-3D8D-4081-9C1B-376975E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47A-BB79-4342-A843-BBE117A1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317-3E07-43EC-95DD-99DABF33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83C-D235-4FBE-8289-E477510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6BD-2EBF-4FFD-BCA2-BD1D55FF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8BB-687A-4A14-8320-2A5C714A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428-A5E0-40E7-8D41-4FE6F5D0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8DF-382B-443C-9BE5-A189F9EE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4A1-92CC-4DB2-8CD5-BFB5DC1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416-F914-48A1-8927-D4935A1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077-7A13-4750-8702-2029A5B0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8C95-9DFC-4A1E-B444-036AF01A095D}" type="datetime">
              <a:rPr b="0" lang="en-US" sz="9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18E-A579-44FC-8C65-85241389CBAC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327720" y="441000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итель-логопе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.Н. Лаптев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229600" y="6400800"/>
            <a:ext cx="974880" cy="457200"/>
          </a:xfrm>
          <a:prstGeom prst="rect">
            <a:avLst/>
          </a:prstGeom>
          <a:solidFill>
            <a:srgbClr val="d6dce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7"/>
          <p:cNvSpPr/>
          <p:nvPr/>
        </p:nvSpPr>
        <p:spPr>
          <a:xfrm>
            <a:off x="8229600" y="640080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910B-34D2-4E84-B2FF-1760833700FA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476520" y="2647800"/>
            <a:ext cx="366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7720" y="2847600"/>
            <a:ext cx="702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ование ИНТЕРНЕТ-РЕСУРСОВ в логопедической работе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49600" y="3873600"/>
            <a:ext cx="24922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74600" y="1239840"/>
            <a:ext cx="6981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47" name="AutoShape 6"/>
          <p:cNvGrpSpPr/>
          <p:nvPr/>
        </p:nvGrpSpPr>
        <p:grpSpPr>
          <a:xfrm>
            <a:off x="351000" y="0"/>
            <a:ext cx="8559720" cy="1649520"/>
            <a:chOff x="351000" y="0"/>
            <a:chExt cx="8559720" cy="1649520"/>
          </a:xfrm>
        </p:grpSpPr>
        <p:pic>
          <p:nvPicPr>
            <p:cNvPr id="148" name="AutoShape 6" descr=""/>
            <p:cNvPicPr/>
            <p:nvPr/>
          </p:nvPicPr>
          <p:blipFill>
            <a:blip r:embed="rId3"/>
            <a:stretch/>
          </p:blipFill>
          <p:spPr>
            <a:xfrm>
              <a:off x="351000" y="0"/>
              <a:ext cx="855972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06600" y="232200"/>
              <a:ext cx="77281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популяризация деятельности ДОУ и получени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братной связи с родителями создан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айт детского сада «Росинка»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Использование ИР в работе с педагогами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1" name="AutoShape 6"/>
          <p:cNvGrpSpPr/>
          <p:nvPr/>
        </p:nvGrpSpPr>
        <p:grpSpPr>
          <a:xfrm>
            <a:off x="1195560" y="1657440"/>
            <a:ext cx="3582360" cy="1560600"/>
            <a:chOff x="1195560" y="1657440"/>
            <a:chExt cx="3582360" cy="1560600"/>
          </a:xfrm>
        </p:grpSpPr>
        <p:pic>
          <p:nvPicPr>
            <p:cNvPr id="152" name="AutoShape 6" descr=""/>
            <p:cNvPicPr/>
            <p:nvPr/>
          </p:nvPicPr>
          <p:blipFill>
            <a:blip r:embed="rId2"/>
            <a:stretch/>
          </p:blipFill>
          <p:spPr>
            <a:xfrm>
              <a:off x="1195560" y="1657440"/>
              <a:ext cx="358236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608480" y="1877400"/>
              <a:ext cx="242820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ндивидуальны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AutoShape 7"/>
          <p:cNvGrpSpPr/>
          <p:nvPr/>
        </p:nvGrpSpPr>
        <p:grpSpPr>
          <a:xfrm>
            <a:off x="3019320" y="3313080"/>
            <a:ext cx="3200400" cy="1835280"/>
            <a:chOff x="3019320" y="3313080"/>
            <a:chExt cx="3200400" cy="1835280"/>
          </a:xfrm>
        </p:grpSpPr>
        <p:pic>
          <p:nvPicPr>
            <p:cNvPr id="155" name="AutoShape 7" descr=""/>
            <p:cNvPicPr/>
            <p:nvPr/>
          </p:nvPicPr>
          <p:blipFill>
            <a:blip r:embed="rId3"/>
            <a:stretch/>
          </p:blipFill>
          <p:spPr>
            <a:xfrm>
              <a:off x="3019320" y="3313080"/>
              <a:ext cx="32004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76720" y="3571920"/>
              <a:ext cx="23702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еминары –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актикум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AutoShape 8"/>
          <p:cNvGrpSpPr/>
          <p:nvPr/>
        </p:nvGrpSpPr>
        <p:grpSpPr>
          <a:xfrm>
            <a:off x="4876920" y="1612800"/>
            <a:ext cx="3127320" cy="1835280"/>
            <a:chOff x="4876920" y="1612800"/>
            <a:chExt cx="3127320" cy="1835280"/>
          </a:xfrm>
        </p:grpSpPr>
        <p:pic>
          <p:nvPicPr>
            <p:cNvPr id="158" name="AutoShape 8" descr=""/>
            <p:cNvPicPr/>
            <p:nvPr/>
          </p:nvPicPr>
          <p:blipFill>
            <a:blip r:embed="rId4"/>
            <a:stretch/>
          </p:blipFill>
          <p:spPr>
            <a:xfrm>
              <a:off x="4876920" y="1612800"/>
              <a:ext cx="3127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31080" y="1871640"/>
              <a:ext cx="229860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дагогически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ове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4582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Использование ИР для самообразования </a:t>
            </a:r>
            <a:br>
              <a:rPr sz="2500"/>
            </a:b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учителя-логопеда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1" name="Блок-схема: альтернативный процесс 34"/>
          <p:cNvGrpSpPr/>
          <p:nvPr/>
        </p:nvGrpSpPr>
        <p:grpSpPr>
          <a:xfrm>
            <a:off x="3057480" y="1486080"/>
            <a:ext cx="2871720" cy="1468080"/>
            <a:chOff x="3057480" y="1486080"/>
            <a:chExt cx="2871720" cy="1468080"/>
          </a:xfrm>
        </p:grpSpPr>
        <p:pic>
          <p:nvPicPr>
            <p:cNvPr id="162" name="Блок-схема: альтернативный процесс 34" descr=""/>
            <p:cNvPicPr/>
            <p:nvPr/>
          </p:nvPicPr>
          <p:blipFill>
            <a:blip r:embed="rId2"/>
            <a:stretch/>
          </p:blipFill>
          <p:spPr>
            <a:xfrm>
              <a:off x="3057480" y="1486080"/>
              <a:ext cx="2871720" cy="14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05320" y="1558440"/>
              <a:ext cx="2325600" cy="11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хранения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Блок-схема: альтернативный процесс 35"/>
          <p:cNvGrpSpPr/>
          <p:nvPr/>
        </p:nvGrpSpPr>
        <p:grpSpPr>
          <a:xfrm>
            <a:off x="954000" y="2763720"/>
            <a:ext cx="3843000" cy="2152440"/>
            <a:chOff x="954000" y="2763720"/>
            <a:chExt cx="3843000" cy="2152440"/>
          </a:xfrm>
        </p:grpSpPr>
        <p:pic>
          <p:nvPicPr>
            <p:cNvPr id="165" name="Блок-схема: альтернативный процесс 35" descr=""/>
            <p:cNvPicPr/>
            <p:nvPr/>
          </p:nvPicPr>
          <p:blipFill>
            <a:blip r:embed="rId3"/>
            <a:stretch/>
          </p:blipFill>
          <p:spPr>
            <a:xfrm>
              <a:off x="954000" y="2763720"/>
              <a:ext cx="384300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546560" y="2870640"/>
              <a:ext cx="312084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реализации творческих проект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Блок-схема: альтернативный процесс 36"/>
          <p:cNvGrpSpPr/>
          <p:nvPr/>
        </p:nvGrpSpPr>
        <p:grpSpPr>
          <a:xfrm>
            <a:off x="4313160" y="2835360"/>
            <a:ext cx="3657240" cy="1990800"/>
            <a:chOff x="4313160" y="2835360"/>
            <a:chExt cx="3657240" cy="1990800"/>
          </a:xfrm>
        </p:grpSpPr>
        <p:pic>
          <p:nvPicPr>
            <p:cNvPr id="168" name="Блок-схема: альтернативный процесс 36" descr=""/>
            <p:cNvPicPr/>
            <p:nvPr/>
          </p:nvPicPr>
          <p:blipFill>
            <a:blip r:embed="rId4"/>
            <a:stretch/>
          </p:blipFill>
          <p:spPr>
            <a:xfrm>
              <a:off x="4313160" y="2835360"/>
              <a:ext cx="365724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880160" y="2935440"/>
              <a:ext cx="296532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ля  повышения профессионального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мастерства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mb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28560" y="504720"/>
            <a:ext cx="788688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«Недостаточно только получить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надо найти им прилож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Недостаточ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только желать, надо делат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1818ae"/>
                </a:solidFill>
                <a:latin typeface="Times New Roman"/>
              </a:rPr>
              <a:t>Иоганн Вольфганг Гё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27240" y="3571920"/>
            <a:ext cx="3075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57120" y="1506240"/>
            <a:ext cx="671004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н для оформления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DAnimatio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картинки взяты 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usde.biz/design/print:page,1,176266-100-kachestvennykh-shablonov-dlja-powerpoint-ms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3"/>
          <p:cNvSpPr txBox="1"/>
          <p:nvPr/>
        </p:nvSpPr>
        <p:spPr>
          <a:xfrm>
            <a:off x="684360" y="2997360"/>
            <a:ext cx="784836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4546a"/>
                    </a:gs>
                    <a:gs pos="100000">
                      <a:srgbClr val="5b9bd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lang="en-US" sz="32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4546a"/>
                  </a:gs>
                  <a:gs pos="100000">
                    <a:srgbClr val="5b9bd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177" name="Rectangle 9"/>
          <p:cNvGrpSpPr/>
          <p:nvPr/>
        </p:nvGrpSpPr>
        <p:grpSpPr>
          <a:xfrm>
            <a:off x="3780000" y="5805360"/>
            <a:ext cx="1541160" cy="480960"/>
            <a:chOff x="3780000" y="5805360"/>
            <a:chExt cx="1541160" cy="480960"/>
          </a:xfrm>
        </p:grpSpPr>
        <p:pic>
          <p:nvPicPr>
            <p:cNvPr id="178" name="Rectangle 9" descr=""/>
            <p:cNvPicPr/>
            <p:nvPr/>
          </p:nvPicPr>
          <p:blipFill>
            <a:blip r:embed="rId3"/>
            <a:stretch/>
          </p:blipFill>
          <p:spPr>
            <a:xfrm>
              <a:off x="3780000" y="5805360"/>
              <a:ext cx="1541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840120" y="5919480"/>
              <a:ext cx="1428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4546a"/>
                  </a:solidFill>
                  <a:latin typeface="Arial"/>
                </a:rPr>
                <a:t>2015г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2"/>
          <p:cNvGrpSpPr/>
          <p:nvPr/>
        </p:nvGrpSpPr>
        <p:grpSpPr>
          <a:xfrm>
            <a:off x="866880" y="820800"/>
            <a:ext cx="8904240" cy="42840"/>
            <a:chOff x="866880" y="820800"/>
            <a:chExt cx="8904240" cy="42840"/>
          </a:xfrm>
        </p:grpSpPr>
        <p:sp>
          <p:nvSpPr>
            <p:cNvPr id="56" name="Прямоугольник 3"/>
            <p:cNvSpPr/>
            <p:nvPr/>
          </p:nvSpPr>
          <p:spPr>
            <a:xfrm>
              <a:off x="866880" y="828000"/>
              <a:ext cx="8904240" cy="28080"/>
            </a:xfrm>
            <a:prstGeom prst="rect">
              <a:avLst/>
            </a:prstGeom>
            <a:solidFill>
              <a:srgbClr val="d6dce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866880" y="820800"/>
              <a:ext cx="818640" cy="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Прямоугольник 6"/>
          <p:cNvSpPr/>
          <p:nvPr/>
        </p:nvSpPr>
        <p:spPr>
          <a:xfrm>
            <a:off x="8229600" y="6400800"/>
            <a:ext cx="974880" cy="457200"/>
          </a:xfrm>
          <a:prstGeom prst="rect">
            <a:avLst/>
          </a:prstGeom>
          <a:solidFill>
            <a:srgbClr val="d6dce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7"/>
          <p:cNvSpPr/>
          <p:nvPr/>
        </p:nvSpPr>
        <p:spPr>
          <a:xfrm>
            <a:off x="8229600" y="640080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12DE-3821-44CD-B40D-3258CA4FA734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0" y="217440"/>
            <a:ext cx="8945640" cy="6400800"/>
          </a:xfrm>
          <a:prstGeom prst="rect">
            <a:avLst/>
          </a:prstGeom>
          <a:solidFill>
            <a:srgbClr val="d6dce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405080" y="1557360"/>
            <a:ext cx="6367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шагает по планете, и логопеды могут найти маленькое, удобное пространство в среде Интернета для своих образовательных потреб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10080" y="2886120"/>
            <a:ext cx="25398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429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100"/>
            </a:br>
            <a:r>
              <a:rPr b="0" lang="ru-RU" sz="3200" spc="-1" strike="noStrike">
                <a:solidFill>
                  <a:srgbClr val="0563c1"/>
                </a:solidFill>
                <a:latin typeface="Arial"/>
              </a:rPr>
              <a:t>Использование современного </a:t>
            </a:r>
            <a:br>
              <a:rPr sz="3200"/>
            </a:br>
            <a:r>
              <a:rPr b="0" lang="ru-RU" sz="3200" spc="-1" strike="noStrike">
                <a:solidFill>
                  <a:srgbClr val="0563c1"/>
                </a:solidFill>
                <a:latin typeface="Arial"/>
              </a:rPr>
              <a:t>оборудования в детском сад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1835280" y="4843440"/>
            <a:ext cx="56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формление документации, повышение проф.масте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original_metal_w"/>
          <p:cNvPicPr/>
          <p:nvPr/>
        </p:nvPicPr>
        <p:blipFill>
          <a:blip r:embed="rId1"/>
          <a:stretch/>
        </p:blipFill>
        <p:spPr>
          <a:xfrm>
            <a:off x="214200" y="5357880"/>
            <a:ext cx="1447920" cy="1314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2752560" y="121284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пьют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2173680" y="180180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ae"/>
                </a:solidFill>
                <a:latin typeface="Calibri"/>
                <a:ea typeface="Arial"/>
              </a:rPr>
              <a:t>мультимедийный прое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2714760" y="24415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деокам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2714760" y="308916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Фотокаме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2714760" y="3589200"/>
            <a:ext cx="24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гнитофо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2071800" y="4186080"/>
            <a:ext cx="51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елевизоры с DVD пристав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2" descr="074"/>
          <p:cNvPicPr/>
          <p:nvPr/>
        </p:nvPicPr>
        <p:blipFill>
          <a:blip r:embed="rId2"/>
          <a:stretch/>
        </p:blipFill>
        <p:spPr>
          <a:xfrm>
            <a:off x="357120" y="1500120"/>
            <a:ext cx="1524240" cy="133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3D_28"/>
          <p:cNvPicPr/>
          <p:nvPr/>
        </p:nvPicPr>
        <p:blipFill>
          <a:blip r:embed="rId3"/>
          <a:stretch/>
        </p:blipFill>
        <p:spPr>
          <a:xfrm>
            <a:off x="2500200" y="557208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3D_26"/>
          <p:cNvPicPr/>
          <p:nvPr/>
        </p:nvPicPr>
        <p:blipFill>
          <a:blip r:embed="rId4"/>
          <a:stretch/>
        </p:blipFill>
        <p:spPr>
          <a:xfrm>
            <a:off x="324000" y="364500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3D_24"/>
          <p:cNvPicPr/>
          <p:nvPr/>
        </p:nvPicPr>
        <p:blipFill>
          <a:blip r:embed="rId5"/>
          <a:stretch/>
        </p:blipFill>
        <p:spPr>
          <a:xfrm>
            <a:off x="7740720" y="5300640"/>
            <a:ext cx="888840" cy="1071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3D_32"/>
          <p:cNvPicPr/>
          <p:nvPr/>
        </p:nvPicPr>
        <p:blipFill>
          <a:blip r:embed="rId6"/>
          <a:stretch/>
        </p:blipFill>
        <p:spPr>
          <a:xfrm>
            <a:off x="5286240" y="5357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3D_21"/>
          <p:cNvPicPr/>
          <p:nvPr/>
        </p:nvPicPr>
        <p:blipFill>
          <a:blip r:embed="rId7"/>
          <a:stretch/>
        </p:blipFill>
        <p:spPr>
          <a:xfrm>
            <a:off x="7358040" y="3643200"/>
            <a:ext cx="12477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original_metal_w"/>
          <p:cNvPicPr/>
          <p:nvPr/>
        </p:nvPicPr>
        <p:blipFill>
          <a:blip r:embed="rId8"/>
          <a:stretch/>
        </p:blipFill>
        <p:spPr>
          <a:xfrm>
            <a:off x="214200" y="528624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3D_28"/>
          <p:cNvPicPr/>
          <p:nvPr/>
        </p:nvPicPr>
        <p:blipFill>
          <a:blip r:embed="rId9"/>
          <a:stretch/>
        </p:blipFill>
        <p:spPr>
          <a:xfrm>
            <a:off x="2500200" y="550080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3D_26"/>
          <p:cNvPicPr/>
          <p:nvPr/>
        </p:nvPicPr>
        <p:blipFill>
          <a:blip r:embed="rId10"/>
          <a:stretch/>
        </p:blipFill>
        <p:spPr>
          <a:xfrm>
            <a:off x="324000" y="357336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3D_24"/>
          <p:cNvPicPr/>
          <p:nvPr/>
        </p:nvPicPr>
        <p:blipFill>
          <a:blip r:embed="rId11"/>
          <a:stretch/>
        </p:blipFill>
        <p:spPr>
          <a:xfrm>
            <a:off x="7740720" y="5229360"/>
            <a:ext cx="888840" cy="107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3D_32"/>
          <p:cNvPicPr/>
          <p:nvPr/>
        </p:nvPicPr>
        <p:blipFill>
          <a:blip r:embed="rId12"/>
          <a:stretch/>
        </p:blipFill>
        <p:spPr>
          <a:xfrm>
            <a:off x="5286240" y="52862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3D_21"/>
          <p:cNvPicPr/>
          <p:nvPr/>
        </p:nvPicPr>
        <p:blipFill>
          <a:blip r:embed="rId13"/>
          <a:stretch/>
        </p:blipFill>
        <p:spPr>
          <a:xfrm>
            <a:off x="7358040" y="3571920"/>
            <a:ext cx="1247760" cy="9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6637320" y="1025640"/>
            <a:ext cx="1914480" cy="1733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1818ae"/>
                </a:solidFill>
                <a:latin typeface="Times New Roman"/>
              </a:rPr>
              <a:t>Разделы деятельности учителя - логопед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Схема 2" descr=""/>
          <p:cNvPicPr/>
          <p:nvPr/>
        </p:nvPicPr>
        <p:blipFill>
          <a:blip r:embed="rId1"/>
          <a:stretch/>
        </p:blipFill>
        <p:spPr>
          <a:xfrm>
            <a:off x="1436760" y="1474920"/>
            <a:ext cx="6242040" cy="3975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500120" y="5786280"/>
            <a:ext cx="6096240" cy="7812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Группа 3" descr=""/>
          <p:cNvPicPr/>
          <p:nvPr/>
        </p:nvPicPr>
        <p:blipFill>
          <a:blip r:embed="rId2"/>
          <a:stretch/>
        </p:blipFill>
        <p:spPr>
          <a:xfrm>
            <a:off x="1809720" y="5456160"/>
            <a:ext cx="584028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9"/>
          <p:cNvSpPr/>
          <p:nvPr/>
        </p:nvSpPr>
        <p:spPr>
          <a:xfrm>
            <a:off x="1857240" y="571500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по самообраз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364680"/>
            <a:ext cx="788652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Использование ИКТ  и интернет –ресурсов в работе с детьми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580000" y="3645000"/>
            <a:ext cx="3295800" cy="172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85840" y="3714840"/>
            <a:ext cx="3214440" cy="172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4000" y="4005360"/>
            <a:ext cx="293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 использованием компьютерны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8"/>
          <p:cNvSpPr/>
          <p:nvPr/>
        </p:nvSpPr>
        <p:spPr>
          <a:xfrm>
            <a:off x="3286080" y="3214800"/>
            <a:ext cx="903240" cy="1241280"/>
          </a:xfrm>
          <a:prstGeom prst="pie">
            <a:avLst/>
          </a:prstGeom>
          <a:gradFill rotWithShape="0">
            <a:gsLst>
              <a:gs pos="0">
                <a:srgbClr val="ed7d31"/>
              </a:gs>
              <a:gs pos="100000">
                <a:srgbClr val="f9ef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0"/>
          <p:cNvSpPr/>
          <p:nvPr/>
        </p:nvSpPr>
        <p:spPr>
          <a:xfrm flipH="1">
            <a:off x="487440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5b9bd5"/>
              </a:gs>
              <a:gs pos="100000">
                <a:srgbClr val="cef0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1258920" y="1197000"/>
            <a:ext cx="6696360" cy="1956600"/>
            <a:chOff x="1258920" y="1197000"/>
            <a:chExt cx="6696360" cy="1956600"/>
          </a:xfrm>
        </p:grpSpPr>
        <p:grpSp>
          <p:nvGrpSpPr>
            <p:cNvPr id="98" name="Group 12"/>
            <p:cNvGrpSpPr/>
            <p:nvPr/>
          </p:nvGrpSpPr>
          <p:grpSpPr>
            <a:xfrm>
              <a:off x="1258920" y="1371600"/>
              <a:ext cx="6696360" cy="1782000"/>
              <a:chOff x="1258920" y="1371600"/>
              <a:chExt cx="6696360" cy="1782000"/>
            </a:xfrm>
          </p:grpSpPr>
          <p:sp>
            <p:nvSpPr>
              <p:cNvPr id="99" name="Oval 13"/>
              <p:cNvSpPr/>
              <p:nvPr/>
            </p:nvSpPr>
            <p:spPr>
              <a:xfrm>
                <a:off x="1332000" y="1428480"/>
                <a:ext cx="6623280" cy="1725120"/>
              </a:xfrm>
              <a:prstGeom prst="ellipse">
                <a:avLst/>
              </a:prstGeom>
              <a:gradFill rotWithShape="0">
                <a:gsLst>
                  <a:gs pos="0">
                    <a:srgbClr val="0563c1"/>
                  </a:gs>
                  <a:gs pos="100000">
                    <a:srgbClr val="5502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Oval 14"/>
              <p:cNvSpPr/>
              <p:nvPr/>
            </p:nvSpPr>
            <p:spPr>
              <a:xfrm>
                <a:off x="1258920" y="1371600"/>
                <a:ext cx="6623280" cy="1724760"/>
              </a:xfrm>
              <a:prstGeom prst="ellipse">
                <a:avLst/>
              </a:prstGeom>
              <a:gradFill rotWithShape="0">
                <a:gsLst>
                  <a:gs pos="0">
                    <a:srgbClr val="db9090"/>
                  </a:gs>
                  <a:gs pos="100000">
                    <a:srgbClr val="056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Oval 15"/>
            <p:cNvSpPr/>
            <p:nvPr/>
          </p:nvSpPr>
          <p:spPr>
            <a:xfrm>
              <a:off x="1574640" y="1197000"/>
              <a:ext cx="5995440" cy="1639080"/>
            </a:xfrm>
            <a:prstGeom prst="ellipse">
              <a:avLst/>
            </a:prstGeom>
            <a:gradFill rotWithShape="0">
              <a:gsLst>
                <a:gs pos="0">
                  <a:srgbClr val="2f6119"/>
                </a:gs>
                <a:gs pos="100000">
                  <a:srgbClr val="5b9b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16"/>
            <p:cNvSpPr/>
            <p:nvPr/>
          </p:nvSpPr>
          <p:spPr>
            <a:xfrm>
              <a:off x="1652760" y="1206360"/>
              <a:ext cx="5849640" cy="1598040"/>
            </a:xfrm>
            <a:prstGeom prst="ellipse">
              <a:avLst/>
            </a:prstGeom>
            <a:gradFill rotWithShape="0">
              <a:gsLst>
                <a:gs pos="0">
                  <a:srgbClr val="5b9bd5">
                    <a:alpha val="0"/>
                  </a:srgbClr>
                </a:gs>
                <a:gs pos="100000">
                  <a:srgbClr val="c9e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>
              <a:off x="1712880" y="1222200"/>
              <a:ext cx="5565960" cy="1492920"/>
            </a:xfrm>
            <a:prstGeom prst="ellipse">
              <a:avLst/>
            </a:prstGeom>
            <a:gradFill rotWithShape="0">
              <a:gsLst>
                <a:gs pos="0">
                  <a:srgbClr val="50a62a"/>
                </a:gs>
                <a:gs pos="100000">
                  <a:srgbClr val="5b9bd5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>
              <a:off x="2007360" y="1255320"/>
              <a:ext cx="4899600" cy="12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b9bd5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9"/>
          <p:cNvSpPr/>
          <p:nvPr/>
        </p:nvSpPr>
        <p:spPr>
          <a:xfrm>
            <a:off x="2235600" y="1285920"/>
            <a:ext cx="46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Про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коррекционно–развива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заняти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786280" y="4143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 использованием мультимедийного про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25440" y="1523880"/>
            <a:ext cx="3345120" cy="2438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59400" y="3151080"/>
            <a:ext cx="333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1818ae"/>
                </a:solidFill>
                <a:latin typeface="Arial"/>
              </a:rPr>
              <a:t>Основные преимущества использования МД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679320" y="1469880"/>
            <a:ext cx="2314440" cy="4243320"/>
            <a:chOff x="679320" y="1469880"/>
            <a:chExt cx="2314440" cy="4243320"/>
          </a:xfrm>
        </p:grpSpPr>
        <p:sp>
          <p:nvSpPr>
            <p:cNvPr id="111" name="AutoShape 4"/>
            <p:cNvSpPr/>
            <p:nvPr/>
          </p:nvSpPr>
          <p:spPr>
            <a:xfrm>
              <a:off x="679320" y="1788840"/>
              <a:ext cx="2307600" cy="3008160"/>
            </a:xfrm>
            <a:custGeom>
              <a:avLst/>
              <a:gdLst>
                <a:gd name="textAreaLeft" fmla="*/ 118080 w 2307600"/>
                <a:gd name="textAreaRight" fmla="*/ 2189520 w 2307600"/>
                <a:gd name="textAreaTop" fmla="*/ 118080 h 3008160"/>
                <a:gd name="textAreaBottom" fmla="*/ 2890080 h 3008160"/>
              </a:gdLst>
              <a:ahLst/>
              <a:rect l="textAreaLeft" t="textAreaTop" r="textAreaRight" b="textAreaBottom"/>
              <a:pathLst>
                <a:path w="21600" h="28156">
                  <a:moveTo>
                    <a:pt x="3782" y="0"/>
                  </a:moveTo>
                  <a:arcTo wR="3782" hR="3782" stAng="16200000" swAng="-5400000"/>
                  <a:lnTo>
                    <a:pt x="0" y="24374"/>
                  </a:lnTo>
                  <a:arcTo wR="3782" hR="3782" stAng="10800000" swAng="-5400000"/>
                  <a:lnTo>
                    <a:pt x="17818" y="2815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714960" y="1797480"/>
              <a:ext cx="2238120" cy="2950920"/>
            </a:xfrm>
            <a:custGeom>
              <a:avLst/>
              <a:gdLst>
                <a:gd name="textAreaLeft" fmla="*/ 109080 w 2238120"/>
                <a:gd name="textAreaRight" fmla="*/ 2129040 w 2238120"/>
                <a:gd name="textAreaTop" fmla="*/ 109080 h 2950920"/>
                <a:gd name="textAreaBottom" fmla="*/ 2841840 h 2950920"/>
              </a:gdLst>
              <a:ahLst/>
              <a:rect l="textAreaLeft" t="textAreaTop" r="textAreaRight" b="textAreaBottom"/>
              <a:pathLst>
                <a:path w="21600" h="28478">
                  <a:moveTo>
                    <a:pt x="3600" y="0"/>
                  </a:moveTo>
                  <a:arcTo wR="3600" hR="3600" stAng="16200000" swAng="-5400000"/>
                  <a:lnTo>
                    <a:pt x="0" y="24878"/>
                  </a:lnTo>
                  <a:arcTo wR="3600" hR="3600" stAng="10800000" swAng="-5400000"/>
                  <a:lnTo>
                    <a:pt x="18000" y="284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733320" y="3970080"/>
              <a:ext cx="2207880" cy="74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733320" y="1820520"/>
              <a:ext cx="2207880" cy="74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8"/>
            <p:cNvSpPr/>
            <p:nvPr/>
          </p:nvSpPr>
          <p:spPr>
            <a:xfrm>
              <a:off x="686160" y="4797360"/>
              <a:ext cx="2307600" cy="9158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733320" y="4822200"/>
              <a:ext cx="2207880" cy="813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Group 10"/>
            <p:cNvGrpSpPr/>
            <p:nvPr/>
          </p:nvGrpSpPr>
          <p:grpSpPr>
            <a:xfrm>
              <a:off x="1475280" y="1469880"/>
              <a:ext cx="683640" cy="655200"/>
              <a:chOff x="1475280" y="1469880"/>
              <a:chExt cx="683640" cy="655200"/>
            </a:xfrm>
          </p:grpSpPr>
          <p:sp>
            <p:nvSpPr>
              <p:cNvPr id="118" name="Oval 11"/>
              <p:cNvSpPr/>
              <p:nvPr/>
            </p:nvSpPr>
            <p:spPr>
              <a:xfrm>
                <a:off x="1475280" y="1561680"/>
                <a:ext cx="683640" cy="480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12"/>
              <p:cNvSpPr/>
              <p:nvPr/>
            </p:nvSpPr>
            <p:spPr>
              <a:xfrm>
                <a:off x="1480320" y="1469880"/>
                <a:ext cx="663120" cy="655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Oval 13"/>
              <p:cNvSpPr/>
              <p:nvPr/>
            </p:nvSpPr>
            <p:spPr>
              <a:xfrm>
                <a:off x="1488240" y="1473480"/>
                <a:ext cx="647640" cy="639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Oval 14"/>
              <p:cNvSpPr/>
              <p:nvPr/>
            </p:nvSpPr>
            <p:spPr>
              <a:xfrm>
                <a:off x="1495440" y="1479960"/>
                <a:ext cx="615960" cy="596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Oval 15"/>
              <p:cNvSpPr/>
              <p:nvPr/>
            </p:nvSpPr>
            <p:spPr>
              <a:xfrm>
                <a:off x="1531440" y="1495800"/>
                <a:ext cx="547200" cy="48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16"/>
            <p:cNvSpPr/>
            <p:nvPr/>
          </p:nvSpPr>
          <p:spPr>
            <a:xfrm>
              <a:off x="1634400" y="1561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760680" y="2267280"/>
              <a:ext cx="2194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вышение      мотиваци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равления недостатков речи дете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8"/>
          <p:cNvGrpSpPr/>
          <p:nvPr/>
        </p:nvGrpSpPr>
        <p:grpSpPr>
          <a:xfrm>
            <a:off x="6404040" y="1384200"/>
            <a:ext cx="2390400" cy="4455720"/>
            <a:chOff x="6404040" y="1384200"/>
            <a:chExt cx="2390400" cy="4455720"/>
          </a:xfrm>
        </p:grpSpPr>
        <p:sp>
          <p:nvSpPr>
            <p:cNvPr id="126" name="AutoShape 19"/>
            <p:cNvSpPr/>
            <p:nvPr/>
          </p:nvSpPr>
          <p:spPr>
            <a:xfrm>
              <a:off x="6465240" y="1702080"/>
              <a:ext cx="2325600" cy="2997720"/>
            </a:xfrm>
            <a:custGeom>
              <a:avLst/>
              <a:gdLst>
                <a:gd name="textAreaLeft" fmla="*/ 119160 w 2325600"/>
                <a:gd name="textAreaRight" fmla="*/ 2206440 w 2325600"/>
                <a:gd name="textAreaTop" fmla="*/ 119160 h 2997720"/>
                <a:gd name="textAreaBottom" fmla="*/ 2878560 h 2997720"/>
              </a:gdLst>
              <a:ahLst/>
              <a:rect l="textAreaLeft" t="textAreaTop" r="textAreaRight" b="textAreaBottom"/>
              <a:pathLst>
                <a:path w="21600" h="27842">
                  <a:moveTo>
                    <a:pt x="3782" y="0"/>
                  </a:moveTo>
                  <a:arcTo wR="3782" hR="3782" stAng="16200000" swAng="-5400000"/>
                  <a:lnTo>
                    <a:pt x="0" y="24060"/>
                  </a:lnTo>
                  <a:arcTo wR="3782" hR="3782" stAng="10800000" swAng="-5400000"/>
                  <a:lnTo>
                    <a:pt x="17818" y="2784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20"/>
            <p:cNvSpPr/>
            <p:nvPr/>
          </p:nvSpPr>
          <p:spPr>
            <a:xfrm>
              <a:off x="6500880" y="1710720"/>
              <a:ext cx="2255760" cy="2940480"/>
            </a:xfrm>
            <a:custGeom>
              <a:avLst/>
              <a:gdLst>
                <a:gd name="textAreaLeft" fmla="*/ 109800 w 2255760"/>
                <a:gd name="textAreaRight" fmla="*/ 2145960 w 2255760"/>
                <a:gd name="textAreaTop" fmla="*/ 109800 h 2940480"/>
                <a:gd name="textAreaBottom" fmla="*/ 2830680 h 2940480"/>
              </a:gdLst>
              <a:ahLst/>
              <a:rect l="textAreaLeft" t="textAreaTop" r="textAreaRight" b="textAreaBottom"/>
              <a:pathLst>
                <a:path w="21600" h="28155">
                  <a:moveTo>
                    <a:pt x="3600" y="0"/>
                  </a:moveTo>
                  <a:arcTo wR="3600" hR="3600" stAng="16200000" swAng="-5400000"/>
                  <a:lnTo>
                    <a:pt x="0" y="24555"/>
                  </a:lnTo>
                  <a:arcTo wR="3600" hR="3600" stAng="10800000" swAng="-5400000"/>
                  <a:lnTo>
                    <a:pt x="18000" y="28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21"/>
            <p:cNvSpPr/>
            <p:nvPr/>
          </p:nvSpPr>
          <p:spPr>
            <a:xfrm>
              <a:off x="6519960" y="3875400"/>
              <a:ext cx="2224800" cy="74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AutoShape 22"/>
            <p:cNvSpPr/>
            <p:nvPr/>
          </p:nvSpPr>
          <p:spPr>
            <a:xfrm>
              <a:off x="6519960" y="1733760"/>
              <a:ext cx="2224800" cy="74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7265520" y="1475640"/>
              <a:ext cx="69264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24"/>
            <p:cNvSpPr/>
            <p:nvPr/>
          </p:nvSpPr>
          <p:spPr>
            <a:xfrm>
              <a:off x="7272360" y="1384200"/>
              <a:ext cx="668880" cy="6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25"/>
            <p:cNvSpPr/>
            <p:nvPr/>
          </p:nvSpPr>
          <p:spPr>
            <a:xfrm>
              <a:off x="7281000" y="1387440"/>
              <a:ext cx="653040" cy="637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26"/>
            <p:cNvSpPr/>
            <p:nvPr/>
          </p:nvSpPr>
          <p:spPr>
            <a:xfrm>
              <a:off x="7287840" y="1394280"/>
              <a:ext cx="621000" cy="59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27"/>
            <p:cNvSpPr/>
            <p:nvPr/>
          </p:nvSpPr>
          <p:spPr>
            <a:xfrm>
              <a:off x="7325280" y="1410840"/>
              <a:ext cx="551160" cy="48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 Box 28"/>
            <p:cNvSpPr/>
            <p:nvPr/>
          </p:nvSpPr>
          <p:spPr>
            <a:xfrm>
              <a:off x="7429320" y="147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29"/>
            <p:cNvSpPr/>
            <p:nvPr/>
          </p:nvSpPr>
          <p:spPr>
            <a:xfrm>
              <a:off x="6404040" y="2178720"/>
              <a:ext cx="2211480" cy="36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итие восприятия,  внимания и мышления   за счет повышения уровня наглядност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>
              <a:off x="6468480" y="4699800"/>
              <a:ext cx="2325960" cy="912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1"/>
            <p:cNvSpPr/>
            <p:nvPr/>
          </p:nvSpPr>
          <p:spPr>
            <a:xfrm>
              <a:off x="6516360" y="4724640"/>
              <a:ext cx="2224800" cy="81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Текст 2" descr=""/>
          <p:cNvPicPr/>
          <p:nvPr/>
        </p:nvPicPr>
        <p:blipFill>
          <a:blip r:embed="rId2"/>
          <a:stretch/>
        </p:blipFill>
        <p:spPr>
          <a:xfrm>
            <a:off x="1214280" y="1368360"/>
            <a:ext cx="668844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Фото приглаш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5:56:43Z</dcterms:created>
  <dc:creator>Олег Грибан</dc:creator>
  <dc:description/>
  <dc:language>en-US</dc:language>
  <cp:lastModifiedBy>Елена Викторовна</cp:lastModifiedBy>
  <dcterms:modified xsi:type="dcterms:W3CDTF">2015-01-07T23:42:44Z</dcterms:modified>
  <cp:revision>10</cp:revision>
  <dc:subject/>
  <dc:title>Презентация PowerPoint</dc:title>
</cp:coreProperties>
</file>