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CAF-945B-4063-81BF-2B14B2BD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45E-FBD4-4266-9BB6-3D38CE60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C59-3C82-4A4F-BA3D-DFFAA387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359-5BF3-4336-AA0C-AB52AD0C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7520-A456-42FA-99EC-4BF1E907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52A-17CC-4AB2-B61A-D5E50932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149-88A4-4257-9AF7-52F62979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3FE-F430-4645-B085-B28E3E2A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5C1-BEE6-408B-BFDC-2B0E94BD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027-7B2B-4099-90B6-F5CC308A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EFE-131A-4B5B-9D56-20A8C586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B65-B545-4DAD-8410-A4FB635F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A994-B7CA-453A-9660-474A920EC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ование психокоррекционных и психотерапевтических сказок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работе с дошкольника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790960" cy="3886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03280" y="5867280"/>
            <a:ext cx="396108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дагог-психолог Роткина В.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К психотерапевтическим сказкам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ие народные сказки и сказки русских  и зарубежных авторов, где главным персонажем является девушка или женщина. ( русские народные сказки «Морозко», «Крошечка-Хаврошечка», "Сестрица Аленушка и братец Иванушка", «Снегурочка», сказка С.Т. Аксакова «Аленький цветочек», сказки зарубежных авторов  «Золушка» и «Спящая красавица» Ш. Перро, «Госпожа Метелица» братьев Гримм  и др.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жские сказки («Царевна-лягушка», где хотя и просматривается женский путь, но главным героем является мужчин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боте с особыми детьми подойдет авторская сказка "Серая шейка" Мамин-Сибиряк Д.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сихокоррекционные сказ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989000"/>
            <a:ext cx="424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 сказкотерапевтической коррекцией понимается систематическое усиление потенциальности и творческих способностей человека, за счет которого происходит преодоление проблемных элемен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азкотерапевтическая коррекция исключает директивное изменение негативных форм повед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место этого предлагается принцип «расширения спектра альтернативных реакций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48360" y="2060640"/>
            <a:ext cx="3384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сихокоррекционные сказк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ля решения детских пробл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зки для детей, которые испытывают страхи темноты, страх перед медицинским кабинетом и другие страх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зки для гиперактивных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зки для агрессивных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зки для детей, страдающие расстройством поведения с физическими проявлениями: проблемы с едой;  проблемы с мочевым пузырем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зки для детей, которые столкнулись с проблемами семейных отношений. В случае развода родителей. В случае появления нового члена семьи. Когда дети считают, что в другой семье им будет лучш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зки для детей в случае потерь значимых людей или любимых живот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лгоритм создания психокоррекционной сказ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обрать героя, близкого ребенку по полу, возрасту, характер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писать жизнь героя в сказочной стране так, чтобы ребенок нашел сходство со своей жизнь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местить героя в проблемную ситуацию, похожую на реальную ситуацию ребенка, и приписать герою все переживания ребен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иск героем сказки выхода  из создавшегося положения. Для этого необходимо начинать усугублять ситуацию, приводить ее к логическому концу, что также подталкивает героя к изменениям. Герой может встречать существ, оказавшихся в таком же положении, и смотреть, как они выходят из ситуации; он встречает мудрого волшебника, объясняющего ему смысл происходящего и Главное - показать герою ситуацию с разных сторон, предложить ему альтернативные модели поведения, помочь найти позитивный смысл в происходяще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сознание героем сказки своего неправильного поведения и становление на путь измен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сновные методы сказкотерапи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мнению Чех Е.В. можно выделить несколько вариантов работы со сказкой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ссказывание сказки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бота со сказками начинается с ее анализа, обсуждения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чинение сказ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тановка сказ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исование сказ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готовление куко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ассказывание сказ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бота со сказками начинается с ее анализа, обсужд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гда сказочные смыслы будут проработаны и связаны с реальными жизненными ситуациями, можно использовать и другие формы работы со сказками: драматизацию, рисование, изготовление кукол, песочную терапи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гра - драматизация по сюжету сказ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85800" y="3657600"/>
            <a:ext cx="3809880" cy="2438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648320" y="365760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исование сказ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75248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ельно сказку нарисовать, слепить или представить в виде аппликации. Рисуя или работая с цветным картоном, пластилино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бен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площает все, что его волнует, чувства и мысли. Тем самым освобождаясь от тревоги или другого чувства, которое беспокоил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гра - рисование по следам прочитан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8098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380988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5800" y="3657600"/>
            <a:ext cx="3809880" cy="2438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648320" y="365760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Благодарю за вним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казкотерапия – это «лечение сказкой»</a:t>
            </a:r>
            <a:br>
              <a:rPr sz="28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(Вачков И.В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Это язык на котором можно говорить с внутренним миром человека, его бессознательным, его душ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Это воспитательная система, формирующая и поддерживающая созидательную систему ценностей челове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Это система развития эмоционального интеллек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527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24000" y="1066680"/>
            <a:ext cx="849600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Развитию творческого (дивергентного) мышления ребе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Совершенствованию вербального языка (ребенок учится доходчиво и правильно формулировать свои мысли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Развитию фантазии, вообра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Развитию способности к глубокому образному мышлению, установлению причинно-следственных связ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Развитию эмпатии и умению слушать (т.к. в ходе анализа   ребенок учится чувствовать главного героя и слушать то, что говорят другие дети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казкотерапи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я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 способствует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едагогические зада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907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мочь детям войти в современный ми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общить к ценностям сотруднич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вить у детей чувства ответственности за другого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особствовать росту коммуникативной компетентности реб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ирование у детей социальных навы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3280" y="1295280"/>
            <a:ext cx="419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 сказкотерапии используются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разнообразные жанры</a:t>
            </a:r>
            <a:br>
              <a:rPr sz="28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главным средством психологического воздействия в сказкотерапии является метафора, как основа любой сказки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тчи, басни, легенды,былины, саги, мифы, сказки, анекдоты. Находят применение и современные жанры: детективы, любовные романы, фэнтэз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179280" y="260280"/>
            <a:ext cx="885672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Виды сказо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Художественные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ним относятся авторские и народные сказ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Дидактические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здаются   для «упаковки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аемого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материала. При этом абстрактные   символы ( цифры, знаки, звуки) одушевляются, создается сказочный образ мира в котором они живут. Таким образом, учебные знания подаются ребенку в виде дидактических сказо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Психокоррекционны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Создаются для мягкого влияния на поведение ребенка. Под коррекцией здесь понимается «замещение» не эффективного стиля поведения на более продуктивны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4. П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сихотерапевтически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Сказки раскрывающие глубинный смысл происходящих событий, стимулируют процесс личного роста ребен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Медитативны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Сказки способствующие снятию психоэмоционального напряжения, созданию лучших моделей взаимодействия, развитию личностных потенциал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59280" y="4365720"/>
            <a:ext cx="3809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сихотерапевтические сказки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казки, раскрывающие глубинный смысл происходящих событий. Истории, помогающие увидеть происходящее с другой стороны. Такие сказки не всегда однозначны, но всегда глубоки и проникновен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сихотерапевтические сказки часто оставляют человека с вопросом. Это, в свою очередь, стимулирует процесс личностного роста. Многие психотерапевтические сказки посвящены проблемам жизни и смерти, отношению к потерям и приобретениям, любви и пу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Дети до 5 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казки о животны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ти до пяти лет идентифицируют себя с животными, стараются быть похожими на них. Сказки о животных, взаимоотношениях людей и животных лучше всего передадут маленьким детям жизненный опы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4114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Дети 6-7 л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26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олшебные сказ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лагодаря волшебным сказкам в бессознательное ребенка поступает «концентрат» жизненной мудрости и информации о духовном развитии челове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90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2:35:31Z</dcterms:created>
  <dc:creator>Родкин</dc:creator>
  <dc:description/>
  <dc:language>en-US</dc:language>
  <cp:lastModifiedBy>davidov.u</cp:lastModifiedBy>
  <dcterms:modified xsi:type="dcterms:W3CDTF">2015-10-12T08:28:20Z</dcterms:modified>
  <cp:revision>61</cp:revision>
  <dc:subject/>
  <dc:title>Использование психокоррекционных и психотерапевтических сказок в работе со старшими дошкольниками» </dc:title>
</cp:coreProperties>
</file>