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25E-FA24-41AA-89A0-06A49425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60B-5615-4086-8DF8-9887787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D45-6491-4A58-9957-EA1F3CAF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067-B365-4795-A57F-CDF01331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7EB-257E-4E82-B32C-3D7510D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646-7EDA-4D2A-B1A5-6945D337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F1A-7445-4A81-92F1-4ACA9F1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453-DD39-4472-88A7-DEF9A747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77E-CAE2-4D49-A0E1-5648911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A9D-8657-4603-9F4C-A0AFC802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211-1611-4253-A0F6-6EC07AE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E52-426E-4637-9ABF-F995DB3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3936-7782-4F94-B149-DBFF87B73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психокоррекционных и психотерапевтических сказок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боте с дошкольник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909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03280" y="5867280"/>
            <a:ext cx="396108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дагог-психолог Роткина В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психотерапевтическим сказкам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народные сказки и сказки русских  и зарубежных авторов, где главным персонажем является девушка или женщина. ( русские народные сказки «Морозко», «Крошечка-Хаврошечка», "Сестрица Аленушка и братец Иванушка", «Снегурочка», сказка С.Т. Аксакова «Аленький цветочек», сказки зарубежных авторов  «Золушка» и «Спящая красавица» Ш. Перро, «Госпожа Метелица» братьев Гримм  и др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жские сказки («Царевна-лягушка», где хотя и просматривается женский путь, но главным героем является мужчин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особыми детьми подойдет авторская сказка "Серая шейка" Мамин-Сибиряк Д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сихокоррекционные сказ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989000"/>
            <a:ext cx="424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 сказкотерапевтической коррекцией понимается систематическое усиление потенциальности и творческих способностей человека, за счет которого происходит преодоление проблемных эле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отерапевтическая коррекция исключает директивное изменение негативных форм повед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о этого предлагается принцип «расширения спектра альтернативных реак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38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сихокоррекционные сказк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ля решения детских пробл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, которые испытывают страхи темноты, страх перед медицинским кабинетом и другие стра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гиперактивн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агрессивн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, страдающие расстройством поведения с физическими проявлениями: проблемы с едой;  проблемы с мочевым пузырем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, которые столкнулись с проблемами семейных отношений. В случае развода родителей. В случае появления нового члена семьи. Когда дети считают, что в другой семье им будет луч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 в случае потерь значимых людей или любимы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создания психокоррекционной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обрать героя, близкого ребенку по полу, возрасту, характер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исать жизнь героя в сказочной стране так, чтобы ребенок нашел сходство со своей жизн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местить героя в проблемную ситуацию, похожую на реальную ситуацию ребенка, и приписать герою все переживания ребе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иск героем сказки выхода  из создавшегося положения. Для этого необходимо начинать усугублять ситуацию, приводить ее к логическому концу, что также подталкивает героя к изменениям. Герой может встречать существ, оказавшихся в таком же положении, и смотреть, как они выходят из ситуации; он встречает мудрого волшебника, объясняющего ему смысл происходящего и Главное - показать герою ситуацию с разных сторон, предложить ему альтернативные модели поведения, помочь найти позитивный смысл в происходящ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ознание героем сказки своего неправильного поведения и становление на путь измен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сновные методы сказкотерапи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нению Чех Е.В. можно выделить несколько вариантов работы со сказкой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казывание сказк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бота со сказками начинается с ее анализа, обсуждения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чинение ска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ка ска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сование ска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готовление кук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ссказывание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а со сказками начинается с ее анализа, обсужд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гда сказочные смыслы будут проработаны и связаны с реальными жизненными ситуациями, можно использовать и другие формы работы со сказками: драматизацию, рисование, изготовление кукол, песочную терап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гра - драматизация по сюжету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исование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7524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сказку нарисовать, слепить или представить в виде аппликации. Рисуя или работая с цветным картоном, пластилино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бен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лощает все, что его волнует, чувства и мысли. Тем самым освобождаясь от тревоги или другого чувства, которое беспокои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гра - рисование по следам прочитан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азкотерапия – это «лечение сказкой»</a:t>
            </a:r>
            <a:br>
              <a:rPr sz="28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(Вачков И.В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язык на котором можно говорить с внутренним миром человека, его бессознательным, его душ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воспитательная система, формирующая и поддерживающая созидательную систему ценностей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система развития эмоционального интеллек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527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24000" y="1066680"/>
            <a:ext cx="8496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творческого (дивергентного) мышления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Совершенствованию вербального языка (ребенок учится доходчиво и правильно формулировать свои мысл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фантазии,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способности к глубокому образному мышлению, установлению причинно-следственных связ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эмпатии и умению слушать (т.к. в ходе анализа   ребенок учится чувствовать главного героя и слушать то, что говорят другие дет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казкотерап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способству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едагогически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90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чь детям войти в современный м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общить к ценностям сотрудни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ь у детей чувства ответственности за другого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росту коммуникативной компетентности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 детей социальных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3280" y="1295280"/>
            <a:ext cx="419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сказкотерапии используются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разнообразные жанры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главным средством психологического воздействия в сказкотерапии является метафора, как основа любой сказки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тчи, басни, легенды,былины, саги, мифы, сказки, анекдоты. Находят применение и современные жанры: детективы, любовные романы, фэнтэ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79280" y="260280"/>
            <a:ext cx="885672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иды сказ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Художественные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ним относятся авторские и народные сказ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Дидактически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здаются   для «упаковк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аемого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материала. При этом абстрактные   символы ( цифры, знаки, звуки) одушевляются, создается сказочный образ мира в котором они живут. Таким образом, учебные знания подаются ребенку в виде дидактических сказ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Психокоррекцион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Создаются для мягкого влияния на поведение ребенка. Под коррекцией здесь понимается «замещение» не эффективного стиля поведения на более продуктив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4. П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ихотерапевтическ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Сказки раскрывающие глубинный смысл происходящих событий, стимулируют процесс личного роста реб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Медитативны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казки способствующие снятию психоэмоционального напряжения, созданию лучших моделей взаимодействия, развитию личностных потенциа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сихотерапевтические сказк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зки, раскрывающие глубинный смысл происходящих событий. Истории, помогающие увидеть происходящее с другой стороны. Такие сказки не всегда однозначны, но всегда глубоки и проникновен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сихотерапевтические сказки часто оставляют человека с вопросом. Это, в свою очередь, стимулирует процесс личностного роста. Многие психотерапевтические сказки посвящены проблемам жизни и смерти, отношению к потерям и приобретениям, любви и пу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ети до 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казки о животн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ти до пяти лет идентифицируют себя с животными, стараются быть похожими на них. Сказки о животных, взаимоотношениях людей и животных лучше всего передадут маленьким детям жизненный опы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11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ети 6-7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лшебные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агодаря волшебным сказкам в бессознательное ребенка поступает «концентрат» жизненной мудрости и информации о духовном развитии челове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35:31Z</dcterms:created>
  <dc:creator>Родкин</dc:creator>
  <dc:description/>
  <dc:language>en-US</dc:language>
  <cp:lastModifiedBy>davidov.u</cp:lastModifiedBy>
  <dcterms:modified xsi:type="dcterms:W3CDTF">2015-10-12T08:28:20Z</dcterms:modified>
  <cp:revision>61</cp:revision>
  <dc:subject/>
  <dc:title>Использование психокоррекционных и психотерапевтических сказок в работе со старшими дошкольниками» </dc:title>
</cp:coreProperties>
</file>