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FD76-E13B-4BE9-A93C-1877EB93A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17AB-F405-41AC-BE2F-586DD8972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191A-E389-4BD8-BCD5-546BF70DA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620B-8E58-491C-A34A-124CF9D83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D6134-BF78-4852-A22E-C47D177CA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595CB-00C4-4B0D-8A63-E63FDE92B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993DA-98ED-45DC-BF5A-80641FF60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A7C54-FE41-465D-9132-7E1FA5B60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1D92F-086E-4C8F-99A0-3F9CD15AC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C2BFF-3037-4DDD-A8BE-FA251C4E1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8C80F-ECE1-4B64-97B8-B9D5E9B0F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B3E6-BBC6-4B65-9D95-D8BEAF289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AF6A9-16FD-4722-A437-CA7BFA428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817D1-B823-4918-9BEA-64C0AADF0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8A470-7914-4AB2-B3FA-1EF3051FF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E7B57-2996-4091-98BF-8793F0E50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B237E-BBC1-4C76-829F-A8DCF104C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C772-6E5F-4DDA-9A96-1C5E9B0B0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2505-57D8-4E52-A8F9-87CBA0FCA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7267-A203-4A20-8111-4AB017FE4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7CD2-4708-45CF-92B6-85BD11542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A961-F356-4F08-90B8-E328C13FD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0809-1FFA-4F8D-B684-81C5C8327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948B-205F-4373-90BD-67697C5C6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753C2-3CB1-4171-B745-3EA1275AB5A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C1146-5773-4FFB-9116-26E3EB90689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1873080"/>
            <a:ext cx="91440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2b2b2"/>
                </a:solidFill>
                <a:latin typeface="Arial"/>
              </a:rPr>
              <a:t>Практические основы </a:t>
            </a:r>
            <a:br>
              <a:rPr sz="3200"/>
            </a:br>
            <a:r>
              <a:rPr b="1" i="1" lang="en-US" sz="3200" spc="-1" strike="noStrike">
                <a:solidFill>
                  <a:srgbClr val="b2b2b2"/>
                </a:solidFill>
                <a:latin typeface="Arial"/>
              </a:rPr>
              <a:t>бухгалтерского учета имущества организации</a:t>
            </a: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2b2b2"/>
                </a:solidFill>
                <a:latin typeface="Arial"/>
              </a:rPr>
              <a:t>Оборотные активы</a:t>
            </a:r>
            <a:br>
              <a:rPr sz="3600"/>
            </a:br>
            <a:r>
              <a:rPr b="0" i="1" lang="en-US" sz="2800" spc="-1" strike="noStrike">
                <a:solidFill>
                  <a:srgbClr val="b2b2b2"/>
                </a:solidFill>
                <a:latin typeface="Arial"/>
              </a:rPr>
              <a:t>Затраты на производство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Затраты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– это стоимость ресурсов, использованных на производство продукции, оказание услуг, выполнение работ за определенный отчетный период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Расходы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это уменьшение экономических выгод в результате выбытия активов, возникновение обязательств, приводящее к уменьшению капитала организац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Издержки производства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– это стоимостная оценка затрат на трудовые, финансовые и материальные ресурсы, израсходованные в процессе производства и реализации продукц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2b2b2"/>
                </a:solidFill>
                <a:latin typeface="Arial"/>
              </a:rPr>
              <a:t>Оборотные активы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Готовая продукци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это продукция, прошедшая все стадии технологической обработки, необходимые испытания, укомплектованная, соответствующая условиям договора или требованиям иных документов в случаях, установленных законодательством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Работы и услуги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это стоимость различных работ или услуг, выполненных и оказанных сторонними организациям и лицам, а так же работникам организации на условиях оплат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Товары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это часть активов организации, предназначенная для перепродаж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b2b2b2"/>
                </a:solidFill>
                <a:latin typeface="Arial"/>
              </a:rPr>
              <a:t>Оборотные активы</a:t>
            </a:r>
            <a:br>
              <a:rPr sz="3200"/>
            </a:br>
            <a:r>
              <a:rPr b="0" i="1" lang="en-US" sz="2800" spc="-1" strike="noStrike">
                <a:solidFill>
                  <a:srgbClr val="b2b2b2"/>
                </a:solidFill>
                <a:latin typeface="Arial"/>
              </a:rPr>
              <a:t>Денежные средства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1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Кассовые операции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это операции, связанные с получением и расходованием наличных денег непосредственно из кассы организац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Учет кассовых операций ведется на счете 50 «Касса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50/1 «Касса организации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50/2 «Операционная касса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50/3 «Денежные документы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b2b2b2"/>
                </a:solidFill>
                <a:latin typeface="Arial"/>
              </a:rPr>
              <a:t>Оборотные активы</a:t>
            </a:r>
            <a:br>
              <a:rPr sz="3200"/>
            </a:br>
            <a:r>
              <a:rPr b="0" i="1" lang="en-US" sz="2800" spc="-1" strike="noStrike">
                <a:solidFill>
                  <a:srgbClr val="b2b2b2"/>
                </a:solidFill>
                <a:latin typeface="Arial"/>
              </a:rPr>
              <a:t>Денежные средства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9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Учет движения денежных средств на расчетных счетах ведется на счете 51 «Расчетные счета» на основании следующих документов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Денежный чек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– это распоряжение организации выдать указанную в нем сумму наличных денег с расчетного счета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Объявление на взнос наличными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письменный приказ владельца счета банку о зачислении денежных средств на его счет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Платежное поручение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– распоряжение организации своему банку перевести сумму, указанную в документе, на счет получателя либо произвести депонирование указанной суммы для последующего перечисления средств на счет получателя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Выписка банка –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э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то второй экземпляр лицевого счета организации, открытого ему банком. В выписке указывают все поступления и списания денежных средств с расчетного счета, остаток на нем на начало и конец дня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b2b2b2"/>
                </a:solidFill>
                <a:latin typeface="Arial"/>
              </a:rPr>
              <a:t>Оборотные активы</a:t>
            </a:r>
            <a:br>
              <a:rPr sz="3200"/>
            </a:br>
            <a:r>
              <a:rPr b="0" i="1" lang="en-US" sz="2800" spc="-1" strike="noStrike">
                <a:solidFill>
                  <a:srgbClr val="b2b2b2"/>
                </a:solidFill>
                <a:latin typeface="Arial"/>
              </a:rPr>
              <a:t>Денежные средства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2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                         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К валютным операциям относятся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приобретение резидентом валютных ценностей у резидентов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и нерезидентов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приобретение нерезидентом у нерезидента валютны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ценностей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ввоз на таможенную территорию и вывоз с таможенно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территории Российской Федерации валютных ценностей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переводы в Российскую Федерацию и из Российской Федераци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иностранной валюты, валюты Российской Федерации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внутренних и внешних ценных бумаг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переводы нерезидентом валюты Российской Федерации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внутренних и внешних ценных бумаг на счета открытые н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территории Российской Федераци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b2b2b2"/>
                </a:solidFill>
                <a:latin typeface="Arial"/>
              </a:rPr>
              <a:t>Оборотные активы</a:t>
            </a:r>
            <a:br>
              <a:rPr sz="3200"/>
            </a:br>
            <a:r>
              <a:rPr b="0" i="1" lang="en-US" sz="2800" spc="-1" strike="noStrike">
                <a:solidFill>
                  <a:srgbClr val="b2b2b2"/>
                </a:solidFill>
                <a:latin typeface="Arial"/>
              </a:rPr>
              <a:t>Денежные средства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9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Учет валютных средств ведут на счете 52 «Валютные счета»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52/1«Валютные счета внутри страны»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52/2«Валютные счета за рубежом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К субсчету 52/1 «Валютные счета внутри страны» открываю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субсчета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транзитный валютный счет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специальный транзитный валютный счет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текущий валютный сче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b2b2b2"/>
                </a:solidFill>
                <a:latin typeface="Arial"/>
              </a:rPr>
              <a:t>Оборотные активы</a:t>
            </a:r>
            <a:br>
              <a:rPr sz="3200"/>
            </a:br>
            <a:r>
              <a:rPr b="0" i="1" lang="en-US" sz="2800" spc="-1" strike="noStrike">
                <a:solidFill>
                  <a:srgbClr val="b2b2b2"/>
                </a:solidFill>
                <a:latin typeface="Arial"/>
              </a:rPr>
              <a:t>Денежные средства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1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Для учета денежных средств, находящихся в аккредитивах, чековых книжках, банковских счетах, картах, на текущих и депозитных счетах,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предназначен счет 55 «Специальные счета в банках»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55-1 «Аккредитивы»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55-2 «Чековые книжки»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55-3 «Депозитные счета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2b2b2"/>
                </a:solidFill>
                <a:latin typeface="Arial"/>
              </a:rPr>
              <a:t>Оборотные активы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Аккредитив –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это условное денежное обязательство банка, выдаваемое им по поручению клиента в пользу его контрагента по договору, согласно которому банк, открывший аккредитив (банк-эмитент), может произвести поставщику платеж или предоставить полномочия другому банку производить такие платежи при условии предоставления им документов, предусмотренных в аккредитиве, и выполнения других условий аккредитив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Чек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— это ценная бумага, которая представляет собой ничем не обусловленное распоряжение чекодателя банку произвести платеж указанной в нем суммы чекодержателю.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Юридическое или физическое лицо, имеющее денежные средства в банке, является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чекодателем.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Юридическое или физическое лицо, в пользу которого выдан чек, является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чекодержателе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b2b2b2"/>
                </a:solidFill>
                <a:latin typeface="Arial"/>
              </a:rPr>
              <a:t>Оборотные активы</a:t>
            </a:r>
            <a:br>
              <a:rPr sz="3200"/>
            </a:br>
            <a:r>
              <a:rPr b="0" i="1" lang="en-US" sz="2800" spc="-1" strike="noStrike">
                <a:solidFill>
                  <a:srgbClr val="b2b2b2"/>
                </a:solidFill>
                <a:latin typeface="Arial"/>
              </a:rPr>
              <a:t>Денежные средства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2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Переводы в пути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—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денежные средства, сданные в кассы кредитных организаций или почтовых отделений с целью их зачисления на расчетные счета организаций, но еще не поступившие по назначению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Учет ведется на счете 57 «Переводы в пути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Счет 57 «Переводы в пути» используется в случаях инкассации выручки от продажи товаров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Бухгалтерские записи по учету переводов в пут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суммы наличных денежных средств сданных кредитны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организациям, сберегательным банкам или почтовым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отделениям – Д 57 К 50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зачислены денежные средства – Д 51 и др. К 57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2b2b2"/>
                </a:solidFill>
                <a:latin typeface="Arial"/>
              </a:rPr>
              <a:t>Оборотные активы</a:t>
            </a:r>
            <a:br>
              <a:rPr sz="2800"/>
            </a:br>
            <a:r>
              <a:rPr b="0" i="1" lang="en-US" sz="2800" spc="-1" strike="noStrike">
                <a:solidFill>
                  <a:srgbClr val="b2b2b2"/>
                </a:solidFill>
                <a:latin typeface="Arial"/>
              </a:rPr>
              <a:t>Расчеты с подотчетными лицами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Подотчетными лицами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являются работники организации, получившие авансом наличные суммы денежных средств на предстоящие хозяйственно-операционные, представительские и командировочные расходы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Под хозяйственно-операционными расходами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понимаются расходы работников на покупку в установленных пределах товаров, включая ГСМ, на оплату работ и услуг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Представительские расходы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затраты, связанные с проведением официального приема представителей, их транспортное обслуживание, посещение культурно-зрелищных мероприятий, буфетным обслуживанием во время переговоров и мероприятий культурной программы, оплатой услуг переводчиков, не состоящих в штате организаци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Служебная командировка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– это поездка работника по распоряжению руководителя организации для выполнения служебного поручения вне места постоянной работы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b2b2b2"/>
                </a:solidFill>
                <a:latin typeface="Arial"/>
              </a:rPr>
              <a:t>Имущество организации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23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23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Имущество организации подразделяется н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239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723960" indent="-72396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Внеоборотные активы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23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23960" indent="-72396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Оборотные актив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2b2b2"/>
                </a:solidFill>
                <a:latin typeface="Arial"/>
              </a:rPr>
              <a:t>Оборотные активы</a:t>
            </a:r>
            <a:br>
              <a:rPr sz="2800"/>
            </a:br>
            <a:r>
              <a:rPr b="0" i="1" lang="en-US" sz="2800" spc="-1" strike="noStrike">
                <a:solidFill>
                  <a:srgbClr val="b2b2b2"/>
                </a:solidFill>
                <a:latin typeface="Arial"/>
              </a:rPr>
              <a:t>Расчеты с покупателями и заказчиками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9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Для учета расчетов с покупателями и заказчиками предназначен счет 62 «Расчеты с покупателями и заказчиками»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62-1 «Расчеты в порядке инкассо» - расчеты по предъявленным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покупателям и заказчикам к оплате расчетным документам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62-2 «Расчеты плановыми платежами» — расчеты с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покупателями при наличии длительных хозяйственных связ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носящих постоянный характер и не заканчивающихся пр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поступлении оплаты по последнему расчетному документу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62-3 «Расчеты с покупателями и заказчиками, обеспеченны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полученными векселями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2b2b2"/>
                </a:solidFill>
                <a:latin typeface="Arial"/>
              </a:rPr>
              <a:t>Оборотные активы</a:t>
            </a:r>
            <a:br>
              <a:rPr sz="2800"/>
            </a:br>
            <a:r>
              <a:rPr b="0" i="1" lang="en-US" sz="2800" spc="-1" strike="noStrike">
                <a:solidFill>
                  <a:srgbClr val="b2b2b2"/>
                </a:solidFill>
                <a:latin typeface="Arial"/>
              </a:rPr>
              <a:t>Дебиторская задолженность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Под дебиторской задолженностью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понимается задолженность других организаций, работников и физических лиц данной организации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Организации и лица, которые должны данной организации,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называются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дебиторами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Дебиторская задолженность отражается на счетах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73 «Расчеты с персоналам по прочим операциям»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75 «Расчеты с учредителями»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76 «Расчеты с разными дебиторами и кредиторами»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79 «Внутрихозяйственные расчеты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2b2b2"/>
                </a:solidFill>
                <a:latin typeface="Arial"/>
              </a:rPr>
              <a:t>Внеоборотные активы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Основные средст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Нематериальные актив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Долгосрочные инвестиц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Финансовые влож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b2b2b2"/>
                </a:solidFill>
                <a:latin typeface="Arial"/>
              </a:rPr>
              <a:t>Внеоборотные активы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Основные средства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–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часть имущества, используемая в качестве средств труда и удовлетворяющая условиям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использование этих активов в процессе производства продукции, при выполнении работ, оказании услуг, для управленческих нужд организации либо для предоставления организацией за плату во временное пользование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их использование в течение длительного времени, т.е. срока полезного использования продолжительностью свыше 12 месяцев или обычного операционного цикла, если он превышает 12 месяцев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организацией не предполагается перепродажа данных активов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способность данных активов приносить организации экономические выгоды (доход) в будуще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2b2b2"/>
                </a:solidFill>
                <a:latin typeface="Arial"/>
              </a:rPr>
              <a:t>Внеоборотные активы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Нематериальные активы (НМА) –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это объекты, обладающие стоимостной оценкой, способные приносить организации экономические выгоды, используемые при производстве продукции (выполнении работ, оказании услуг либо в целях управления) в течение срока, превышающего 12 месяцев, не обладающие материально-вещественной структуро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Исключительные права патентообладателя на изобретения, промышленные образцы, полезные модели и селекционные достижения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Исключительные авторские права на программы для ЭВМ и базы данных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Исключительные права владельца на товарный знак и знак обслуживания, наименование места происхождения товаров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Деловая репутация организации, организационные расход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2b2b2"/>
                </a:solidFill>
                <a:latin typeface="Arial"/>
              </a:rPr>
              <a:t>Внеоборотные активы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Долгосрочные инвестиции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—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это затраты предприятия на создание, увеличение размеров, а также на приобретение внеоборотных активов длительного пользования (свыше 1 года), не предназначенных для продаж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Осуществление капитального строительства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Приобретение зданий, сооружений, оборудования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транспортных средств и других объектов основных средст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Приобретение земельных участков и объектов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природопользова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Приобретение и создание нематериальных актив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Приобретение и откормом взрослого и рабочего скот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Расходы на научно-исследовательские, опытно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конструкторские и технологические работы (НИОКР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b2b2b2"/>
                </a:solidFill>
                <a:latin typeface="Arial"/>
              </a:rPr>
              <a:t>Внеоборотные активы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9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Финансовые вложения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это вложения организаци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В государственные и муниципальные ценные бумаг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В ценные бумаги других организаций, в том числе долговые ценные бумаги, в которых дата и стоимость погашения определены (облигации, векселя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Во вклады в уставные (складочные) капиталы других организаций (в том числе дочерних и зависимых хозяйственных обществ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В предоставленные другим организациям займы, депозитные вклады в кредитных организациях, дебиторская задолженность, приобретенная на основании уступки права требования, и т. п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2b2b2"/>
                </a:solidFill>
                <a:latin typeface="Arial"/>
              </a:rPr>
              <a:t>Оборотные активы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Производственные запас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Затраты на производств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Готовая продукция и товар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Денежные средст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Дебиторская задолженно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2b2b2"/>
                </a:solidFill>
                <a:latin typeface="Arial"/>
              </a:rPr>
              <a:t>Оборотные активы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Производственные запасы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это часть активов организаци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используемая в качестве сырья, материалов и т. п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при производстве продукции, предназначенной дл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продажи, выполнении работ, оказании услуг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предназначенная для продаж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спользуемая для управленческих нужд организац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1T07:03:35Z</dcterms:created>
  <dc:creator>ЕВГЕНИЯ</dc:creator>
  <dc:description/>
  <dc:language>en-US</dc:language>
  <cp:lastModifiedBy>Евгения Викторовна</cp:lastModifiedBy>
  <dcterms:modified xsi:type="dcterms:W3CDTF">2011-07-03T16:20:42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