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737-F70C-452A-99A6-CBD768D4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F69-4B2F-4E4B-A8C2-426D598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8A8-7003-4104-9DCB-A8C08F35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022-D85A-442D-BF79-5DE24B6D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6D76-D20F-499C-A105-BB340200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D0C9-D3D2-45E4-9279-2B560085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F091-1998-4919-899E-7FAC94D3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60D-0008-4700-91FE-1411A0A3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905B-C016-4D5A-B8E4-907162A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A1C4-687D-429A-BDEC-D84A40DA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B759-4B5E-45CF-80B3-9E62AD3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74A-E40D-4781-893C-B4F3F78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E702-0F7A-4D46-9E80-4B16168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AF88-3226-4253-8946-5C71B70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2150-CBFC-4BF6-B87A-27889E28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E953-7572-433E-8DA9-F34F944A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2659-35C1-42CC-AECF-93F0AC52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6BE-FB7C-4BC7-B50C-E6AFAC9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166-6B75-467B-AB50-5F78258C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A63-D585-4AC3-883B-2BB5AAB3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D80-0F9C-4833-BDE8-3737F76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5CF-32AB-45C9-A351-D2A6BBEE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E17-824D-4AC1-94A5-791A728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B2E-1CA1-43D8-9FC5-C9BF7CD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5235-7A5D-432D-9A5F-609C3B8115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CC01-04E0-48DA-A86B-994D102FCF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Практические основы </a:t>
            </a:r>
            <a:br>
              <a:rPr sz="3200"/>
            </a:b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бухгалтерского учета имущества организации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6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Затраты на производство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атраты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стоимость ресурсов, использованных на производство продукции, оказание услуг, выполнение работ за определенный отчетный пери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сходы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уменьшение экономических выгод в результате выбытия активов, возникновение обязательств, приводящее к уменьшению капитала орган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здержки производств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стоимостная оценка затрат на трудовые, финансовые и материальные ресурсы, израсходованные в процессе производства и реализации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товая продук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продукция, прошедшая все стадии технологической обработки, необходимые испытания, укомплектованная, соответствующая условиям договора или требованиям иных документов в случаях, установленных законодательств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боты и услуг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стоимость различных работ или услуг, выполненных и оказанных сторонними организациям и лицам, а так же работникам организации на условиях о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овар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часть активов организации, предназначенная для перепрода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ссовые операци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операции, связанные с получением и расходованием наличных денег непосредственно из кассы орган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кассовых операций ведется на счете 50 «Кас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0/1 «Касса организац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0/2 «Операционная кас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0/3 «Денежные документ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движения денежных средств на расчетных счетах ведется на счете 51 «Расчетные счета» на основании следующих докумен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енежный че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это распоряжение организации выдать указанную в нем сумму наличных денег с расчетного счет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ъявление на взнос наличны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исьменный приказ владельца счета банку о зачислении денежных средств на его сч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латежное поруче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распоряжение организации своему банку перевести сумму, указанную в документе, на счет получателя либо произвести депонирование указанной суммы для последующего перечисления средств на счет получа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ыписка банка 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о второй экземпляр лицевого счета организации, открытого ему банком. В выписке указывают все поступления и списания денежных средств с расчетного счета, остаток на нем на начало и конец дн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К валютным операциям относ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обретение резидентом валютных ценностей у резиден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нерезид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обретение нерезидентом у нерезидента валю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н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воз на таможенную территорию и вывоз с тамож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ерритории Российской Федерации валютных цен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воды в Российскую Федерацию и из Российской Феде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остранной валюты, валюты Российской Федер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нутренних и внешних ценных бума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воды нерезидентом валюты Российской Федер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нутренних и внешних ценных бумаг на счета открыты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ерритории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валютных средств ведут на счете 52 «Валютные счета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2/1«Валютные счета внутри страны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2/2«Валютные счета за рубеж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 субсчету 52/1 «Валютные счета внутри страны» откр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бсче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анзитный валютный сч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пециальный транзитный валютный сч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кущий валютный сч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ля учета денежных средств, находящихся в аккредитивах, чековых книжках, банковских счетах, картах, на текущих и депозитных счетах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предназначен счет 55 «Специальные счета в банках»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5-1 «Аккредитивы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5-2 «Чековые книж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5-3 «Депозитные счет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Аккредитив –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условное денежное обязательство банка, выдаваемое им по поручению клиента в пользу его контрагента по договору, согласно которому банк, открывший аккредитив (банк-эмитент), может произвести поставщику платеж или предоставить полномочия другому банку производить такие платежи при условии предоставления им документов, предусмотренных в аккредитиве, и выполнения других условий аккредит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Чек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— это ценная бумага, которая представляет собой ничем не обусловленное распоряжение чекодателя банку произвести платеж указанной в нем суммы чекодержателю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Юридическое или физическое лицо, имеющее денежные средства в банке, являе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кодателем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Юридическое или физическое лицо, в пользу которого выдан чек, являе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кодержа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32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воды в пу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нежные средства, сданные в кассы кредитных организаций или почтовых отделений с целью их зачисления на расчетные счета организаций, но еще не поступившие по назна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ет ведется на счете 57 «Переводы в пу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чет 57 «Переводы в пути» используется в случаях инкассации выручки от продажи товар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ухгалтерские записи по учету переводов в пу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 наличных денежных средств сданных кредит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рганизациям, сберегательным банкам или почтов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тделениям – Д 57 К 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ачислены денежные средства – Д 51 и др. К 5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Расчеты с подотчетными лицам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дотчетными лиц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вляются работники организации, получившие авансом наличные суммы денежных средств на предстоящие хозяйственно-операционные, представительские и командировочные расх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д хозяйственно-операционными расходами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нимаются расходы работников на покупку в установленных пределах товаров, включая ГСМ, на оплату работ и услу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едставительские расходы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затраты, связанные с проведением официального приема представителей, их транспортное обслуживание, посещение культурно-зрелищных мероприятий, буфетным обслуживанием во время переговоров и мероприятий культурной программы, оплатой услуг переводчиков, не состоящих в штате орган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лужебная командировк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– это поездка работника по распоряжению руководителя организации для выполнения служебного поручения вне места постоянной работ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Имущество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мущество организации подразделяется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23960" indent="-723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необоротные акт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23960" indent="-723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оротные акт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Расчеты с покупателями и заказчикам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ля учета расчетов с покупателями и заказчиками предназначен счет 62 «Расчеты с покупателями и заказчиками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2-1 «Расчеты в порядке инкассо» - расчеты по предъявлен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купателям и заказчикам к оплате расчетным документ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2-2 «Расчеты плановыми платежами» — расчеты 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купателями при наличии длительных хозяйственных связ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осящих постоянный характер и не заканчивающихся п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ступлении оплаты по последнему расчетному докумен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2-3 «Расчеты с покупателями и заказчиками, обеспеч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лученными векселям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br>
              <a:rPr sz="2800"/>
            </a:b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Дебиторская задолженность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д дебиторской задолженность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нимается задолженность других организаций, работников и физических лиц данной организаци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рганизации и лица, которые должны данной организации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азываются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биторам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биторская задолженность отражается на счета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3 «Расчеты с персоналам по прочим операциям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5 «Расчеты с учредителям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6 «Расчеты с разными дебиторами и кредиторам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79 «Внутрихозяйственные расчет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снов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материальные акти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лгосрочные 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Финансовые в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Основные средств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часть имущества, используемая в качестве средств труда и удовлетворяющая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этих активов в процессе производства продукции, при выполнении работ, оказании услуг, для управленческих нужд организации либо для предоставления организацией за плату во временное польз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их использование в течение длительного времени, т.е. срока полезного использования продолжительностью свыше 12 месяцев или обычного операционного цикла, если он превышает 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рганизацией не предполагается перепродажа данных актив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способность данных активов приносить организации экономические выгоды (доход) в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ематериальные активы (НМА) 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объекты, обладающие стоимостной оценкой, способные приносить организации экономические выгоды, используемые при производстве продукции (выполнении работ, оказании услуг либо в целях управления) в течение срока, превышающего 12 месяцев, не обладающие материально-вещественной структу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ключительные права патентообладателя на изобретения, промышленные образцы, полезные модели и селекционные достиж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ключительные авторские права на программы для ЭВМ и базы данны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ключительные права владельца на товарный знак и знак обслуживания, наименование места происхождения това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еловая репутация организации, организационные рас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олгосрочные инвестици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затраты предприятия на создание, увеличение размеров, а также на приобретение внеоборотных активов длительного пользования (свыше 1 года), не предназначенных для прода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уществление капитального строительств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зданий, сооружений, оборудова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анспортных средств и других объектов основ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земельных участков и объ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родо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и создание нематериальных актив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обретение и откормом взрослого и рабочего ск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сходы на научно-исследовательские, опыт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онструкторские и технологические работы (НИОКР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Внеоборотные актив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инансовые вложения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вложения организ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государственные и муниципальные ценные бума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ценные бумаги других организаций, в том числе долговые ценные бумаги, в которых дата и стоимость погашения определены (облигации, вексел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 вклады в уставные (складочные) капиталы других организаций (в том числе дочерних и зависимых хозяйственных общест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предоставленные другим организациям займы, депозитные вклады в кредитных организациях, дебиторская задолженность, приобретенная на основании уступки права требования, и т. 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изводственные запа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траты на 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Готовая продукция и тов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енежные сре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ебиторская задолж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изводственные запа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часть активов орган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пользуемая в качестве сырья, материалов и 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и производстве продукции, предназначенной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одажи, выполнении работ, оказании усл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едназначенная для продаж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уемая для управленческих нужд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7:03:35Z</dcterms:created>
  <dc:creator>ЕВГЕНИЯ</dc:creator>
  <dc:description/>
  <dc:language>en-US</dc:language>
  <cp:lastModifiedBy>Евгения Викторовна</cp:lastModifiedBy>
  <dcterms:modified xsi:type="dcterms:W3CDTF">2011-07-03T16:20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