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C40E-D561-48BB-BC36-78B6DC956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8DD4-0A26-4714-AE95-14F67509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3E25-DA7C-49B3-BDB2-4C97BB903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83FF-A369-4C27-B4FA-7E7FBCA5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CB39-7B36-4D51-8A26-733F1D25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714C-E073-42AA-811A-4F497B5B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4206-1101-4BF7-B2EE-33C156DD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A8BE-D9DF-4636-BCFE-7A36FC77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679B-9FC9-4948-AF5C-B8DA54A3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5B4B-845B-41DA-8C58-1A59D9CD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9216-7000-46B8-BE63-02B829C4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3506-17E8-4336-B3F7-A2F8FA11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975F-1A58-4E67-BB17-FEC7EAFB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EC57-22FC-4D9F-A2D0-76FF2A7D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42A6-86C1-4CAB-9073-6C7F6F62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768B-76D4-4578-9F29-2BDA5FBE1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B842-98CA-495C-B845-28460839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7804-7E22-4AEA-9043-660DBD67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8FB0-DFE7-4060-B568-8FA43FE4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F6EB-454C-4512-B5C9-7ACA2E43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98EF-7E42-435E-8BD5-9A196F0A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9870-0F68-46C1-AC04-68F4919D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B993-6DBE-46D5-81A0-089D8710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29B3-CDD5-45B4-A22A-D240C501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170C-8B51-4563-B331-77A082FCF99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AF87-1D83-4A6D-A9C7-480B4E2F2D2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560" y="620280"/>
            <a:ext cx="770580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Система и модель </a:t>
            </a:r>
            <a:br>
              <a:rPr sz="4000"/>
            </a:b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работы с детьми младшего и старшего дошкольного  возраста по ознакомлению </a:t>
            </a:r>
            <a:br>
              <a:rPr sz="4000"/>
            </a:br>
            <a:br>
              <a:rPr sz="4000"/>
            </a:br>
            <a:r>
              <a:rPr b="1" lang="ru-RU" sz="5400" spc="-1" strike="noStrike">
                <a:solidFill>
                  <a:srgbClr val="00cc66"/>
                </a:solidFill>
                <a:latin typeface="Times New Roman"/>
              </a:rPr>
              <a:t>с правилами</a:t>
            </a:r>
            <a:br>
              <a:rPr sz="5400"/>
            </a:br>
            <a:r>
              <a:rPr b="1" lang="ru-RU" sz="5400" spc="-1" strike="noStrike">
                <a:solidFill>
                  <a:srgbClr val="00cc66"/>
                </a:solidFill>
                <a:latin typeface="Times New Roman"/>
              </a:rPr>
              <a:t>дорожного движения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Скругленный прямоугольник 4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66"/>
                </a:solidFill>
                <a:latin typeface="Times New Roman"/>
              </a:rPr>
              <a:t>Система работы с родителями по ПДД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14400" y="1484280"/>
          <a:ext cx="7772400" cy="5159520"/>
        </p:xfrm>
        <a:graphic>
          <a:graphicData uri="http://schemas.openxmlformats.org/drawingml/2006/table">
            <a:tbl>
              <a:tblPr/>
              <a:tblGrid>
                <a:gridCol w="1295280"/>
                <a:gridCol w="2590920"/>
                <a:gridCol w="3886200"/>
              </a:tblGrid>
              <a:tr h="46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Групп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Формы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Третий кварт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овместный праздник с детьми, родителями, инспекторами ГИБ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Праздник нашей улиц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лад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Родительское собрание с участием инспектора ГИБ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О предупреждении детского травматизма на дорогах в летний перио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ыставк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Атрибуты для игр по безопасности дорожного движ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изкультурный досу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Разрешается - запрещаетс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Целевая прогул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Знаки дорожные – наши друзь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ыставка совместных раб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Мой любимый транспорт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Экскурсия по улиц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Самый красивый и любимый горо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дготов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е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овместное развлечение детей и р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Эстафета зеленого огонь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5000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66"/>
                </a:solidFill>
                <a:latin typeface="Times New Roman"/>
              </a:rPr>
              <a:t>Формы работы с родителями: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Родительские собрания с участием сотрудников ГИБД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Бес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Консульт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Круглый сто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Совместные досуги и праздн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частие родителей в конкурсах, выставк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Целевые прогулки и экскурс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Анкетиро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КВ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Фотовыста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Times New Roman"/>
              </a:rPr>
              <a:t>Система обучения родителей методам формирования у детей навыков безопасного поведения на улицах и дороге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914400" y="1484280"/>
          <a:ext cx="7772400" cy="5469120"/>
        </p:xfrm>
        <a:graphic>
          <a:graphicData uri="http://schemas.openxmlformats.org/drawingml/2006/table">
            <a:tbl>
              <a:tblPr/>
              <a:tblGrid>
                <a:gridCol w="4440240"/>
                <a:gridCol w="2220840"/>
                <a:gridCol w="11113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Ответстве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Сро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тский дорожно-транспортный травматиз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нспектор ГИБ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ен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озрастные особенности восприятия детьми дорожных сит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едагог-психо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к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ипичные опасные дорожные ситуации для пешехода, формы и методы их изучения в сем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нспектор  ГИБ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едагог-организатор С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оябр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сновные законы безопасного дви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ка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ормирование у детей навыков безопасного поведения на улице, дороге, транспор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Январ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азначение и правила перехода проезжей части по сигналам светофора и умение пользоваться дорожными зна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нспектор  ГИБД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евр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зучение обязанностей пешеходов, пассажи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едагог-организатор С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авила поведения детей в общественном транспор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пре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тветственность родителей за нарушение детьми П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нспектор  ГИБ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тогов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с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юн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5000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66"/>
                </a:solidFill>
                <a:latin typeface="Times New Roman"/>
              </a:rPr>
              <a:t>Этапы работы по ознакомлению детей дошкольного возраста с ПДД: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31" name="Diagram 30"/>
          <p:cNvGrpSpPr/>
          <p:nvPr/>
        </p:nvGrpSpPr>
        <p:grpSpPr>
          <a:xfrm>
            <a:off x="789480" y="1423080"/>
            <a:ext cx="7132680" cy="5448960"/>
            <a:chOff x="789480" y="1423080"/>
            <a:chExt cx="7132680" cy="5448960"/>
          </a:xfrm>
        </p:grpSpPr>
        <p:sp>
          <p:nvSpPr>
            <p:cNvPr id="132" name="_s2052"/>
            <p:cNvSpPr/>
            <p:nvPr/>
          </p:nvSpPr>
          <p:spPr>
            <a:xfrm flipV="1">
              <a:off x="3465000" y="1422720"/>
              <a:ext cx="1780920" cy="1361520"/>
            </a:xfrm>
            <a:custGeom>
              <a:avLst/>
              <a:gdLst>
                <a:gd name="textAreaLeft" fmla="*/ 639000 w 1780920"/>
                <a:gd name="textAreaRight" fmla="*/ 1141920 w 1780920"/>
                <a:gd name="textAreaTop" fmla="*/ 488520 h 1361520"/>
                <a:gd name="textAreaBottom" fmla="*/ 873000 h 136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0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Формиро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сознательн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отношения 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соблюдени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прави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дорожного движ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2053"/>
            <p:cNvSpPr/>
            <p:nvPr/>
          </p:nvSpPr>
          <p:spPr>
            <a:xfrm flipV="1">
              <a:off x="2572920" y="2784600"/>
              <a:ext cx="3565080" cy="1363680"/>
            </a:xfrm>
            <a:custGeom>
              <a:avLst/>
              <a:gdLst>
                <a:gd name="textAreaLeft" fmla="*/ 783720 w 3565080"/>
                <a:gd name="textAreaRight" fmla="*/ 2781360 w 3565080"/>
                <a:gd name="textAreaTop" fmla="*/ 299880 h 1363680"/>
                <a:gd name="textAreaBottom" fmla="*/ 1063800 h 136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Расшире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первоначальных представлений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накопление новых зна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о правилах дорожного движ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2054"/>
            <p:cNvSpPr/>
            <p:nvPr/>
          </p:nvSpPr>
          <p:spPr>
            <a:xfrm flipV="1">
              <a:off x="1680840" y="4148280"/>
              <a:ext cx="5349240" cy="1361520"/>
            </a:xfrm>
            <a:custGeom>
              <a:avLst/>
              <a:gdLst>
                <a:gd name="textAreaLeft" fmla="*/ 928440 w 5349240"/>
                <a:gd name="textAreaRight" fmla="*/ 4420800 w 5349240"/>
                <a:gd name="textAreaTop" fmla="*/ 236160 h 1361520"/>
                <a:gd name="textAreaBottom" fmla="*/ 1125360 h 136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Уточнение представлений дет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о правилах дорожного движ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2055"/>
            <p:cNvSpPr/>
            <p:nvPr/>
          </p:nvSpPr>
          <p:spPr>
            <a:xfrm flipV="1">
              <a:off x="789480" y="5510160"/>
              <a:ext cx="7132680" cy="1361520"/>
            </a:xfrm>
            <a:custGeom>
              <a:avLst/>
              <a:gdLst>
                <a:gd name="textAreaLeft" fmla="*/ 1073160 w 7132680"/>
                <a:gd name="textAreaRight" fmla="*/ 6059520 w 7132680"/>
                <a:gd name="textAreaTop" fmla="*/ 204840 h 1361520"/>
                <a:gd name="textAreaBottom" fmla="*/ 1156680 h 136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00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Анализ семейного воспитания по данному вопрос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5000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Times New Roman"/>
              </a:rPr>
              <a:t>Задачи работы с детьми младшего и старшего дошкольного возраста по ПДД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14400" y="1916280"/>
          <a:ext cx="7772400" cy="44179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2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Младший возраст</a:t>
                      </a:r>
                      <a:r>
                        <a:rPr b="1" lang="ru-RU" sz="20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Старший возра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знакомить со светофором, его назначени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знакомить детей с дорожными знак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ормировать представления об улице, ее основных част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ать знания о правилах дорожного дви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учить различать виды наземного транспор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оспитывать культуру поведения на улице, дороге и в транспор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5000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Times New Roman"/>
              </a:rPr>
              <a:t>Система работы с детьми младшего  возраста по ознакомлению с ПДД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14400" y="1484280"/>
          <a:ext cx="7772400" cy="5411880"/>
        </p:xfrm>
        <a:graphic>
          <a:graphicData uri="http://schemas.openxmlformats.org/drawingml/2006/table">
            <a:tbl>
              <a:tblPr/>
              <a:tblGrid>
                <a:gridCol w="1295280"/>
                <a:gridCol w="647712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Меся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ен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Участники дорожного движ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к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орма и цвет предметов. Сравнение предметов по размер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о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игналы и движение. Передвижение в заданном направлен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ка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иды транспорта и их отлич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ян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Части легкового автомобиля и грузови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евр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рамвай, троллейбус, автобус, метро маршрутное такс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Улица и дорог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пр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ормирование и закрепление навыка остановки перед переходом дороги. Остановись и посмотри по сторона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Экскурсия по территории детского са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5000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Times New Roman"/>
              </a:rPr>
              <a:t>Система работы с детьми среднего  возраста по ознакомлению с ПДД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14400" y="1484280"/>
          <a:ext cx="7772400" cy="5435640"/>
        </p:xfrm>
        <a:graphic>
          <a:graphicData uri="http://schemas.openxmlformats.org/drawingml/2006/table">
            <a:tbl>
              <a:tblPr/>
              <a:tblGrid>
                <a:gridCol w="1295280"/>
                <a:gridCol w="647712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Меся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ен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риентировка на мест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к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Цвета, их последовательность и назначение в дорожном движен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о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иды транспортных средств. Маршрутный транспор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ка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ршрутный (городской) транспор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ян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садка в общественный транспорт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евр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Что такое «Пешеходный переход»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орога с односторонним и двусторонним движением. Правило правой сторон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пр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авила перехода проезжей части. Родители. Три фикс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еста для иг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5000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Times New Roman"/>
              </a:rPr>
              <a:t>Система работы с детьми старшего  возраста по ознакомлению с ПДД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14400" y="1484280"/>
          <a:ext cx="7772400" cy="5191200"/>
        </p:xfrm>
        <a:graphic>
          <a:graphicData uri="http://schemas.openxmlformats.org/drawingml/2006/table">
            <a:tbl>
              <a:tblPr/>
              <a:tblGrid>
                <a:gridCol w="1295280"/>
                <a:gridCol w="6477120"/>
              </a:tblGrid>
              <a:tr h="46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Меся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ен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орога, транспорт, пешеход, водител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к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Элементы дорог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о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нятие «Регулируемый и нерегулируемый пешеходный переход». Знаки пешеходного перехо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ка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Закрепление навыков «остановись и посмотри», «перейди» (как?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ян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ветофор и его сигналы. Сигналы регулировщи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евр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авила перехода дорог с односторонним и двусторонним движением. Три фикс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пасность движения в разное время го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пр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ведение на тротуаре. Передвижение группа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Экскурсия за территорию детского са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5000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Times New Roman"/>
              </a:rPr>
              <a:t>Система работы с детьми предшкольного  возраста по ознакомлению с ПДД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14400" y="1484280"/>
          <a:ext cx="7772400" cy="5489640"/>
        </p:xfrm>
        <a:graphic>
          <a:graphicData uri="http://schemas.openxmlformats.org/drawingml/2006/table">
            <a:tbl>
              <a:tblPr/>
              <a:tblGrid>
                <a:gridCol w="1295280"/>
                <a:gridCol w="6477120"/>
              </a:tblGrid>
              <a:tr h="423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Месяц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ен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авила пешеходов и пассажиров. Использование светоотражающих элемен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к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иды дорожных знаков: знаки предупреждающие водителей и пешеходов об опасности на дорог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о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иды дорожных знаков: запрещающие и предписывающ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ка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иды дорожных знаков: информационно-указательные и знаки сервис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ян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авила перевозки детей в автомобиле. Пользование ремнями безопас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евр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ногополосное движение транспор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игналы подаваемые водителями транспорта служб оперативного реагиров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пр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Загородная дорог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Экскурс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5000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66"/>
                </a:solidFill>
                <a:latin typeface="Times New Roman"/>
              </a:rPr>
              <a:t>Интегративный подход в ознакомлении детей с ПДД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47" name="Diagram 5"/>
          <p:cNvGrpSpPr/>
          <p:nvPr/>
        </p:nvGrpSpPr>
        <p:grpSpPr>
          <a:xfrm>
            <a:off x="-162360" y="1690560"/>
            <a:ext cx="9541800" cy="4958640"/>
            <a:chOff x="-162360" y="1690560"/>
            <a:chExt cx="9541800" cy="4958640"/>
          </a:xfrm>
        </p:grpSpPr>
        <p:sp>
          <p:nvSpPr>
            <p:cNvPr id="148" name="_s3076"/>
            <p:cNvSpPr/>
            <p:nvPr/>
          </p:nvSpPr>
          <p:spPr>
            <a:xfrm>
              <a:off x="3403800" y="2396520"/>
              <a:ext cx="2409120" cy="201600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3077"/>
            <p:cNvSpPr/>
            <p:nvPr/>
          </p:nvSpPr>
          <p:spPr>
            <a:xfrm>
              <a:off x="3403800" y="1690560"/>
              <a:ext cx="2409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ff"/>
                  </a:solidFill>
                  <a:latin typeface="Arial"/>
                </a:rPr>
                <a:t>Безопас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3078"/>
            <p:cNvSpPr/>
            <p:nvPr/>
          </p:nvSpPr>
          <p:spPr>
            <a:xfrm>
              <a:off x="4052520" y="2619360"/>
              <a:ext cx="2409120" cy="201600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3079"/>
            <p:cNvSpPr/>
            <p:nvPr/>
          </p:nvSpPr>
          <p:spPr>
            <a:xfrm>
              <a:off x="6277320" y="2268360"/>
              <a:ext cx="24094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Познан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3080"/>
            <p:cNvSpPr/>
            <p:nvPr/>
          </p:nvSpPr>
          <p:spPr>
            <a:xfrm>
              <a:off x="4320720" y="3161880"/>
              <a:ext cx="2409480" cy="201600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3081"/>
            <p:cNvSpPr/>
            <p:nvPr/>
          </p:nvSpPr>
          <p:spPr>
            <a:xfrm>
              <a:off x="6970320" y="3918240"/>
              <a:ext cx="2409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Arial"/>
                </a:rPr>
                <a:t>Социализац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3082"/>
            <p:cNvSpPr/>
            <p:nvPr/>
          </p:nvSpPr>
          <p:spPr>
            <a:xfrm>
              <a:off x="4052520" y="3704760"/>
              <a:ext cx="2409120" cy="201564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3083"/>
            <p:cNvSpPr/>
            <p:nvPr/>
          </p:nvSpPr>
          <p:spPr>
            <a:xfrm>
              <a:off x="6279840" y="5566320"/>
              <a:ext cx="2409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Художественно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творчество 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тру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3084"/>
            <p:cNvSpPr/>
            <p:nvPr/>
          </p:nvSpPr>
          <p:spPr>
            <a:xfrm>
              <a:off x="3403800" y="3929400"/>
              <a:ext cx="2409120" cy="2016000"/>
            </a:xfrm>
            <a:prstGeom prst="ellipse">
              <a:avLst/>
            </a:prstGeom>
            <a:solidFill>
              <a:srgbClr val="1a0fff">
                <a:alpha val="50000"/>
              </a:srgbClr>
            </a:solidFill>
            <a:ln w="9360">
              <a:solidFill>
                <a:srgbClr val="1a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3085"/>
            <p:cNvSpPr/>
            <p:nvPr/>
          </p:nvSpPr>
          <p:spPr>
            <a:xfrm>
              <a:off x="3405960" y="6145920"/>
              <a:ext cx="24094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Чтение художественн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литерату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3086"/>
            <p:cNvSpPr/>
            <p:nvPr/>
          </p:nvSpPr>
          <p:spPr>
            <a:xfrm>
              <a:off x="2755080" y="3704760"/>
              <a:ext cx="2409480" cy="201564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3087"/>
            <p:cNvSpPr/>
            <p:nvPr/>
          </p:nvSpPr>
          <p:spPr>
            <a:xfrm>
              <a:off x="530280" y="5568480"/>
              <a:ext cx="2409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Коммуникац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3088"/>
            <p:cNvSpPr/>
            <p:nvPr/>
          </p:nvSpPr>
          <p:spPr>
            <a:xfrm>
              <a:off x="2486880" y="3161880"/>
              <a:ext cx="2409120" cy="2016000"/>
            </a:xfrm>
            <a:prstGeom prst="ellipse">
              <a:avLst/>
            </a:prstGeom>
            <a:solidFill>
              <a:srgbClr val="1a0fff">
                <a:alpha val="50000"/>
              </a:srgbClr>
            </a:solidFill>
            <a:ln w="9360">
              <a:solidFill>
                <a:srgbClr val="1a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3089"/>
            <p:cNvSpPr/>
            <p:nvPr/>
          </p:nvSpPr>
          <p:spPr>
            <a:xfrm>
              <a:off x="-162360" y="3920040"/>
              <a:ext cx="2409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Физическ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культур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3090"/>
            <p:cNvSpPr/>
            <p:nvPr/>
          </p:nvSpPr>
          <p:spPr>
            <a:xfrm>
              <a:off x="2755080" y="2619360"/>
              <a:ext cx="2409480" cy="2016000"/>
            </a:xfrm>
            <a:prstGeom prst="ellipse">
              <a:avLst/>
            </a:prstGeom>
            <a:solidFill>
              <a:srgbClr val="ff8c01">
                <a:alpha val="50000"/>
              </a:srgbClr>
            </a:solidFill>
            <a:ln w="9360">
              <a:solidFill>
                <a:srgbClr val="ff8c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3091"/>
            <p:cNvSpPr/>
            <p:nvPr/>
          </p:nvSpPr>
          <p:spPr>
            <a:xfrm>
              <a:off x="527760" y="2269800"/>
              <a:ext cx="24094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Arial"/>
                </a:rPr>
                <a:t>Музык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 Box 108"/>
          <p:cNvSpPr/>
          <p:nvPr/>
        </p:nvSpPr>
        <p:spPr>
          <a:xfrm>
            <a:off x="613080" y="30160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Arial"/>
              </a:rPr>
              <a:t>Здоров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9"/>
          <p:cNvSpPr/>
          <p:nvPr/>
        </p:nvSpPr>
        <p:spPr>
          <a:xfrm>
            <a:off x="7381800" y="314172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р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66"/>
                </a:solidFill>
                <a:latin typeface="Times New Roman"/>
              </a:rPr>
              <a:t>Презентацию</a:t>
            </a:r>
            <a:r>
              <a:rPr b="1" lang="ru-RU" sz="4400" spc="-1" strike="noStrike">
                <a:solidFill>
                  <a:srgbClr val="00cc66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cc66"/>
                </a:solidFill>
                <a:latin typeface="Times New Roman"/>
              </a:rPr>
              <a:t>подготовили</a:t>
            </a:r>
            <a:r>
              <a:rPr b="1" lang="ru-RU" sz="4400" spc="-1" strike="noStrike">
                <a:solidFill>
                  <a:srgbClr val="00cc66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Старший воспитатель, Воспитатель подготовительной группы, ответственный за работу в ДОО по БД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66"/>
                </a:solidFill>
                <a:latin typeface="Times New Roman"/>
              </a:rPr>
              <a:t>Формы работы с детьми: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Бес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Целевые прогулки и экскурс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Подвижные иг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идактические иг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Сюжетно – ролевые иг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еатрализованные иг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Свободная продуктивная дея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Чтение художественной литера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зготовление атрибутов для проигрывания дорожных ситуа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Музыкально – игровые досуг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Конкурсы, викторины, выстав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спользование видеофильмов, рол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5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5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5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5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5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5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5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5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5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5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5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5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50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50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50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50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50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66"/>
                </a:solidFill>
                <a:latin typeface="Times New Roman"/>
              </a:rPr>
              <a:t>По содержанию подвижные игры для обучения детей ПДД можно условно классифицировать на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Игры, формирующие представления о сигналах светофора и регулировщ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Игры, формирующие представления о знаках дорожного движ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Игры, формирующие представления об элементах дороги, об участках дорожного движения и правилах их повед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Комплексные игры-занятия, включающие в себя элементы нескольких или всех иг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66"/>
                </a:solidFill>
                <a:latin typeface="Times New Roman"/>
              </a:rPr>
              <a:t>Игры, формирующие представления о сигналах светофора и регулировщика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Ловкий пеше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Эстафета «Красный, желтый, зелен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Светоф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Краски светоф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Наш друг светоф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Стоп. Иди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Делай, как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66"/>
                </a:solidFill>
                <a:latin typeface="Times New Roman"/>
              </a:rPr>
              <a:t>Игры, формирующие представления о знаках дорожного движения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Выполни пор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Повор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гадай зн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Что нам скажет дорожный зна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971640" y="3357720"/>
            <a:ext cx="81723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Игры, формирующие представления о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элементах дороги, об участках дорож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движения и правилах их повед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2b2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2b2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Кто быстре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2b2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Гара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2b2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Как проех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Times New Roman"/>
              </a:rPr>
              <a:t>Комплексные игры-занятия, включающие в себя элементы нескольких или всех игр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Дорожное – не дорожное 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Разгадай загадку, покажи отгад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оехали, автомобили. Стоп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Игра-соревнование «Быстрые автомобил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Едем в автобусе, едем в трамва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Автомобили и пеше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Найди безопасный пу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Organization Chart 16"/>
          <p:cNvGrpSpPr/>
          <p:nvPr/>
        </p:nvGrpSpPr>
        <p:grpSpPr>
          <a:xfrm>
            <a:off x="912960" y="243000"/>
            <a:ext cx="7703280" cy="5830560"/>
            <a:chOff x="912960" y="243000"/>
            <a:chExt cx="7703280" cy="5830560"/>
          </a:xfrm>
        </p:grpSpPr>
        <p:cxnSp>
          <p:nvCxnSpPr>
            <p:cNvPr id="178" name="_s4100"/>
            <p:cNvCxnSpPr>
              <a:stCxn id="179" idx="0"/>
              <a:endCxn id="180" idx="2"/>
            </p:cNvCxnSpPr>
            <p:nvPr/>
          </p:nvCxnSpPr>
          <p:spPr>
            <a:xfrm flipV="1" rot="16200000">
              <a:off x="5528880" y="1809360"/>
              <a:ext cx="1166760" cy="269676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4101"/>
            <p:cNvCxnSpPr>
              <a:stCxn id="182" idx="0"/>
              <a:endCxn id="180" idx="2"/>
            </p:cNvCxnSpPr>
            <p:nvPr/>
          </p:nvCxnSpPr>
          <p:spPr>
            <a:xfrm flipV="1">
              <a:off x="4764600" y="2574360"/>
              <a:ext cx="2880" cy="116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3" name="_s4102"/>
            <p:cNvCxnSpPr>
              <a:stCxn id="184" idx="0"/>
              <a:endCxn id="180" idx="2"/>
            </p:cNvCxnSpPr>
            <p:nvPr/>
          </p:nvCxnSpPr>
          <p:spPr>
            <a:xfrm flipH="1" flipV="1" rot="5400000">
              <a:off x="2832840" y="1809360"/>
              <a:ext cx="1166760" cy="269676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4103"/>
            <p:cNvSpPr/>
            <p:nvPr/>
          </p:nvSpPr>
          <p:spPr>
            <a:xfrm>
              <a:off x="3609000" y="243000"/>
              <a:ext cx="2310840" cy="2332080"/>
            </a:xfrm>
            <a:custGeom>
              <a:avLst/>
              <a:gdLst>
                <a:gd name="textAreaLeft" fmla="*/ 112680 w 2310840"/>
                <a:gd name="textAreaRight" fmla="*/ 2198160 w 2310840"/>
                <a:gd name="textAreaTop" fmla="*/ 112680 h 2332080"/>
                <a:gd name="textAreaBottom" fmla="*/ 2219400 h 2332080"/>
              </a:gdLst>
              <a:ahLst/>
              <a:rect l="textAreaLeft" t="textAreaTop" r="textAreaRight" b="textAreaBottom"/>
              <a:pathLst>
                <a:path w="21600" h="21799">
                  <a:moveTo>
                    <a:pt x="3600" y="0"/>
                  </a:moveTo>
                  <a:arcTo wR="3600" hR="3600" stAng="16200000" swAng="-5400000"/>
                  <a:lnTo>
                    <a:pt x="0" y="18199"/>
                  </a:lnTo>
                  <a:arcTo wR="3600" hR="3600" stAng="10800000" swAng="-5400000"/>
                  <a:lnTo>
                    <a:pt x="18000" y="217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Систем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дидактических иг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включает игры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формирующ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у де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представления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4104"/>
            <p:cNvSpPr/>
            <p:nvPr/>
          </p:nvSpPr>
          <p:spPr>
            <a:xfrm>
              <a:off x="912960" y="3741480"/>
              <a:ext cx="2310840" cy="2332080"/>
            </a:xfrm>
            <a:custGeom>
              <a:avLst/>
              <a:gdLst>
                <a:gd name="textAreaLeft" fmla="*/ 112680 w 2310840"/>
                <a:gd name="textAreaRight" fmla="*/ 2198160 w 2310840"/>
                <a:gd name="textAreaTop" fmla="*/ 112680 h 2332080"/>
                <a:gd name="textAreaBottom" fmla="*/ 2219400 h 2332080"/>
              </a:gdLst>
              <a:ahLst/>
              <a:rect l="textAreaLeft" t="textAreaTop" r="textAreaRight" b="textAreaBottom"/>
              <a:pathLst>
                <a:path w="21600" h="21799">
                  <a:moveTo>
                    <a:pt x="3600" y="0"/>
                  </a:moveTo>
                  <a:arcTo wR="3600" hR="3600" stAng="16200000" swAng="-5400000"/>
                  <a:lnTo>
                    <a:pt x="0" y="18199"/>
                  </a:lnTo>
                  <a:arcTo wR="3600" hR="3600" stAng="10800000" swAng="-5400000"/>
                  <a:lnTo>
                    <a:pt x="18000" y="217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о труде взрослы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(регулировщиков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дорожных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рабочих и т.д.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4105"/>
            <p:cNvSpPr/>
            <p:nvPr/>
          </p:nvSpPr>
          <p:spPr>
            <a:xfrm>
              <a:off x="3609000" y="3741480"/>
              <a:ext cx="2310840" cy="2332080"/>
            </a:xfrm>
            <a:custGeom>
              <a:avLst/>
              <a:gdLst>
                <a:gd name="textAreaLeft" fmla="*/ 112680 w 2310840"/>
                <a:gd name="textAreaRight" fmla="*/ 2198160 w 2310840"/>
                <a:gd name="textAreaTop" fmla="*/ 112680 h 2332080"/>
                <a:gd name="textAreaBottom" fmla="*/ 2219400 h 2332080"/>
              </a:gdLst>
              <a:ahLst/>
              <a:rect l="textAreaLeft" t="textAreaTop" r="textAreaRight" b="textAreaBottom"/>
              <a:pathLst>
                <a:path w="21600" h="21799">
                  <a:moveTo>
                    <a:pt x="3600" y="0"/>
                  </a:moveTo>
                  <a:arcTo wR="3600" hR="3600" stAng="16200000" swAng="-5400000"/>
                  <a:lnTo>
                    <a:pt x="0" y="18199"/>
                  </a:lnTo>
                  <a:arcTo wR="3600" hR="3600" stAng="10800000" swAng="-5400000"/>
                  <a:lnTo>
                    <a:pt x="18000" y="217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о транспортны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средствах 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других механизмах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помогающи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людям в и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жизни и труд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4106"/>
            <p:cNvSpPr/>
            <p:nvPr/>
          </p:nvSpPr>
          <p:spPr>
            <a:xfrm>
              <a:off x="6305400" y="3741480"/>
              <a:ext cx="2310840" cy="2332080"/>
            </a:xfrm>
            <a:custGeom>
              <a:avLst/>
              <a:gdLst>
                <a:gd name="textAreaLeft" fmla="*/ 112680 w 2310840"/>
                <a:gd name="textAreaRight" fmla="*/ 2198160 w 2310840"/>
                <a:gd name="textAreaTop" fmla="*/ 112680 h 2332080"/>
                <a:gd name="textAreaBottom" fmla="*/ 2219400 h 2332080"/>
              </a:gdLst>
              <a:ahLst/>
              <a:rect l="textAreaLeft" t="textAreaTop" r="textAreaRight" b="textAreaBottom"/>
              <a:pathLst>
                <a:path w="21600" h="21799">
                  <a:moveTo>
                    <a:pt x="3600" y="0"/>
                  </a:moveTo>
                  <a:arcTo wR="3600" hR="3600" stAng="16200000" swAng="-5400000"/>
                  <a:lnTo>
                    <a:pt x="0" y="18199"/>
                  </a:lnTo>
                  <a:arcTo wR="3600" hR="3600" stAng="10800000" swAng="-5400000"/>
                  <a:lnTo>
                    <a:pt x="18000" y="217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о знаковой системе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разработанн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людьми дл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безопас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дорожног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движ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5000"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66"/>
                </a:solidFill>
                <a:latin typeface="Times New Roman"/>
              </a:rPr>
              <a:t>Перечень дидактических игр по ПДД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Что необходимо регулировщику дорожного движения для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Поставь дорожный 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Угадай, какой 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Угадай по опис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Цвета светоф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Расположи 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Красный, желтый, зеле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еселые челове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Стро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Говорящие 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Дорожные заг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Забывчивый худож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иды перекрест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Пута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Дорожный экза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Наша у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66"/>
                </a:solidFill>
                <a:latin typeface="Times New Roman"/>
              </a:rPr>
              <a:t>Сюжетно-ролевые игры по ПДД: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66"/>
                </a:solidFill>
                <a:latin typeface="Arial"/>
              </a:rPr>
              <a:t>«Скорая помощ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Педагогический замысел: закрепить умение детей брать на себя роли регулировщика, инспектора ГИБДД, водителя «скорой помощи», мамы, дочки (сына), больного, действовать соответственно взятой р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66"/>
                </a:solidFill>
                <a:latin typeface="Arial"/>
              </a:rPr>
              <a:t>«Улица полна неожиданност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6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Педагогический замысел: расширять представления детей об улице, о проезжей части дороги, тротуаре, пешеходах, транспортных средствах; учить детей распределять роли, вести их до конца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66"/>
                </a:solidFill>
                <a:latin typeface="Arial"/>
              </a:rPr>
              <a:t>«Прогулка с любимыми куклам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Педагогический замысел: знакомить детей с правилами дорожного движения и дорожной атрибутикой в ходе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Times New Roman"/>
              </a:rPr>
              <a:t>Освоение основ ПДД происходит легче, если в процесс познания включаются </a:t>
            </a:r>
            <a:r>
              <a:rPr b="1" lang="ru-RU" sz="3200" spc="-1" strike="noStrike">
                <a:solidFill>
                  <a:srgbClr val="00cc66"/>
                </a:solidFill>
                <a:latin typeface="Times New Roman"/>
              </a:rPr>
              <a:t>театрализованные игры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еатрализованные игры по сказке С.Михалкова «Бездельник светофо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еатрализованная игра по сказке Н.Гинсбург «Колес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еатрализованная игра «Еду, еду в автомобил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еатрализованная игра по книге Я.Пишумова «Это улица мо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еатрализованное музыкально-познавательное развлечение «В королевстве дорожных знак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нтегрированная театрализованная совместная деятельность педагога с детьми «Город мастер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еатрализованное развлечение «Путешествие в страну дорожных знак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66"/>
                </a:solidFill>
                <a:latin typeface="Times New Roman"/>
              </a:rPr>
              <a:t>Видеофильм «Азбука безопасности»</a:t>
            </a:r>
            <a:br>
              <a:rPr sz="3200"/>
            </a:br>
            <a:r>
              <a:rPr b="1" lang="ru-RU" sz="3200" spc="-1" strike="noStrike">
                <a:solidFill>
                  <a:srgbClr val="00cc66"/>
                </a:solidFill>
                <a:latin typeface="Times New Roman"/>
              </a:rPr>
              <a:t>с участием Смешариков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Светоф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Гармония светоф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Пешеходная «зебр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Зебры в гор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Пляшущие челове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Пограничная терри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Мигающий челове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Недетский зн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Самая страшная маш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Некультурные автомоб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Нетерпеливые в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Авто спецназна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На останов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В автобу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Пристегните рем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66"/>
                </a:solidFill>
                <a:latin typeface="Times New Roman"/>
              </a:rPr>
              <a:t>Система обучения ПДД в дошкольном учреждении подразумевает:</a:t>
            </a:r>
            <a:r>
              <a:rPr b="1" lang="ru-RU" sz="3600" spc="-1" strike="noStrike">
                <a:solidFill>
                  <a:srgbClr val="00cc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воспитание у детей навыков культуры поведения на улицах, дорогах, в транспор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овышение квалификации педагогических кадров, отвечающих за социальное воспитание дошколь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Активизацию совместной деятельности учреждения и родителей по обучению детей ПД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66"/>
                </a:solidFill>
                <a:latin typeface="Times New Roman"/>
              </a:rPr>
              <a:t>Используемая литература: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чебно-методическое пособие «Дети на дороге. Правила дорожного движения в играх и упражнени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Программа и методические рекомендации по ознакомлению детей дошкольного возраста с правилами дорожного движения «Азбука дорожного движения» Л.Б. Баряева, В.Л. Жевнеров, Е.В. Загреб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Ф.С. Майорова «Изучаем дорожную азбук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С.Н.Черепанова «Правила дорожного движения дошкольник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66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cc66"/>
                </a:solidFill>
                <a:latin typeface="Times New Roman"/>
              </a:rPr>
              <a:t>Используемая литература:</a:t>
            </a:r>
            <a:r>
              <a:rPr b="1" lang="ru-RU" sz="4000" spc="-1" strike="noStrike">
                <a:solidFill>
                  <a:srgbClr val="00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Методические рекомендации: Формирование у дошкольников навыков безопасного поведения на улицах и дорогах.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 рамках реализации федеральной целевой программы «Повышение безопасности дорожного движения в 2006-2012 год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Журнал «Справочник старшего воспитателя» №6,7 2009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Журнал «Дошкольная педагогика»  Апрель 2009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.В.Чермашенцева «Основы безопасного поведения дошкольник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66"/>
                </a:solidFill>
                <a:latin typeface="Times New Roman"/>
              </a:rPr>
              <a:t>Модель работы ДОУ по ознакомлению с правилами дорожного движе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04" name="Diagram 6"/>
          <p:cNvGrpSpPr/>
          <p:nvPr/>
        </p:nvGrpSpPr>
        <p:grpSpPr>
          <a:xfrm>
            <a:off x="1074600" y="1815480"/>
            <a:ext cx="6849000" cy="4722840"/>
            <a:chOff x="1074600" y="1815480"/>
            <a:chExt cx="6849000" cy="4722840"/>
          </a:xfrm>
        </p:grpSpPr>
        <p:sp>
          <p:nvSpPr>
            <p:cNvPr id="105" name="_s1028"/>
            <p:cNvSpPr/>
            <p:nvPr/>
          </p:nvSpPr>
          <p:spPr>
            <a:xfrm flipH="1">
              <a:off x="2783880" y="4177080"/>
              <a:ext cx="86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29"/>
            <p:cNvSpPr/>
            <p:nvPr/>
          </p:nvSpPr>
          <p:spPr>
            <a:xfrm>
              <a:off x="1074600" y="3587760"/>
              <a:ext cx="1709640" cy="1178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едагог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0"/>
            <p:cNvSpPr/>
            <p:nvPr/>
          </p:nvSpPr>
          <p:spPr>
            <a:xfrm>
              <a:off x="4499280" y="4766760"/>
              <a:ext cx="0" cy="59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31"/>
            <p:cNvSpPr/>
            <p:nvPr/>
          </p:nvSpPr>
          <p:spPr>
            <a:xfrm>
              <a:off x="3644640" y="5359680"/>
              <a:ext cx="1708920" cy="1178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оциальны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артне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2"/>
            <p:cNvSpPr/>
            <p:nvPr/>
          </p:nvSpPr>
          <p:spPr>
            <a:xfrm>
              <a:off x="5353560" y="4177080"/>
              <a:ext cx="86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3"/>
            <p:cNvSpPr/>
            <p:nvPr/>
          </p:nvSpPr>
          <p:spPr>
            <a:xfrm>
              <a:off x="6213960" y="3587760"/>
              <a:ext cx="1709640" cy="1178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Родите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34"/>
            <p:cNvSpPr/>
            <p:nvPr/>
          </p:nvSpPr>
          <p:spPr>
            <a:xfrm flipV="1">
              <a:off x="4499280" y="2994120"/>
              <a:ext cx="0" cy="59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5"/>
            <p:cNvSpPr/>
            <p:nvPr/>
          </p:nvSpPr>
          <p:spPr>
            <a:xfrm>
              <a:off x="3644640" y="1815480"/>
              <a:ext cx="1708920" cy="1178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Де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6"/>
            <p:cNvSpPr/>
            <p:nvPr/>
          </p:nvSpPr>
          <p:spPr>
            <a:xfrm>
              <a:off x="3644640" y="3587760"/>
              <a:ext cx="1708920" cy="1178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равил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Дорожного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движения</a:t>
              </a: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5000">
    <p:comb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57160" y="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Times New Roman"/>
              </a:rPr>
              <a:t>Система  методической работы с педагогами по</a:t>
            </a:r>
            <a:br>
              <a:rPr sz="2400"/>
            </a:br>
            <a:r>
              <a:rPr b="1" lang="ru-RU" sz="2400" spc="-1" strike="noStrike">
                <a:solidFill>
                  <a:srgbClr val="00cc66"/>
                </a:solidFill>
                <a:latin typeface="Times New Roman"/>
              </a:rPr>
              <a:t>теме «Правила безопасного поведения на дороге»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57160" y="1285920"/>
          <a:ext cx="7829640" cy="5632560"/>
        </p:xfrm>
        <a:graphic>
          <a:graphicData uri="http://schemas.openxmlformats.org/drawingml/2006/table">
            <a:tbl>
              <a:tblPr/>
              <a:tblGrid>
                <a:gridCol w="3130560"/>
                <a:gridCol w="1568520"/>
                <a:gridCol w="1565280"/>
                <a:gridCol w="1565280"/>
              </a:tblGrid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Форма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Ответст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в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Сро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БЖ. Правила дорожного дви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ыставка и обзор лит-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ентябрь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ормы и методы обучения детей поведению на улиц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еминар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к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ониторинг знаний правил поведения на проезжей ч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актическ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о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рганизация предметно-разв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ающей среды в групп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кур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ка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ыработка методических рекомендаций по ПД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руглый ст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ворческая 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январь -февр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истема работы с детьм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езен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оспитател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рт - апр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Усвоение знаний, умений, навыков детей по П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ониторин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едупреждение детского дорожно-транспортного травматизма ле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суль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ю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ыявление знаний и умений педагогов по данной темати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нкет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вгу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5000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66"/>
                </a:solidFill>
                <a:latin typeface="Times New Roman"/>
              </a:rPr>
              <a:t>Формы работы с педагогами: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196640"/>
            <a:ext cx="77724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Анкетир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Тестир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Информационно-практические обучающие заня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Курсы повышения квалифик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Консульт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Изготовление методических игр и пособ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Семина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Педагогические сове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Мастер - клас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Выстав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Конкурсы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5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5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5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5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5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5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5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5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5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5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5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5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5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5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5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Times New Roman"/>
              </a:rPr>
              <a:t>Система обучения воспитателей правилам безопасного поведения детей на дороге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14400" y="1285920"/>
          <a:ext cx="7800840" cy="5708520"/>
        </p:xfrm>
        <a:graphic>
          <a:graphicData uri="http://schemas.openxmlformats.org/drawingml/2006/table">
            <a:tbl>
              <a:tblPr/>
              <a:tblGrid>
                <a:gridCol w="2228760"/>
                <a:gridCol w="2227320"/>
                <a:gridCol w="2228760"/>
                <a:gridCol w="1116000"/>
              </a:tblGrid>
              <a:tr h="347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Форма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Ответстве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Сро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ДД. Основные термины и пон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еоретическ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отрудник ГИБ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ен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орога в детский с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актическ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к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бязанности пешехода, пассажи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еоретическ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о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сихофизиологическ. характеристики реб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суль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едагог-психо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ка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едупредительные сигн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Экскурсия в автошкол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отрудник ГИБ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Янв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иды транспортных средств. ДТП и их прич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еоретическ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евр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игналы светофора и регулировщ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нформационно-практическое занятие на территории велогород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отрудник ГИБДД, педагог-организатор С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орожные знаки и размет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пр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тогов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Заче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едагог-организато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5000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66"/>
                </a:solidFill>
                <a:latin typeface="Times New Roman"/>
              </a:rPr>
              <a:t>Система работы с родителями по ПДД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14400" y="1484280"/>
          <a:ext cx="7772400" cy="5268960"/>
        </p:xfrm>
        <a:graphic>
          <a:graphicData uri="http://schemas.openxmlformats.org/drawingml/2006/table">
            <a:tbl>
              <a:tblPr/>
              <a:tblGrid>
                <a:gridCol w="1295280"/>
                <a:gridCol w="2590920"/>
                <a:gridCol w="388620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Групп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Формы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ервый кварт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бщее родительское собрание  с участием инспектора ГИБ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Дети на дорог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лад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руглый ст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Как научить ребенка безопасному поведению на улиц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суль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Улица  глазами ребен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иктори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Проверь себ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Бесе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Высокая цена беспечност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суль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Дисциплина на улице – залог безопасности пешеходов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огулка в парке совместно с родител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Познавательная прогул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Экскурсия в библиоте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Папа, мама, я – читает вся семь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дготов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е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В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Азбука дорожного движения нужна нам как таблица умнож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5000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66"/>
                </a:solidFill>
                <a:latin typeface="Times New Roman"/>
              </a:rPr>
              <a:t>Система работы с родителями по ПДД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14400" y="1484280"/>
          <a:ext cx="7772400" cy="5435640"/>
        </p:xfrm>
        <a:graphic>
          <a:graphicData uri="http://schemas.openxmlformats.org/drawingml/2006/table">
            <a:tbl>
              <a:tblPr/>
              <a:tblGrid>
                <a:gridCol w="1295280"/>
                <a:gridCol w="2590920"/>
                <a:gridCol w="3886200"/>
              </a:tblGrid>
              <a:tr h="436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Групп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Формы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Второй кварт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24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нь открытых дверей «Как мы учим детей правилам дорожного движ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лад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суль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Что нужно знать детям и родителям о правилах дорожного движ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Рекоменд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Какую литературу читать детям по ПД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курс рисун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Наш путь из дома в детский са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нкетирование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Знает ли мой ребенок дорожные знаки?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суль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Для чего нужны ПДД?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ыставка совместных раб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Улица на которой я живу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суль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Детский травматизм. Меры его предупрежд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дготов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е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аписание соч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Когда я иду по улице с дочерью или сыном, то я…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5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5:41:06Z</dcterms:created>
  <dc:creator>1</dc:creator>
  <dc:description/>
  <dc:language>en-US</dc:language>
  <cp:lastModifiedBy>Евгений</cp:lastModifiedBy>
  <dcterms:modified xsi:type="dcterms:W3CDTF">2015-10-12T16:01:56Z</dcterms:modified>
  <cp:revision>18</cp:revision>
  <dc:subject/>
  <dc:title>Система и модель работы с детьми младшего и старшего дошкольного возраста по ознакомлению с правилами дорожного движения</dc:title>
</cp:coreProperties>
</file>