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071F-4B9A-401E-B432-6CC25575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D09-6B87-4E42-8376-439AF8E5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B4C-8E74-4805-8EE5-9B96C7C2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D49-800F-42BC-9EB9-AA462BA3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8A03-09D4-4F22-8B5C-357D0E81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DC11-53A7-4D5F-B48D-53C0F500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E7B7-3DE4-411B-8CC1-CA3FC733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4453-8ABC-436E-B31F-178674D6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8EEC-A9CC-40E5-AF1C-0F9926BF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48B6-79AB-48B6-9572-B2A9C795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B4DB-B5A3-49D5-BA38-12588A3C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6F9-0557-4E3F-84C7-B7C90D86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42B4-1BF0-4574-897E-0AC48FAF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19DE-3D74-459A-B089-D469EFB2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EDA2-9132-45B2-AD27-8E26C61B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ACA0-66B4-47A0-9912-913AE435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B835-7D37-4644-BB50-EB394562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657-25FE-477F-9443-D52C2BAA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6BA-E612-4B61-891D-1E9DA8EC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EAE-1559-498F-B678-310923EB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6A9-0100-47DC-BA52-8D8F2914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337-6F3F-462A-A97D-32279732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940-E12E-4745-8C72-DEAB3EE2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E38-FA77-4F58-93DD-77DD1DB5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B76C-B3DC-4A8F-9891-8EF9F3AD19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B1A3-4227-4AC0-8BE3-969F374AF9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Система и модель 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работы с детьми младшего и старшего дошкольного  возраста по ознакомлению </a:t>
            </a: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00cc66"/>
                </a:solidFill>
                <a:latin typeface="Times New Roman"/>
              </a:rPr>
              <a:t>с правилами</a:t>
            </a:r>
            <a:br>
              <a:rPr sz="5400"/>
            </a:br>
            <a:r>
              <a:rPr b="1" lang="ru-RU" sz="5400" spc="-1" strike="noStrike">
                <a:solidFill>
                  <a:srgbClr val="00cc66"/>
                </a:solidFill>
                <a:latin typeface="Times New Roman"/>
              </a:rPr>
              <a:t>дорожного движения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Система работы с родителями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1484280"/>
          <a:ext cx="7772400" cy="5159520"/>
        </p:xfrm>
        <a:graphic>
          <a:graphicData uri="http://schemas.openxmlformats.org/drawingml/2006/table">
            <a:tbl>
              <a:tblPr/>
              <a:tblGrid>
                <a:gridCol w="1295280"/>
                <a:gridCol w="2590920"/>
                <a:gridCol w="3886200"/>
              </a:tblGrid>
              <a:tr h="46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Груп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ы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Третий квар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вместный праздник с детьми, родителями, инспекторами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раздник нашей улиц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Родительское собрание с участием инспектора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О предупреждении детского травматизма на дорогах в летний пери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Атрибуты для игр по безопасности дорожного дви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изкультурный досу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Разрешается - запрещаетс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Целевая прогу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Знаки дорожные – наши друз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совместных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Мой любимый транспор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по ул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Самый красивый и любимый гор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дгото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вместное развлечение детей и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Эстафета зеленого огонь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Times New Roman"/>
              </a:rPr>
              <a:t>Формы работы с родителями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одительские собрания с участием сотрудников ГИБД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ес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онсуль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руглый ст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овместные досуги и празд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частие родителей в конкурсах, выстав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Целевые прогулки и экскур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нкет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В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Фотовыст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Times New Roman"/>
              </a:rPr>
              <a:t>Система обучения родителей методам формирования у детей навыков безопасного поведения на улицах и дороге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14400" y="1484280"/>
          <a:ext cx="7772400" cy="5469120"/>
        </p:xfrm>
        <a:graphic>
          <a:graphicData uri="http://schemas.openxmlformats.org/drawingml/2006/table">
            <a:tbl>
              <a:tblPr/>
              <a:tblGrid>
                <a:gridCol w="4440240"/>
                <a:gridCol w="2220840"/>
                <a:gridCol w="11113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Ответств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ро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тский дорожно-транспортный травматиз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зрастные особенности восприятия детьми дорож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ипичные опасные дорожные ситуации для пешехода, формы и методы их изучения в сем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организатор 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сновные законы безопасн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ирование у детей навыков безопасного поведения на улице, дороге, транспор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азначение и правила перехода проезжей части по сигналам светофора и умение пользоваться дорожными зна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 ГИБД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зучение обязанностей пешеходов, пассажи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организатор 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оведения детей в общественном транспор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тветственность родителей за нарушение детьми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тогов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с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ю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66"/>
                </a:solidFill>
                <a:latin typeface="Times New Roman"/>
              </a:rPr>
              <a:t>Этапы работы по ознакомлению детей дошкольного возраста с ПДД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31" name="Diagram 30"/>
          <p:cNvGrpSpPr/>
          <p:nvPr/>
        </p:nvGrpSpPr>
        <p:grpSpPr>
          <a:xfrm>
            <a:off x="789480" y="1423080"/>
            <a:ext cx="7132680" cy="5448960"/>
            <a:chOff x="789480" y="1423080"/>
            <a:chExt cx="7132680" cy="5448960"/>
          </a:xfrm>
        </p:grpSpPr>
        <p:sp>
          <p:nvSpPr>
            <p:cNvPr id="132" name="_s2052"/>
            <p:cNvSpPr/>
            <p:nvPr/>
          </p:nvSpPr>
          <p:spPr>
            <a:xfrm flipV="1">
              <a:off x="3465000" y="1422720"/>
              <a:ext cx="1780920" cy="1361520"/>
            </a:xfrm>
            <a:custGeom>
              <a:avLst/>
              <a:gdLst>
                <a:gd name="textAreaLeft" fmla="*/ 639000 w 1780920"/>
                <a:gd name="textAreaRight" fmla="*/ 1141920 w 1780920"/>
                <a:gd name="textAreaTop" fmla="*/ 488520 h 1361520"/>
                <a:gd name="textAreaBottom" fmla="*/ 873000 h 13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Форм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сознатель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отношения 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соблюдени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прави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дорожного дви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53"/>
            <p:cNvSpPr/>
            <p:nvPr/>
          </p:nvSpPr>
          <p:spPr>
            <a:xfrm flipV="1">
              <a:off x="2572920" y="2784600"/>
              <a:ext cx="3565080" cy="1363680"/>
            </a:xfrm>
            <a:custGeom>
              <a:avLst/>
              <a:gdLst>
                <a:gd name="textAreaLeft" fmla="*/ 783720 w 3565080"/>
                <a:gd name="textAreaRight" fmla="*/ 2781360 w 3565080"/>
                <a:gd name="textAreaTop" fmla="*/ 299880 h 1363680"/>
                <a:gd name="textAreaBottom" fmla="*/ 1063800 h 13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Расшир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первоначальных представлени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накопление новых зна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о правилах дорожного движ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054"/>
            <p:cNvSpPr/>
            <p:nvPr/>
          </p:nvSpPr>
          <p:spPr>
            <a:xfrm flipV="1">
              <a:off x="1680840" y="4148280"/>
              <a:ext cx="5349240" cy="1361520"/>
            </a:xfrm>
            <a:custGeom>
              <a:avLst/>
              <a:gdLst>
                <a:gd name="textAreaLeft" fmla="*/ 928440 w 5349240"/>
                <a:gd name="textAreaRight" fmla="*/ 4420800 w 5349240"/>
                <a:gd name="textAreaTop" fmla="*/ 236160 h 1361520"/>
                <a:gd name="textAreaBottom" fmla="*/ 1125360 h 13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Уточнение представлений де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о правилах дорожного дви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55"/>
            <p:cNvSpPr/>
            <p:nvPr/>
          </p:nvSpPr>
          <p:spPr>
            <a:xfrm flipV="1">
              <a:off x="789480" y="5510160"/>
              <a:ext cx="7132680" cy="1361520"/>
            </a:xfrm>
            <a:custGeom>
              <a:avLst/>
              <a:gdLst>
                <a:gd name="textAreaLeft" fmla="*/ 1073160 w 7132680"/>
                <a:gd name="textAreaRight" fmla="*/ 6059520 w 7132680"/>
                <a:gd name="textAreaTop" fmla="*/ 204840 h 1361520"/>
                <a:gd name="textAreaBottom" fmla="*/ 1156680 h 13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Анализ семейного воспитания по данному вопрос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5000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Задачи работы с детьми младшего и старшего дошкольного возраста по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14400" y="1916280"/>
          <a:ext cx="7772400" cy="4417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ладший возраст</a:t>
                      </a:r>
                      <a:r>
                        <a:rPr b="1" lang="ru-RU" sz="20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тарши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знакомить со светофором, его назнач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знакомить детей с дорожными зна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ировать представления об улице, ее основных част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ать знания о правилах дорожного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чить различать виды наземного транспо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спитывать культуру поведения на улице, дороге и в транспор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младше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14400" y="1484280"/>
          <a:ext cx="7772400" cy="541188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частники дорожного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а и цвет предметов. Сравнение предметов по размер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гналы и движение. Передвижение в заданном направл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транспорта и их отлич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асти легкового автомобиля и грузов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рамвай, троллейбус, автобус, метро маршрутное такс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лица и доро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ирование и закрепление навыка остановки перед переходом дороги. Остановись и посмотри по сторон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по территории детского са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средне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14400" y="1484280"/>
          <a:ext cx="7772400" cy="543564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риентировка на мест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Цвета, их последовательность и назначение в дорожном движ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транспортных средств. Маршрутный транспор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шрутный (городской) транспор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садка в общественный транспор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то такое «Пешеходный переход»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га с односторонним и двусторонним движением. Правило правой сторо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рехода проезжей части. Родители. Три фикс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еста для и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старше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14400" y="1484280"/>
          <a:ext cx="7772400" cy="519120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6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га, транспорт, пешеход, водите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лементы дорог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нятие «Регулируемый и нерегулируемый пешеходный переход». Знаки пешеходного перех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акрепление навыков «остановись и посмотри», «перейди» (как?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ветофор и его сигналы. Сигналы регулировщ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рехода дорог с односторонним и двусторонним движением. Три фикс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пасность движения в разное время г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ведение на тротуаре. Передвижение групп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за территорию детского са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предшкольно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1484280"/>
          <a:ext cx="7772400" cy="548964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2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шеходов и пассажиров. Использование светоотражающих элемен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дорожных знаков: знаки предупреждающие водителей и пешеходов об опасности на дорог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дорожных знаков: запрещающие и предписывающ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дорожных знаков: информационно-указательные и знаки серви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ревозки детей в автомобиле. Пользование ремнями безопас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ногополосное движение транспор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гналы подаваемые водителями транспорта служб оперативного реагир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агородная доро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Интегративный подход в ознакомлении детей с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7" name="Diagram 5"/>
          <p:cNvGrpSpPr/>
          <p:nvPr/>
        </p:nvGrpSpPr>
        <p:grpSpPr>
          <a:xfrm>
            <a:off x="-162360" y="1690560"/>
            <a:ext cx="9541800" cy="4958640"/>
            <a:chOff x="-162360" y="1690560"/>
            <a:chExt cx="9541800" cy="4958640"/>
          </a:xfrm>
        </p:grpSpPr>
        <p:sp>
          <p:nvSpPr>
            <p:cNvPr id="148" name="_s3076"/>
            <p:cNvSpPr/>
            <p:nvPr/>
          </p:nvSpPr>
          <p:spPr>
            <a:xfrm>
              <a:off x="3403800" y="2396520"/>
              <a:ext cx="2409120" cy="201600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077"/>
            <p:cNvSpPr/>
            <p:nvPr/>
          </p:nvSpPr>
          <p:spPr>
            <a:xfrm>
              <a:off x="3403800" y="169056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ff"/>
                  </a:solidFill>
                  <a:latin typeface="Arial"/>
                </a:rPr>
                <a:t>Безопас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3078"/>
            <p:cNvSpPr/>
            <p:nvPr/>
          </p:nvSpPr>
          <p:spPr>
            <a:xfrm>
              <a:off x="4052520" y="2619360"/>
              <a:ext cx="2409120" cy="201600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079"/>
            <p:cNvSpPr/>
            <p:nvPr/>
          </p:nvSpPr>
          <p:spPr>
            <a:xfrm>
              <a:off x="6277320" y="2268360"/>
              <a:ext cx="2409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Позна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3080"/>
            <p:cNvSpPr/>
            <p:nvPr/>
          </p:nvSpPr>
          <p:spPr>
            <a:xfrm>
              <a:off x="4320720" y="3161880"/>
              <a:ext cx="2409480" cy="201600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3081"/>
            <p:cNvSpPr/>
            <p:nvPr/>
          </p:nvSpPr>
          <p:spPr>
            <a:xfrm>
              <a:off x="6970320" y="391824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Социализац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3082"/>
            <p:cNvSpPr/>
            <p:nvPr/>
          </p:nvSpPr>
          <p:spPr>
            <a:xfrm>
              <a:off x="4052520" y="3704760"/>
              <a:ext cx="2409120" cy="201564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3083"/>
            <p:cNvSpPr/>
            <p:nvPr/>
          </p:nvSpPr>
          <p:spPr>
            <a:xfrm>
              <a:off x="6279840" y="556632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Художественн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творчество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тру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3084"/>
            <p:cNvSpPr/>
            <p:nvPr/>
          </p:nvSpPr>
          <p:spPr>
            <a:xfrm>
              <a:off x="3403800" y="3929400"/>
              <a:ext cx="2409120" cy="2016000"/>
            </a:xfrm>
            <a:prstGeom prst="ellipse">
              <a:avLst/>
            </a:prstGeom>
            <a:solidFill>
              <a:srgbClr val="1a0fff">
                <a:alpha val="50000"/>
              </a:srgbClr>
            </a:solidFill>
            <a:ln w="9360">
              <a:solidFill>
                <a:srgbClr val="1a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3085"/>
            <p:cNvSpPr/>
            <p:nvPr/>
          </p:nvSpPr>
          <p:spPr>
            <a:xfrm>
              <a:off x="3405960" y="6145920"/>
              <a:ext cx="2409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Чтение художествен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литерат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3086"/>
            <p:cNvSpPr/>
            <p:nvPr/>
          </p:nvSpPr>
          <p:spPr>
            <a:xfrm>
              <a:off x="2755080" y="3704760"/>
              <a:ext cx="2409480" cy="201564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3087"/>
            <p:cNvSpPr/>
            <p:nvPr/>
          </p:nvSpPr>
          <p:spPr>
            <a:xfrm>
              <a:off x="530280" y="556848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Коммуникац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3088"/>
            <p:cNvSpPr/>
            <p:nvPr/>
          </p:nvSpPr>
          <p:spPr>
            <a:xfrm>
              <a:off x="2486880" y="3161880"/>
              <a:ext cx="2409120" cy="2016000"/>
            </a:xfrm>
            <a:prstGeom prst="ellipse">
              <a:avLst/>
            </a:prstGeom>
            <a:solidFill>
              <a:srgbClr val="1a0fff">
                <a:alpha val="50000"/>
              </a:srgbClr>
            </a:solidFill>
            <a:ln w="9360">
              <a:solidFill>
                <a:srgbClr val="1a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3089"/>
            <p:cNvSpPr/>
            <p:nvPr/>
          </p:nvSpPr>
          <p:spPr>
            <a:xfrm>
              <a:off x="-162360" y="392004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Физиче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культу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3090"/>
            <p:cNvSpPr/>
            <p:nvPr/>
          </p:nvSpPr>
          <p:spPr>
            <a:xfrm>
              <a:off x="2755080" y="2619360"/>
              <a:ext cx="2409480" cy="2016000"/>
            </a:xfrm>
            <a:prstGeom prst="ellipse">
              <a:avLst/>
            </a:prstGeom>
            <a:solidFill>
              <a:srgbClr val="ff8c01">
                <a:alpha val="50000"/>
              </a:srgbClr>
            </a:solidFill>
            <a:ln w="9360">
              <a:solidFill>
                <a:srgbClr val="ff8c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3091"/>
            <p:cNvSpPr/>
            <p:nvPr/>
          </p:nvSpPr>
          <p:spPr>
            <a:xfrm>
              <a:off x="527760" y="2269800"/>
              <a:ext cx="2409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Музы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108"/>
          <p:cNvSpPr/>
          <p:nvPr/>
        </p:nvSpPr>
        <p:spPr>
          <a:xfrm>
            <a:off x="613080" y="301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9"/>
          <p:cNvSpPr/>
          <p:nvPr/>
        </p:nvSpPr>
        <p:spPr>
          <a:xfrm>
            <a:off x="7381800" y="31417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66"/>
                </a:solidFill>
                <a:latin typeface="Times New Roman"/>
              </a:rPr>
              <a:t>Презентацию</a:t>
            </a:r>
            <a:r>
              <a:rPr b="1" lang="ru-RU" sz="44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cc66"/>
                </a:solidFill>
                <a:latin typeface="Times New Roman"/>
              </a:rPr>
              <a:t>подготовили</a:t>
            </a:r>
            <a:r>
              <a:rPr b="1" lang="ru-RU" sz="4400" spc="-1" strike="noStrike">
                <a:solidFill>
                  <a:srgbClr val="00cc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тарший воспитатель, Воспитатель подготовительной группы, ответственный за работу в ДОО по БД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Times New Roman"/>
              </a:rPr>
              <a:t>Формы работы с детьми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ес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Целевые прогулки и экскур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одвижн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идактически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южетно – ролев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вободная продуктивная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Чтение художественной литера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зготовление атрибутов для проигрывания дорожн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Музыкально – игровые досу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Конкурсы, викторины, выста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спользование видеофильмов, рол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По содержанию подвижные игры для обучения детей ПДД можно условно классифицировать н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гры, формирующие представления о сигналах светофора и регулировщ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гры, формирующие представления о знаках дорожного дви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гры, формирующие представления об элементах дороги, об участках дорожного движения и правилах их по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омплексные игры-занятия, включающие в себя элементы нескольких или всех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Игры, формирующие представления о сигналах светофора и регулировщик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Ловкий пеше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Эстафета «Красный, желтый, зелен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вето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раски светоф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аш друг свето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топ. Ид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Делай, как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Игры, формирующие представления о знаках дорожного движения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ыполни пор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Пово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гадай зн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Что нам скажет дорожный зн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71640" y="3357720"/>
            <a:ext cx="8172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гры, формирующие представления о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элементах дороги, об участках дорож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движения и правилах их по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то быстр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ара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ак проех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Комплексные игры-занятия, включающие в себя элементы нескольких или всех игр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Дорожное – не дорожное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Разгадай загадку, покажи отг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оехали, автомобили. Сто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гра-соревнование «Быстрые автомоби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Едем в автобусе, едем в трамва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Автомобили и пеше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айди безопасный п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Organization Chart 16"/>
          <p:cNvGrpSpPr/>
          <p:nvPr/>
        </p:nvGrpSpPr>
        <p:grpSpPr>
          <a:xfrm>
            <a:off x="912960" y="243000"/>
            <a:ext cx="7703280" cy="5830560"/>
            <a:chOff x="912960" y="243000"/>
            <a:chExt cx="7703280" cy="5830560"/>
          </a:xfrm>
        </p:grpSpPr>
        <p:cxnSp>
          <p:nvCxnSpPr>
            <p:cNvPr id="178" name="_s4100"/>
            <p:cNvCxnSpPr>
              <a:stCxn id="179" idx="0"/>
              <a:endCxn id="180" idx="2"/>
            </p:cNvCxnSpPr>
            <p:nvPr/>
          </p:nvCxnSpPr>
          <p:spPr>
            <a:xfrm flipV="1" rot="16200000">
              <a:off x="5528880" y="1809360"/>
              <a:ext cx="1166760" cy="269676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4101"/>
            <p:cNvCxnSpPr>
              <a:stCxn id="182" idx="0"/>
              <a:endCxn id="180" idx="2"/>
            </p:cNvCxnSpPr>
            <p:nvPr/>
          </p:nvCxnSpPr>
          <p:spPr>
            <a:xfrm flipV="1">
              <a:off x="4764600" y="2574360"/>
              <a:ext cx="288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4102"/>
            <p:cNvCxnSpPr>
              <a:stCxn id="184" idx="0"/>
              <a:endCxn id="180" idx="2"/>
            </p:cNvCxnSpPr>
            <p:nvPr/>
          </p:nvCxnSpPr>
          <p:spPr>
            <a:xfrm flipH="1" flipV="1" rot="5400000">
              <a:off x="2832840" y="1809360"/>
              <a:ext cx="1166760" cy="269676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4103"/>
            <p:cNvSpPr/>
            <p:nvPr/>
          </p:nvSpPr>
          <p:spPr>
            <a:xfrm>
              <a:off x="3609000" y="24300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Систе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дидактических иг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включает игры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формир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у де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представления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4104"/>
            <p:cNvSpPr/>
            <p:nvPr/>
          </p:nvSpPr>
          <p:spPr>
            <a:xfrm>
              <a:off x="91296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о труде взросл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(регулировщиков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орож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рабочих и т.д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4105"/>
            <p:cNvSpPr/>
            <p:nvPr/>
          </p:nvSpPr>
          <p:spPr>
            <a:xfrm>
              <a:off x="360900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о транспорт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средствах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ругих механизмах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помогающ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людям в 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жизни и тру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4106"/>
            <p:cNvSpPr/>
            <p:nvPr/>
          </p:nvSpPr>
          <p:spPr>
            <a:xfrm>
              <a:off x="630540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о знаковой систем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разработан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людьми д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безопас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орож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виж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5000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Перечень дидактических игр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то необходимо регулировщику дорожного движения для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ставь дорожный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Угадай, какой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Угадай по опис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Цвета свето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асположи 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расный, желтый, 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еселые челове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тро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Говорящие 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Дорожные 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Забывчивый худ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иды перекре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ут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Дорожный экза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Наша у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66"/>
                </a:solidFill>
                <a:latin typeface="Times New Roman"/>
              </a:rPr>
              <a:t>Сюжетно-ролевые игры по ПДД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«Скорая помощ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едагогический замысел: закрепить умение детей брать на себя роли регулировщика, инспектора ГИБДД, водителя «скорой помощи», мамы, дочки (сына), больного, действовать соответственно взятой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«Улица полна неожиданност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едагогический замысел: расширять представления детей об улице, о проезжей части дороги, тротуаре, пешеходах, транспортных средствах; учить детей распределять роли, вести их до конца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«Прогулка с любимыми кукл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едагогический замысел: знакомить детей с правилами дорожного движения и дорожной атрибутикой в ход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Освоение основ ПДД происходит легче, если в процесс познания включаются </a:t>
            </a: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театрализованные игры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ые игры по сказке С.Михалкова «Бездельник светоф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ая игра по сказке Н.Гинсбург «Колес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ая игра «Еду, еду в автомоби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ая игра по книге Я.Пишумова «Это улица мо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ое музыкально-познавательное развлечение «В королевстве дорожных зна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егрированная театрализованная совместная деятельность педагога с детьми «Город масте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ое развлечение «Путешествие в страну дорожных зна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Видеофильм «Азбука безопасности»</a:t>
            </a:r>
            <a:br>
              <a:rPr sz="3200"/>
            </a:b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с участием Смешариков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ветоф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Гармония свето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ешеходная «зеб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Зебры в го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ляшущие челове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ограничная терри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Мигающий челове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едетский зн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амая страшная ма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екультурные автомоб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етерпеливые 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Авто спецна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а остан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 автобу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ристегните рем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Система обучения ПДД в дошкольном учреждении подразумевает:</a:t>
            </a:r>
            <a:r>
              <a:rPr b="1" lang="ru-RU" sz="3600" spc="-1" strike="noStrike">
                <a:solidFill>
                  <a:srgbClr val="00cc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воспитание у детей навыков культуры поведения на улицах, дорогах, в транспор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овышение квалификации педагогических кадров, отвечающих за социальное воспитание дошколь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Активизацию совместной деятельности учреждения и родителей по обучению детей ПД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Times New Roman"/>
              </a:rPr>
              <a:t>Используемая литература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чебно-методическое пособие «Дети на дороге. Правила дорожного движения в играх и упражнен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Программа и методические рекомендации по ознакомлению детей дошкольного возраста с правилами дорожного движения «Азбука дорожного движения» Л.Б. Баряева, В.Л. Жевнеров, Е.В. Загреб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Ф.С. Майорова «Изучаем дорожную азбу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.Н.Черепанова «Правила дорожного движения дошкольник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cc66"/>
                </a:solidFill>
                <a:latin typeface="Times New Roman"/>
              </a:rPr>
              <a:t>Используемая литература:</a:t>
            </a:r>
            <a:r>
              <a:rPr b="1" lang="ru-RU" sz="4000" spc="-1" strike="noStrike">
                <a:solidFill>
                  <a:srgbClr val="00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етодические рекомендации: Формирование у дошкольников навыков безопасного поведения на улицах и дорогах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рамках реализации федеральной целевой программы «Повышение безопасности дорожного движения в 2006-2012 год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Журнал «Справочник старшего воспитателя» №6,7 2009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Журнал «Дошкольная педагогика»  Апрель 2009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.В.Чермашенцева «Основы безопасного поведения дошкольн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Модель работы ДОУ по ознакомлению с правилами дорожного движ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4" name="Diagram 6"/>
          <p:cNvGrpSpPr/>
          <p:nvPr/>
        </p:nvGrpSpPr>
        <p:grpSpPr>
          <a:xfrm>
            <a:off x="1074600" y="1815480"/>
            <a:ext cx="6849000" cy="4722840"/>
            <a:chOff x="1074600" y="1815480"/>
            <a:chExt cx="6849000" cy="4722840"/>
          </a:xfrm>
        </p:grpSpPr>
        <p:sp>
          <p:nvSpPr>
            <p:cNvPr id="105" name="_s1028"/>
            <p:cNvSpPr/>
            <p:nvPr/>
          </p:nvSpPr>
          <p:spPr>
            <a:xfrm flipH="1">
              <a:off x="2783880" y="4177080"/>
              <a:ext cx="86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29"/>
            <p:cNvSpPr/>
            <p:nvPr/>
          </p:nvSpPr>
          <p:spPr>
            <a:xfrm>
              <a:off x="1074600" y="3587760"/>
              <a:ext cx="170964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даг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0"/>
            <p:cNvSpPr/>
            <p:nvPr/>
          </p:nvSpPr>
          <p:spPr>
            <a:xfrm>
              <a:off x="4499280" y="4766760"/>
              <a:ext cx="0" cy="59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1"/>
            <p:cNvSpPr/>
            <p:nvPr/>
          </p:nvSpPr>
          <p:spPr>
            <a:xfrm>
              <a:off x="3644640" y="5359680"/>
              <a:ext cx="170892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оциаль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2"/>
            <p:cNvSpPr/>
            <p:nvPr/>
          </p:nvSpPr>
          <p:spPr>
            <a:xfrm>
              <a:off x="5353560" y="4177080"/>
              <a:ext cx="86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6213960" y="3587760"/>
              <a:ext cx="170964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оди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4"/>
            <p:cNvSpPr/>
            <p:nvPr/>
          </p:nvSpPr>
          <p:spPr>
            <a:xfrm flipV="1">
              <a:off x="4499280" y="2994120"/>
              <a:ext cx="0" cy="59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5"/>
            <p:cNvSpPr/>
            <p:nvPr/>
          </p:nvSpPr>
          <p:spPr>
            <a:xfrm>
              <a:off x="3644640" y="1815480"/>
              <a:ext cx="170892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6"/>
            <p:cNvSpPr/>
            <p:nvPr/>
          </p:nvSpPr>
          <p:spPr>
            <a:xfrm>
              <a:off x="3644640" y="3587760"/>
              <a:ext cx="1708920" cy="1178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ави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орожног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5000"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Times New Roman"/>
              </a:rPr>
              <a:t>Система  методической работы с педагогами по</a:t>
            </a:r>
            <a:br>
              <a:rPr sz="2400"/>
            </a:br>
            <a:r>
              <a:rPr b="1" lang="ru-RU" sz="2400" spc="-1" strike="noStrike">
                <a:solidFill>
                  <a:srgbClr val="00cc66"/>
                </a:solidFill>
                <a:latin typeface="Times New Roman"/>
              </a:rPr>
              <a:t>теме «Правила безопасного поведения на дороге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57160" y="1285920"/>
          <a:ext cx="7829640" cy="5632560"/>
        </p:xfrm>
        <a:graphic>
          <a:graphicData uri="http://schemas.openxmlformats.org/drawingml/2006/table">
            <a:tbl>
              <a:tblPr/>
              <a:tblGrid>
                <a:gridCol w="3130560"/>
                <a:gridCol w="1568520"/>
                <a:gridCol w="1565280"/>
                <a:gridCol w="156528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а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Ответст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ро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Ж. Правила дорожн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и обзор лит-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ы и методы обучения детей поведению на ул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минар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ониторинг знаний правил поведения на проезжей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рганизация предметно-раз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ающей среды в групп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кур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работка методических рекомендаций по ПД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руглый ст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ворческая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 -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стема работы с деть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ез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спитат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 - 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своение знаний, умений, навыков детей по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ониторин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едупреждение детского дорожно-транспортного травматизма ле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ю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явление знаний и умений педагогов по данной темат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нкет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Times New Roman"/>
              </a:rPr>
              <a:t>Формы работы с педагогами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Анкет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Тест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Информационно-практические обучающие зан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Курсы повышения квалиф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Консуль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Изготовление методических игр и пособ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Семина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Педагогические сове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Мастер - клас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Выста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Конкурс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5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Система обучения воспитателей правилам безопасного поведения детей на дороге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14400" y="1285920"/>
          <a:ext cx="7800840" cy="5708520"/>
        </p:xfrm>
        <a:graphic>
          <a:graphicData uri="http://schemas.openxmlformats.org/drawingml/2006/table">
            <a:tbl>
              <a:tblPr/>
              <a:tblGrid>
                <a:gridCol w="2228760"/>
                <a:gridCol w="2227320"/>
                <a:gridCol w="2228760"/>
                <a:gridCol w="1116000"/>
              </a:tblGrid>
              <a:tr h="347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а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Ответств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ро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ДД. Основные термины и по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оре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трудник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га в детский с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язанности пешехода, пассаж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оре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сихофизиологическ. характеристики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едупредительные сигн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в автошко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трудник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транспортных средств. ДТП и их прич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оре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гналы светофора и регул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формационно-практическое занятие на территории велогоро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трудник ГИБДД, педагог-организатор 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жные знаки и разме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тогов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ач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организато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Система работы с родителями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14400" y="1484280"/>
          <a:ext cx="7772400" cy="5268960"/>
        </p:xfrm>
        <a:graphic>
          <a:graphicData uri="http://schemas.openxmlformats.org/drawingml/2006/table">
            <a:tbl>
              <a:tblPr/>
              <a:tblGrid>
                <a:gridCol w="1295280"/>
                <a:gridCol w="2590920"/>
                <a:gridCol w="388620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Груп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ы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ервый квар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щее родительское собрание  с участием инспектора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ети на дорог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руглый ст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Как научить ребенка безопасному поведению на улиц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Улица  глазами ребен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ктори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роверь себ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Бесе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Высокая цена беспечно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исциплина на улице – залог безопасности пешеходо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огулка в парке совместно с род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ознавательная прогул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в библиоте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апа, мама, я – читает вся сем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дгото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В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Азбука дорожного движения нужна нам как таблица умно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Система работы с родителями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1484280"/>
          <a:ext cx="7772400" cy="5435640"/>
        </p:xfrm>
        <a:graphic>
          <a:graphicData uri="http://schemas.openxmlformats.org/drawingml/2006/table">
            <a:tbl>
              <a:tblPr/>
              <a:tblGrid>
                <a:gridCol w="1295280"/>
                <a:gridCol w="2590920"/>
                <a:gridCol w="3886200"/>
              </a:tblGrid>
              <a:tr h="436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Групп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Второй квар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24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нь открытых дверей «Как мы учим детей правилам дорожного дви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Что нужно знать детям и родителям о правилах дорожного дви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Рекоменд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Какую литературу читать детям по ПД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курс рисун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Наш путь из дома в детский са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нкетировани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Знает ли мой ребенок дорожные знаки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ля чего нужны ПДД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совместных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Улица на которой я жив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етский травматизм. Меры его предупрежд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дгото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аписание со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Когда я иду по улице с дочерью или сыном, то я…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5:41:06Z</dcterms:created>
  <dc:creator>1</dc:creator>
  <dc:description/>
  <dc:language>en-US</dc:language>
  <cp:lastModifiedBy>Евгений</cp:lastModifiedBy>
  <dcterms:modified xsi:type="dcterms:W3CDTF">2015-10-12T16:01:56Z</dcterms:modified>
  <cp:revision>18</cp:revision>
  <dc:subject/>
  <dc:title>Система и модель работы с детьми младшего и старшего дошкольного возраста по ознакомлению с правилами дорожного движения</dc:title>
</cp:coreProperties>
</file>