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270-BFAE-4C4C-B0C7-BA898ADC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F88-959D-438D-9B2F-C8C1FC52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452-FEE4-4789-AF2F-CFBF1A78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40DD-3C59-4FF7-9222-C3F3E349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331B-EC27-4E3B-AA60-57263F2D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4C69-DDFE-4BE7-BE3A-E32D6126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BDAC-5D47-47E3-AEF1-87A273F3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52A8-D90E-47F7-B967-DA215391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7E58-9A18-4A63-89D2-21AB1E47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FC7B-2490-4284-8255-8FE427C3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6A7A-FC7A-44E7-A661-BB1E9CE1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139-AAD1-4699-BF1D-60C0584C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CD92-A9B8-4C6B-B573-48FE2876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2876-468E-46BE-B204-9D82E9F3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703B-C2BE-4B9C-AF65-0B5BD7E8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C9C4-30EF-42F0-91C3-0BAC916D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C8B3-0621-47AE-ADC1-CD06FD1B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074B7-50C0-4581-925F-E1D6B417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ED8D-0D39-4E6C-9C03-D882FCDB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48CCC-EB30-442B-B86D-87D88D3C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FE81D-BA15-4F76-B358-C5DEEF74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94C7A-8302-4771-B97A-9B209AC7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061-17AA-466F-9569-8327D4FF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EC58-B43E-4CEC-9FAF-E78D9360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448F-3845-4A46-9B50-4EDFB0D8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1297F-75C7-4E48-9F26-21C5C061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200E-92B6-4695-B75C-C5CC7633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D476-1B53-48DF-84A4-6F0EB7FD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79755-422F-4ED3-B1C1-F3B61FBA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61398-59A7-4A3F-876A-FEA4CDE0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C26D2-7384-4809-85C2-7121DDF0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CE93-F8AE-4762-BF4C-A81DA7BB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ED89F-5D6B-4F47-A364-6DE28651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4B7-D096-47F9-AD6C-72D0AEA2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4595A-35CC-403C-BBBA-B0423759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496E-9F4C-4A21-9C88-0CD55659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C4E60-6EDB-4BB4-82BD-27DCBE39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ADA8-191F-4C56-94FC-CE3DE6DA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37AC2-D62A-4D85-992E-A662006C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CA1CD-BA34-403C-BFFD-7E115E64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C8B22-07C8-4764-9479-2E4CDEC9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8043B-9CE5-4A91-8D37-A5641156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18769-497C-4CC4-8AC8-93015356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08235-C0E8-4867-809B-10C8C353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149-2DDB-475C-B583-A1CD06FC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BF817-EE5A-4184-AAE1-ABB6D234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3D90D-EC73-4159-8AE6-879EB749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E5EA8-B680-4332-86D3-DC37B68B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3A7A1-6B63-4C0B-8D27-A6D54881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CBB42-F6E8-4710-A62C-91C3DBDA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4CED7-B001-45B3-8AF7-A5DAC5C1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E22AC-F325-4A70-AB67-70A02B41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AA74B-A90F-4B9D-B110-CB8BD7FE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4A8BD-AA85-4591-BD10-07C08E98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E6512-277C-4E01-A746-57170636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0A4-8027-46E7-B2F6-0555BC97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74532-3D24-48E8-8352-C74D9C86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987BD-9748-4368-8096-1B87553F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72C4D-8221-4027-A300-7CF466D0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6B88C-10AA-48AE-991B-E9D11E3D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AD3F2-C812-488A-89B8-B2000C62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8D55F-3578-4BCA-9934-9197943C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055CB-7F56-41E0-972F-A3ABB8AE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F38A0-5395-4A9E-8CCE-2948D95E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5188F-1781-42A7-A1F4-DE6B9B5C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3A5EB-87EC-4F8F-AC8C-5F8DE281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A77-C7BE-40C4-9509-EF0305FE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F875F-BABE-4468-9D94-C6C7A0BA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BC47B-3B2B-4F67-99C2-CAAE552F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838EF-AE79-466F-B8FE-CCA27E67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90EC6-79D6-4E07-B4BD-F417E807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4FD47-A23C-4C84-BCD0-70F4335E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1F137-0DE7-4406-89CD-4F3C909B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3200F-519D-4FE1-8B88-0B19E678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A7204-B494-4244-9D31-4524DBCD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3A752-32D3-4286-8AA9-41867E05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28201-5752-4977-973D-093694D6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8CE-C9A3-488C-A908-5A79304C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62E09-8127-40F6-8FAF-2065EAC4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8626F-F8DA-43CA-8579-4FA7CAC4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D1938-285E-4D56-8AC1-9D3801B1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94109-4195-47F3-B6CA-71F53D90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E3789-D46D-4D33-B9AC-55E904DE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834-01AC-4E03-8589-3406CCC6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DE8D-1C30-47D8-A73C-E36D21DE5F0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8512-A91F-4674-A88A-363286A61047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A108-F225-47B7-AA62-0E89CFDF730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5602-0C65-402B-B970-FAAFC1DEEDB7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94CA-BC52-4376-B8FC-C15344262511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FC16-C82E-41C3-BF4C-0BDB12373A83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752F-E822-40C0-BA62-2074D01DF2A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6"/>
          <p:cNvSpPr/>
          <p:nvPr/>
        </p:nvSpPr>
        <p:spPr>
          <a:xfrm>
            <a:off x="395280" y="1720800"/>
            <a:ext cx="8497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О продолжительности рабочего времени (нормах часов педагогической работы за ставку заработной платы) педагогических работников и о порядке определения учебной нагрузки педагогических работников, оговариваемой в трудовом договоре"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7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каз Министерства образования и науки РФ от 22 декабря 2014 г. N 1601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5280" y="2421000"/>
            <a:ext cx="85694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Диаграмма 2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79192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Диаграмма 1" descr=""/>
          <p:cNvPicPr/>
          <p:nvPr/>
        </p:nvPicPr>
        <p:blipFill>
          <a:blip r:embed="rId1"/>
          <a:stretch/>
        </p:blipFill>
        <p:spPr>
          <a:xfrm>
            <a:off x="469800" y="835200"/>
            <a:ext cx="8350200" cy="51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9:12:01Z</dcterms:created>
  <dc:creator>Капарчук</dc:creator>
  <dc:description/>
  <dc:language>en-US</dc:language>
  <cp:lastModifiedBy>1</cp:lastModifiedBy>
  <dcterms:modified xsi:type="dcterms:W3CDTF">2015-09-20T12:52:43Z</dcterms:modified>
  <cp:revision>28</cp:revision>
  <dc:subject/>
  <dc:title>Слайд 1</dc:title>
</cp:coreProperties>
</file>