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D1F-0703-4583-9F28-F5E10EFF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14D-9CA1-40F7-BA03-6956BF32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480-59D7-4EB6-AC06-0BBCDFC8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E9B-0077-41D1-A7C3-AA384261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F46D-2E91-48A5-8B99-9200E263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C8BE-A452-416A-8C6B-6B807A01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C057-4CD0-424E-9884-66A8FCBB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D0C-59F4-490B-B85D-53AE3CF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98C-19B0-4F6A-A1FB-C39A1A8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71F-1FE5-48DA-8B9E-90F917BB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5A8-DD8F-4C3A-88D7-2D2AD1BC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D6B-6376-4447-8287-89DFAE9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C44D-9CE4-4902-BF31-826059E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EF2-BF82-449E-A459-92068A4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6E6E-2F39-4B93-A4DD-1711C442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A7E2-AE7C-4125-9442-9EC172DA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D81-A394-44CC-8215-57735A1C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F617-DFEC-4A58-9808-6D88E0FB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86E2-AEEF-46D7-BEE0-8D71998C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5B08-9FC7-443D-AB86-4AD41D0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FBE3-1268-4D2F-877B-91C05D9C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2C92-AF02-46B5-8ECB-E2EB02C5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601-6B86-4383-9E95-91BD678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1C58-CDB4-405F-BC5A-2E6F546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EC04-73A1-4F58-A712-8CF3AEA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8443-73D9-4B0A-84A1-936ADFF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2BE0-0EF9-4670-95A1-150A0E6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D209-B49B-42C4-9A2F-65E7419E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BA9F-62D6-452F-8EC2-FC9ECEC7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BA1D-8B91-471A-B37E-0DD6CC9E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687B-6697-459F-9FB7-DBF8C508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C0DB-1949-4434-AA75-996FBF1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5F4E-9D89-4A00-8A3F-A56F295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39A-5965-46CC-B68A-F0173CB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1C3D-8048-4ACA-9E9D-73F2A6C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0E0E-AFF1-4466-9394-61BE072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B666-644C-48B2-8EA8-84885D6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D3D4-5A90-4FE6-9DE9-5E5B19A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7546-EA1C-4A3B-9A8C-BDBA910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530C-20FA-43E9-A8BD-AA7BE0E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B7EB-E497-470A-ABFB-FBB43BD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2561-0A4E-4B70-BFE9-F7948043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9A61-8C2D-4F91-82F8-11F02084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A53FD-BF2C-4DC0-9E8A-714DD655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D6C-39C7-4D71-8B9B-F9DBA17C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E35A-A9BD-4216-A071-D626095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C125-42E0-4225-8D14-30143A3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1235-B0AA-49E1-800B-CBD8C43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DB7A-6C77-4078-9DC6-ED00748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BA08-0981-40CD-A404-67B74E2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CC74-4188-4A3F-9F75-071C147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E2F2-3FEB-4E9C-BDC3-C38992A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7CF4-4457-4CEE-B818-3DAF226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6CF5-03D1-47D4-958C-283EFAA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4CFA-634D-4186-A8C2-C1EFC85D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009-4C66-42BF-B49A-9309847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8DCF-C575-4B0A-8D3B-63693BC9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810D-6B1E-4BAD-8EC1-DB03A67E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DDF2-C995-4DE9-B021-23F332C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00E6-B0E9-41EE-A491-83DCB3A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7148-06D2-42E6-B647-18FC368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366C9-5A67-49D4-AA3B-E7D3D25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1BF9-FAB8-4454-861A-DE73112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C04B-A3B6-43EA-97C0-52E1A37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E9819-1276-4934-B629-487E4D2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BD75-DEEE-4543-86A3-913DA93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F3C-62DD-4068-BC6D-D777808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3FFA-F599-4A56-8184-BFAAABB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1B08-7DB2-46C7-A931-C77C1D2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10CE-5B53-4FFB-89D4-B4AA36D2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EA57-861A-4807-9E9D-AFAB8A4A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0EBC9-C7EE-4805-8C1A-A367607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1AA3-7BB5-4251-A295-A310B09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EF2A-02C8-47CF-BB1B-2B22478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D38A-30C6-4D23-B7B7-36FC41C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1364-98F4-40C8-B632-8B7D4418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3C5B-4AB6-4F1F-A32B-EE91BB2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722-89C0-4F8A-9EBA-D9FAD0A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4B70-F04B-4B7C-8430-A6760A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BA60-1C79-4F5F-9129-E0ED0DF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6D753-31CC-4FD2-8E12-FCEE7AF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DA6C-3F2A-48D7-90A4-E0EA6FCD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E98A2-632A-4662-BBF8-BF21429B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4ED-FF4E-4757-977E-D3A49B2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0A4-84C2-4079-8A51-B0F895D0F7B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11C2-AC3E-4487-B7BD-04D0604E9E7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D37C-9776-46E7-9C2C-98C7027F6A5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AC1A-137E-4EA8-A150-49AF5A521B7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FB7-8ABA-47EF-982E-D8C325AA373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11EE-16F1-4B58-A92E-8C85B29F9BC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CD7-9591-4A8A-BAA6-35D9BA95908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6"/>
          <p:cNvSpPr/>
          <p:nvPr/>
        </p:nvSpPr>
        <p:spPr>
          <a:xfrm>
            <a:off x="395280" y="172080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 продолжительности рабочего времени (нормах часов педагогической работы за ставку заработной платы) педагогических работников и о порядке определения учебной нагрузки педагогических работников, оговариваемой в трудовом договоре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истерства образования и науки РФ от 22 декабря 2014 г. N 1601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5280" y="2421000"/>
            <a:ext cx="8569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Диаграмма 2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Диаграмма 1" descr=""/>
          <p:cNvPicPr/>
          <p:nvPr/>
        </p:nvPicPr>
        <p:blipFill>
          <a:blip r:embed="rId1"/>
          <a:stretch/>
        </p:blipFill>
        <p:spPr>
          <a:xfrm>
            <a:off x="469800" y="835200"/>
            <a:ext cx="83502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9:12:01Z</dcterms:created>
  <dc:creator>Капарчук</dc:creator>
  <dc:description/>
  <dc:language>en-US</dc:language>
  <cp:lastModifiedBy>1</cp:lastModifiedBy>
  <dcterms:modified xsi:type="dcterms:W3CDTF">2015-09-20T12:52:43Z</dcterms:modified>
  <cp:revision>28</cp:revision>
  <dc:subject/>
  <dc:title>Слайд 1</dc:title>
</cp:coreProperties>
</file>