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932A-39B9-4B36-8B59-2F9A718C6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EB7F-1F71-43C4-8983-358822925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1581-F2D4-406B-AC86-0285C455E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1D54-BA5E-4B0B-9F6E-EACA746E4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F88F-6B34-4A1C-91F4-678B214E01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DF42-5C39-4A9C-AE30-B0E2C20EF5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BA9D-DECB-41B3-AEB9-7052437E78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E97D-E7CE-4BD9-98B7-DC980955B1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FCF3-6D6D-4247-A05C-B80DF56501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1E3E-5B17-4FB8-8D2B-BF525E58B5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BF3E-A475-49E7-8A55-F757AEAA32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ED0E-9A0C-4674-909D-56876CC6F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A585C-D360-45D2-AC51-1344DC6A9C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99C5-0172-462E-A317-6A80492702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8549-30BC-4E82-A2E1-2A315F7520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4345-EF99-4932-B487-42B3F57EB4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C763-6968-4A9A-8926-482A6C04B7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213-EF38-4440-A9A5-A344E402C2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432-A48C-4726-9DF4-56CA733EC9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36A-71DD-4572-A842-8120917A34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7FE-120F-4DE8-B19D-4B87E81CC5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645-4899-4030-BDD1-CC7D855BF2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B580-F2DF-4090-AA2E-85AE0ADFCE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68D-DAED-42E0-9AAB-498AA0A391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592-0A7F-4A83-BB96-991D1A7733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300-2E88-48D9-998E-3978481B78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9D3-2E23-40BF-B54D-1B7948608E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0FB-6842-4025-BFB4-58239B156D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D3B-578B-42F2-B235-C9382B2C9D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01C-E3A5-4AD8-AAC5-C03C595775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5C00F-997C-4F49-B385-6A33375350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87C66-977D-47F5-9D1B-F24E78A77F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E3646-6885-4A75-90BF-A5865153D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73E7-9F20-4286-9CC5-EAAB56D13B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D07C8-3D99-4C54-9FA6-F767223BBF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55A14-740F-435A-BBD0-92800D0AF9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F5B9A-B9F2-44F3-BB0A-F60D5A259F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350EF-D7B6-41E1-A4B6-09EDA88D40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1478D-E1B0-44FB-B0F7-F4FB987354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DE518-2160-4244-A293-C229A88FAC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3672E-09F3-4C22-B217-3314EFABB1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17F98-B280-44E6-87F9-DB219CB61E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D302B-43B6-4B0D-9D99-8117EAFC27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C4441-01D6-4592-A02C-4BC085C76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969B-DE30-49F8-8E2A-FD5022DB4FF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59211-7328-48A1-B5F4-959941128F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2CFBF-10F4-43D4-816B-B37A30CAC80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B084D-6864-4FD4-8AC2-08124A655FA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5CC1D-C3B9-4A30-A7DF-6607E9D51B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203FB-BC05-4BD2-BBB0-711DA25289C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D9379-5BD0-419B-8154-5F72E9F0B7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79959-A5BF-4588-929C-77F8AC45C4E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D8A07-E697-4210-B8BD-89FAB70E34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2A9EB-B27A-4AC6-8D3D-2801A7591B1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19BF0-3790-407A-A8F5-E1CAF1B42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3311-1FE1-44F1-8E70-8EBC51AD42E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9392B-B23E-443F-B83F-3B3F4F731B5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EA04-55EB-48BA-9A0B-F240E140DD4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AD5A-EB94-4C94-850A-D8B75072175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8671-CE47-405A-888B-C83527EB240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EE72-E44E-4465-9939-C91C7C3C38F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C724-91F0-4E84-95EB-6EA1753130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7CD7-B096-4180-BC36-3DEAEAA486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4847-60E2-4856-859A-B0E33C5474A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F95E-77B8-4469-8226-752DD7C3CBA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A26E-BBFA-4E30-88C6-E980CEEB2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FB09-C0D6-4640-98C8-224C1B3BF8E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892F-2458-4F58-971A-9E08EF2B35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C42B-3740-4C1C-A574-24F9AB58C7A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50B5-5C20-46A2-ADD8-22A9F877CB9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EB3C7D-2120-4438-982E-C7CE52BC058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6CA1FE-FB48-418A-8DB3-D021E4C5516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8BF139-DE08-450B-AECF-16094C68F65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0838D5-A902-4DC9-ACFE-EBE97527F6F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A20565-2299-4DA5-978C-C9BB0FFD8D1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B3BC96-64C9-4696-AFAB-6AFF579CAAF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89E75-2CF4-4371-975A-C9A26056D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CC3C-EE93-4CB4-A4E5-3FE1A43654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ED53B3-243F-48A2-8BB2-C6F135655E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4E5E57-D849-4028-B23B-06CD240653F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7FDF9-5FC4-46CC-B25E-ECDD1082BFD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B5E828-0A29-4E7B-A022-4C8D6294C2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46D27-5D76-43FB-8B9E-AA5897ACA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CA6D-511A-4571-B610-84486A42D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084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FB4483-DCB3-4A15-8F1D-70A440A8880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 rot="5400000">
            <a:off x="7765560" y="117432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530E3D-EF0E-4B1E-BAEB-A8C4B0297B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C56239-8E7E-414D-9E32-00750BFEC4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 rot="5400000">
            <a:off x="7764480" y="117000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13D2F2-CC40-46A0-8AF7-953355AD00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6FB55D-C1AA-4A39-B427-562EA3B7D9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13AA48-F6D6-4A00-B06B-6363302901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D345FC-7E1F-4324-BDB0-D9FDB34A8E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1576440" y="985680"/>
            <a:ext cx="63691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РАЙОННАЯ НАУЧНО-ИССЛЕДОВАТЕЛЬСКАЯ КОНФЕРЕНЦИЯ ОБУЧАЮЩИХСЯ </a:t>
            </a:r>
            <a:br>
              <a:rPr sz="1600"/>
            </a:b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«ШАГ В НАУКУ»</a:t>
            </a:r>
            <a:br>
              <a:rPr sz="1600"/>
            </a:b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СЕКЦИЯ ПО ХИМ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5105520" y="464832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Автор: Мамедова Туркан, 16 лет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Руководитель: Мамарина Инна Юрьевна,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учитель химии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91440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ачская общеобразовательная школа № 3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38080" y="266544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следование свойств поташ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277440" y="6023160"/>
            <a:ext cx="12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. Сергач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о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http://cs308330.vk.me/v308330135/a4b0/QHA1oV2U5f0.jpg"/>
          <p:cNvPicPr/>
          <p:nvPr/>
        </p:nvPicPr>
        <p:blipFill>
          <a:blip r:embed="rId1"/>
          <a:stretch/>
        </p:blipFill>
        <p:spPr>
          <a:xfrm>
            <a:off x="1571760" y="642960"/>
            <a:ext cx="594504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5833800" cy="67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"/>
          <p:cNvSpPr/>
          <p:nvPr/>
        </p:nvSpPr>
        <p:spPr>
          <a:xfrm>
            <a:off x="471600" y="303120"/>
            <a:ext cx="79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ы  использовали лабораторный способ получения поташ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228600" y="903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этого взяли древесную золу, залили её кипятком, дали настояться в течение суток. При этом, после того, как весь осадок осел на дно, слили прозрачный раствор и отфильтровали ег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5000760" y="2357280"/>
            <a:ext cx="3047760" cy="4000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"/>
          <p:cNvPicPr/>
          <p:nvPr/>
        </p:nvPicPr>
        <p:blipFill>
          <a:blip r:embed="rId2"/>
          <a:stretch/>
        </p:blipFill>
        <p:spPr>
          <a:xfrm>
            <a:off x="714240" y="2286000"/>
            <a:ext cx="3276720" cy="4071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"/>
          <p:cNvSpPr/>
          <p:nvPr/>
        </p:nvSpPr>
        <p:spPr>
          <a:xfrm>
            <a:off x="228600" y="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фильтрованный раствор называется «щёлок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152280" y="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сть полученного щёлока мы выпарили, получили кристаллы белого цвета, с лёгким сероватым оттенком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914400" y="2322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творяясь в воде,  карбонат калия подвергается гидролиз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H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HCO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O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2"/>
          <a:stretch/>
        </p:blipFill>
        <p:spPr>
          <a:xfrm>
            <a:off x="3929040" y="2500200"/>
            <a:ext cx="5214960" cy="4357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0" y="142920"/>
            <a:ext cx="47242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AutoShape 2"/>
          <p:cNvSpPr/>
          <p:nvPr/>
        </p:nvSpPr>
        <p:spPr>
          <a:xfrm>
            <a:off x="4622760" y="228600"/>
            <a:ext cx="4521240" cy="62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1071720" y="50004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ло несложно получить в лабораторны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5" name="Picture 4" descr="C:\Users\User\Desktop\2B8m-YRG_0s.jpg"/>
          <p:cNvPicPr/>
          <p:nvPr/>
        </p:nvPicPr>
        <p:blipFill>
          <a:blip r:embed="rId1"/>
          <a:stretch/>
        </p:blipFill>
        <p:spPr>
          <a:xfrm>
            <a:off x="0" y="1071720"/>
            <a:ext cx="4976640" cy="52149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5"/>
          <p:cNvSpPr/>
          <p:nvPr/>
        </p:nvSpPr>
        <p:spPr>
          <a:xfrm>
            <a:off x="785880" y="62866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Щелочной раств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7" name="Picture 5" descr="C:\Users\User\Downloads\2-vegetable-oil.jpg"/>
          <p:cNvPicPr/>
          <p:nvPr/>
        </p:nvPicPr>
        <p:blipFill>
          <a:blip r:embed="rId2"/>
          <a:stretch/>
        </p:blipFill>
        <p:spPr>
          <a:xfrm>
            <a:off x="5143680" y="1000080"/>
            <a:ext cx="4000320" cy="52866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5286240" y="642924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стительное масл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2"/>
          <p:cNvSpPr/>
          <p:nvPr/>
        </p:nvSpPr>
        <p:spPr>
          <a:xfrm>
            <a:off x="83808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изготовление самодельного мыла является одним из модных хобб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ПЛАН: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ве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сновная час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Что такое поташ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Значение поташа для промышленного развития Росс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Способы получения поташ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Свойства раствора поташ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Производство мыл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Microsoft YaHei"/>
              </a:rPr>
              <a:t>Области применения поташ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8280" indent="-27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IV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Список литератур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6781680" y="4876920"/>
            <a:ext cx="1828800" cy="16095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. ЗАКЛЮЧЕНИ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457200" y="1600200"/>
            <a:ext cx="746748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результате проделанной работы мы пришли к следующим выводам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Поташ – важнейшее вещество для многих отраслей промышленности – мыловарения, стекольного производства, пороха, хрусталя, кулинарии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начение карбоната калия как ценного химического продукта с 16 века до наших дней не уменьшилос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нание свойств химических соединений, например, поташа, позволяет быть более приспособленными к условиям нашей жиз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http://5klass.net/datas/khimija/Elementy-metally/0032-032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И НАШЕГО ИССЛЕДОВАНИЯ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1.Выяснить ,что из себя представляет  поташ, какими  свойствами он облада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2.Какое значение имел поташ для России и для Сергачского район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3.Изучить методику получения поташа , воспроизвести её в лабораторных условия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ыявить наиболее значимые области применения поташа в наше врем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вести эксперимент по получению из поташа некоторых продуктов  народного потребления (мыла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"/>
          <p:cNvSpPr/>
          <p:nvPr/>
        </p:nvSpPr>
        <p:spPr>
          <a:xfrm>
            <a:off x="685800" y="1145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ТАШ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карбонат калия 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й бесцветные кристаллы, плавящиеся при 8910 С и хорошо растворимые в вод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-152280" y="3886200"/>
            <a:ext cx="9726480" cy="2971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4859280" y="0"/>
            <a:ext cx="4500720" cy="3959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952880" cy="3917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4"/>
          <a:stretch/>
        </p:blipFill>
        <p:spPr>
          <a:xfrm>
            <a:off x="1676520" y="1523880"/>
            <a:ext cx="547344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857160" y="214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России производили поташ, начиная с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VI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7" name="Picture 5" descr="C:\Users\User\Desktop\25088773_3.jpg"/>
          <p:cNvPicPr/>
          <p:nvPr/>
        </p:nvPicPr>
        <p:blipFill>
          <a:blip r:embed="rId1"/>
          <a:stretch/>
        </p:blipFill>
        <p:spPr>
          <a:xfrm>
            <a:off x="714240" y="571680"/>
            <a:ext cx="6802560" cy="58370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3"/>
          <p:cNvSpPr/>
          <p:nvPr/>
        </p:nvSpPr>
        <p:spPr>
          <a:xfrm>
            <a:off x="2143080" y="633420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оярин Морозо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1066680" y="2671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производство поташа еще Петр I в 1721 году установил монополию: «Нигде никому отнюдь поташа не делать и никому не продавать под страхом ссылки в вечную каторжную работу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979800" cy="571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C:\Users\User\Downloads\12584554819500.gif"/>
          <p:cNvPicPr/>
          <p:nvPr/>
        </p:nvPicPr>
        <p:blipFill>
          <a:blip r:embed="rId2"/>
          <a:stretch/>
        </p:blipFill>
        <p:spPr>
          <a:xfrm>
            <a:off x="357120" y="1285920"/>
            <a:ext cx="429588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685800" y="3808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ш Сергач в XVII – XVIII в являлся центром поташного производства. Известный сергачский краевед В.А.Громов в своей книге «Сергачское притяжение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3" name="Picture 4" descr="http://cs308330.vk.me/v308330135/a4a2/vFkSYuFa3rE.jpg"/>
          <p:cNvPicPr/>
          <p:nvPr/>
        </p:nvPicPr>
        <p:blipFill>
          <a:blip r:embed="rId1"/>
          <a:stretch/>
        </p:blipFill>
        <p:spPr>
          <a:xfrm>
            <a:off x="714240" y="1643040"/>
            <a:ext cx="7786800" cy="4857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cs308330.vk.me/v308330135/a4a9/jdaAkw-YN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1066680" y="1449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получения поташа жгли древесину только определенных пород – сосну, клен, берез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-228600" y="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1635120" y="0"/>
            <a:ext cx="530856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3"/>
          <a:stretch/>
        </p:blipFill>
        <p:spPr>
          <a:xfrm>
            <a:off x="4876920" y="412920"/>
            <a:ext cx="4267080" cy="64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0-12T16:18:5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