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EA2B-6582-442C-9E80-92275BC2D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6026-DD66-4015-89C3-77CDB0DDD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2A31-EAE1-473F-B198-20B4FD81E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F373-A1E7-4DBC-8418-812399970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9B92-3251-46FF-828C-BC7171E2F0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456F-87ED-44D8-BEF7-BE7C050B14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5129-27AF-4B6A-8120-588A8347BF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A2CC-CA4A-4CD4-804F-2823024AC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BFE2-6A88-4D23-A5E9-5F0E05041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8B91-2B8D-4613-B819-F2D50426A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AF23-DBC8-4AA8-B4EC-4E3387043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04BE-7661-4853-AE92-9F107CCC1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A091-9787-4394-93C4-9138AB3C5F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D153-C719-49DB-905A-2EEBB3576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54B1-2863-4353-A5B2-E8358E150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399E-72DD-4ACA-B750-4EC6702917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E3C4-2A51-45C8-8439-D589E96EBB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BC4-EC58-42F3-A4B0-873CE26CFA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78B-AA79-424F-B7BF-FC302354EC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843-4AE9-4530-8228-333541AFFA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997-6BF2-461D-9436-45C5595FE1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7C0-8F38-49A4-B4DB-2EE7BA1B4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4552-2B4D-4AEE-B970-129DB2AD45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1B6-7095-4CEC-A736-D13D2229EF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37-D00B-4ACE-B0AD-A613BB9AD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4F2-1237-4B45-98DC-64D1E5C297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5A6-A266-4D6C-9536-1B6555CE05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ED9-41A7-41E7-80F2-CCF482BBAA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CAD-CD72-4B3B-8E65-F5C46027F3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BB0-A348-46D8-B6D9-77FAA9C4E9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247CA-71A7-4165-92FB-48951B36D4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FF84C-CAE2-4BE5-ABCF-5AA54B9BC9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CAB49-5E6B-4DAA-9147-7663FDF4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1D28-4B62-4E06-A52F-17F4589F8C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9E8B9-958E-4C82-B695-7672D8359B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1EB55-561D-4E66-BCE9-03B452842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B3C2-E7C0-4029-A915-D9195B793F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0CEF1-08A8-4610-92B8-C990DC05BA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64482-FEBE-4CD0-9437-DB7B7560F0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DE2E4-9E4A-4A32-A78A-A36CBE6D01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C204A-CCEF-4D63-9140-F7CD9E0B1D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2DAF-2957-4661-A64C-779A997D06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C7521-1AD1-4E5C-89B2-427BCDF45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4FA0B-A27E-4D67-A23F-406958770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B895-C6F5-45E6-BBC8-8C8B0C28A2C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9A81-6AED-4F91-BA6C-D0641C1831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992E-2EC9-4FDD-BA60-39717ED933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C819B-8757-4E33-BB3D-61026BC6E2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C9D8F-039F-4999-8804-B26815440A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45A90-03A7-4DE4-B50D-FF8F37F57E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526BB-7C92-48B2-8708-D86CD0BEA9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377E-5B06-41E6-90CC-9475CED3CC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BD7B2-C17C-40A6-8DC0-C70F8D882F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585C2-7C35-4E34-8A52-261778ABFF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A2BBF-94C9-4FBA-9FE2-604067B2F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1B7D-DA4C-4B03-BD4E-73B72F904C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5491-6961-4D5F-943B-D7238C4BA4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DD2-F0BB-466A-962E-574CA90250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2320-A062-4217-93CB-C2890CC43E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96A-86E4-4BEC-923B-4D7EE1AE06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908-F0B2-49B5-936B-291A13993F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F46E-9398-4F02-88EE-E074463D7B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2CA-96E1-44C9-9F7E-DE4B9CAE21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4E20-F663-46F9-8410-244A19EB5F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7560-28FD-4F35-ACD8-FAFDC7E602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C094-162B-4C08-BA77-FF1857E99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89E3-20CC-4B45-9077-82DF7CCBFA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CE00-2BE1-4089-8163-FE376C105B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6B6C-81B7-4E3B-AF75-DD5F63C07D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B3CF-61D2-449A-9BDD-4ECCF0B1F9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FC3A6-885F-49EC-8B65-434431B624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11AFF-3676-4E0D-A25C-68B96B4533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6D805-0B55-4BB1-A1C5-5BDC66D9FA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20169-05BB-4DCD-BF64-AA146A405D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1BC8F-0988-4DE3-BFEB-6B68BF4F0E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FE54E-A8FB-432F-884E-6BCE5C5AAE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50EA5-1AEC-4ACC-B11D-10D89144C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268D-2F2A-490B-BBC1-8BE5D37778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CFE49-4806-47B4-9C47-111D741EFB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6EBF2-C102-4331-ABD3-7BB4881A90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93C69-7896-4A12-8386-89216606C5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8BCF8-EF93-4752-8460-7CCF43ACF2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3C64E-221D-41B3-9D2D-F2C682E75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3659-730F-4480-A737-925BB4363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2853B-C21C-49D2-A5A3-69C46E954A7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 rot="5400000">
            <a:off x="7765560" y="117432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EFD532-3E80-4944-AAD6-DF14C23506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8207DC-925D-4EA8-836C-C919BEFF3B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 rot="5400000">
            <a:off x="7764480" y="11700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F563FB-5D04-4F2B-94A6-69C5F0C666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B2A758-7FC9-4022-85F1-62D95D34D7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C6352E-317A-49B0-BD65-D58DE5B78E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2BE460-B4B3-46C8-BAC9-DEF1064C8A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576440" y="985680"/>
            <a:ext cx="6369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РАЙОННАЯ НАУЧНО-ИССЛЕДОВАТЕЛЬСКАЯ КОНФЕРЕНЦИЯ ОБУЧАЮЩИХСЯ </a:t>
            </a:r>
            <a:br>
              <a:rPr sz="1600"/>
            </a:b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«ШАГ В НАУКУ»</a:t>
            </a:r>
            <a:br>
              <a:rPr sz="1600"/>
            </a:b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СЕКЦИЯ ПО ХИМ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5105520" y="46483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втор: Мамедова Туркан, 16 лет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Руководитель: Мамарина Инна Юрьевна,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учитель хими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ачская общеобразовательная школа №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38080" y="266544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ние свойств поташ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77440" y="6023160"/>
            <a:ext cx="12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. Сергач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http://cs308330.vk.me/v308330135/a4b0/QHA1oV2U5f0.jpg"/>
          <p:cNvPicPr/>
          <p:nvPr/>
        </p:nvPicPr>
        <p:blipFill>
          <a:blip r:embed="rId1"/>
          <a:stretch/>
        </p:blipFill>
        <p:spPr>
          <a:xfrm>
            <a:off x="1571760" y="642960"/>
            <a:ext cx="594504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83380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471600" y="303120"/>
            <a:ext cx="79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 использовали лабораторный способ получения поташ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28600" y="90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этого взяли древесную золу, залили её кипятком, дали настояться в течение суток. При этом, после того, как весь осадок осел на дно, слили прозрачный раствор и отфильтровали ег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5000760" y="2357280"/>
            <a:ext cx="3047760" cy="4000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3276720" cy="4071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228600" y="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фильтрованный раствор называется «щёлок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152280" y="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ь полученного щёлока мы выпарили, получили кристаллы белого цвета, с лёгким сероватым оттенко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914400" y="232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воряясь в воде,  карбонат калия подвергается гидролиз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H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H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5214960" cy="43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0" y="142920"/>
            <a:ext cx="4724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AutoShape 2"/>
          <p:cNvSpPr/>
          <p:nvPr/>
        </p:nvSpPr>
        <p:spPr>
          <a:xfrm>
            <a:off x="4622760" y="228600"/>
            <a:ext cx="4521240" cy="62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071720" y="5000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ло несложно получить в лабораторны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Picture 4" descr="C:\Users\User\Desktop\2B8m-YRG_0s.jpg"/>
          <p:cNvPicPr/>
          <p:nvPr/>
        </p:nvPicPr>
        <p:blipFill>
          <a:blip r:embed="rId1"/>
          <a:stretch/>
        </p:blipFill>
        <p:spPr>
          <a:xfrm>
            <a:off x="0" y="1071720"/>
            <a:ext cx="4976640" cy="52149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785880" y="62866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Щелочной раств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Picture 5" descr="C:\Users\User\Downloads\2-vegetable-oil.jpg"/>
          <p:cNvPicPr/>
          <p:nvPr/>
        </p:nvPicPr>
        <p:blipFill>
          <a:blip r:embed="rId2"/>
          <a:stretch/>
        </p:blipFill>
        <p:spPr>
          <a:xfrm>
            <a:off x="5143680" y="1000080"/>
            <a:ext cx="4000320" cy="52866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5286240" y="642924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тительное масл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83808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изготовление самодельного мыла является одним из модных хобб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ПЛАН: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сновная ча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Что такое пота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Значение поташа для промышленного развития Росс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Способы получения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Свойства раствора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Производство мыл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Области применения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Список литерату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 ЗАКЛЮЧЕНИ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457200" y="1600200"/>
            <a:ext cx="746748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результате проделанной работы мы пришли к следующим вывод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Поташ – важнейшее вещество для многих отраслей промышленности – мыловарения, стекольного производства, пороха, хрусталя, кулинарии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начение карбоната калия как ценного химического продукта с 16 века до наших дней не уменьшилос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нание свойств химических соединений, например, поташа, позволяет быть более приспособленными к условиям нашей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5klass.net/datas/khimija/Elementy-metally/0032-032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 НАШЕГО ИССЛЕДОВАНИЯ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Выяснить ,что из себя представляет  поташ, какими  свойствами он облада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.Какое значение имел поташ для России и для Сергачского райо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3.Изучить методику получения поташа , воспроизвести её в лабораторных услов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явить наиболее значимые области применения поташа в наше врем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вести эксперимент по получению из поташа некоторых продуктов  народного потребления (мыл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685800" y="1145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ТАШ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карбонат калия 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й бесцветные кристаллы, плавящиеся при 8910 С и хорошо растворимые в вод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-152280" y="3886200"/>
            <a:ext cx="9726480" cy="29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4859280" y="0"/>
            <a:ext cx="4500720" cy="3959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391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4"/>
          <a:stretch/>
        </p:blipFill>
        <p:spPr>
          <a:xfrm>
            <a:off x="1676520" y="1523880"/>
            <a:ext cx="547344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857160" y="214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России производили поташ, начиная 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7" name="Picture 5" descr="C:\Users\User\Desktop\25088773_3.jpg"/>
          <p:cNvPicPr/>
          <p:nvPr/>
        </p:nvPicPr>
        <p:blipFill>
          <a:blip r:embed="rId1"/>
          <a:stretch/>
        </p:blipFill>
        <p:spPr>
          <a:xfrm>
            <a:off x="714240" y="571680"/>
            <a:ext cx="6802560" cy="58370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2143080" y="633420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ярин Мороз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066680" y="2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производство поташа еще Петр I в 1721 году установил монополию: «Нигде никому отнюдь поташа не делать и никому не продавать под страхом ссылки в вечную каторжную работу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9798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User\Downloads\12584554819500.gif"/>
          <p:cNvPicPr/>
          <p:nvPr/>
        </p:nvPicPr>
        <p:blipFill>
          <a:blip r:embed="rId2"/>
          <a:stretch/>
        </p:blipFill>
        <p:spPr>
          <a:xfrm>
            <a:off x="357120" y="1285920"/>
            <a:ext cx="429588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685800" y="380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ш Сергач в XVII – XVIII в являлся центром поташного производства. Известный сергачский краевед В.А.Громов в своей книге «Сергачское притяжение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4" descr="http://cs308330.vk.me/v308330135/a4a2/vFkSYuFa3rE.jpg"/>
          <p:cNvPicPr/>
          <p:nvPr/>
        </p:nvPicPr>
        <p:blipFill>
          <a:blip r:embed="rId1"/>
          <a:stretch/>
        </p:blipFill>
        <p:spPr>
          <a:xfrm>
            <a:off x="714240" y="1643040"/>
            <a:ext cx="7786800" cy="4857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cs308330.vk.me/v308330135/a4a9/jdaAkw-YN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1066680" y="1449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получения поташа жгли древесину только определенных пород – сосну, клен, берез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163512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4876920" y="412920"/>
            <a:ext cx="4267080" cy="64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2T16:18:5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