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5A7-98CF-4E23-99AB-87A464D2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9BF-CECC-437D-8A01-25DFC3F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87A-CE8D-4C74-8D3D-C317998D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F02-C7B0-41D6-885A-8D5FB3B2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6A4E-1169-4D17-A9B9-261F34B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4FEA-97D1-4B84-A9D7-ABF7EDD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EED1-E3EF-466A-BEB9-1A2B4440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A5B-C81C-4BAF-9C4D-92FF78BB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36F5-B141-4F62-A7E5-23B7A71C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27B8-230B-4E83-B1C6-7206A86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90C-90A1-4048-A05B-FD92787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F1A-0E4D-4DC1-956A-A9F452A4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6173-37D0-4FE2-8FF2-C6CCB97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396-2F6F-4047-91A6-27B282C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1B35-D5F4-4B4D-84A2-AF1C250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AFB7-FCBF-4B80-BA41-C949FC40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71EF-DC42-41E3-9ACE-71430B9E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46C0-6379-45A3-8FB1-F72BC11C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4325-1CAE-4638-BB61-B708BF8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D3A1-258B-4880-91B7-2071A8A5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B553-AC63-4952-B4E3-8F07125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F716-3D3B-4536-8634-37B5C2E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F0C-C6D9-43E2-B9F3-E8D714D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D256-26CE-4D6D-8054-58698C7D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BA24-9934-4040-95D6-E7336CD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40A3-6571-4244-BD79-E6D1323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8453-873A-465A-B464-1D6C425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5157-B726-4919-B693-C0D33FE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5FFE-6F34-46BF-9D44-75197300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6412-32BD-4217-A2DC-FFD4E365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CA7F-532D-4F49-B595-98F1FFED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CB19-0610-46B9-93C1-3B122D8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F88F-E23A-4209-86BF-2E5817D0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2E7-1771-4FBD-B33B-703B4F13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E2EF-3B5F-4D09-B1B5-556E6D1A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422B-17CB-486C-9C7B-ED8FC90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26C1-4E32-4348-A6B5-736F2AB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1093-C432-43BA-A24F-384337B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E642-3E43-4AC2-92B2-B5CC31F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E7ED-D1C2-47C1-BD8F-0F2E09D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9B9D-AB99-4600-88FC-CA69BAF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220A-350A-4DAC-8471-EC7954B8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9BD8-346E-4768-AB04-AC8A8E7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625-4FD0-4B4E-8751-DA71561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70A-0675-49F9-83BF-A5029D9E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063-42EF-4295-8440-71266D99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050-E0B2-4CD2-A067-C7E4E024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C27-0C99-4A59-A6B1-29363F5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E1EE-A098-47FF-A789-0955F724D4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7E3-1B68-433D-AEC0-B7C6211C9A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9D0E-A465-4996-8D0F-307E90D4CC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2F4-FE58-4DBC-BD11-7E67A4EDBA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school-1971-msc.ru/storage/teachers/PleshakovaSS/images/0012v_enlv8.jpg"/>
          <p:cNvPicPr/>
          <p:nvPr/>
        </p:nvPicPr>
        <p:blipFill>
          <a:blip r:embed="rId1"/>
          <a:stretch/>
        </p:blipFill>
        <p:spPr>
          <a:xfrm>
            <a:off x="155520" y="189000"/>
            <a:ext cx="3336840" cy="444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go2.imgsmail.ru/imgpreview?key=65d5bbdbb9d0b0&amp;mb=imgdb_preview_1998"/>
          <p:cNvPicPr/>
          <p:nvPr/>
        </p:nvPicPr>
        <p:blipFill>
          <a:blip r:embed="rId2"/>
          <a:stretch/>
        </p:blipFill>
        <p:spPr>
          <a:xfrm>
            <a:off x="5529240" y="209520"/>
            <a:ext cx="3168720" cy="442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ululu.org/images/novinki/171811.jpg"/>
          <p:cNvPicPr/>
          <p:nvPr/>
        </p:nvPicPr>
        <p:blipFill>
          <a:blip r:embed="rId3"/>
          <a:stretch/>
        </p:blipFill>
        <p:spPr>
          <a:xfrm>
            <a:off x="2627280" y="1413000"/>
            <a:ext cx="33339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116000" y="189000"/>
            <a:ext cx="73915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амоте учиться – всегда пригодитьс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образование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лу – время, а потехе – ча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отдых и досуг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лка ноги кормят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шь есть калачи, ты не сиди на печ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юбишь кататься, люби и саночки вози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http://www.beresta.by/wp-content/uploads/2012/01/1301588122_1254983855_rebenok-0109.jpg"/>
          <p:cNvPicPr/>
          <p:nvPr/>
        </p:nvPicPr>
        <p:blipFill>
          <a:blip r:embed="rId1"/>
          <a:stretch/>
        </p:blipFill>
        <p:spPr>
          <a:xfrm>
            <a:off x="0" y="2143080"/>
            <a:ext cx="3367080" cy="4714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13400" y="17640"/>
            <a:ext cx="135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451560" y="17640"/>
            <a:ext cx="257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918800" y="1413000"/>
            <a:ext cx="560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бесплатного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доп. образовательных услу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ва школ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к школьному имуществ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совестно учить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требований работников школ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ь школьную фор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1024200" y="798480"/>
            <a:ext cx="220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ЁНБ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Ь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ЬЖ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ИЕТО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1029600" y="3284640"/>
            <a:ext cx="25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АП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О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ННАДАЖ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Ш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4721400" y="825480"/>
            <a:ext cx="20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4846320" y="3303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4858560" y="3749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Box 7"/>
          <p:cNvSpPr/>
          <p:nvPr/>
        </p:nvSpPr>
        <p:spPr>
          <a:xfrm>
            <a:off x="4853880" y="419256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4856760" y="468468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05:05:22Z</dcterms:created>
  <dc:creator>admin</dc:creator>
  <dc:description/>
  <dc:language>en-US</dc:language>
  <cp:lastModifiedBy>name</cp:lastModifiedBy>
  <dcterms:modified xsi:type="dcterms:W3CDTF">2015-10-12T09:33:38Z</dcterms:modified>
  <cp:revision>9</cp:revision>
  <dc:subject/>
  <dc:title>Презентация PowerPoint</dc:title>
</cp:coreProperties>
</file>