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84C-7A2C-49B0-9E82-1F0E25F1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8D4-8E20-41E1-89CA-3877E3B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DD4-697D-4464-AC24-FBC7C93E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446-80D4-4B17-AD55-2679B430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6189-63D4-4B04-A2F5-4E3BDAF6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FE0-7AD7-443D-A7B0-A8ABC42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475D-055A-454C-8D27-A81D9E43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E13F-5236-4ECD-97CB-8D4C839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261-8557-494A-89CA-483BB623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46E-4681-44C4-9BA8-4ED4DF7C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31C3-741F-4B3F-8627-B97F989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06D-460A-4F90-A4E4-57989120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CBCB-F71E-4A01-9249-74AC4DD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266C-0CB8-47B4-8DA1-FDFB9BE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6CFF-EB0C-4AA5-A59A-BAE4604D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0527-5A8B-441A-8711-AC0F5A25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529-FF8C-4964-BC59-34AE3FF2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DEB-4B11-4D0F-9551-84C97BAF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71D-94A6-46A9-8114-A5251024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1F9-C05F-464C-B101-7694171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9B7-6639-46DC-8716-4DED4E61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CC3-F954-4FDA-A18E-C36826C3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62E-BA61-4F59-B580-87FA658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E1D-B7E2-4B12-927C-0947A7A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FA0-4B33-484B-94A3-507AECBFD1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716-F8A3-4C7E-BD7C-C3315A097C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общающий урок по теме «Давление»</a:t>
            </a: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Игра «Звездный час» (лично-командное первенство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6788160"/>
            <a:ext cx="7489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3319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чего используется этот прибо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7" descr="Манометр"/>
          <p:cNvPicPr/>
          <p:nvPr/>
        </p:nvPicPr>
        <p:blipFill>
          <a:blip r:embed="rId1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2737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это за устройст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ите принцип его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7" descr="Схема работы домкрата"/>
          <p:cNvPicPr/>
          <p:nvPr/>
        </p:nvPicPr>
        <p:blipFill>
          <a:blip r:embed="rId1"/>
          <a:stretch/>
        </p:blipFill>
        <p:spPr>
          <a:xfrm>
            <a:off x="3780000" y="1628640"/>
            <a:ext cx="403848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VI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«Используй свой шанс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82915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акое тело действует больша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23"/>
          <p:cNvSpPr/>
          <p:nvPr/>
        </p:nvSpPr>
        <p:spPr>
          <a:xfrm flipV="1">
            <a:off x="539640" y="2204640"/>
            <a:ext cx="2951280" cy="22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с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4716360" y="2133720"/>
            <a:ext cx="3456000" cy="2303280"/>
          </a:xfrm>
          <a:prstGeom prst="rect">
            <a:avLst/>
          </a:prstGeom>
          <a:solidFill>
            <a:srgbClr val="14cb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1116000" y="2349360"/>
            <a:ext cx="184932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5580000" y="2349360"/>
            <a:ext cx="184968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755640" y="2924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 «Используй свой шанс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538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ится ли равновесие весов при погружении шаров в воду, если да, то  какой  перевеси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4643280" y="2492280"/>
            <a:ext cx="863640" cy="863640"/>
          </a:xfrm>
          <a:prstGeom prst="ellipse">
            <a:avLst/>
          </a:prstGeom>
          <a:solidFill>
            <a:srgbClr val="161616"/>
          </a:solidFill>
          <a:ln w="255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6732720" y="2276640"/>
            <a:ext cx="1152360" cy="1152360"/>
          </a:xfrm>
          <a:prstGeom prst="ellipse">
            <a:avLst/>
          </a:prstGeom>
          <a:solidFill>
            <a:srgbClr val="161616"/>
          </a:solidFill>
          <a:ln w="255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308720" y="16999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21"/>
          <p:cNvSpPr/>
          <p:nvPr/>
        </p:nvSpPr>
        <p:spPr>
          <a:xfrm flipV="1">
            <a:off x="5076720" y="170028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5076720" y="1700280"/>
            <a:ext cx="2232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23"/>
          <p:cNvSpPr/>
          <p:nvPr/>
        </p:nvSpPr>
        <p:spPr>
          <a:xfrm>
            <a:off x="6227640" y="1700280"/>
            <a:ext cx="0" cy="201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5580000" y="3716280"/>
            <a:ext cx="1297080" cy="289080"/>
          </a:xfrm>
          <a:prstGeom prst="flowChartAlternateProcess">
            <a:avLst/>
          </a:prstGeom>
          <a:solidFill>
            <a:srgbClr val="000000"/>
          </a:solidFill>
          <a:ln w="255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 «Используй свой шанс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Object 31"/>
          <p:cNvGraphicFramePr/>
          <p:nvPr/>
        </p:nvGraphicFramePr>
        <p:xfrm>
          <a:off x="0" y="1600200"/>
          <a:ext cx="39736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3973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аковая ли архимедова сила действует на эти те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3"/>
          <p:cNvSpPr/>
          <p:nvPr/>
        </p:nvSpPr>
        <p:spPr>
          <a:xfrm flipH="1">
            <a:off x="1186560" y="1844640"/>
            <a:ext cx="2305080" cy="25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4"/>
          <p:cNvSpPr/>
          <p:nvPr/>
        </p:nvSpPr>
        <p:spPr>
          <a:xfrm flipH="1">
            <a:off x="5363280" y="1844640"/>
            <a:ext cx="2305080" cy="25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55"/>
          <p:cNvSpPr/>
          <p:nvPr/>
        </p:nvSpPr>
        <p:spPr>
          <a:xfrm flipH="1" flipV="1">
            <a:off x="1908000" y="3283920"/>
            <a:ext cx="719280" cy="8650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56"/>
          <p:cNvSpPr/>
          <p:nvPr/>
        </p:nvSpPr>
        <p:spPr>
          <a:xfrm flipH="1" flipV="1">
            <a:off x="6156360" y="2059920"/>
            <a:ext cx="719280" cy="8650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. «Аукцион формул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 V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m/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) F/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) Fm &gt; F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) Fa &gt; F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) Fm=Fa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ж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) Fa=P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Эстафета задач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«Кто первый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1 б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акое давление на дно канистр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азывает машинное масло, ес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та его слоя равна 40см?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 на  2 бал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пределите величину полного давле ния (с учетом атмосферного) в море на глубине 8,2 м.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 на  3 бал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пределите архимедову силу, кото рая действует на гранитную плиту размерами 4*2*0,5м, наполовину погруженную в воду.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II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. «Ромашка терминов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Diagram 28"/>
          <p:cNvGrpSpPr/>
          <p:nvPr/>
        </p:nvGrpSpPr>
        <p:grpSpPr>
          <a:xfrm>
            <a:off x="717480" y="1901880"/>
            <a:ext cx="3449880" cy="3832200"/>
            <a:chOff x="717480" y="1901880"/>
            <a:chExt cx="3449880" cy="3832200"/>
          </a:xfrm>
        </p:grpSpPr>
        <p:sp>
          <p:nvSpPr>
            <p:cNvPr id="161" name="_s1028"/>
            <p:cNvSpPr/>
            <p:nvPr/>
          </p:nvSpPr>
          <p:spPr>
            <a:xfrm flipH="1" flipV="1">
              <a:off x="1611360" y="3336480"/>
              <a:ext cx="419040" cy="2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>
              <a:off x="717480" y="2620800"/>
              <a:ext cx="957240" cy="95760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>
              <a:off x="1611360" y="4054320"/>
              <a:ext cx="4190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719280" y="405936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14cb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2441520" y="429264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1965240" y="477684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14cb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2854440" y="4054320"/>
              <a:ext cx="4172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5"/>
            <p:cNvSpPr/>
            <p:nvPr/>
          </p:nvSpPr>
          <p:spPr>
            <a:xfrm>
              <a:off x="3209760" y="4056120"/>
              <a:ext cx="95760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6"/>
            <p:cNvSpPr/>
            <p:nvPr/>
          </p:nvSpPr>
          <p:spPr>
            <a:xfrm flipV="1">
              <a:off x="2854440" y="3336480"/>
              <a:ext cx="4172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7"/>
            <p:cNvSpPr/>
            <p:nvPr/>
          </p:nvSpPr>
          <p:spPr>
            <a:xfrm>
              <a:off x="3208320" y="261936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8"/>
            <p:cNvSpPr/>
            <p:nvPr/>
          </p:nvSpPr>
          <p:spPr>
            <a:xfrm flipV="1">
              <a:off x="2441520" y="285768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1039"/>
            <p:cNvSpPr/>
            <p:nvPr/>
          </p:nvSpPr>
          <p:spPr>
            <a:xfrm>
              <a:off x="1963800" y="1901880"/>
              <a:ext cx="95724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40"/>
            <p:cNvSpPr/>
            <p:nvPr/>
          </p:nvSpPr>
          <p:spPr>
            <a:xfrm>
              <a:off x="1963800" y="3340080"/>
              <a:ext cx="957240" cy="957240"/>
            </a:xfrm>
            <a:prstGeom prst="ellipse">
              <a:avLst/>
            </a:prstGeom>
            <a:solidFill>
              <a:srgbClr val="d721b4"/>
            </a:solidFill>
            <a:ln w="57240">
              <a:solidFill>
                <a:srgbClr val="14cb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Diagram 43"/>
          <p:cNvGrpSpPr/>
          <p:nvPr/>
        </p:nvGrpSpPr>
        <p:grpSpPr>
          <a:xfrm>
            <a:off x="4908600" y="1901880"/>
            <a:ext cx="3449520" cy="3832200"/>
            <a:chOff x="4908600" y="1901880"/>
            <a:chExt cx="3449520" cy="3832200"/>
          </a:xfrm>
        </p:grpSpPr>
        <p:sp>
          <p:nvSpPr>
            <p:cNvPr id="175" name="_s1043"/>
            <p:cNvSpPr/>
            <p:nvPr/>
          </p:nvSpPr>
          <p:spPr>
            <a:xfrm flipH="1" flipV="1">
              <a:off x="5802480" y="3336480"/>
              <a:ext cx="419040" cy="2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4908600" y="2620800"/>
              <a:ext cx="957240" cy="9576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_s1045"/>
            <p:cNvSpPr/>
            <p:nvPr/>
          </p:nvSpPr>
          <p:spPr>
            <a:xfrm flipH="1">
              <a:off x="5802480" y="4054320"/>
              <a:ext cx="41904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1046"/>
            <p:cNvSpPr/>
            <p:nvPr/>
          </p:nvSpPr>
          <p:spPr>
            <a:xfrm>
              <a:off x="4910040" y="405936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_s1047"/>
            <p:cNvSpPr/>
            <p:nvPr/>
          </p:nvSpPr>
          <p:spPr>
            <a:xfrm>
              <a:off x="6632640" y="429264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1048"/>
            <p:cNvSpPr/>
            <p:nvPr/>
          </p:nvSpPr>
          <p:spPr>
            <a:xfrm>
              <a:off x="6156360" y="477684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_s1049"/>
            <p:cNvSpPr/>
            <p:nvPr/>
          </p:nvSpPr>
          <p:spPr>
            <a:xfrm>
              <a:off x="7045200" y="4054320"/>
              <a:ext cx="41760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_s1050"/>
            <p:cNvSpPr/>
            <p:nvPr/>
          </p:nvSpPr>
          <p:spPr>
            <a:xfrm>
              <a:off x="7400880" y="405612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1051"/>
            <p:cNvSpPr/>
            <p:nvPr/>
          </p:nvSpPr>
          <p:spPr>
            <a:xfrm flipV="1">
              <a:off x="7045200" y="3336480"/>
              <a:ext cx="417600" cy="24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_s1052"/>
            <p:cNvSpPr/>
            <p:nvPr/>
          </p:nvSpPr>
          <p:spPr>
            <a:xfrm>
              <a:off x="7399440" y="2619360"/>
              <a:ext cx="95724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_s1053"/>
            <p:cNvSpPr/>
            <p:nvPr/>
          </p:nvSpPr>
          <p:spPr>
            <a:xfrm flipV="1">
              <a:off x="6632640" y="2857680"/>
              <a:ext cx="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1054"/>
            <p:cNvSpPr/>
            <p:nvPr/>
          </p:nvSpPr>
          <p:spPr>
            <a:xfrm>
              <a:off x="6154560" y="1901880"/>
              <a:ext cx="957600" cy="957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_s1055"/>
            <p:cNvSpPr/>
            <p:nvPr/>
          </p:nvSpPr>
          <p:spPr>
            <a:xfrm>
              <a:off x="6154560" y="3340080"/>
              <a:ext cx="957600" cy="957240"/>
            </a:xfrm>
            <a:prstGeom prst="ellipse">
              <a:avLst/>
            </a:prstGeom>
            <a:solidFill>
              <a:srgbClr val="14cb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V.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Эстафета форму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413000"/>
          <a:ext cx="8229600" cy="4916520"/>
        </p:xfrm>
        <a:graphic>
          <a:graphicData uri="http://schemas.openxmlformats.org/drawingml/2006/table">
            <a:tbl>
              <a:tblPr/>
              <a:tblGrid>
                <a:gridCol w="801720"/>
                <a:gridCol w="2376720"/>
                <a:gridCol w="2520720"/>
                <a:gridCol w="253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велич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диница изме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m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вода из бутылки бьет струйками с разной сил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поршневым насосом нельзя поднять воду выше, чем на 10 метр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барометром измерить высоту шко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Барометр бытовой"/>
          <p:cNvPicPr/>
          <p:nvPr/>
        </p:nvPicPr>
        <p:blipFill>
          <a:blip r:embed="rId1"/>
          <a:stretch/>
        </p:blipFill>
        <p:spPr>
          <a:xfrm>
            <a:off x="457200" y="2251080"/>
            <a:ext cx="40370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V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. Конкурс теоретиков «Объясните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97080" y="2997000"/>
            <a:ext cx="4537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летает воздушный шар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6" descr="Воздушный шар"/>
          <p:cNvPicPr/>
          <p:nvPr/>
        </p:nvPicPr>
        <p:blipFill>
          <a:blip r:embed="rId1"/>
          <a:stretch/>
        </p:blipFill>
        <p:spPr>
          <a:xfrm>
            <a:off x="4716360" y="1484280"/>
            <a:ext cx="40388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36:12Z</dcterms:created>
  <dc:creator>Zver</dc:creator>
  <dc:description/>
  <dc:language>en-US</dc:language>
  <cp:lastModifiedBy>Юзер</cp:lastModifiedBy>
  <dcterms:modified xsi:type="dcterms:W3CDTF">2015-10-12T13:23:16Z</dcterms:modified>
  <cp:revision>8</cp:revision>
  <dc:subject/>
  <dc:title>Слайд 1</dc:title>
</cp:coreProperties>
</file>