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9F6-20A4-499E-A8AE-543AD6F1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66F-FE45-49FA-9B7F-EF49538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139-F1BA-4E01-94FE-682F2415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AA0-037C-4C49-A641-DC590A81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F01E-2AFC-4B8B-91CE-9EBF1B68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C656-5811-465D-91C4-FC49A1DA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D09A-E235-4EBC-88C9-54000AA5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6B22-3D4E-4588-BF7D-B36C5835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13C4-D826-40A0-8A45-D293CF6D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C6AB-8F51-4C5F-98AC-7D4E946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AB6D-411A-4E12-AF83-12D6405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124-72C6-41E4-A244-92706D7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B877-45A6-419F-89F9-D4192D8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90B-8895-4CFA-9FA9-D9F2CE3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85E7-6886-4F73-BC3F-C34E4EF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69F-7637-47FB-8649-3F1B6046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278-5B3C-42C1-A0C8-66F300E1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DA0-7854-4725-A703-B976642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21E-7B49-43A7-B62D-07FE6097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4AD-49BB-4804-A285-40EA361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6FA-9524-4973-B5A2-5275C7A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3B3-F84C-413F-A047-5995C88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B3F-9DE0-42A0-94DC-AB33F44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418-827B-41B4-91B8-4E12035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77A-83B4-40B6-8FD1-15179CD36D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8F7F-7D3A-4212-9A0A-8B9732D8F3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общающий урок по теме «Давление»</a:t>
            </a: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Игра «Звездный час» (лично-командное первенство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6788160"/>
            <a:ext cx="7489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3319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чего используется этот прибо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7" descr="Манометр"/>
          <p:cNvPicPr/>
          <p:nvPr/>
        </p:nvPicPr>
        <p:blipFill>
          <a:blip r:embed="rId1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2737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это за устройст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ите принцип его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7" descr="Схема работы домкрата"/>
          <p:cNvPicPr/>
          <p:nvPr/>
        </p:nvPicPr>
        <p:blipFill>
          <a:blip r:embed="rId1"/>
          <a:stretch/>
        </p:blipFill>
        <p:spPr>
          <a:xfrm>
            <a:off x="3780000" y="1628640"/>
            <a:ext cx="403848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82915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акое тело действует больша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3"/>
          <p:cNvSpPr/>
          <p:nvPr/>
        </p:nvSpPr>
        <p:spPr>
          <a:xfrm flipV="1">
            <a:off x="539640" y="2204640"/>
            <a:ext cx="2951280" cy="22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4716360" y="2133720"/>
            <a:ext cx="3456000" cy="2303280"/>
          </a:xfrm>
          <a:prstGeom prst="rect">
            <a:avLst/>
          </a:prstGeom>
          <a:solidFill>
            <a:srgbClr val="14cb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1116000" y="2349360"/>
            <a:ext cx="184932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5580000" y="2349360"/>
            <a:ext cx="184968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755640" y="2924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538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ится ли равновесие весов при погружении шаров в воду, если да, то  какой  перевеси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4643280" y="2492280"/>
            <a:ext cx="863640" cy="863640"/>
          </a:xfrm>
          <a:prstGeom prst="ellipse">
            <a:avLst/>
          </a:prstGeom>
          <a:solidFill>
            <a:srgbClr val="161616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6732720" y="2276640"/>
            <a:ext cx="1152360" cy="1152360"/>
          </a:xfrm>
          <a:prstGeom prst="ellipse">
            <a:avLst/>
          </a:prstGeom>
          <a:solidFill>
            <a:srgbClr val="161616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308720" y="1699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1"/>
          <p:cNvSpPr/>
          <p:nvPr/>
        </p:nvSpPr>
        <p:spPr>
          <a:xfrm flipV="1">
            <a:off x="5076720" y="1700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5076720" y="1700280"/>
            <a:ext cx="2232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23"/>
          <p:cNvSpPr/>
          <p:nvPr/>
        </p:nvSpPr>
        <p:spPr>
          <a:xfrm>
            <a:off x="6227640" y="1700280"/>
            <a:ext cx="0" cy="20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5580000" y="3716280"/>
            <a:ext cx="1297080" cy="28908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Object 31"/>
          <p:cNvGraphicFramePr/>
          <p:nvPr/>
        </p:nvGraphicFramePr>
        <p:xfrm>
          <a:off x="0" y="1600200"/>
          <a:ext cx="39736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973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аковая ли архимедова сила действует на эти те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3"/>
          <p:cNvSpPr/>
          <p:nvPr/>
        </p:nvSpPr>
        <p:spPr>
          <a:xfrm flipH="1">
            <a:off x="1186560" y="1844640"/>
            <a:ext cx="2305080" cy="25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4"/>
          <p:cNvSpPr/>
          <p:nvPr/>
        </p:nvSpPr>
        <p:spPr>
          <a:xfrm flipH="1">
            <a:off x="5363280" y="1844640"/>
            <a:ext cx="2305080" cy="25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55"/>
          <p:cNvSpPr/>
          <p:nvPr/>
        </p:nvSpPr>
        <p:spPr>
          <a:xfrm flipH="1" flipV="1">
            <a:off x="1908000" y="3283920"/>
            <a:ext cx="719280" cy="865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56"/>
          <p:cNvSpPr/>
          <p:nvPr/>
        </p:nvSpPr>
        <p:spPr>
          <a:xfrm flipH="1" flipV="1">
            <a:off x="6156360" y="2059920"/>
            <a:ext cx="719280" cy="865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 «Аукцион формул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 V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m/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F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) Fm &gt; F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 Fa &gt; F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) Fm=Fa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ж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) Fa=P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Эстафета задач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«Кто первый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1 б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акое давление на дно канистр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азывает машинное масло, ес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 его слоя равна 40см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на  2 бал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пределите величину полного давле ния (с учетом атмосферного) в море на глубине 8,2 м.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на  3 бал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пределите архимедову силу, кото рая действует на гранитную плиту размерами 4*2*0,5м, наполовину погруженную в воду.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I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 «Ромашка терминов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Diagram 28"/>
          <p:cNvGrpSpPr/>
          <p:nvPr/>
        </p:nvGrpSpPr>
        <p:grpSpPr>
          <a:xfrm>
            <a:off x="717480" y="1901880"/>
            <a:ext cx="3449880" cy="3832200"/>
            <a:chOff x="717480" y="1901880"/>
            <a:chExt cx="3449880" cy="3832200"/>
          </a:xfrm>
        </p:grpSpPr>
        <p:sp>
          <p:nvSpPr>
            <p:cNvPr id="161" name="_s1028"/>
            <p:cNvSpPr/>
            <p:nvPr/>
          </p:nvSpPr>
          <p:spPr>
            <a:xfrm flipH="1" flipV="1">
              <a:off x="1611360" y="3336480"/>
              <a:ext cx="419040" cy="2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>
              <a:off x="717480" y="2620800"/>
              <a:ext cx="957240" cy="95760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>
              <a:off x="1611360" y="4054320"/>
              <a:ext cx="4190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719280" y="405936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2441520" y="429264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1965240" y="477684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2854440" y="4054320"/>
              <a:ext cx="4172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5"/>
            <p:cNvSpPr/>
            <p:nvPr/>
          </p:nvSpPr>
          <p:spPr>
            <a:xfrm>
              <a:off x="3209760" y="4056120"/>
              <a:ext cx="95760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6"/>
            <p:cNvSpPr/>
            <p:nvPr/>
          </p:nvSpPr>
          <p:spPr>
            <a:xfrm flipV="1">
              <a:off x="2854440" y="3336480"/>
              <a:ext cx="4172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3208320" y="261936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8"/>
            <p:cNvSpPr/>
            <p:nvPr/>
          </p:nvSpPr>
          <p:spPr>
            <a:xfrm flipV="1">
              <a:off x="2441520" y="285768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1963800" y="190188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40"/>
            <p:cNvSpPr/>
            <p:nvPr/>
          </p:nvSpPr>
          <p:spPr>
            <a:xfrm>
              <a:off x="1963800" y="3340080"/>
              <a:ext cx="957240" cy="957240"/>
            </a:xfrm>
            <a:prstGeom prst="ellipse">
              <a:avLst/>
            </a:prstGeom>
            <a:solidFill>
              <a:srgbClr val="d721b4"/>
            </a:solidFill>
            <a:ln w="5724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Diagram 43"/>
          <p:cNvGrpSpPr/>
          <p:nvPr/>
        </p:nvGrpSpPr>
        <p:grpSpPr>
          <a:xfrm>
            <a:off x="4908600" y="1901880"/>
            <a:ext cx="3449520" cy="3832200"/>
            <a:chOff x="4908600" y="1901880"/>
            <a:chExt cx="3449520" cy="3832200"/>
          </a:xfrm>
        </p:grpSpPr>
        <p:sp>
          <p:nvSpPr>
            <p:cNvPr id="175" name="_s1043"/>
            <p:cNvSpPr/>
            <p:nvPr/>
          </p:nvSpPr>
          <p:spPr>
            <a:xfrm flipH="1" flipV="1">
              <a:off x="5802480" y="3336480"/>
              <a:ext cx="419040" cy="2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4908600" y="2620800"/>
              <a:ext cx="957240" cy="9576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_s1045"/>
            <p:cNvSpPr/>
            <p:nvPr/>
          </p:nvSpPr>
          <p:spPr>
            <a:xfrm flipH="1">
              <a:off x="5802480" y="4054320"/>
              <a:ext cx="4190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1046"/>
            <p:cNvSpPr/>
            <p:nvPr/>
          </p:nvSpPr>
          <p:spPr>
            <a:xfrm>
              <a:off x="4910040" y="405936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_s1047"/>
            <p:cNvSpPr/>
            <p:nvPr/>
          </p:nvSpPr>
          <p:spPr>
            <a:xfrm>
              <a:off x="6632640" y="429264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1048"/>
            <p:cNvSpPr/>
            <p:nvPr/>
          </p:nvSpPr>
          <p:spPr>
            <a:xfrm>
              <a:off x="6156360" y="477684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_s1049"/>
            <p:cNvSpPr/>
            <p:nvPr/>
          </p:nvSpPr>
          <p:spPr>
            <a:xfrm>
              <a:off x="7045200" y="4054320"/>
              <a:ext cx="41760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1050"/>
            <p:cNvSpPr/>
            <p:nvPr/>
          </p:nvSpPr>
          <p:spPr>
            <a:xfrm>
              <a:off x="7400880" y="405612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1051"/>
            <p:cNvSpPr/>
            <p:nvPr/>
          </p:nvSpPr>
          <p:spPr>
            <a:xfrm flipV="1">
              <a:off x="7045200" y="3336480"/>
              <a:ext cx="41760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1052"/>
            <p:cNvSpPr/>
            <p:nvPr/>
          </p:nvSpPr>
          <p:spPr>
            <a:xfrm>
              <a:off x="7399440" y="261936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_s1053"/>
            <p:cNvSpPr/>
            <p:nvPr/>
          </p:nvSpPr>
          <p:spPr>
            <a:xfrm flipV="1">
              <a:off x="6632640" y="285768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1054"/>
            <p:cNvSpPr/>
            <p:nvPr/>
          </p:nvSpPr>
          <p:spPr>
            <a:xfrm>
              <a:off x="6154560" y="1901880"/>
              <a:ext cx="95760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_s1055"/>
            <p:cNvSpPr/>
            <p:nvPr/>
          </p:nvSpPr>
          <p:spPr>
            <a:xfrm>
              <a:off x="6154560" y="3340080"/>
              <a:ext cx="95760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V.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Эстафета форму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413000"/>
          <a:ext cx="8229600" cy="4916520"/>
        </p:xfrm>
        <a:graphic>
          <a:graphicData uri="http://schemas.openxmlformats.org/drawingml/2006/table">
            <a:tbl>
              <a:tblPr/>
              <a:tblGrid>
                <a:gridCol w="801720"/>
                <a:gridCol w="2376720"/>
                <a:gridCol w="252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велич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диница изме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m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вода из бутылки бьет струйками с разной сил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поршневым насосом нельзя поднять воду выше, чем на 10 метр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барометром измерить высоту шко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Барометр бытовой"/>
          <p:cNvPicPr/>
          <p:nvPr/>
        </p:nvPicPr>
        <p:blipFill>
          <a:blip r:embed="rId1"/>
          <a:stretch/>
        </p:blipFill>
        <p:spPr>
          <a:xfrm>
            <a:off x="457200" y="2251080"/>
            <a:ext cx="40370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97080" y="2997000"/>
            <a:ext cx="4537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летает воздушный шар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Воздушный шар"/>
          <p:cNvPicPr/>
          <p:nvPr/>
        </p:nvPicPr>
        <p:blipFill>
          <a:blip r:embed="rId1"/>
          <a:stretch/>
        </p:blipFill>
        <p:spPr>
          <a:xfrm>
            <a:off x="4716360" y="1484280"/>
            <a:ext cx="4038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36:12Z</dcterms:created>
  <dc:creator>Zver</dc:creator>
  <dc:description/>
  <dc:language>en-US</dc:language>
  <cp:lastModifiedBy>Юзер</cp:lastModifiedBy>
  <dcterms:modified xsi:type="dcterms:W3CDTF">2015-10-12T13:23:16Z</dcterms:modified>
  <cp:revision>8</cp:revision>
  <dc:subject/>
  <dc:title>Слайд 1</dc:title>
</cp:coreProperties>
</file>