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54B4-5B04-4BD3-B35A-8AC56405B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D0FD-AE94-4ADA-A1F8-A220321C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B8B0-F234-4389-8907-9E13A274C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CABA-3C0D-4E3B-B250-D950BCC1B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4ACD-DE49-481C-AC74-E19C1289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7558-9ADE-476E-9BBD-BA5042F9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9A0E-5756-46C5-80A8-CF98E886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DA2D-83F5-47D8-B54C-309611EB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1B7B-E967-4327-8A10-A48FDD7B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4882-B5D4-4EEB-9D3B-2E403FD2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8C67-E96A-4218-A2B4-3124ABB7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0247-1A5D-44CC-B8C9-33E5C242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D224-59AD-407B-BF37-231E9E89F6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6400" y="391680"/>
            <a:ext cx="8071200" cy="55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126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4527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999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25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жду числами 1546 и 1548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жду числами 5260 и 5262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2376 уменьшить на 1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359 увеличить на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28356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>
            <a:off x="826920" y="620640"/>
            <a:ext cx="7704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7" name="Picture 5" descr="aadl"/>
          <p:cNvPicPr/>
          <p:nvPr/>
        </p:nvPicPr>
        <p:blipFill>
          <a:blip r:embed="rId1"/>
          <a:stretch/>
        </p:blipFill>
        <p:spPr>
          <a:xfrm>
            <a:off x="6516720" y="3284640"/>
            <a:ext cx="16048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25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86b5d"/>
                                      </p:to>
                                    </p:animClr>
                                    <p:animClr clrSpc="rgb">
                                      <p:cBhvr>
                                        <p:cTn id="103" dur="25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86b5d"/>
                                      </p:to>
                                    </p:animClr>
                                    <p:set>
                                      <p:cBhvr>
                                        <p:cTn id="104" dur="25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05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7 с. 4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2* для тех кто сможет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aadl"/>
          <p:cNvPicPr/>
          <p:nvPr/>
        </p:nvPicPr>
        <p:blipFill>
          <a:blip r:embed="rId1"/>
          <a:stretch/>
        </p:blipFill>
        <p:spPr>
          <a:xfrm>
            <a:off x="7236000" y="3860640"/>
            <a:ext cx="16048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ряем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1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452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999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0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54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26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237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83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шестизначное число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928356           28356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403560"/>
            <a:ext cx="849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йсберг- это отклонившиеся части ледников, пустившиеся в морское плавание. Большинство из них образуются у берегов Гренландии и Антарктиды. Слово «айсберг» переводится как ледяная гора. В этом нет преувеличения, так как айсберги действительно имеют огромные размеры. Самый большой был обнаружен в антарктических водах в тысяча девятьсот пятьдесят шестом году. Самый высокий айсберг был встречен в тысяча девятьсот четвертом году.</a:t>
            </a:r>
            <a:r>
              <a:rPr b="0" lang="en-US" sz="3200" spc="-1" strike="noStrike">
                <a:solidFill>
                  <a:srgbClr val="686b5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оверяем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ый большой был обнаружен в антарктических водах в 1956 год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ый высокий айсберг был встречен в 1904 год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6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3628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ма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оупражняемся в вычислениях и сравнении чисел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бота по вариантам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3000+4000=7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000+4000=5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4000+4000=8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6000+4000=10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9000+4000=13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9000-3000=6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5000-3000=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6000-3000=3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0000-3000=7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3000-3000=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Прямоугольник 2" descr=""/>
          <p:cNvPicPr/>
          <p:nvPr/>
        </p:nvPicPr>
        <p:blipFill>
          <a:blip r:embed="rId1"/>
          <a:stretch/>
        </p:blipFill>
        <p:spPr>
          <a:xfrm rot="20888400">
            <a:off x="-180720" y="980640"/>
            <a:ext cx="5400720" cy="41767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" descr=""/>
          <p:cNvPicPr/>
          <p:nvPr/>
        </p:nvPicPr>
        <p:blipFill>
          <a:blip r:embed="rId2"/>
          <a:stretch/>
        </p:blipFill>
        <p:spPr>
          <a:xfrm>
            <a:off x="4427640" y="765000"/>
            <a:ext cx="4429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49 с. 46-47.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0000+3000+600+80+9=4368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0000+1000+10=1010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000+50+7=605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00000+1=80000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2T07:42:15Z</dcterms:created>
  <dc:creator>Admin</dc:creator>
  <dc:description/>
  <dc:language>en-US</dc:language>
  <cp:lastModifiedBy>Admin</cp:lastModifiedBy>
  <dcterms:modified xsi:type="dcterms:W3CDTF">2014-10-13T18:35:46Z</dcterms:modified>
  <cp:revision>3</cp:revision>
  <dc:subject/>
  <dc:title>Слайд 1</dc:title>
</cp:coreProperties>
</file>